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DC0-464E-42A1-8799-6324C2CE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6BC-4230-4C68-A11E-0220276B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9E4-7344-42D1-A3D6-6CFF7CEA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C21-EDDF-460B-B72B-CE2CBB74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DC24-32D5-4EFB-AE26-CF6101F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B521C-ADE4-4A08-B494-86CBA13C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3CD66-E741-4315-8190-70D42EC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62E64-D4EB-4B4D-B452-EFB1C20D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4B35F-1D49-4B75-94C9-88C1CE28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2C63E-4F00-4B65-9FB9-E0F6BF5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C12F7-90B2-49FF-9DB1-8D0AF8E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151-926C-45E6-838D-D050670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F4927-71C3-4CD5-9A93-D6E6CB9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7C46E-35A3-4D6A-9835-AFD8A96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B79B-5073-42CD-8CD2-6E090D95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2E950-7EF8-411D-87F6-1C593B38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CFEC2-F2E5-434A-8503-4B35CB56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3244-E0EA-482A-AFB9-F95ADBF7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02E9-7CF7-46E4-9144-A57300B3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A75F-C78C-47D4-B03C-DFFC7BED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5D63-0A8F-4886-BF98-4853513C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3683-C7C9-448A-9B9F-C3FEDDA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C73-5EF6-4ECA-971C-9A9D34EA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F46A-366F-4120-B72C-D68B9A1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B376-DE29-4E3F-91D8-F09EB04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751E-294B-4CD4-9E81-85321F1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BF81-8B72-4031-897B-0BD225F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6264-C7F3-4C2B-9108-D21E505D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C050-688D-42C3-90F9-746F8E64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B6A0-9263-484F-AF4A-25763097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63F-4537-4FE6-B76D-1300544E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71F-A1DA-4B43-A99C-8F730300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33D-7B5D-479D-923C-86A127B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1C4-FE68-4236-907A-AE80CF74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666-A527-48BE-853F-55E2D50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6FA-218C-41FD-9777-7EEF4BBF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254E-44E8-422F-99BC-ACBFABAFDA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da8"/>
            </a:gs>
            <a:gs pos="50000">
              <a:srgbClr val="ffffff"/>
            </a:gs>
            <a:gs pos="100000">
              <a:srgbClr val="f6ed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142920" y="1243080"/>
            <a:ext cx="8858160" cy="5072040"/>
          </a:xfrm>
          <a:prstGeom prst="rect">
            <a:avLst/>
          </a:prstGeom>
          <a:blipFill rotWithShape="0">
            <a:blip r:embed="rId2">
              <a:alphaModFix amt="26000"/>
            </a:blip>
            <a:srcRect/>
            <a:tile tx="0" ty="0" sx="100000" sy="100000" algn="ctr"/>
          </a:blipFill>
          <a:ln cap="rnd" w="63360">
            <a:solidFill>
              <a:srgbClr val="d8d8d8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0"/>
          <p:cNvGrpSpPr/>
          <p:nvPr/>
        </p:nvGrpSpPr>
        <p:grpSpPr>
          <a:xfrm>
            <a:off x="0" y="0"/>
            <a:ext cx="9144000" cy="1213920"/>
            <a:chOff x="0" y="0"/>
            <a:chExt cx="9144000" cy="1213920"/>
          </a:xfrm>
        </p:grpSpPr>
        <p:sp>
          <p:nvSpPr>
            <p:cNvPr id="43" name="Rectangle 7"/>
            <p:cNvSpPr/>
            <p:nvPr/>
          </p:nvSpPr>
          <p:spPr>
            <a:xfrm>
              <a:off x="0" y="0"/>
              <a:ext cx="9144000" cy="319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7c0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0" y="958320"/>
              <a:ext cx="9144000" cy="255600"/>
            </a:xfrm>
            <a:prstGeom prst="rect">
              <a:avLst/>
            </a:prstGeom>
            <a:solidFill>
              <a:srgbClr val="006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6" descr="02"/>
          <p:cNvPicPr/>
          <p:nvPr/>
        </p:nvPicPr>
        <p:blipFill>
          <a:blip r:embed="rId3"/>
          <a:stretch/>
        </p:blipFill>
        <p:spPr>
          <a:xfrm rot="14690400">
            <a:off x="7525800" y="18108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0725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7857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02E8-B3BF-4B45-ADCB-42D3718706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428400" y="9288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7143840" y="6416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司名称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My Documents\Work\My 作业\My PPT\2009\图片2.png"/>
          <p:cNvPicPr/>
          <p:nvPr/>
        </p:nvPicPr>
        <p:blipFill>
          <a:blip r:embed="rId4"/>
          <a:stretch/>
        </p:blipFill>
        <p:spPr>
          <a:xfrm>
            <a:off x="0" y="6286680"/>
            <a:ext cx="6394320" cy="15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2"/>
          <p:cNvPicPr/>
          <p:nvPr/>
        </p:nvPicPr>
        <p:blipFill>
          <a:blip r:embed="rId5"/>
          <a:stretch/>
        </p:blipFill>
        <p:spPr>
          <a:xfrm rot="19141800">
            <a:off x="8183520" y="831600"/>
            <a:ext cx="91296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DDDC-4E81-4DE9-AF35-F51B22179C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2AF3-F122-4032-A78D-CA3A34610E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" descr="帷幕右.png"/>
          <p:cNvPicPr/>
          <p:nvPr/>
        </p:nvPicPr>
        <p:blipFill>
          <a:blip r:embed="rId2"/>
          <a:stretch/>
        </p:blipFill>
        <p:spPr>
          <a:xfrm>
            <a:off x="4429080" y="714240"/>
            <a:ext cx="4114800" cy="54388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帷幕左.png"/>
          <p:cNvPicPr/>
          <p:nvPr/>
        </p:nvPicPr>
        <p:blipFill>
          <a:blip r:embed="rId3"/>
          <a:stretch/>
        </p:blipFill>
        <p:spPr>
          <a:xfrm>
            <a:off x="571680" y="714240"/>
            <a:ext cx="4743360" cy="54579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2" descr="恭贺新禧.png"/>
          <p:cNvPicPr/>
          <p:nvPr/>
        </p:nvPicPr>
        <p:blipFill>
          <a:blip r:embed="rId4"/>
          <a:stretch/>
        </p:blipFill>
        <p:spPr>
          <a:xfrm>
            <a:off x="3103560" y="2500200"/>
            <a:ext cx="3397320" cy="1951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3"/>
          <p:cNvSpPr/>
          <p:nvPr/>
        </p:nvSpPr>
        <p:spPr>
          <a:xfrm>
            <a:off x="6143760" y="5000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敬请等待</a:t>
            </a:r>
            <a:r>
              <a:rPr b="0" lang="en-US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9" descr="帷幕red.png"/>
          <p:cNvPicPr/>
          <p:nvPr/>
        </p:nvPicPr>
        <p:blipFill>
          <a:blip r:embed="rId5"/>
          <a:stretch/>
        </p:blipFill>
        <p:spPr>
          <a:xfrm>
            <a:off x="-142920" y="-7920"/>
            <a:ext cx="9299520" cy="6978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102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03"/>
          <p:cNvSpPr/>
          <p:nvPr/>
        </p:nvSpPr>
        <p:spPr>
          <a:xfrm>
            <a:off x="2142720" y="1123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工作年度年终总结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圆角矩形 14"/>
          <p:cNvSpPr/>
          <p:nvPr/>
        </p:nvSpPr>
        <p:spPr>
          <a:xfrm>
            <a:off x="3643200" y="5143680"/>
            <a:ext cx="5715000" cy="928440"/>
          </a:xfrm>
          <a:prstGeom prst="roundRect">
            <a:avLst>
              <a:gd name="adj" fmla="val 16667"/>
            </a:avLst>
          </a:prstGeom>
          <a:solidFill>
            <a:srgbClr val="ffff66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副标题 2"/>
          <p:cNvSpPr/>
          <p:nvPr/>
        </p:nvSpPr>
        <p:spPr>
          <a:xfrm>
            <a:off x="4786200" y="542916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29080" y="5857920"/>
            <a:ext cx="5143680" cy="1440"/>
            <a:chOff x="4429080" y="5857920"/>
            <a:chExt cx="5143680" cy="1440"/>
          </a:xfrm>
        </p:grpSpPr>
        <p:sp>
          <p:nvSpPr>
            <p:cNvPr id="141" name="直接连接符 10"/>
            <p:cNvSpPr/>
            <p:nvPr/>
          </p:nvSpPr>
          <p:spPr>
            <a:xfrm>
              <a:off x="4429080" y="5857920"/>
              <a:ext cx="5143680" cy="14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429080" y="5857920"/>
              <a:ext cx="5143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28600" y="2214360"/>
            <a:ext cx="600084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加强科学管理</a:t>
            </a:r>
            <a:br>
              <a:rPr sz="3200"/>
            </a:br>
            <a:r>
              <a:rPr b="1" lang="en-US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              </a:t>
            </a:r>
            <a:r>
              <a:rPr b="1" lang="zh-CN" sz="3200" spc="-1" strike="noStrike">
                <a:solidFill>
                  <a:srgbClr val="ea0000"/>
                </a:solidFill>
                <a:latin typeface="方正粗倩简体"/>
                <a:ea typeface="方正粗倩简体"/>
              </a:rPr>
              <a:t>力创优质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857480" y="3786120"/>
            <a:ext cx="3786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400" spc="-1" strike="noStrike">
                <a:solidFill>
                  <a:srgbClr val="ffffff"/>
                </a:solidFill>
                <a:latin typeface="Aristocrat"/>
                <a:ea typeface="微软雅黑"/>
              </a:rPr>
              <a:t>200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5" descr="小老虎.png"/>
          <p:cNvPicPr/>
          <p:nvPr/>
        </p:nvPicPr>
        <p:blipFill>
          <a:blip r:embed="rId2"/>
          <a:stretch/>
        </p:blipFill>
        <p:spPr>
          <a:xfrm>
            <a:off x="6429240" y="1428840"/>
            <a:ext cx="1517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ed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4929120"/>
            <a:ext cx="9144000" cy="1928880"/>
          </a:xfrm>
          <a:prstGeom prst="rect">
            <a:avLst/>
          </a:prstGeom>
          <a:solidFill>
            <a:srgbClr val="276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592360" y="4929120"/>
            <a:ext cx="6550200" cy="609840"/>
          </a:xfrm>
          <a:prstGeom prst="rect">
            <a:avLst/>
          </a:prstGeom>
          <a:solidFill>
            <a:srgbClr val="004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9"/>
          <p:cNvSpPr/>
          <p:nvPr/>
        </p:nvSpPr>
        <p:spPr>
          <a:xfrm>
            <a:off x="38160" y="4929120"/>
            <a:ext cx="9067680" cy="1928880"/>
          </a:xfrm>
          <a:prstGeom prst="rect">
            <a:avLst/>
          </a:prstGeom>
          <a:noFill/>
          <a:ln w="63360">
            <a:solidFill>
              <a:srgbClr val="f6ed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7"/>
          <p:cNvSpPr/>
          <p:nvPr/>
        </p:nvSpPr>
        <p:spPr>
          <a:xfrm>
            <a:off x="84240" y="52560"/>
            <a:ext cx="898056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6" descr="03"/>
          <p:cNvPicPr/>
          <p:nvPr/>
        </p:nvPicPr>
        <p:blipFill>
          <a:blip r:embed="rId1"/>
          <a:stretch/>
        </p:blipFill>
        <p:spPr>
          <a:xfrm>
            <a:off x="0" y="491508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Oval 4"/>
          <p:cNvSpPr/>
          <p:nvPr/>
        </p:nvSpPr>
        <p:spPr>
          <a:xfrm>
            <a:off x="1000080" y="1785960"/>
            <a:ext cx="3214800" cy="303840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189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143840" y="6416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43040" y="2547720"/>
            <a:ext cx="2000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4d2c"/>
                </a:solidFill>
                <a:latin typeface="方正粗倩简体"/>
                <a:ea typeface="方正粗倩简体"/>
              </a:rPr>
              <a:t>内容</a:t>
            </a:r>
            <a:br>
              <a:rPr sz="4800"/>
            </a:br>
            <a:r>
              <a:rPr b="0" lang="zh-CN" sz="4800" spc="-1" strike="noStrike">
                <a:solidFill>
                  <a:srgbClr val="004d2c"/>
                </a:solidFill>
                <a:latin typeface="方正粗倩简体"/>
                <a:ea typeface="方正粗倩简体"/>
              </a:rPr>
              <a:t>提要</a:t>
            </a:r>
            <a:endParaRPr b="0" lang="en-US" sz="4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714840" y="1643040"/>
            <a:ext cx="4071960" cy="71424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235400" y="2928960"/>
            <a:ext cx="4000680" cy="714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8e3"/>
              </a:gs>
              <a:gs pos="100000">
                <a:srgbClr val="f2f8f2"/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思篇：今朝 共励并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754440" y="4226040"/>
            <a:ext cx="4032360" cy="70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f2e0"/>
              </a:gs>
              <a:gs pos="100000">
                <a:srgbClr val="f2f8f2"/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篇：未来 任重道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156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393cb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2393cb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3786120" y="6613560"/>
            <a:ext cx="21337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F19-03BC-4FC0-8279-9D6BC3300B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920" y="2714400"/>
            <a:ext cx="88581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回顾</a:t>
            </a:r>
            <a:r>
              <a:rPr b="0" lang="zh-CN" sz="4800" spc="-1" strike="noStrike">
                <a:solidFill>
                  <a:srgbClr val="002060"/>
                </a:solidFill>
                <a:latin typeface="Arial"/>
              </a:rPr>
              <a:t>2009</a:t>
            </a:r>
            <a:endParaRPr b="0" lang="en-US" sz="4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0" y="214200"/>
            <a:ext cx="4071960" cy="714600"/>
          </a:xfrm>
          <a:prstGeom prst="roundRect">
            <a:avLst>
              <a:gd name="adj" fmla="val 50000"/>
            </a:avLst>
          </a:prstGeom>
          <a:solidFill>
            <a:srgbClr val="d8d8d8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顾篇：昨日 成绩斐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357880" y="4857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4d2c"/>
                </a:solidFill>
                <a:latin typeface="微软雅黑"/>
                <a:ea typeface="微软雅黑"/>
              </a:rPr>
              <a:t>无限感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6" descr="02"/>
          <p:cNvPicPr/>
          <p:nvPr/>
        </p:nvPicPr>
        <p:blipFill>
          <a:blip r:embed="rId1"/>
          <a:stretch/>
        </p:blipFill>
        <p:spPr>
          <a:xfrm rot="14690400">
            <a:off x="7525800" y="18108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02"/>
          <p:cNvPicPr/>
          <p:nvPr/>
        </p:nvPicPr>
        <p:blipFill>
          <a:blip r:embed="rId2"/>
          <a:stretch/>
        </p:blipFill>
        <p:spPr>
          <a:xfrm rot="19141800">
            <a:off x="8183520" y="831600"/>
            <a:ext cx="9129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方正粗倩简体"/>
                <a:ea typeface="方正粗倩简体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预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在新的一年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143000" y="3071880"/>
            <a:ext cx="67150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绩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蒸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蒸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  更加  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辉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922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8EA-E0E2-480B-B875-AD227F82DA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9" descr="帷幕右.pn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帷幕左.png"/>
          <p:cNvPicPr/>
          <p:nvPr/>
        </p:nvPicPr>
        <p:blipFill>
          <a:blip r:embed="rId3"/>
          <a:stretch/>
        </p:blipFill>
        <p:spPr>
          <a:xfrm>
            <a:off x="-7128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285840" y="2786040"/>
            <a:ext cx="8643960" cy="12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忙之中莅临参加年会的集团公司领导及嘉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</a:t>
            </a:r>
            <a:r>
              <a:rPr b="1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2009</a:t>
            </a: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优秀经营业绩做出贡献的全体同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年会筹办工作默默付出的工作人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迎新春晚会辛苦排练的全体演职员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各（子）公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团各下属部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010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71440" y="2428560"/>
            <a:ext cx="5072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2428920" y="31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结束飞的更高.mp3" descr=""/>
          <p:cNvPicPr/>
          <p:nvPr/>
        </p:nvPicPr>
        <p:blipFill>
          <a:blip r:embed="rId4"/>
          <a:stretch/>
        </p:blipFill>
        <p:spPr>
          <a:xfrm>
            <a:off x="3857760" y="32148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8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8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7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5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9Z</dcterms:modified>
  <cp:revision>2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