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E405-4B25-45D8-84BF-C5BBF70E3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57516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1303-1C9A-4382-8559-4ED35F524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EB52-6FDD-49E3-942A-B1FCE765C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000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000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57516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57516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57516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7FF7-8A47-4E48-B74D-3989911B3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3F826-17D2-4064-9161-D3E44D40A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0000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C657B-E1E4-4D26-BFB4-26559D0D1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43B01-8F1B-4B4C-907D-00EF36939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56970-3EBF-498A-B03B-34B6B41BB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87036-A083-4887-92AC-95B64EF1F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39640" y="189000"/>
            <a:ext cx="822960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2DFA9-83DD-4EA2-9C0D-45AA6CD12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4DE1E-FAEB-4F9E-9D70-AE885A58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0000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5299-3F68-42D3-A7D9-454A6E62E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405E1-EA25-471D-B41D-2335FD7B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57516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7D2E9-92D3-46AD-BCFD-A3E12B08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57516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2A3E5-917F-4390-811D-D8796B309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63B9F-3FDA-44A3-9F72-45C2043AD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000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000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57516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57516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57516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40F21-E20B-45F5-9FCA-FE46F7DBC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54440-01DE-400A-A676-1E678FB49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0000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63E48-5737-4B42-B2FA-7BA097067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450E0-3CDD-4B90-955F-6E1B17AF3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0D0A2-4D41-499C-B6BF-1B47DC176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1C614-6EBB-4B29-87D5-BEED200BA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0C30-E4D8-4E8A-9D29-451556DD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539640" y="189000"/>
            <a:ext cx="822960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2C0A9-6D49-4EBA-ADEB-1A076E68D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39F1A-7362-425D-AF25-8365F7FC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AABBF-40E7-408B-8955-3DDB585C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57516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B140D-DEB1-41E5-97DB-96FA556A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57516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60F73-64DA-48E8-B55B-8C9651844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B47BC-5926-4F96-B9DC-43659EEAD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000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000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57516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57516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57516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872DE-176D-4A7B-9DB6-F1920F2C5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8A3FC-5D8A-4189-A266-B1A9DE1AE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0000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A80E1-42D9-491B-A2E8-1155BDB0C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B8C86-1294-4101-8A5D-90B3B4C1A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AEA0-5140-4C6D-BE4F-4286A130D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CF75E-A60D-4F2C-A675-C01E343E7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DB56D-C17E-49A2-BA2E-EE289AE5A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539640" y="189000"/>
            <a:ext cx="822960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027F8-133C-4F9A-BCF7-8746EE604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204CD-AC33-48BD-8945-801199BB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D4E52-19F9-4E42-A7D7-E7C68796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57516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9966F-4E52-49FF-90DE-659E1B48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57516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EB359-E3DE-49BE-809C-B2E6CD002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1C5A5-ABB5-4113-A87C-D97E50FF9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000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000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57516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57516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57516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1F18E-84B5-485E-89B2-DA57F0635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7FCD-7826-4E02-9642-12369A944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39640" y="189000"/>
            <a:ext cx="822960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7D29-BD11-46E2-8DD6-4140562C1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404C-90DF-421D-A649-A2559DBE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77A9-D6FA-434B-B20F-96C27EE7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57516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0387-9F98-4392-BB32-FD31880F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hyperlink" Target="http://www.nordridesign.cn/index.php" TargetMode="External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2"/>
          <p:cNvPicPr/>
          <p:nvPr/>
        </p:nvPicPr>
        <p:blipFill>
          <a:blip r:embed="rId2"/>
          <a:stretch/>
        </p:blipFill>
        <p:spPr>
          <a:xfrm>
            <a:off x="36360" y="176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0000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华文细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7BC3D-E180-475A-9768-76C56D8DB3D1}" type="datetime">
              <a:rPr b="0" lang="zh-CN" sz="1200" spc="-1" strike="noStrike">
                <a:solidFill>
                  <a:srgbClr val="898989"/>
                </a:solidFill>
                <a:latin typeface="Times New Roman"/>
                <a:ea typeface="华文细黑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E021B-9626-4B7F-93DE-3B7897DF0F46}" type="slidenum">
              <a:rPr b="0" lang="en-US" sz="1200" spc="-1" strike="noStrike">
                <a:solidFill>
                  <a:srgbClr val="898989"/>
                </a:solidFill>
                <a:latin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1"/>
          <p:cNvPicPr/>
          <p:nvPr/>
        </p:nvPicPr>
        <p:blipFill>
          <a:blip r:embed="rId2"/>
          <a:stretch/>
        </p:blipFill>
        <p:spPr>
          <a:xfrm>
            <a:off x="0" y="4428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395280" y="8366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6BD85-08F5-4430-9E52-851007013A79}" type="datetime">
              <a: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129B0-13E2-4FA6-A12F-4169E53D931F}" type="slidenum">
              <a:rPr b="0" lang="en-US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A281A-888E-48E7-8275-F44E0E59DC19}" type="datetime"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386DC-29BE-47F7-9B88-0FB1176FC0F4}" type="slidenum"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3813120" y="2536920"/>
            <a:ext cx="3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402912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4255920" y="2536920"/>
            <a:ext cx="3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454356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475776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2"/>
          <p:cNvSpPr/>
          <p:nvPr/>
        </p:nvSpPr>
        <p:spPr>
          <a:xfrm>
            <a:off x="503712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526428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4"/>
          <p:cNvSpPr/>
          <p:nvPr/>
        </p:nvSpPr>
        <p:spPr>
          <a:xfrm>
            <a:off x="547848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5"/>
          <p:cNvSpPr/>
          <p:nvPr/>
        </p:nvSpPr>
        <p:spPr>
          <a:xfrm>
            <a:off x="4078080" y="3019320"/>
            <a:ext cx="146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中国专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设计交流论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6" descr="logo"/>
          <p:cNvPicPr/>
          <p:nvPr/>
        </p:nvPicPr>
        <p:blipFill>
          <a:blip r:embed="rId2"/>
          <a:stretch/>
        </p:blipFill>
        <p:spPr>
          <a:xfrm>
            <a:off x="3116160" y="2525760"/>
            <a:ext cx="782640" cy="73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7" descr="logo2"/>
          <p:cNvPicPr/>
          <p:nvPr/>
        </p:nvPicPr>
        <p:blipFill>
          <a:blip r:embed="rId3"/>
          <a:stretch/>
        </p:blipFill>
        <p:spPr>
          <a:xfrm>
            <a:off x="2563920" y="2347920"/>
            <a:ext cx="3828960" cy="13255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8">
            <a:hlinkClick r:id="rId4"/>
          </p:cNvPr>
          <p:cNvSpPr/>
          <p:nvPr/>
        </p:nvSpPr>
        <p:spPr>
          <a:xfrm>
            <a:off x="2484360" y="2060640"/>
            <a:ext cx="3987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334A3-7692-4DBD-B626-ACC7DB0C1166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B7A6E-3B02-4AB6-9953-928DB202A7B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1403280" y="4149720"/>
            <a:ext cx="5156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8" descr="Unbenannt-2"/>
          <p:cNvPicPr/>
          <p:nvPr/>
        </p:nvPicPr>
        <p:blipFill>
          <a:blip r:embed="rId1"/>
          <a:stretch/>
        </p:blipFill>
        <p:spPr>
          <a:xfrm>
            <a:off x="7164360" y="5661000"/>
            <a:ext cx="279360" cy="432000"/>
          </a:xfrm>
          <a:prstGeom prst="rect">
            <a:avLst/>
          </a:prstGeom>
          <a:ln w="0">
            <a:noFill/>
          </a:ln>
        </p:spPr>
      </p:pic>
      <p:sp>
        <p:nvSpPr>
          <p:cNvPr id="181" name="文本框 5123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5124"/>
          <p:cNvSpPr/>
          <p:nvPr/>
        </p:nvSpPr>
        <p:spPr>
          <a:xfrm>
            <a:off x="2214360" y="54936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环保工作计划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默认设置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首页主标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号（中文黑体英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a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加粗；副标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号（中文黑体英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a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加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页标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号（中文黑体英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a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加粗；内页内容文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号（华文细黑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6147"/>
          <p:cNvSpPr/>
          <p:nvPr/>
        </p:nvSpPr>
        <p:spPr>
          <a:xfrm>
            <a:off x="971640" y="1773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2d700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e2d700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9EC13-4DDF-4A0B-96B0-96A20B86E76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03640" y="4653000"/>
            <a:ext cx="338616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谢您的关注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13:16:4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6:52Z</dcterms:modified>
  <cp:revision>3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