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BE0-FCAF-4852-873B-3417540A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717-883F-4F03-8641-E0CDDD10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24D-AF2A-41DA-B6CD-52EA6173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00C-19C9-4FF7-A139-9F70ACA6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2E7E-7D10-4659-9320-86190568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DF32-BE0D-4564-A859-AF8BA0B2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B4AA-D13F-4818-8D88-AA17107D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AB41-9DF1-43BC-9EBE-8C2BE5C3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E08E-489B-4358-BD3F-947B8490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5B1A-8838-4B85-AA81-46F07CD8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740E-DCEC-4040-94B0-0C5F1FD4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C5D-A9CA-498E-B01B-18E9CCD7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7F60-14EA-4A30-B2BC-2FFF14D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DD14-C1BF-45EF-A699-13E3084B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5D7B-8893-4C6A-B2A0-35757D6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5A09-593E-4285-99E8-1DDE10D5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5DFC-920F-43C6-A13D-649452AA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385-2FC2-4F67-A9A7-7EEB5DFF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0A2-0D84-4D22-9DC5-4B6FEEA2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8E0-8049-48FB-870C-A25E9538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BEC-DD29-4F2E-8465-80ED5325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DC5-1626-4A88-8DCA-9A995653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2AA-3E93-41C2-B27C-2B0C6D7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1FD-69BD-49A0-AA12-3B56CE1A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DF60-889A-4763-8944-A14D838274B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D647-0C06-4674-8913-5D550EC87B1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84DE-3F8E-4D93-8EAB-6D2ED266E4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soaptreinamentomarca-090607200250-phpapp02-slid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074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2285640" y="4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活动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soaptreinamentomarca-090607200250-phpapp02-slide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soaptreinamentomarca-090607200250-phpapp02-slide-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12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soaptreinamentomarca-090607200250-phpapp02-slide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soaptreinamentomarca-090607200250-phpapp02-slide-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soaptreinamentomarca-090607200250-phpapp02-slide-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soaptreinamentomarca-090607200250-phpapp02-slide-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DC8F-9810-4211-911D-0C9C8EB369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soaptreinamentomarca-090607200250-phpapp02-slide-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0242"/>
          <p:cNvSpPr/>
          <p:nvPr/>
        </p:nvSpPr>
        <p:spPr>
          <a:xfrm>
            <a:off x="684360" y="33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0:1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3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