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D66-D759-41E9-8ABE-30B5BDA7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413-74D4-4B7F-A168-D2DC420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21EFA-5184-47B1-81E5-23B31B4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3B75A-4AF1-4597-9227-A1E18CA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54B70-1F71-44B8-9187-4279599F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A8235-50E9-4F1A-8FE7-F2F40F4A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A7F39-3A1C-4391-8FD7-41E3E4B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C298C-66EB-4BAE-88A5-2A83AE2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83656-49C5-4733-99D1-B6EF6CD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351AD-D883-4836-A47C-55BA1F40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D269-2BDE-42CD-BA7F-652B352F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C6653-EF8D-4232-86AE-54FF074C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466-E7AC-4355-A048-FB1C182E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73B35-BE67-4ABC-8BD0-1ADABD4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1DCE3-52CA-448A-9A8B-687BCAD6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0431D-8669-42E8-9E21-7CA3D05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5039B-4B52-4981-A69F-A62D469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C8E87-49CF-4D84-8C58-461919E3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ECB4E-1B8E-4499-A8C1-368E404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F40CC-EDB3-4829-AD53-6D43A38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D945D-6187-45C8-85A5-1EB890A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4103-0CD5-4CCE-9A1E-ED399E5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B6591-75B9-4363-8384-D3820BA4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267-A215-430D-9954-1C50AAED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ED6C-E606-4746-856C-744EAB59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8F57E-DE79-4CF7-BFAB-C729CD38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6A2C9-9E2A-4A4F-A7EF-8FB171BE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0CA45-F7B0-4773-B136-8491499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63DB6-972C-4F66-9172-F11F1E80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0DB6-CF4E-4FB1-B9AE-AE8BD49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85256-2382-4DE4-BFB5-6F95C6DE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A32C-2A97-4257-963C-04F4372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F207D-AD79-4A01-98F8-D7B8873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BB5C-56F7-4AF6-BE80-2B26EFD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2EEF-21E7-4134-86D2-42E14BAB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2281-3320-4CEB-94CB-D8D4C88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4FBD-454D-46AA-B7AD-AC2A0CC8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00E4C-58BC-4CF5-8162-CFBBA8CD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B0B34-AFAB-4357-8934-3B6C84B6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EAAFA-7F5A-4848-8BA7-8FE9068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6C9A0-0E9A-489F-B516-C36949F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15480-3C95-4B5B-8B72-996C230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C875B-5106-41EA-A083-D2DEF5B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ADEDC-1045-4944-85A6-49ADC6E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0EE4B-EA19-445C-880B-FCAFC84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8AA-1C24-4AF3-A877-E353ECED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C88E2-8875-405C-B125-DCBC7F76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E4736-21E9-49ED-9F3B-18B43DC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87166-1AA7-4F90-A459-F8CF1BD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A8056-5E69-4F67-81BE-5D5E76A9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DE8BB-7A35-44D6-876D-95B1A6E4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D341A-BD93-42E2-A8F3-DDF06694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5AA5F-8B76-40C1-978E-ACE539F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495C6-2A41-4EFF-8207-B0AA0F9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6F508-0B9E-4824-AE0F-DA274EB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0A1DD-FE89-450C-AB29-D20A9EB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182-7019-437A-9379-62E08FE2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CFD78-3D17-4A0E-98EF-CC2548C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B3319-EA28-4D10-A3E1-1C82F69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0BF64-23C9-4A23-A623-8EE5936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94BC7-6B4C-48ED-9DCB-CDFBC01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971E8-FF5E-458F-9E5C-1619AA41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9CA3B-3FF9-4A41-ACF8-22312546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DEAA6-EB0A-4018-A988-4993DE2B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53548-0643-4D35-9A7B-F31F1F8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B4A65-9D23-4480-B646-337D7A0A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72437-BFFA-4917-8174-BD50B9A3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5F5-BE72-482A-80A4-254FB24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10BF5-53F2-406B-80D2-6C0A423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387B3-8A95-4793-9ECC-483B5AF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3B052-B950-443B-BB38-378E62A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5631B-CA87-4656-8029-ACF7EBF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1FDE2-E0F1-4382-82F8-D3B5D0E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0911C-81D2-4009-AB21-1E5DD3E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060CE-E6A4-4A6E-A710-9D354CA7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3385B-9AB0-41EA-8707-80561F6C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57404-522C-4628-8A8C-92C991FE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D5C-8A9D-448C-9125-7792C5F9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70A6-47D3-433A-930A-0B65A813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2FA5-3EC2-48CC-952E-76C4369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EDE-9B79-4ECF-B6B4-BE5DC19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AAD6-6C6E-4347-92BA-E3613C4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CF7B-2095-4756-9985-C37A470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4A5-C125-434C-BAC2-35039C9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BE8-4CEA-4689-87DD-5E7017AD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8C6-6DB5-40AD-9FB7-A6FB05B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DB54-FA8F-4BA3-AE00-F897CB2A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1156-1497-4F27-894C-3425ED36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C9B0-29B8-4F42-914F-54643D2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99E6-2B5B-4CFC-84AD-5A445326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30AC-98F0-4196-BFBA-C0167D95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6EA-2D28-4773-B4B9-03601EE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CD2A-5E21-460B-97FE-301D80F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4C16-77FF-4708-8792-19B6B86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CCD1-0587-4F8B-887A-16FDDCD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DD17-AB44-4E79-9E21-8C334EB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C993-307F-4043-84C6-F1138DC5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B5C0-2F6F-4DF5-BE90-54A070F8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7E95-CC3A-4BE6-AAF9-BA9724C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5B41-11E3-4F05-81C4-D950461A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5BC7-6D4E-4CF0-BA26-4B9151A9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67D4-0781-4220-A214-C58CB23E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36D-6225-4189-9029-0903B082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6EAF-0D52-4ABD-8872-93CCBCA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8C75-7AE6-4F5E-857C-87270E1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A022-1434-4749-A247-C94AE50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BE0A-9AA6-45EC-AE4C-4B446D6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AFF4-999F-4066-A4A8-E913CBC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F0D0-DC1A-4B24-87F5-2D052CB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D160-1F11-489B-8D17-C0A1BC4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5C59-A366-4B23-9731-E80EF28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EDE8-256C-4655-A924-8A137DD6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D615-2451-4F74-8738-12DFC991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02C-9C6E-45A8-AE32-938CD8EE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D750-DE69-4308-9370-2D2FFFD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74E6-9A54-4337-9ACC-A24047A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85B4-C073-4C2E-8AF3-590E617F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D019-7D1A-4475-9838-CA4443F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B9F3-FF67-420E-A00D-C3B3A5C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B427-E51E-4409-B527-88B6EE6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F67B-CC55-4420-92A3-2E75B04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5859-13C4-4FE6-9CA6-03B32DD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5882-73EF-4F4E-B882-B1D7AA16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C431-7CBB-4EDC-A259-3B402127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7A9-DDBC-4D39-9CD8-F68F4C5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7EB8-480F-4C7A-8E2D-CF08F30C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86DA-9DE8-48A9-BEB5-D79F5A32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D087-84F1-460A-8A66-DF5B8A2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14B75-29F4-4A9A-B1C4-C6DF655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E189-0676-4A28-9A88-5FC66FA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DA5A-BB6B-45D8-A135-9857235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6D55-D2C1-4352-B76D-0E6FB76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BE1C-E6C8-4678-8052-90077E7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B093-DCD9-4243-A11E-655C028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074B-A3BA-42C5-8A7D-63E06A7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D80-C404-4C38-9805-EA85A2B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4567C-8681-4283-ADF0-8E16912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D957-C5FE-4CEC-8C69-7491D5FD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68AC-532F-4139-A8F0-B572B2A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3278-BB5B-4EFA-BEFD-57250C9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491B-5218-4656-AFDD-025909C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3E0F-3D3A-4FBC-AFD0-79A27F0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8EE6-CF3B-4BDC-98F8-9286DC2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AFCB1-4C17-46A0-9D00-B9914CD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9386-7564-4E77-B09B-1A78AE4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1DBC-2090-49FB-9E66-BDE5EC2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5C-7E85-4124-84EB-B1D0580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1BF0-B150-4A80-AFCF-BAB94404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33BA-F15D-44C1-91AC-8D3549E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98A27-3DEC-48C0-8367-348310A4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2891-F2C4-4FC7-BC60-A050F2A2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03BF-2B0D-4FA9-8112-6FF8A803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E7D28-4047-45E8-B7E2-BD7AFBF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F1F91-1E97-47FC-B1B6-4A8BCFE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CA25-EC93-40AC-8CC0-54CAA1B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3821-937E-4444-B0BD-4181757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E59F4-6508-49A5-9785-D832E4CE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B45-21DC-4896-AEFB-DA5D327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5411-B002-4602-9133-6BD86D2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7785-D1C1-4FD3-85CA-6861304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F89D-FBB7-4348-83F1-9EFDBF8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4EED-9EA8-44D8-9B3B-1467825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B19E6-8F96-46F2-9E59-5B483E5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81AD-D3E5-4CDE-A184-9D11FC06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4797-618C-4C80-AC36-37208B52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0C36F-61AD-4C36-AAD4-72A3E635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6185-A7D6-46B8-9F0A-8554AA6A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769B-4A0F-49A5-B11C-F04E0203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5540-99D9-4BBA-B137-001F8F4905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93A-582E-4620-BBAF-C384B42AE1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20C-FF1D-4609-B3A4-3FB3E65A5F31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280-345E-4F84-A96C-48A08C6FA2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C78-8070-439E-A898-6F178B6B1FC3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BE38-486F-4252-9F13-53C1869DD74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C3F-9C70-46E1-B6F4-751471F3C842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005-C819-4009-8B86-F0D540C3D3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2886-374F-4895-844F-A694DE20547A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667-C8AB-4171-992F-206939359D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420-2053-48DC-828A-3D6681DEAC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060-FFF6-4EA5-BE19-82772914C1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2B5-7BB2-43C1-A233-2610393874D8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A5A-7564-41C6-AF4F-F48E06708E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D95-60BC-4772-994D-93D2ED5A4BEF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A52-07E9-469F-A334-7B23347692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B7B-358A-400A-90B8-8FC468FF3CB3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FB9-45AC-4FE3-A609-71B446BB38D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4765-62ED-453C-B33A-FA3A780201F6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8BB-EFE0-4CAA-B27D-FA340C5A13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4D18-5B85-4B56-990A-3672E1746C99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767-549B-4C49-9B8A-9BE0B0AE9D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C17F-9142-4A62-9A52-147E9218E33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A1F-4C1F-4E89-B4E9-304A09011B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4A8A-02FD-4661-A0BD-84B34FF4899A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8D7-93D8-47FC-AED9-DC629EAED9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1D9-8829-4D04-8258-B36933979B09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B15-9807-4AE4-BC9B-A0AC08D198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1019160" y="4781520"/>
            <a:ext cx="278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자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년월일</a:t>
            </a:r>
            <a:r>
              <a:rPr b="1" lang="en-US" sz="1200" spc="-1" strike="noStrike">
                <a:solidFill>
                  <a:srgbClr val="ffffff"/>
                </a:solidFill>
                <a:latin typeface="나눔고딕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201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宋体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. 00. 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536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367"/>
          <p:cNvSpPr/>
          <p:nvPr/>
        </p:nvSpPr>
        <p:spPr>
          <a:xfrm>
            <a:off x="1938240" y="3068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韩国工作日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63B-5CBE-4BB9-9B99-000AA52BF0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감사합니다</a:t>
            </a:r>
            <a:r>
              <a:rPr b="1" lang="en-US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1019160" y="4797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자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이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년월일</a:t>
            </a:r>
            <a:r>
              <a:rPr b="1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201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宋体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. 00.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ACF7-5EAA-4C8D-8E91-092504EE8233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7417"/>
          <p:cNvSpPr/>
          <p:nvPr/>
        </p:nvSpPr>
        <p:spPr>
          <a:xfrm>
            <a:off x="2050920" y="4510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나눔고딕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244-F28D-419D-B36A-EEE81205934E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TextBox 3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1160640" y="2044800"/>
            <a:ext cx="66420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을 여기에 작성하세요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,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글자 간격은 좁게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0.2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줄간격은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1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 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D7A-E39E-4D0E-A08E-4C320232C8FE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2411280" y="3040200"/>
            <a:ext cx="936720" cy="288720"/>
            <a:chOff x="2411280" y="3040200"/>
            <a:chExt cx="936720" cy="288720"/>
          </a:xfrm>
        </p:grpSpPr>
        <p:sp>
          <p:nvSpPr>
            <p:cNvPr id="611" name="직선 연결선 17"/>
            <p:cNvSpPr/>
            <p:nvPr/>
          </p:nvSpPr>
          <p:spPr>
            <a:xfrm flipV="1">
              <a:off x="2411280" y="3040200"/>
              <a:ext cx="936720" cy="288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 rot="10800000">
              <a:off x="2411280" y="3040200"/>
              <a:ext cx="936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11280" y="3794040"/>
            <a:ext cx="1224000" cy="1800"/>
            <a:chOff x="2411280" y="3794040"/>
            <a:chExt cx="1224000" cy="1800"/>
          </a:xfrm>
        </p:grpSpPr>
        <p:sp>
          <p:nvSpPr>
            <p:cNvPr id="614" name="직선 연결선 20"/>
            <p:cNvSpPr/>
            <p:nvPr/>
          </p:nvSpPr>
          <p:spPr>
            <a:xfrm>
              <a:off x="2411280" y="3794040"/>
              <a:ext cx="12240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2411280" y="3794040"/>
              <a:ext cx="12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140360" y="2320560"/>
            <a:ext cx="1079280" cy="358920"/>
            <a:chOff x="4140360" y="2320560"/>
            <a:chExt cx="1079280" cy="358920"/>
          </a:xfrm>
        </p:grpSpPr>
        <p:sp>
          <p:nvSpPr>
            <p:cNvPr id="617" name="직선 연결선 62"/>
            <p:cNvSpPr/>
            <p:nvPr/>
          </p:nvSpPr>
          <p:spPr>
            <a:xfrm flipV="1">
              <a:off x="4140360" y="2320560"/>
              <a:ext cx="1079280" cy="35892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 rot="10800000">
              <a:off x="4140360" y="2320560"/>
              <a:ext cx="10792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Box 48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9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40000" y="4121280"/>
            <a:ext cx="1008000" cy="574560"/>
            <a:chOff x="2340000" y="4121280"/>
            <a:chExt cx="1008000" cy="574560"/>
          </a:xfrm>
        </p:grpSpPr>
        <p:sp>
          <p:nvSpPr>
            <p:cNvPr id="622" name="직선 연결선 58"/>
            <p:cNvSpPr/>
            <p:nvPr/>
          </p:nvSpPr>
          <p:spPr>
            <a:xfrm>
              <a:off x="2340000" y="4121280"/>
              <a:ext cx="1008000" cy="57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2340000" y="4121280"/>
              <a:ext cx="100800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4" name="그림 5" descr=""/>
          <p:cNvPicPr/>
          <p:nvPr/>
        </p:nvPicPr>
        <p:blipFill>
          <a:blip r:embed="rId2"/>
          <a:stretch/>
        </p:blipFill>
        <p:spPr>
          <a:xfrm>
            <a:off x="966960" y="3247920"/>
            <a:ext cx="1647720" cy="108612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0"/>
          <p:cNvSpPr/>
          <p:nvPr/>
        </p:nvSpPr>
        <p:spPr>
          <a:xfrm>
            <a:off x="1262160" y="34876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140360" y="2824200"/>
            <a:ext cx="1223640" cy="216000"/>
            <a:chOff x="4140360" y="2824200"/>
            <a:chExt cx="1223640" cy="216000"/>
          </a:xfrm>
        </p:grpSpPr>
        <p:sp>
          <p:nvSpPr>
            <p:cNvPr id="627" name="직선 연결선 69"/>
            <p:cNvSpPr/>
            <p:nvPr/>
          </p:nvSpPr>
          <p:spPr>
            <a:xfrm>
              <a:off x="4140360" y="282420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140360" y="282420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56000" y="3803760"/>
            <a:ext cx="1224000" cy="1440"/>
            <a:chOff x="4356000" y="3803760"/>
            <a:chExt cx="1224000" cy="1440"/>
          </a:xfrm>
        </p:grpSpPr>
        <p:sp>
          <p:nvSpPr>
            <p:cNvPr id="630" name="직선 연결선 72"/>
            <p:cNvSpPr/>
            <p:nvPr/>
          </p:nvSpPr>
          <p:spPr>
            <a:xfrm>
              <a:off x="4356000" y="3803760"/>
              <a:ext cx="1224000" cy="14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356000" y="380376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140360" y="4559040"/>
            <a:ext cx="1079280" cy="360360"/>
            <a:chOff x="4140360" y="4559040"/>
            <a:chExt cx="1079280" cy="360360"/>
          </a:xfrm>
        </p:grpSpPr>
        <p:sp>
          <p:nvSpPr>
            <p:cNvPr id="633" name="직선 연결선 74"/>
            <p:cNvSpPr/>
            <p:nvPr/>
          </p:nvSpPr>
          <p:spPr>
            <a:xfrm flipV="1">
              <a:off x="4140360" y="4559040"/>
              <a:ext cx="1079280" cy="36036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 rot="10800000">
              <a:off x="4140360" y="455904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140360" y="5064120"/>
            <a:ext cx="1223640" cy="216000"/>
            <a:chOff x="4140360" y="5064120"/>
            <a:chExt cx="1223640" cy="216000"/>
          </a:xfrm>
        </p:grpSpPr>
        <p:sp>
          <p:nvSpPr>
            <p:cNvPr id="636" name="직선 연결선 75"/>
            <p:cNvSpPr/>
            <p:nvPr/>
          </p:nvSpPr>
          <p:spPr>
            <a:xfrm>
              <a:off x="4140360" y="506412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4140360" y="506412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796000" y="2176200"/>
            <a:ext cx="1008000" cy="215640"/>
            <a:chOff x="5796000" y="2176200"/>
            <a:chExt cx="1008000" cy="215640"/>
          </a:xfrm>
        </p:grpSpPr>
        <p:sp>
          <p:nvSpPr>
            <p:cNvPr id="639" name="직선 연결선 76"/>
            <p:cNvSpPr/>
            <p:nvPr/>
          </p:nvSpPr>
          <p:spPr>
            <a:xfrm flipV="1">
              <a:off x="5796000" y="2176200"/>
              <a:ext cx="1008000" cy="21564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 rot="10800000">
              <a:off x="5796000" y="2176200"/>
              <a:ext cx="1008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796000" y="2392200"/>
            <a:ext cx="1008000" cy="360360"/>
            <a:chOff x="5796000" y="2392200"/>
            <a:chExt cx="1008000" cy="360360"/>
          </a:xfrm>
        </p:grpSpPr>
        <p:sp>
          <p:nvSpPr>
            <p:cNvPr id="642" name="직선 연결선 77"/>
            <p:cNvSpPr/>
            <p:nvPr/>
          </p:nvSpPr>
          <p:spPr>
            <a:xfrm>
              <a:off x="5796000" y="239220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796000" y="239220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796000" y="2924280"/>
            <a:ext cx="1008000" cy="358560"/>
            <a:chOff x="5796000" y="2924280"/>
            <a:chExt cx="1008000" cy="358560"/>
          </a:xfrm>
        </p:grpSpPr>
        <p:sp>
          <p:nvSpPr>
            <p:cNvPr id="645" name="직선 연결선 86"/>
            <p:cNvSpPr/>
            <p:nvPr/>
          </p:nvSpPr>
          <p:spPr>
            <a:xfrm>
              <a:off x="5796000" y="2924280"/>
              <a:ext cx="1008000" cy="3585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5796000" y="2924280"/>
              <a:ext cx="100800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803920" y="4408560"/>
            <a:ext cx="1008000" cy="216000"/>
            <a:chOff x="5803920" y="4408560"/>
            <a:chExt cx="1008000" cy="216000"/>
          </a:xfrm>
        </p:grpSpPr>
        <p:sp>
          <p:nvSpPr>
            <p:cNvPr id="648" name="직선 연결선 87"/>
            <p:cNvSpPr/>
            <p:nvPr/>
          </p:nvSpPr>
          <p:spPr>
            <a:xfrm flipV="1">
              <a:off x="5803920" y="4408560"/>
              <a:ext cx="1008000" cy="21600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 rot="10800000">
              <a:off x="5803920" y="4408560"/>
              <a:ext cx="1008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803920" y="4624560"/>
            <a:ext cx="1008000" cy="360360"/>
            <a:chOff x="5803920" y="4624560"/>
            <a:chExt cx="1008000" cy="360360"/>
          </a:xfrm>
        </p:grpSpPr>
        <p:sp>
          <p:nvSpPr>
            <p:cNvPr id="651" name="직선 연결선 88"/>
            <p:cNvSpPr/>
            <p:nvPr/>
          </p:nvSpPr>
          <p:spPr>
            <a:xfrm>
              <a:off x="5803920" y="462456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5803920" y="462456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803920" y="5156280"/>
            <a:ext cx="1008000" cy="360360"/>
            <a:chOff x="5803920" y="5156280"/>
            <a:chExt cx="1008000" cy="360360"/>
          </a:xfrm>
        </p:grpSpPr>
        <p:sp>
          <p:nvSpPr>
            <p:cNvPr id="654" name="직선 연결선 89"/>
            <p:cNvSpPr/>
            <p:nvPr/>
          </p:nvSpPr>
          <p:spPr>
            <a:xfrm>
              <a:off x="5803920" y="515628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5803920" y="515628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6" name="그림 6" descr=""/>
          <p:cNvPicPr/>
          <p:nvPr/>
        </p:nvPicPr>
        <p:blipFill>
          <a:blip r:embed="rId3"/>
          <a:stretch/>
        </p:blipFill>
        <p:spPr>
          <a:xfrm>
            <a:off x="3205080" y="239076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657" name="그림 7" descr=""/>
          <p:cNvPicPr/>
          <p:nvPr/>
        </p:nvPicPr>
        <p:blipFill>
          <a:blip r:embed="rId4"/>
          <a:stretch/>
        </p:blipFill>
        <p:spPr>
          <a:xfrm>
            <a:off x="3471840" y="3459240"/>
            <a:ext cx="1152720" cy="761760"/>
          </a:xfrm>
          <a:prstGeom prst="rect">
            <a:avLst/>
          </a:prstGeom>
          <a:ln w="0">
            <a:noFill/>
          </a:ln>
        </p:spPr>
      </p:pic>
      <p:pic>
        <p:nvPicPr>
          <p:cNvPr id="658" name="그림 8" descr=""/>
          <p:cNvPicPr/>
          <p:nvPr/>
        </p:nvPicPr>
        <p:blipFill>
          <a:blip r:embed="rId5"/>
          <a:stretch/>
        </p:blipFill>
        <p:spPr>
          <a:xfrm>
            <a:off x="3214800" y="4595760"/>
            <a:ext cx="1152360" cy="76212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1"/>
          <p:cNvSpPr/>
          <p:nvPr/>
        </p:nvSpPr>
        <p:spPr>
          <a:xfrm>
            <a:off x="3276720" y="24732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2"/>
          <p:cNvSpPr/>
          <p:nvPr/>
        </p:nvSpPr>
        <p:spPr>
          <a:xfrm>
            <a:off x="3543480" y="356544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3286080" y="46879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그림 26" descr=""/>
          <p:cNvPicPr/>
          <p:nvPr/>
        </p:nvPicPr>
        <p:blipFill>
          <a:blip r:embed="rId6"/>
          <a:stretch/>
        </p:blipFill>
        <p:spPr>
          <a:xfrm>
            <a:off x="4998960" y="2185920"/>
            <a:ext cx="1028880" cy="4478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27"/>
          <p:cNvSpPr/>
          <p:nvPr/>
        </p:nvSpPr>
        <p:spPr>
          <a:xfrm>
            <a:off x="5000760" y="21240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그림 28" descr=""/>
          <p:cNvPicPr/>
          <p:nvPr/>
        </p:nvPicPr>
        <p:blipFill>
          <a:blip r:embed="rId7"/>
          <a:stretch/>
        </p:blipFill>
        <p:spPr>
          <a:xfrm>
            <a:off x="5022720" y="280044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665" name="TextBox 29"/>
          <p:cNvSpPr/>
          <p:nvPr/>
        </p:nvSpPr>
        <p:spPr>
          <a:xfrm>
            <a:off x="5024520" y="27367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그림 36" descr=""/>
          <p:cNvPicPr/>
          <p:nvPr/>
        </p:nvPicPr>
        <p:blipFill>
          <a:blip r:embed="rId8"/>
          <a:stretch/>
        </p:blipFill>
        <p:spPr>
          <a:xfrm>
            <a:off x="5210280" y="358632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67" name="TextBox 37"/>
          <p:cNvSpPr/>
          <p:nvPr/>
        </p:nvSpPr>
        <p:spPr>
          <a:xfrm>
            <a:off x="5210280" y="3548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그림 38" descr=""/>
          <p:cNvPicPr/>
          <p:nvPr/>
        </p:nvPicPr>
        <p:blipFill>
          <a:blip r:embed="rId9"/>
          <a:stretch/>
        </p:blipFill>
        <p:spPr>
          <a:xfrm>
            <a:off x="5045040" y="443880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669" name="TextBox 39"/>
          <p:cNvSpPr/>
          <p:nvPr/>
        </p:nvSpPr>
        <p:spPr>
          <a:xfrm>
            <a:off x="4879800" y="4394160"/>
            <a:ext cx="128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그림 40" descr=""/>
          <p:cNvPicPr/>
          <p:nvPr/>
        </p:nvPicPr>
        <p:blipFill>
          <a:blip r:embed="rId10"/>
          <a:stretch/>
        </p:blipFill>
        <p:spPr>
          <a:xfrm>
            <a:off x="5046840" y="5052960"/>
            <a:ext cx="1028520" cy="44784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1"/>
          <p:cNvSpPr/>
          <p:nvPr/>
        </p:nvSpPr>
        <p:spPr>
          <a:xfrm>
            <a:off x="5048280" y="499104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그림 15" descr=""/>
          <p:cNvPicPr/>
          <p:nvPr/>
        </p:nvPicPr>
        <p:blipFill>
          <a:blip r:embed="rId11"/>
          <a:stretch/>
        </p:blipFill>
        <p:spPr>
          <a:xfrm>
            <a:off x="6572160" y="199548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3" name="TextBox 23"/>
          <p:cNvSpPr/>
          <p:nvPr/>
        </p:nvSpPr>
        <p:spPr>
          <a:xfrm>
            <a:off x="6643800" y="195120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그림 24" descr=""/>
          <p:cNvPicPr/>
          <p:nvPr/>
        </p:nvPicPr>
        <p:blipFill>
          <a:blip r:embed="rId12"/>
          <a:stretch/>
        </p:blipFill>
        <p:spPr>
          <a:xfrm>
            <a:off x="6576840" y="249552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5"/>
          <p:cNvSpPr/>
          <p:nvPr/>
        </p:nvSpPr>
        <p:spPr>
          <a:xfrm>
            <a:off x="6643800" y="2451240"/>
            <a:ext cx="142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그림 30" descr=""/>
          <p:cNvPicPr/>
          <p:nvPr/>
        </p:nvPicPr>
        <p:blipFill>
          <a:blip r:embed="rId13"/>
          <a:stretch/>
        </p:blipFill>
        <p:spPr>
          <a:xfrm>
            <a:off x="6572160" y="300996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7" name="TextBox 31"/>
          <p:cNvSpPr/>
          <p:nvPr/>
        </p:nvSpPr>
        <p:spPr>
          <a:xfrm>
            <a:off x="6572160" y="296532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그림 42" descr=""/>
          <p:cNvPicPr/>
          <p:nvPr/>
        </p:nvPicPr>
        <p:blipFill>
          <a:blip r:embed="rId14"/>
          <a:stretch/>
        </p:blipFill>
        <p:spPr>
          <a:xfrm>
            <a:off x="6616800" y="422424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79" name="TextBox 43"/>
          <p:cNvSpPr/>
          <p:nvPr/>
        </p:nvSpPr>
        <p:spPr>
          <a:xfrm>
            <a:off x="6688080" y="417996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그림 44" descr=""/>
          <p:cNvPicPr/>
          <p:nvPr/>
        </p:nvPicPr>
        <p:blipFill>
          <a:blip r:embed="rId15"/>
          <a:stretch/>
        </p:blipFill>
        <p:spPr>
          <a:xfrm>
            <a:off x="6621480" y="472428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45"/>
          <p:cNvSpPr/>
          <p:nvPr/>
        </p:nvSpPr>
        <p:spPr>
          <a:xfrm>
            <a:off x="6688080" y="4680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그림 53" descr=""/>
          <p:cNvPicPr/>
          <p:nvPr/>
        </p:nvPicPr>
        <p:blipFill>
          <a:blip r:embed="rId16"/>
          <a:stretch/>
        </p:blipFill>
        <p:spPr>
          <a:xfrm>
            <a:off x="6620040" y="529596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83" name="TextBox 54"/>
          <p:cNvSpPr/>
          <p:nvPr/>
        </p:nvSpPr>
        <p:spPr>
          <a:xfrm>
            <a:off x="6686640" y="52513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1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E58-D87D-46EC-8BD8-DA5853C44F39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页脚占位符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535280" y="2563920"/>
            <a:ext cx="360" cy="2305080"/>
            <a:chOff x="4535280" y="2563920"/>
            <a:chExt cx="360" cy="2305080"/>
          </a:xfrm>
        </p:grpSpPr>
        <p:sp>
          <p:nvSpPr>
            <p:cNvPr id="690" name="직선 연결선 45"/>
            <p:cNvSpPr/>
            <p:nvPr/>
          </p:nvSpPr>
          <p:spPr>
            <a:xfrm>
              <a:off x="4535640" y="2563920"/>
              <a:ext cx="0" cy="230508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 rot="5400000">
              <a:off x="3382920" y="371628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348000" y="3760920"/>
            <a:ext cx="2735280" cy="360"/>
            <a:chOff x="3348000" y="3760920"/>
            <a:chExt cx="2735280" cy="360"/>
          </a:xfrm>
        </p:grpSpPr>
        <p:sp>
          <p:nvSpPr>
            <p:cNvPr id="693" name="직선 연결선 41"/>
            <p:cNvSpPr/>
            <p:nvPr/>
          </p:nvSpPr>
          <p:spPr>
            <a:xfrm>
              <a:off x="3348000" y="3760920"/>
              <a:ext cx="2735280" cy="0"/>
            </a:xfrm>
            <a:prstGeom prst="line">
              <a:avLst/>
            </a:prstGeom>
            <a:ln w="15840">
              <a:solidFill>
                <a:srgbClr val="0c0c0c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348000" y="3760920"/>
              <a:ext cx="27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그림 10" descr=""/>
          <p:cNvPicPr/>
          <p:nvPr/>
        </p:nvPicPr>
        <p:blipFill>
          <a:blip r:embed="rId2"/>
          <a:stretch/>
        </p:blipFill>
        <p:spPr>
          <a:xfrm>
            <a:off x="3948120" y="3149640"/>
            <a:ext cx="1247760" cy="1238040"/>
          </a:xfrm>
          <a:prstGeom prst="rect">
            <a:avLst/>
          </a:prstGeom>
          <a:ln w="0">
            <a:noFill/>
          </a:ln>
        </p:spPr>
      </p:pic>
      <p:sp>
        <p:nvSpPr>
          <p:cNvPr id="696" name="TextBox 11"/>
          <p:cNvSpPr/>
          <p:nvPr/>
        </p:nvSpPr>
        <p:spPr>
          <a:xfrm>
            <a:off x="4030560" y="3317760"/>
            <a:ext cx="982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124000" y="2852640"/>
            <a:ext cx="1150920" cy="936720"/>
            <a:chOff x="2124000" y="2852640"/>
            <a:chExt cx="1150920" cy="936720"/>
          </a:xfrm>
        </p:grpSpPr>
        <p:sp>
          <p:nvSpPr>
            <p:cNvPr id="698" name="직선 연결선 46"/>
            <p:cNvSpPr/>
            <p:nvPr/>
          </p:nvSpPr>
          <p:spPr>
            <a:xfrm>
              <a:off x="2124000" y="2852640"/>
              <a:ext cx="1150920" cy="936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2124000" y="2852640"/>
              <a:ext cx="11509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195280" y="3789000"/>
            <a:ext cx="1081440" cy="863640"/>
            <a:chOff x="2195280" y="3789000"/>
            <a:chExt cx="1081440" cy="863640"/>
          </a:xfrm>
        </p:grpSpPr>
        <p:sp>
          <p:nvSpPr>
            <p:cNvPr id="701" name="직선 연결선 49"/>
            <p:cNvSpPr/>
            <p:nvPr/>
          </p:nvSpPr>
          <p:spPr>
            <a:xfrm flipV="1">
              <a:off x="2195640" y="3789000"/>
              <a:ext cx="1081080" cy="86364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 rot="10800000">
              <a:off x="2195280" y="3789000"/>
              <a:ext cx="1081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11640" y="2852640"/>
            <a:ext cx="863640" cy="905040"/>
            <a:chOff x="6011640" y="2852640"/>
            <a:chExt cx="863640" cy="905040"/>
          </a:xfrm>
        </p:grpSpPr>
        <p:sp>
          <p:nvSpPr>
            <p:cNvPr id="704" name="직선 연결선 51"/>
            <p:cNvSpPr/>
            <p:nvPr/>
          </p:nvSpPr>
          <p:spPr>
            <a:xfrm flipH="1">
              <a:off x="6011640" y="2852640"/>
              <a:ext cx="863640" cy="90504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 rot="5400000">
              <a:off x="5990760" y="2873160"/>
              <a:ext cx="9050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011640" y="3758760"/>
            <a:ext cx="863640" cy="894240"/>
            <a:chOff x="6011640" y="3758760"/>
            <a:chExt cx="863640" cy="894240"/>
          </a:xfrm>
        </p:grpSpPr>
        <p:sp>
          <p:nvSpPr>
            <p:cNvPr id="707" name="직선 연결선 52"/>
            <p:cNvSpPr/>
            <p:nvPr/>
          </p:nvSpPr>
          <p:spPr>
            <a:xfrm flipH="1" flipV="1">
              <a:off x="6011640" y="3758760"/>
              <a:ext cx="863640" cy="89388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 rot="5400000">
              <a:off x="5996520" y="3774240"/>
              <a:ext cx="8938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9" name="그림 22" descr=""/>
          <p:cNvPicPr/>
          <p:nvPr/>
        </p:nvPicPr>
        <p:blipFill>
          <a:blip r:embed="rId3"/>
          <a:stretch/>
        </p:blipFill>
        <p:spPr>
          <a:xfrm>
            <a:off x="1814400" y="429588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3"/>
          <p:cNvSpPr/>
          <p:nvPr/>
        </p:nvSpPr>
        <p:spPr>
          <a:xfrm>
            <a:off x="1644480" y="435600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그림 24" descr=""/>
          <p:cNvPicPr/>
          <p:nvPr/>
        </p:nvPicPr>
        <p:blipFill>
          <a:blip r:embed="rId4"/>
          <a:stretch/>
        </p:blipFill>
        <p:spPr>
          <a:xfrm>
            <a:off x="1808280" y="248904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12" name="TextBox 25"/>
          <p:cNvSpPr/>
          <p:nvPr/>
        </p:nvSpPr>
        <p:spPr>
          <a:xfrm>
            <a:off x="1638360" y="25495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그림 28" descr=""/>
          <p:cNvPicPr/>
          <p:nvPr/>
        </p:nvPicPr>
        <p:blipFill>
          <a:blip r:embed="rId5"/>
          <a:stretch/>
        </p:blipFill>
        <p:spPr>
          <a:xfrm>
            <a:off x="6513480" y="43052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714" name="TextBox 29"/>
          <p:cNvSpPr/>
          <p:nvPr/>
        </p:nvSpPr>
        <p:spPr>
          <a:xfrm>
            <a:off x="6343560" y="43657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그림 30" descr=""/>
          <p:cNvPicPr/>
          <p:nvPr/>
        </p:nvPicPr>
        <p:blipFill>
          <a:blip r:embed="rId6"/>
          <a:stretch/>
        </p:blipFill>
        <p:spPr>
          <a:xfrm>
            <a:off x="6507000" y="249876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31"/>
          <p:cNvSpPr/>
          <p:nvPr/>
        </p:nvSpPr>
        <p:spPr>
          <a:xfrm>
            <a:off x="6338880" y="255888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708360" y="2060640"/>
            <a:ext cx="790560" cy="504720"/>
            <a:chOff x="3708360" y="2060640"/>
            <a:chExt cx="790560" cy="504720"/>
          </a:xfrm>
        </p:grpSpPr>
        <p:sp>
          <p:nvSpPr>
            <p:cNvPr id="718" name="직선 연결선 57"/>
            <p:cNvSpPr/>
            <p:nvPr/>
          </p:nvSpPr>
          <p:spPr>
            <a:xfrm>
              <a:off x="3708360" y="2060640"/>
              <a:ext cx="790560" cy="504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3708360" y="2060640"/>
              <a:ext cx="7905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72000" y="2060640"/>
            <a:ext cx="792000" cy="504720"/>
            <a:chOff x="4572000" y="2060640"/>
            <a:chExt cx="792000" cy="504720"/>
          </a:xfrm>
        </p:grpSpPr>
        <p:sp>
          <p:nvSpPr>
            <p:cNvPr id="721" name="직선 연결선 59"/>
            <p:cNvSpPr/>
            <p:nvPr/>
          </p:nvSpPr>
          <p:spPr>
            <a:xfrm flipH="1">
              <a:off x="4572000" y="2060640"/>
              <a:ext cx="792000" cy="504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4572000" y="2060640"/>
              <a:ext cx="79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708360" y="5013000"/>
            <a:ext cx="790560" cy="576360"/>
            <a:chOff x="3708360" y="5013000"/>
            <a:chExt cx="790560" cy="576360"/>
          </a:xfrm>
        </p:grpSpPr>
        <p:sp>
          <p:nvSpPr>
            <p:cNvPr id="724" name="직선 연결선 62"/>
            <p:cNvSpPr/>
            <p:nvPr/>
          </p:nvSpPr>
          <p:spPr>
            <a:xfrm flipV="1">
              <a:off x="3708360" y="5013000"/>
              <a:ext cx="790560" cy="57636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 rot="10800000">
              <a:off x="3708360" y="5013000"/>
              <a:ext cx="7905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72000" y="5013000"/>
            <a:ext cx="792000" cy="576360"/>
            <a:chOff x="4572000" y="5013000"/>
            <a:chExt cx="792000" cy="576360"/>
          </a:xfrm>
        </p:grpSpPr>
        <p:sp>
          <p:nvSpPr>
            <p:cNvPr id="727" name="직선 연결선 63"/>
            <p:cNvSpPr/>
            <p:nvPr/>
          </p:nvSpPr>
          <p:spPr>
            <a:xfrm flipH="1" flipV="1">
              <a:off x="4572000" y="5013000"/>
              <a:ext cx="792000" cy="57636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 rot="10800000">
              <a:off x="4572000" y="5013000"/>
              <a:ext cx="792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그림 16" descr=""/>
          <p:cNvPicPr/>
          <p:nvPr/>
        </p:nvPicPr>
        <p:blipFill>
          <a:blip r:embed="rId7"/>
          <a:stretch/>
        </p:blipFill>
        <p:spPr>
          <a:xfrm>
            <a:off x="4130640" y="459756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730" name="TextBox 17"/>
          <p:cNvSpPr/>
          <p:nvPr/>
        </p:nvSpPr>
        <p:spPr>
          <a:xfrm>
            <a:off x="4033800" y="469908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그림 32" descr=""/>
          <p:cNvPicPr/>
          <p:nvPr/>
        </p:nvPicPr>
        <p:blipFill>
          <a:blip r:embed="rId8"/>
          <a:stretch/>
        </p:blipFill>
        <p:spPr>
          <a:xfrm>
            <a:off x="3373560" y="522612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732" name="TextBox 33"/>
          <p:cNvSpPr/>
          <p:nvPr/>
        </p:nvSpPr>
        <p:spPr>
          <a:xfrm>
            <a:off x="3222720" y="5286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그림 34" descr=""/>
          <p:cNvPicPr/>
          <p:nvPr/>
        </p:nvPicPr>
        <p:blipFill>
          <a:blip r:embed="rId9"/>
          <a:stretch/>
        </p:blipFill>
        <p:spPr>
          <a:xfrm>
            <a:off x="4992840" y="523548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34" name="TextBox 35"/>
          <p:cNvSpPr/>
          <p:nvPr/>
        </p:nvSpPr>
        <p:spPr>
          <a:xfrm>
            <a:off x="4822920" y="529596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그림 18" descr=""/>
          <p:cNvPicPr/>
          <p:nvPr/>
        </p:nvPicPr>
        <p:blipFill>
          <a:blip r:embed="rId10"/>
          <a:stretch/>
        </p:blipFill>
        <p:spPr>
          <a:xfrm>
            <a:off x="4135320" y="216864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736" name="TextBox 19"/>
          <p:cNvSpPr/>
          <p:nvPr/>
        </p:nvSpPr>
        <p:spPr>
          <a:xfrm>
            <a:off x="4038480" y="22701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그림 36" descr=""/>
          <p:cNvPicPr/>
          <p:nvPr/>
        </p:nvPicPr>
        <p:blipFill>
          <a:blip r:embed="rId11"/>
          <a:stretch/>
        </p:blipFill>
        <p:spPr>
          <a:xfrm>
            <a:off x="3373560" y="176832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37"/>
          <p:cNvSpPr/>
          <p:nvPr/>
        </p:nvSpPr>
        <p:spPr>
          <a:xfrm>
            <a:off x="3222720" y="1830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그림 38" descr=""/>
          <p:cNvPicPr/>
          <p:nvPr/>
        </p:nvPicPr>
        <p:blipFill>
          <a:blip r:embed="rId12"/>
          <a:stretch/>
        </p:blipFill>
        <p:spPr>
          <a:xfrm>
            <a:off x="4992840" y="1758960"/>
            <a:ext cx="71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2124000" y="3760920"/>
            <a:ext cx="935280" cy="360"/>
            <a:chOff x="2124000" y="3760920"/>
            <a:chExt cx="935280" cy="360"/>
          </a:xfrm>
        </p:grpSpPr>
        <p:sp>
          <p:nvSpPr>
            <p:cNvPr id="741" name="직선 연결선 70"/>
            <p:cNvSpPr/>
            <p:nvPr/>
          </p:nvSpPr>
          <p:spPr>
            <a:xfrm>
              <a:off x="2124000" y="3760920"/>
              <a:ext cx="935280" cy="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2124000" y="376092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Box 39"/>
          <p:cNvSpPr/>
          <p:nvPr/>
        </p:nvSpPr>
        <p:spPr>
          <a:xfrm>
            <a:off x="4822920" y="18208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그림 20" descr=""/>
          <p:cNvPicPr/>
          <p:nvPr/>
        </p:nvPicPr>
        <p:blipFill>
          <a:blip r:embed="rId13"/>
          <a:stretch/>
        </p:blipFill>
        <p:spPr>
          <a:xfrm>
            <a:off x="1625760" y="340344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745" name="TextBox 21"/>
          <p:cNvSpPr/>
          <p:nvPr/>
        </p:nvSpPr>
        <p:spPr>
          <a:xfrm>
            <a:off x="1457280" y="346392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그림 12" descr=""/>
          <p:cNvPicPr/>
          <p:nvPr/>
        </p:nvPicPr>
        <p:blipFill>
          <a:blip r:embed="rId14"/>
          <a:stretch/>
        </p:blipFill>
        <p:spPr>
          <a:xfrm>
            <a:off x="2824200" y="336852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747" name="TextBox 13"/>
          <p:cNvSpPr/>
          <p:nvPr/>
        </p:nvSpPr>
        <p:spPr>
          <a:xfrm>
            <a:off x="2728800" y="346860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137280" y="3760920"/>
            <a:ext cx="936720" cy="360"/>
            <a:chOff x="6137280" y="3760920"/>
            <a:chExt cx="936720" cy="360"/>
          </a:xfrm>
        </p:grpSpPr>
        <p:sp>
          <p:nvSpPr>
            <p:cNvPr id="749" name="직선 연결선 72"/>
            <p:cNvSpPr/>
            <p:nvPr/>
          </p:nvSpPr>
          <p:spPr>
            <a:xfrm>
              <a:off x="6137280" y="3760920"/>
              <a:ext cx="936720" cy="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6137280" y="3760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" name="그림 14" descr=""/>
          <p:cNvPicPr/>
          <p:nvPr/>
        </p:nvPicPr>
        <p:blipFill>
          <a:blip r:embed="rId15"/>
          <a:stretch/>
        </p:blipFill>
        <p:spPr>
          <a:xfrm>
            <a:off x="5532480" y="33656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752" name="TextBox 15"/>
          <p:cNvSpPr/>
          <p:nvPr/>
        </p:nvSpPr>
        <p:spPr>
          <a:xfrm>
            <a:off x="5435640" y="34653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그림 26" descr=""/>
          <p:cNvPicPr/>
          <p:nvPr/>
        </p:nvPicPr>
        <p:blipFill>
          <a:blip r:embed="rId16"/>
          <a:stretch/>
        </p:blipFill>
        <p:spPr>
          <a:xfrm>
            <a:off x="6838920" y="341316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754" name="TextBox 27"/>
          <p:cNvSpPr/>
          <p:nvPr/>
        </p:nvSpPr>
        <p:spPr>
          <a:xfrm>
            <a:off x="6670800" y="34732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E2B2-D653-45E2-B8C7-DC86E140E284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页脚占位符 4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8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차트 47"/>
          <p:cNvSpPr/>
          <p:nvPr/>
        </p:nvSpPr>
        <p:spPr>
          <a:xfrm>
            <a:off x="1187280" y="1917720"/>
            <a:ext cx="6840720" cy="39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2D8-F448-4774-8A05-9765811372F5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차트 10"/>
          <p:cNvSpPr/>
          <p:nvPr/>
        </p:nvSpPr>
        <p:spPr>
          <a:xfrm>
            <a:off x="1332000" y="1700280"/>
            <a:ext cx="626436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14D6-2DAE-499B-B7CE-4FF3C2447C91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9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