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A61D-FC66-467E-9C58-FF840EE9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7118-747D-42E0-883C-9E34B53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63205-35AA-4529-A3E2-2EA2C8B1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DB53D-14D0-40FA-8A84-E035CC6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02CD-B201-4BA5-BF1B-7B3A576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9BB3-CDF7-407C-84E9-C5A3866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5DF83-2C2A-4426-9A45-F3D1C35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C5BCA-A13B-4082-90D2-1D8EAB2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7F0AB-C7D4-4E2F-86C0-334A0FC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0866C-F876-4DC1-935A-2D7EF259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1DA44-4223-4B3E-840F-9B8B03D6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7663-CA16-48DE-8A9A-C614BAB3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2FA0EF1-33CF-4B87-817F-6A02336C92B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44E5-1E27-4FE0-937C-375F94702C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027-2EA8-479B-A116-4E09CF363B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375408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63640" y="4917600"/>
            <a:ext cx="75103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Logo_ptl_für schwarz"/>
          <p:cNvPicPr/>
          <p:nvPr/>
        </p:nvPicPr>
        <p:blipFill>
          <a:blip r:embed="rId1"/>
          <a:stretch/>
        </p:blipFill>
        <p:spPr>
          <a:xfrm>
            <a:off x="6611760" y="378000"/>
            <a:ext cx="2224440" cy="3920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1"/>
          <p:cNvSpPr/>
          <p:nvPr/>
        </p:nvSpPr>
        <p:spPr>
          <a:xfrm>
            <a:off x="2595600" y="12096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色工作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28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文本框 5126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F8F-319D-4661-9EA8-89B9B422F5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uppieren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40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4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