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DA9-CF88-4917-A0C7-FA9C8EB7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691-DD38-4D93-88FF-D9C83A29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E53-5ECC-4B17-93E3-950D5341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0EE-E86D-4A25-BFC4-8BE211D4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14C2-17C4-45F4-B55E-EEF50DD8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8B8C-5602-400B-BCE2-BCCB364D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0FB8-10F0-4CDC-BD7A-883C490A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F574-D640-4FEB-9ABA-02386889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5F34-A2BF-4D29-9D34-DB5E9AD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85CD-AC02-4DFC-9FE6-68E75820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A7A1-6193-4788-A59F-FC4A1EA4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569-7F24-4863-946C-35C12FF1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B035-9023-41C2-9965-D18001C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F3BD-3524-41AF-BAF2-2BF733CC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BC75-1AD7-4C5B-B07B-A046453E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3675-EECA-4E9A-8197-694B80E2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AFEC-D7CA-419E-BED7-5D88EE2B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02AB-E350-4A0D-825A-451204AD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06BA-DAC8-4EC0-826F-7BB08FB7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13B3-70E0-48BC-AA84-B8134953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4B47-22AA-4055-B629-FE61ADA2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7FF0-6967-4D7C-B0B8-E4D68CD9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798-E29F-45F3-8770-C735B2BD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58F1E-BEC4-42D4-9103-A12C2D09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A76F-CFD5-4157-BBFC-197C834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1CE0-B6E1-417E-9116-C4FF6304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8DB5-3E8E-41C1-A2DC-86AA6422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8263-2718-4232-8711-885CCFC4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30F3-BFD4-41F8-93BF-B60B287A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9394-669C-4993-A688-B00D8D63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BDD-4565-448C-853B-2116E35D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915-51AD-4C19-BF89-964BC4CD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1AA-157F-4964-9E4D-89B445D5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D25-A16D-422B-8A5B-2D2C0285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33D-E3F6-4AD8-8033-65372B5F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B24-2CBD-4765-8C7A-D4F94B5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023C-2B70-4B9D-879B-E25A48CD474E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BC25-B8B0-48DA-AB3F-9A9EB5C0699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C8A2-11DB-4878-BA3A-559394C4A34E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884-43ED-4282-BCB9-03B0FFB29530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6D6-5ED0-4AB3-B193-E35333FA072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80EF-F1A3-42D0-8961-1CC3461113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4286160" y="2714760"/>
            <a:ext cx="45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763640" y="909720"/>
            <a:ext cx="7294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624040" y="476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仙子卡通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3080" y="21384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71680" y="1428840"/>
            <a:ext cx="82072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75CB-C26A-44AB-83F6-5654440141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85840" y="3142800"/>
            <a:ext cx="3557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祝小朋友们节日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146"/>
          <p:cNvSpPr/>
          <p:nvPr/>
        </p:nvSpPr>
        <p:spPr>
          <a:xfrm>
            <a:off x="1836720" y="134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5:19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13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