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8CA0B-E886-4D6A-B56E-BEA620515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2361960"/>
            <a:ext cx="822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4630680"/>
            <a:ext cx="822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6050C-9317-4442-9306-D858AA3C0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CED87-8A0B-4780-8A9F-2482E8001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236196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236196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236196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463068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463068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463068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25441-1A79-4B28-B531-B2484ACDE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B1351-A6DF-4793-AB30-69F196D67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2361960"/>
            <a:ext cx="8229600" cy="43434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B9113-9895-4346-8EBA-54AA14760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40588-023E-4623-A2CC-9D4E5E45F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F9AA5-83EB-4F00-A950-31988DBA6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C129C-55D5-49B9-BB64-A161434A3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3520"/>
            <a:ext cx="8229600" cy="353412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64B88-F6F5-47D8-9D67-97570F306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572E8-B79D-4CB8-98FB-97EF8F89A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2361960"/>
            <a:ext cx="8229600" cy="43434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7472A-A3C7-42A6-8AF4-BCADD1B1A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E28BD-D19E-4D5E-B0D3-FF445ADA4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4630680"/>
            <a:ext cx="822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938CE-4A70-4796-9523-92ACA604E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2361960"/>
            <a:ext cx="822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4630680"/>
            <a:ext cx="822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6CD5E-31C9-412F-AA72-E9380B434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CAB1D-DB6B-4E52-B52E-4B1C67A39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236196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236196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236196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463068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463068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463068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D96B2-35F3-4DE9-A364-7BC46F451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CDC2F1-6DEE-4620-A733-836C553546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type="subTitle"/>
          </p:nvPr>
        </p:nvSpPr>
        <p:spPr>
          <a:xfrm>
            <a:off x="457200" y="2361960"/>
            <a:ext cx="8229600" cy="43434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CFF9A-D44E-4B22-BD4C-7E3B28BFD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2BC132-0827-43A7-BE4A-A71AC26D9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p:nvPr>
        </p:nvSpPr>
        <p:spPr>
          <a:xfrm>
            <a:off x="45720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7424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8B71A-5CD1-45E3-88DA-08710E718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62CDE-C928-4E93-847F-3526988B4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7DAF8-0161-4F2C-B2B0-7F1C3861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3520"/>
            <a:ext cx="8229600" cy="353412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E0C5F-9DAD-406C-9CA9-3657146FF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p:nvPr>
        </p:nvSpPr>
        <p:spPr>
          <a:xfrm>
            <a:off x="45720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424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5720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5F8574-73CA-4A9C-ACA3-4EF6B5592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45720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424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67424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370CE-A0B3-4EAB-AFB2-6A2CBA87F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5720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424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57200" y="4630680"/>
            <a:ext cx="822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C728F-20FF-41BE-9E1E-B79C924E3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457200" y="2361960"/>
            <a:ext cx="822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57200" y="4630680"/>
            <a:ext cx="822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8D431A-6218-4C02-BEAE-D093D7741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45720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7424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5720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467424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CCF41F-6004-412F-AE6E-5DAE839881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 name="PlaceHolder 2"/>
          <p:cNvSpPr>
            <a:spLocks noGrp="1"/>
          </p:cNvSpPr>
          <p:nvPr>
            <p:ph/>
          </p:nvPr>
        </p:nvSpPr>
        <p:spPr>
          <a:xfrm>
            <a:off x="457200" y="236196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239640" y="236196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6022080" y="236196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57200" y="463068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6"/>
          <p:cNvSpPr>
            <a:spLocks noGrp="1"/>
          </p:cNvSpPr>
          <p:nvPr>
            <p:ph/>
          </p:nvPr>
        </p:nvSpPr>
        <p:spPr>
          <a:xfrm>
            <a:off x="3239640" y="463068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7"/>
          <p:cNvSpPr>
            <a:spLocks noGrp="1"/>
          </p:cNvSpPr>
          <p:nvPr>
            <p:ph/>
          </p:nvPr>
        </p:nvSpPr>
        <p:spPr>
          <a:xfrm>
            <a:off x="6022080" y="4630680"/>
            <a:ext cx="264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87027D-5CFA-44AE-99DD-C9D91BE8E0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6ED59-6D9D-42F6-A237-A17974F9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1E91B-7465-4048-92A5-C0C8DCB27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3520"/>
            <a:ext cx="8229600" cy="353412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E9F24-3A2E-4DF7-9DB7-F016F1935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AF158-8DB5-4E0A-B716-1E1B85BDF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2361960"/>
            <a:ext cx="40158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463068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78EF2-0300-4F41-A0A8-53F86E4BF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2361960"/>
            <a:ext cx="40158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4630680"/>
            <a:ext cx="8229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BA1DC-A7F3-401E-83DE-84298175C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E4A3-3E8D-4AC6-83F9-B13F53CE5F0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AE41-F76C-4AE6-80A3-7D77CC480B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96BB-80EE-4E66-898D-4FA8F4444C81}" type="datetime">
              <a:rPr b="0" lang="en-US" sz="1200" spc="-1" strike="noStrike">
                <a:solidFill>
                  <a:srgbClr val="898989"/>
                </a:solidFill>
                <a:latin typeface="Calibri"/>
                <a:ea typeface="PMingLiU"/>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9BAD-0EA7-4E40-92F9-F1BC4693EA9C}"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A0B6-6CBF-4353-AD4E-BAE44C5263BA}"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D374-5F28-4EE1-9BEE-A89CC76A6D1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742840" y="2437920"/>
            <a:ext cx="380988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PMingLiU"/>
              </a:rPr>
              <a:t>Presentation Title</a:t>
            </a:r>
            <a:endParaRPr b="0" lang="en-US" sz="2800" spc="-1" strike="noStrike">
              <a:solidFill>
                <a:srgbClr val="000000"/>
              </a:solidFill>
              <a:latin typeface="Arial"/>
            </a:endParaRPr>
          </a:p>
        </p:txBody>
      </p:sp>
      <p:sp>
        <p:nvSpPr>
          <p:cNvPr id="124" name="PlaceHolder 2"/>
          <p:cNvSpPr>
            <a:spLocks noGrp="1"/>
          </p:cNvSpPr>
          <p:nvPr>
            <p:ph type="subTitle"/>
          </p:nvPr>
        </p:nvSpPr>
        <p:spPr>
          <a:xfrm>
            <a:off x="2493720" y="3078000"/>
            <a:ext cx="4343400" cy="60984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PMingLiU"/>
              </a:rPr>
              <a:t>Presentation Subtitle</a:t>
            </a:r>
            <a:endParaRPr b="0" lang="en-US" sz="2200" spc="-1" strike="noStrike">
              <a:solidFill>
                <a:srgbClr val="000000"/>
              </a:solidFill>
              <a:latin typeface="Arial"/>
            </a:endParaRPr>
          </a:p>
        </p:txBody>
      </p:sp>
      <p:sp>
        <p:nvSpPr>
          <p:cNvPr id="125" name="文本框 4099"/>
          <p:cNvSpPr/>
          <p:nvPr/>
        </p:nvSpPr>
        <p:spPr>
          <a:xfrm>
            <a:off x="108000" y="11239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126" name="文本框 4100"/>
          <p:cNvSpPr/>
          <p:nvPr/>
        </p:nvSpPr>
        <p:spPr>
          <a:xfrm>
            <a:off x="2319480" y="220500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50e53"/>
                </a:solidFill>
                <a:latin typeface="Arial"/>
                <a:ea typeface="宋体"/>
              </a:rPr>
              <a:t>结核病菌幻灯片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Slide Master</a:t>
            </a:r>
            <a:endParaRPr b="0" lang="en-US" sz="4000" spc="-1" strike="noStrike">
              <a:solidFill>
                <a:srgbClr val="000000"/>
              </a:solidFill>
              <a:latin typeface="Arial"/>
            </a:endParaRPr>
          </a:p>
        </p:txBody>
      </p:sp>
      <p:sp>
        <p:nvSpPr>
          <p:cNvPr id="128" name=""/>
          <p:cNvSpPr txBox="1"/>
          <p:nvPr/>
        </p:nvSpPr>
        <p:spPr>
          <a:xfrm>
            <a:off x="457200" y="2666520"/>
            <a:ext cx="8229600" cy="38862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our Text here</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文本框 5123"/>
          <p:cNvSpPr/>
          <p:nvPr/>
        </p:nvSpPr>
        <p:spPr>
          <a:xfrm>
            <a:off x="684360" y="3068640"/>
            <a:ext cx="50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82a8"/>
                </a:solidFill>
                <a:uFillTx/>
                <a:latin typeface="Arial"/>
                <a:ea typeface="Arial"/>
                <a:hlinkClick r:id="rId1"/>
              </a:rPr>
              <a:t>ppt</a:t>
            </a:r>
            <a:r>
              <a:rPr b="0" lang="zh-CN" sz="1600" spc="-1" strike="noStrike" u="sng">
                <a:solidFill>
                  <a:srgbClr val="3382a8"/>
                </a:solidFill>
                <a:uFillTx/>
                <a:latin typeface="Arial"/>
                <a:ea typeface="Arial"/>
                <a:hlinkClick r:id="rId2"/>
              </a:rPr>
              <a:t>模板网站</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33"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F7A8-2DB6-48A0-974A-14CEC07BA6D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1080" y="380880"/>
            <a:ext cx="6934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Print Master</a:t>
            </a:r>
            <a:endParaRPr b="0" lang="en-US" sz="4000" spc="-1" strike="noStrike">
              <a:solidFill>
                <a:srgbClr val="000000"/>
              </a:solidFill>
              <a:latin typeface="Arial"/>
            </a:endParaRPr>
          </a:p>
        </p:txBody>
      </p:sp>
      <p:sp>
        <p:nvSpPr>
          <p:cNvPr id="135" name=""/>
          <p:cNvSpPr txBox="1"/>
          <p:nvPr/>
        </p:nvSpPr>
        <p:spPr>
          <a:xfrm>
            <a:off x="1981080" y="1905120"/>
            <a:ext cx="6934320" cy="45720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our Text her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05:47:38Z</dcterms:created>
  <dc:creator>幻灯片之家：www.eeppt.com</dc:creator>
  <dc:description>幻灯片之家：www.eeppt.com</dc:description>
  <cp:keywords>幻灯片之家：www.eeppt.com</cp:keywords>
  <dc:language>en-US</dc:language>
  <cp:lastModifiedBy>pc</cp:lastModifiedBy>
  <dcterms:modified xsi:type="dcterms:W3CDTF">2015-11-13T04:37:47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