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C9D6-A02C-41E3-814B-BC2E69982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8089-7623-425D-A769-DC8F92502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4973-977A-4F16-BC70-45EEE13C4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7E70-6557-48AE-A913-546654C77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4A07-0544-484E-AE73-81A9D2EB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CF6EA-37FA-4DE2-936A-92A6D5C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F7F0-1C9C-41CD-A829-EC74128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D999E-7EAA-410E-B373-1AF9016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3300-0D85-4E9D-A840-2994824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3BBA-4836-4521-8F99-79BA1ABB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1451A-8FFE-4324-B127-686D066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5AFA-7D63-4F9F-9965-640245F52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16CC7-ED6D-430E-9B39-44A9853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0FDE-A7D4-4E2F-9B0D-0338943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C4630-764D-43B2-A738-24414E3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783B2-B18D-4701-829A-9FF40DA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C3CA9-8D97-4B75-AEE3-34753BA2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7F096-2CD6-4812-9089-CE9E0D60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6C69C-A11F-4193-A306-F6EF256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33D06-AB7F-4A69-B0D3-2E2043A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9D4EA-96BC-4EBE-97BC-DC32871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A3CD3-6B92-4092-AC1F-5118D25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7909-F54E-4977-82A0-B32CE51DA6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2A5B2-D0FA-4997-8E48-9B48640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85E93-A64E-46AD-8078-CBD3C7A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9D6D4-3EEA-4FA2-AC26-68CE2C1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75CA9-9511-4BEE-B298-D135097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9CF6D-A803-4109-8EF7-A44D58B8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EDAB4-78B3-40D4-AA62-A9714D1E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CB0E8-78F9-49BD-8536-9683C3EB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7F8B-5438-478C-9646-3D527D7B4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B1C4-8A9A-4FE5-B932-E8ECCD4F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6C29-216E-4F56-A713-5A2BBAC62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6A3A-40C8-4056-9E47-49ACED53A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95E6-0A37-41D0-B4BC-460A392E9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DCFF-21AF-452E-AC9B-7F7DCF7A3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228600" y="552600"/>
            <a:ext cx="8686800" cy="5943600"/>
          </a:xfrm>
          <a:prstGeom prst="rect">
            <a:avLst/>
          </a:prstGeom>
          <a:noFill/>
          <a:ln w="3816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5715000" y="619128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609480" y="15228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1028" descr="01_back_b"/>
          <p:cNvPicPr/>
          <p:nvPr/>
        </p:nvPicPr>
        <p:blipFill>
          <a:blip r:embed="rId2"/>
          <a:stretch/>
        </p:blipFill>
        <p:spPr>
          <a:xfrm>
            <a:off x="7238880" y="571680"/>
            <a:ext cx="1665360" cy="21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90960" y="62384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0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151920" y="649908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080-070C-416C-9DAC-03E7EFB7C1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1033" descr="01_icon"/>
          <p:cNvPicPr/>
          <p:nvPr/>
        </p:nvPicPr>
        <p:blipFill>
          <a:blip r:embed="rId3"/>
          <a:stretch/>
        </p:blipFill>
        <p:spPr>
          <a:xfrm>
            <a:off x="5334120" y="171360"/>
            <a:ext cx="7491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C25-DFA1-46FE-BB0B-3F24904E9A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43F-C94D-4DE9-95B4-F6DFEDB32A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049" descr="01_back"/>
          <p:cNvPicPr/>
          <p:nvPr/>
        </p:nvPicPr>
        <p:blipFill>
          <a:blip r:embed="rId2"/>
          <a:stretch/>
        </p:blipFill>
        <p:spPr>
          <a:xfrm>
            <a:off x="228600" y="276120"/>
            <a:ext cx="4876920" cy="63151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055"/>
          <p:cNvSpPr/>
          <p:nvPr/>
        </p:nvSpPr>
        <p:spPr>
          <a:xfrm>
            <a:off x="7543800" y="457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Arial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056" descr="01_icon_f"/>
          <p:cNvPicPr/>
          <p:nvPr/>
        </p:nvPicPr>
        <p:blipFill>
          <a:blip r:embed="rId3"/>
          <a:stretch/>
        </p:blipFill>
        <p:spPr>
          <a:xfrm>
            <a:off x="2438280" y="3556080"/>
            <a:ext cx="1739880" cy="1739880"/>
          </a:xfrm>
          <a:prstGeom prst="rect">
            <a:avLst/>
          </a:prstGeom>
          <a:ln w="0">
            <a:noFill/>
          </a:ln>
        </p:spPr>
      </p:pic>
      <p:sp>
        <p:nvSpPr>
          <p:cNvPr id="89" name="矩形 2057"/>
          <p:cNvSpPr/>
          <p:nvPr/>
        </p:nvSpPr>
        <p:spPr>
          <a:xfrm>
            <a:off x="209520" y="266760"/>
            <a:ext cx="8705880" cy="6324480"/>
          </a:xfrm>
          <a:prstGeom prst="rect">
            <a:avLst/>
          </a:prstGeom>
          <a:noFill/>
          <a:ln w="1908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2000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7813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439-591F-4724-A965-1B04CFF77E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33560" y="43434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098"/>
          <p:cNvSpPr/>
          <p:nvPr/>
        </p:nvSpPr>
        <p:spPr>
          <a:xfrm>
            <a:off x="3962520" y="403848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company sloga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099"/>
          <p:cNvSpPr/>
          <p:nvPr/>
        </p:nvSpPr>
        <p:spPr>
          <a:xfrm>
            <a:off x="3886200" y="4084560"/>
            <a:ext cx="7632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52360" y="48157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136" name="文本框 4102"/>
          <p:cNvSpPr/>
          <p:nvPr/>
        </p:nvSpPr>
        <p:spPr>
          <a:xfrm>
            <a:off x="1860120" y="1295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简洁方块工作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1"/>
          <p:cNvSpPr/>
          <p:nvPr/>
        </p:nvSpPr>
        <p:spPr>
          <a:xfrm>
            <a:off x="3200400" y="66135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0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6e9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934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6e934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c5028"/>
                </a:gs>
                <a:gs pos="50000">
                  <a:srgbClr val="6e9349"/>
                </a:gs>
                <a:gs pos="100000">
                  <a:srgbClr val="3c50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65d2e"/>
                </a:gs>
                <a:gs pos="100000">
                  <a:srgbClr val="6e934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6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eb4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eb4b4">
                    <a:alpha val="32156"/>
                  </a:srgbClr>
                </a:gs>
                <a:gs pos="100000">
                  <a:srgbClr val="2b53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36161"/>
                </a:gs>
                <a:gs pos="50000">
                  <a:srgbClr val="5eb4b4"/>
                </a:gs>
                <a:gs pos="100000">
                  <a:srgbClr val="3361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c7272"/>
                </a:gs>
                <a:gs pos="100000">
                  <a:srgbClr val="5eb4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56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1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14338"/>
          <p:cNvGrpSpPr/>
          <p:nvPr/>
        </p:nvGrpSpPr>
        <p:grpSpPr>
          <a:xfrm>
            <a:off x="1376280" y="1143000"/>
            <a:ext cx="5786280" cy="5078520"/>
            <a:chOff x="1376280" y="1143000"/>
            <a:chExt cx="5786280" cy="5078520"/>
          </a:xfrm>
        </p:grpSpPr>
        <p:sp>
          <p:nvSpPr>
            <p:cNvPr id="371" name="椭圆 14339"/>
            <p:cNvSpPr/>
            <p:nvPr/>
          </p:nvSpPr>
          <p:spPr>
            <a:xfrm>
              <a:off x="5290920" y="200340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14340"/>
            <p:cNvSpPr/>
            <p:nvPr/>
          </p:nvSpPr>
          <p:spPr>
            <a:xfrm>
              <a:off x="4005360" y="3689280"/>
              <a:ext cx="125712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14341"/>
            <p:cNvSpPr/>
            <p:nvPr/>
          </p:nvSpPr>
          <p:spPr>
            <a:xfrm>
              <a:off x="5338800" y="5715000"/>
              <a:ext cx="1823760" cy="506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14342"/>
            <p:cNvSpPr/>
            <p:nvPr/>
          </p:nvSpPr>
          <p:spPr>
            <a:xfrm>
              <a:off x="1604880" y="435132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4343"/>
            <p:cNvSpPr/>
            <p:nvPr/>
          </p:nvSpPr>
          <p:spPr>
            <a:xfrm rot="13770000">
              <a:off x="4838400" y="3581280"/>
              <a:ext cx="96048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4344"/>
            <p:cNvSpPr/>
            <p:nvPr/>
          </p:nvSpPr>
          <p:spPr>
            <a:xfrm rot="20856000">
              <a:off x="2852280" y="313200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组合 14345"/>
            <p:cNvGrpSpPr/>
            <p:nvPr/>
          </p:nvGrpSpPr>
          <p:grpSpPr>
            <a:xfrm>
              <a:off x="3790800" y="1825560"/>
              <a:ext cx="1702800" cy="1836360"/>
              <a:chOff x="3790800" y="1825560"/>
              <a:chExt cx="1702800" cy="1836360"/>
            </a:xfrm>
          </p:grpSpPr>
          <p:sp>
            <p:nvSpPr>
              <p:cNvPr id="378" name="矩形 14346"/>
              <p:cNvSpPr/>
              <p:nvPr/>
            </p:nvSpPr>
            <p:spPr>
              <a:xfrm rot="18394200">
                <a:off x="4965120" y="203796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组合 14347"/>
              <p:cNvGrpSpPr/>
              <p:nvPr/>
            </p:nvGrpSpPr>
            <p:grpSpPr>
              <a:xfrm>
                <a:off x="3790800" y="2073960"/>
                <a:ext cx="1609560" cy="1587960"/>
                <a:chOff x="3790800" y="2073960"/>
                <a:chExt cx="1609560" cy="1587960"/>
              </a:xfrm>
            </p:grpSpPr>
            <p:sp>
              <p:nvSpPr>
                <p:cNvPr id="380" name="椭圆 14348"/>
                <p:cNvSpPr/>
                <p:nvPr/>
              </p:nvSpPr>
              <p:spPr>
                <a:xfrm>
                  <a:off x="3790800" y="207396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任意多边形 14349"/>
                <p:cNvSpPr/>
                <p:nvPr/>
              </p:nvSpPr>
              <p:spPr>
                <a:xfrm>
                  <a:off x="3974760" y="210024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文本框 14350"/>
              <p:cNvSpPr/>
              <p:nvPr/>
            </p:nvSpPr>
            <p:spPr>
              <a:xfrm>
                <a:off x="3877560" y="27651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组合 14351"/>
            <p:cNvGrpSpPr/>
            <p:nvPr/>
          </p:nvGrpSpPr>
          <p:grpSpPr>
            <a:xfrm>
              <a:off x="5200560" y="1143000"/>
              <a:ext cx="891720" cy="861840"/>
              <a:chOff x="5200560" y="1143000"/>
              <a:chExt cx="891720" cy="861840"/>
            </a:xfrm>
          </p:grpSpPr>
          <p:grpSp>
            <p:nvGrpSpPr>
              <p:cNvPr id="384" name="组合 14352"/>
              <p:cNvGrpSpPr/>
              <p:nvPr/>
            </p:nvGrpSpPr>
            <p:grpSpPr>
              <a:xfrm>
                <a:off x="5200560" y="1143000"/>
                <a:ext cx="871560" cy="861840"/>
                <a:chOff x="5200560" y="1143000"/>
                <a:chExt cx="871560" cy="861840"/>
              </a:xfrm>
            </p:grpSpPr>
            <p:sp>
              <p:nvSpPr>
                <p:cNvPr id="385" name="椭圆 14353"/>
                <p:cNvSpPr/>
                <p:nvPr/>
              </p:nvSpPr>
              <p:spPr>
                <a:xfrm>
                  <a:off x="5200560" y="11430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b4b4"/>
                    </a:gs>
                    <a:gs pos="100000">
                      <a:srgbClr val="2b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任意多边形 14354"/>
                <p:cNvSpPr/>
                <p:nvPr/>
              </p:nvSpPr>
              <p:spPr>
                <a:xfrm>
                  <a:off x="5299920" y="11570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b4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文本框 14355"/>
              <p:cNvSpPr/>
              <p:nvPr/>
            </p:nvSpPr>
            <p:spPr>
              <a:xfrm>
                <a:off x="5221080" y="14749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14356"/>
            <p:cNvGrpSpPr/>
            <p:nvPr/>
          </p:nvGrpSpPr>
          <p:grpSpPr>
            <a:xfrm>
              <a:off x="1376280" y="2468520"/>
              <a:ext cx="1744560" cy="1790640"/>
              <a:chOff x="1376280" y="2468520"/>
              <a:chExt cx="1744560" cy="1790640"/>
            </a:xfrm>
          </p:grpSpPr>
          <p:grpSp>
            <p:nvGrpSpPr>
              <p:cNvPr id="389" name="组合 14357"/>
              <p:cNvGrpSpPr/>
              <p:nvPr/>
            </p:nvGrpSpPr>
            <p:grpSpPr>
              <a:xfrm>
                <a:off x="1376280" y="2468520"/>
                <a:ext cx="1744560" cy="1790640"/>
                <a:chOff x="1376280" y="2468520"/>
                <a:chExt cx="1744560" cy="1790640"/>
              </a:xfrm>
            </p:grpSpPr>
            <p:sp>
              <p:nvSpPr>
                <p:cNvPr id="390" name="椭圆 14358"/>
                <p:cNvSpPr/>
                <p:nvPr/>
              </p:nvSpPr>
              <p:spPr>
                <a:xfrm>
                  <a:off x="1376280" y="24685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9514"/>
                    </a:gs>
                    <a:gs pos="100000">
                      <a:srgbClr val="a56c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任意多边形 14359"/>
                <p:cNvSpPr/>
                <p:nvPr/>
              </p:nvSpPr>
              <p:spPr>
                <a:xfrm>
                  <a:off x="1575720" y="24980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95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文本框 14360"/>
              <p:cNvSpPr/>
              <p:nvPr/>
            </p:nvSpPr>
            <p:spPr>
              <a:xfrm>
                <a:off x="1470600" y="32637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14361"/>
            <p:cNvGrpSpPr/>
            <p:nvPr/>
          </p:nvGrpSpPr>
          <p:grpSpPr>
            <a:xfrm>
              <a:off x="5132160" y="3728880"/>
              <a:ext cx="2013120" cy="1989000"/>
              <a:chOff x="5132160" y="3728880"/>
              <a:chExt cx="2013120" cy="1989000"/>
            </a:xfrm>
          </p:grpSpPr>
          <p:grpSp>
            <p:nvGrpSpPr>
              <p:cNvPr id="394" name="组合 14362"/>
              <p:cNvGrpSpPr/>
              <p:nvPr/>
            </p:nvGrpSpPr>
            <p:grpSpPr>
              <a:xfrm>
                <a:off x="5132160" y="3728880"/>
                <a:ext cx="2013120" cy="1989000"/>
                <a:chOff x="5132160" y="3728880"/>
                <a:chExt cx="2013120" cy="1989000"/>
              </a:xfrm>
            </p:grpSpPr>
            <p:sp>
              <p:nvSpPr>
                <p:cNvPr id="395" name="椭圆 14363"/>
                <p:cNvSpPr/>
                <p:nvPr/>
              </p:nvSpPr>
              <p:spPr>
                <a:xfrm>
                  <a:off x="5132160" y="37288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c5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14364"/>
                <p:cNvSpPr/>
                <p:nvPr/>
              </p:nvSpPr>
              <p:spPr>
                <a:xfrm>
                  <a:off x="5362200" y="37616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文本框 14365"/>
              <p:cNvSpPr/>
              <p:nvPr/>
            </p:nvSpPr>
            <p:spPr>
              <a:xfrm>
                <a:off x="5420520" y="4590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文本框 1436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4367"/>
          <p:cNvSpPr/>
          <p:nvPr/>
        </p:nvSpPr>
        <p:spPr>
          <a:xfrm>
            <a:off x="533520" y="55627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Arial"/>
                <a:ea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03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38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538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8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6386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36" name="圆角矩形 16387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16388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16389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16390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16391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6392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16393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43" name="椭圆 16394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16395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16396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16397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6398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文本框 16399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16400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6401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51" name="圆角矩形 16402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16403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16404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16405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6406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16407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6408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16409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16410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6411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6412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16413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16414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16415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65" name="圆角矩形 16416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16417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16418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16419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组合 16420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70" name="椭圆 16421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6422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16423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16424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16425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文本框 16426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16427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16428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圆角矩形 16429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7410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82" name="组合 17411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83" name="矩形 17412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矩形 17413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17414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86" name="组合 17415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87" name="组合 17416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88" name="任意多边形 17417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17418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组合 17419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91" name="任意多边形 17420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任意多边形 17421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组合 17422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94" name="椭圆 17423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24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7425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17426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17427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组合 17428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500" name="椭圆 17429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7430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17431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17432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文本框 17433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文本框 17434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组合 17435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507" name="组合 17436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508" name="组合 17437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509" name="任意多边形 17438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17439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组合 17440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512" name="任意多边形 17441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17442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组合 17443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515" name="椭圆 17444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7445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17446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17447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17448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组合 17449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521" name="椭圆 17450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17451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17452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17453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5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文本框 17455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17456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28" name="组合 17457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29" name="组合 17458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30" name="任意多边形 17459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17460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组合 17461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33" name="任意多边形 17462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17463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6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42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文本框 17476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7477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49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50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51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54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椭圆 17485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7486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椭圆 17487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17488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17489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组合 17490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62" name="椭圆 17491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7492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17493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17494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组合 17497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69" name="文本框 17498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17499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文本框 17500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文本框 17501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3" name="直接箭头连接符 17502"/>
              <p:cNvCxnSpPr>
                <a:stCxn id="569" idx="3"/>
                <a:endCxn id="57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17503"/>
              <p:cNvCxnSpPr>
                <a:stCxn id="570" idx="3"/>
                <a:endCxn id="57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  <p:cxnSp>
            <p:nvCxnSpPr>
              <p:cNvPr id="575" name="直接箭头连接符 17504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79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81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eb4b4"/>
                  </a:gs>
                  <a:gs pos="100000">
                    <a:srgbClr val="427e7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d6"/>
                  </a:gs>
                  <a:gs pos="50000">
                    <a:srgbClr val="5eb4b4">
                      <a:alpha val="0"/>
                    </a:srgbClr>
                  </a:gs>
                  <a:gs pos="100000">
                    <a:srgbClr val="a7d6d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86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88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b17b"/>
                  </a:gs>
                  <a:gs pos="100000">
                    <a:srgbClr val="6e934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d1b2"/>
                  </a:gs>
                  <a:gs pos="100000">
                    <a:srgbClr val="6e934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93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95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606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33442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08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14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33442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20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838080" y="2157480"/>
          <a:ext cx="7467480" cy="29574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组合 21506"/>
          <p:cNvGrpSpPr/>
          <p:nvPr/>
        </p:nvGrpSpPr>
        <p:grpSpPr>
          <a:xfrm>
            <a:off x="1325520" y="1455480"/>
            <a:ext cx="6598800" cy="4675320"/>
            <a:chOff x="1325520" y="1455480"/>
            <a:chExt cx="6598800" cy="4675320"/>
          </a:xfrm>
        </p:grpSpPr>
        <p:sp>
          <p:nvSpPr>
            <p:cNvPr id="639" name="椭圆 21507"/>
            <p:cNvSpPr/>
            <p:nvPr/>
          </p:nvSpPr>
          <p:spPr>
            <a:xfrm>
              <a:off x="236196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21508"/>
            <p:cNvSpPr/>
            <p:nvPr/>
          </p:nvSpPr>
          <p:spPr>
            <a:xfrm rot="20601600">
              <a:off x="1636560" y="23522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21509"/>
            <p:cNvSpPr/>
            <p:nvPr/>
          </p:nvSpPr>
          <p:spPr>
            <a:xfrm rot="20601600">
              <a:off x="1693080" y="21906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21510"/>
            <p:cNvSpPr/>
            <p:nvPr/>
          </p:nvSpPr>
          <p:spPr>
            <a:xfrm rot="20601600">
              <a:off x="4349160" y="2079720"/>
              <a:ext cx="284904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6e9349"/>
                </a:gs>
                <a:gs pos="100000">
                  <a:srgbClr val="a3ba8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21511"/>
            <p:cNvSpPr/>
            <p:nvPr/>
          </p:nvSpPr>
          <p:spPr>
            <a:xfrm flipH="1" rot="20602200">
              <a:off x="1937880" y="395460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27e7e"/>
                </a:gs>
                <a:gs pos="100000">
                  <a:srgbClr val="5eb4b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21512"/>
            <p:cNvSpPr/>
            <p:nvPr/>
          </p:nvSpPr>
          <p:spPr>
            <a:xfrm rot="20601600">
              <a:off x="2946240" y="212544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702424"/>
                </a:gs>
                <a:gs pos="100000">
                  <a:srgbClr val="4b181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21513"/>
            <p:cNvSpPr/>
            <p:nvPr/>
          </p:nvSpPr>
          <p:spPr>
            <a:xfrm flipH="1" rot="20602200">
              <a:off x="1594440" y="2719440"/>
              <a:ext cx="2850840" cy="20671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e49514"/>
                </a:gs>
                <a:gs pos="100000">
                  <a:srgbClr val="6a450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21514"/>
            <p:cNvSpPr/>
            <p:nvPr/>
          </p:nvSpPr>
          <p:spPr>
            <a:xfrm>
              <a:off x="5687640" y="36226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6b70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21515"/>
            <p:cNvSpPr/>
            <p:nvPr/>
          </p:nvSpPr>
          <p:spPr>
            <a:xfrm rot="20539200">
              <a:off x="4732200" y="3011760"/>
              <a:ext cx="272844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100000">
                  <a:srgbClr val="90a8b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21516"/>
            <p:cNvSpPr/>
            <p:nvPr/>
          </p:nvSpPr>
          <p:spPr>
            <a:xfrm>
              <a:off x="469872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87a80"/>
                </a:gs>
                <a:gs pos="100000">
                  <a:srgbClr val="90a8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21517"/>
            <p:cNvSpPr/>
            <p:nvPr/>
          </p:nvSpPr>
          <p:spPr>
            <a:xfrm rot="20601600">
              <a:off x="3153960" y="29052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21518"/>
            <p:cNvSpPr/>
            <p:nvPr/>
          </p:nvSpPr>
          <p:spPr>
            <a:xfrm>
              <a:off x="21445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21519"/>
            <p:cNvSpPr/>
            <p:nvPr/>
          </p:nvSpPr>
          <p:spPr>
            <a:xfrm>
              <a:off x="40496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21520"/>
            <p:cNvSpPr/>
            <p:nvPr/>
          </p:nvSpPr>
          <p:spPr>
            <a:xfrm>
              <a:off x="58784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21521"/>
            <p:cNvSpPr/>
            <p:nvPr/>
          </p:nvSpPr>
          <p:spPr>
            <a:xfrm>
              <a:off x="55735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21522"/>
            <p:cNvSpPr/>
            <p:nvPr/>
          </p:nvSpPr>
          <p:spPr>
            <a:xfrm>
              <a:off x="33638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21523"/>
            <p:cNvSpPr/>
            <p:nvPr/>
          </p:nvSpPr>
          <p:spPr>
            <a:xfrm>
              <a:off x="4617720" y="417852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e9349">
                    <a:alpha val="19215"/>
                  </a:srgbClr>
                </a:gs>
                <a:gs pos="100000">
                  <a:srgbClr val="9eb7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21524"/>
            <p:cNvSpPr/>
            <p:nvPr/>
          </p:nvSpPr>
          <p:spPr>
            <a:xfrm rot="20601600">
              <a:off x="3255840" y="315756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2152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22530"/>
          <p:cNvGrpSpPr/>
          <p:nvPr/>
        </p:nvGrpSpPr>
        <p:grpSpPr>
          <a:xfrm>
            <a:off x="914400" y="1752480"/>
            <a:ext cx="7391160" cy="4724280"/>
            <a:chOff x="914400" y="1752480"/>
            <a:chExt cx="7391160" cy="4724280"/>
          </a:xfrm>
        </p:grpSpPr>
        <p:sp>
          <p:nvSpPr>
            <p:cNvPr id="661" name="上箭头 22531"/>
            <p:cNvSpPr/>
            <p:nvPr/>
          </p:nvSpPr>
          <p:spPr>
            <a:xfrm>
              <a:off x="1905120" y="2514600"/>
              <a:ext cx="5530680" cy="274320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圆角矩形 22532"/>
            <p:cNvSpPr/>
            <p:nvPr/>
          </p:nvSpPr>
          <p:spPr>
            <a:xfrm>
              <a:off x="1676520" y="175248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9349"/>
                </a:gs>
                <a:gs pos="50000">
                  <a:srgbClr val="a2ba8a"/>
                </a:gs>
                <a:gs pos="100000">
                  <a:srgbClr val="6e934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2533"/>
            <p:cNvSpPr/>
            <p:nvPr/>
          </p:nvSpPr>
          <p:spPr>
            <a:xfrm>
              <a:off x="3656160" y="31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组合 22534"/>
            <p:cNvGrpSpPr/>
            <p:nvPr/>
          </p:nvGrpSpPr>
          <p:grpSpPr>
            <a:xfrm>
              <a:off x="914400" y="4387680"/>
              <a:ext cx="1486080" cy="1989000"/>
              <a:chOff x="914400" y="4387680"/>
              <a:chExt cx="1486080" cy="1989000"/>
            </a:xfrm>
          </p:grpSpPr>
          <p:grpSp>
            <p:nvGrpSpPr>
              <p:cNvPr id="665" name="组合 22535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grpSp>
              <p:nvGrpSpPr>
                <p:cNvPr id="666" name="组合 22536"/>
                <p:cNvGrpSpPr/>
                <p:nvPr/>
              </p:nvGrpSpPr>
              <p:grpSpPr>
                <a:xfrm>
                  <a:off x="914400" y="4387680"/>
                  <a:ext cx="1486080" cy="1514520"/>
                  <a:chOff x="914400" y="4387680"/>
                  <a:chExt cx="1486080" cy="1514520"/>
                </a:xfrm>
              </p:grpSpPr>
              <p:sp>
                <p:nvSpPr>
                  <p:cNvPr id="667" name="椭圆 22537"/>
                  <p:cNvSpPr/>
                  <p:nvPr/>
                </p:nvSpPr>
                <p:spPr>
                  <a:xfrm>
                    <a:off x="914400" y="43876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49514"/>
                      </a:gs>
                      <a:gs pos="100000">
                        <a:srgbClr val="915f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任意多边形 22538"/>
                  <p:cNvSpPr/>
                  <p:nvPr/>
                </p:nvSpPr>
                <p:spPr>
                  <a:xfrm>
                    <a:off x="1084320" y="44125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4951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9" name="文本框 22539"/>
                <p:cNvSpPr/>
                <p:nvPr/>
              </p:nvSpPr>
              <p:spPr>
                <a:xfrm>
                  <a:off x="1072440" y="51588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椭圆 22540"/>
              <p:cNvSpPr/>
              <p:nvPr/>
            </p:nvSpPr>
            <p:spPr>
              <a:xfrm>
                <a:off x="1066680" y="598788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22541"/>
            <p:cNvGrpSpPr/>
            <p:nvPr/>
          </p:nvGrpSpPr>
          <p:grpSpPr>
            <a:xfrm>
              <a:off x="6781680" y="4343400"/>
              <a:ext cx="1523880" cy="2066760"/>
              <a:chOff x="6781680" y="4343400"/>
              <a:chExt cx="1523880" cy="2066760"/>
            </a:xfrm>
          </p:grpSpPr>
          <p:grpSp>
            <p:nvGrpSpPr>
              <p:cNvPr id="672" name="组合 22542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grpSp>
              <p:nvGrpSpPr>
                <p:cNvPr id="673" name="组合 22543"/>
                <p:cNvGrpSpPr/>
                <p:nvPr/>
              </p:nvGrpSpPr>
              <p:grpSpPr>
                <a:xfrm>
                  <a:off x="6781680" y="4343400"/>
                  <a:ext cx="1523880" cy="1531800"/>
                  <a:chOff x="6781680" y="4343400"/>
                  <a:chExt cx="1523880" cy="1531800"/>
                </a:xfrm>
              </p:grpSpPr>
              <p:sp>
                <p:nvSpPr>
                  <p:cNvPr id="674" name="椭圆 22544"/>
                  <p:cNvSpPr/>
                  <p:nvPr/>
                </p:nvSpPr>
                <p:spPr>
                  <a:xfrm>
                    <a:off x="6781680" y="434340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任意多边形 22545"/>
                  <p:cNvSpPr/>
                  <p:nvPr/>
                </p:nvSpPr>
                <p:spPr>
                  <a:xfrm>
                    <a:off x="6955920" y="436860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6" name="文本框 22546"/>
                <p:cNvSpPr/>
                <p:nvPr/>
              </p:nvSpPr>
              <p:spPr>
                <a:xfrm>
                  <a:off x="6924600" y="50572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椭圆 22547"/>
              <p:cNvSpPr/>
              <p:nvPr/>
            </p:nvSpPr>
            <p:spPr>
              <a:xfrm>
                <a:off x="6824520" y="592308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22548"/>
            <p:cNvGrpSpPr/>
            <p:nvPr/>
          </p:nvGrpSpPr>
          <p:grpSpPr>
            <a:xfrm>
              <a:off x="2819520" y="4387680"/>
              <a:ext cx="1523880" cy="2089080"/>
              <a:chOff x="2819520" y="4387680"/>
              <a:chExt cx="1523880" cy="2089080"/>
            </a:xfrm>
          </p:grpSpPr>
          <p:grpSp>
            <p:nvGrpSpPr>
              <p:cNvPr id="679" name="组合 22549"/>
              <p:cNvGrpSpPr/>
              <p:nvPr/>
            </p:nvGrpSpPr>
            <p:grpSpPr>
              <a:xfrm>
                <a:off x="2819520" y="4387680"/>
                <a:ext cx="1523880" cy="1521000"/>
                <a:chOff x="2819520" y="4387680"/>
                <a:chExt cx="1523880" cy="1521000"/>
              </a:xfrm>
            </p:grpSpPr>
            <p:sp>
              <p:nvSpPr>
                <p:cNvPr id="680" name="椭圆 22550"/>
                <p:cNvSpPr/>
                <p:nvPr/>
              </p:nvSpPr>
              <p:spPr>
                <a:xfrm>
                  <a:off x="2819520" y="43876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94c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任意多边形 22551"/>
                <p:cNvSpPr/>
                <p:nvPr/>
              </p:nvSpPr>
              <p:spPr>
                <a:xfrm>
                  <a:off x="2993760" y="44128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文本框 22552"/>
              <p:cNvSpPr/>
              <p:nvPr/>
            </p:nvSpPr>
            <p:spPr>
              <a:xfrm>
                <a:off x="2895840" y="51177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22553"/>
              <p:cNvSpPr/>
              <p:nvPr/>
            </p:nvSpPr>
            <p:spPr>
              <a:xfrm>
                <a:off x="2819520" y="598788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22554"/>
            <p:cNvGrpSpPr/>
            <p:nvPr/>
          </p:nvGrpSpPr>
          <p:grpSpPr>
            <a:xfrm>
              <a:off x="4876920" y="4343400"/>
              <a:ext cx="1523880" cy="2089080"/>
              <a:chOff x="4876920" y="4343400"/>
              <a:chExt cx="1523880" cy="2089080"/>
            </a:xfrm>
          </p:grpSpPr>
          <p:grpSp>
            <p:nvGrpSpPr>
              <p:cNvPr id="685" name="组合 22555"/>
              <p:cNvGrpSpPr/>
              <p:nvPr/>
            </p:nvGrpSpPr>
            <p:grpSpPr>
              <a:xfrm>
                <a:off x="4876920" y="4343400"/>
                <a:ext cx="1523880" cy="1521000"/>
                <a:chOff x="4876920" y="4343400"/>
                <a:chExt cx="1523880" cy="1521000"/>
              </a:xfrm>
            </p:grpSpPr>
            <p:sp>
              <p:nvSpPr>
                <p:cNvPr id="686" name="椭圆 22556"/>
                <p:cNvSpPr/>
                <p:nvPr/>
              </p:nvSpPr>
              <p:spPr>
                <a:xfrm>
                  <a:off x="4876920" y="4343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b4b4"/>
                    </a:gs>
                    <a:gs pos="100000">
                      <a:srgbClr val="30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22557"/>
                <p:cNvSpPr/>
                <p:nvPr/>
              </p:nvSpPr>
              <p:spPr>
                <a:xfrm>
                  <a:off x="5051160" y="4368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b4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文本框 22558"/>
              <p:cNvSpPr/>
              <p:nvPr/>
            </p:nvSpPr>
            <p:spPr>
              <a:xfrm>
                <a:off x="4953240" y="5073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2559"/>
              <p:cNvSpPr/>
              <p:nvPr/>
            </p:nvSpPr>
            <p:spPr>
              <a:xfrm>
                <a:off x="4876920" y="5943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6560" y="29340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1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9514"/>
                </a:gs>
                <a:gs pos="50000">
                  <a:srgbClr val="f9e9cd"/>
                </a:gs>
                <a:gs pos="100000">
                  <a:srgbClr val="e4951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4951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6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b4b4"/>
                </a:gs>
                <a:gs pos="50000">
                  <a:srgbClr val="ddefef"/>
                </a:gs>
                <a:gs pos="100000">
                  <a:srgbClr val="5eb4b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eb4b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1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9349"/>
                </a:gs>
                <a:gs pos="50000">
                  <a:srgbClr val="e0e8d8"/>
                </a:gs>
                <a:gs pos="100000">
                  <a:srgbClr val="6e93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934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6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32F-3982-4469-BB4B-D3DDA3B57F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矩形 23553"/>
          <p:cNvSpPr txBox="1"/>
          <p:nvPr/>
        </p:nvSpPr>
        <p:spPr>
          <a:xfrm>
            <a:off x="4114800" y="41148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702424"/>
                    </a:gs>
                    <a:gs pos="100000">
                      <a:srgbClr val="5eb4b4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702424"/>
                  </a:gs>
                  <a:gs pos="100000">
                    <a:srgbClr val="5eb4b4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852360" y="48157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97" name="页脚占位符 1"/>
          <p:cNvSpPr/>
          <p:nvPr/>
        </p:nvSpPr>
        <p:spPr>
          <a:xfrm>
            <a:off x="3200400" y="66135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8520" y="1143000"/>
            <a:ext cx="7775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70242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702424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0242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147"/>
          <p:cNvSpPr/>
          <p:nvPr/>
        </p:nvSpPr>
        <p:spPr>
          <a:xfrm>
            <a:off x="1523880" y="53341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tle Image : 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7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9514"/>
              </a:gs>
              <a:gs pos="100000">
                <a:srgbClr val="eebc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2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3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4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547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cfae"/>
                    </a:gs>
                    <a:gs pos="100000">
                      <a:srgbClr val="6e934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b5353"/>
                  </a:gs>
                  <a:gs pos="100000">
                    <a:srgbClr val="5eb4b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5eb4b4">
                      <a:alpha val="0"/>
                    </a:srgbClr>
                  </a:gs>
                  <a:gs pos="100000">
                    <a:srgbClr val="c7e5e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a8f8f"/>
                  </a:gs>
                  <a:gs pos="100000">
                    <a:srgbClr val="5eb4b4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b4b4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2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9349"/>
              </a:gs>
              <a:gs pos="100000">
                <a:srgbClr val="d1dd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8" name="任意多边形 8195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26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eb4b4"/>
                </a:gs>
                <a:gs pos="100000">
                  <a:srgbClr val="1d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9514"/>
                </a:gs>
                <a:gs pos="100000">
                  <a:srgbClr val="5135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1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3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4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8210"/>
          <p:cNvSpPr/>
          <p:nvPr/>
        </p:nvSpPr>
        <p:spPr>
          <a:xfrm>
            <a:off x="838080" y="1447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Arial"/>
                <a:ea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9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6e9349"/>
                </a:gs>
                <a:gs pos="100000">
                  <a:srgbClr val="3344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923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1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32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934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c5028"/>
                  </a:gs>
                  <a:gs pos="50000">
                    <a:srgbClr val="6e9349"/>
                  </a:gs>
                  <a:gs pos="100000">
                    <a:srgbClr val="3c502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8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9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62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5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8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71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74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7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80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83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90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4509"/>
                  </a:gs>
                  <a:gs pos="50000">
                    <a:srgbClr val="e49514"/>
                  </a:gs>
                  <a:gs pos="100000">
                    <a:srgbClr val="6a450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e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4422"/>
                  </a:gs>
                  <a:gs pos="50000">
                    <a:srgbClr val="6e9349"/>
                  </a:gs>
                  <a:gs pos="100000">
                    <a:srgbClr val="33442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e9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e51"/>
                  </a:gs>
                  <a:gs pos="50000">
                    <a:srgbClr val="90a8b0"/>
                  </a:gs>
                  <a:gs pos="100000">
                    <a:srgbClr val="434e5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5353"/>
                  </a:gs>
                  <a:gs pos="50000">
                    <a:srgbClr val="5eb4b4"/>
                  </a:gs>
                  <a:gs pos="100000">
                    <a:srgbClr val="2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e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a56c0f"/>
                  </a:gs>
                  <a:gs pos="50000">
                    <a:srgbClr val="e49514"/>
                  </a:gs>
                  <a:gs pos="100000">
                    <a:srgbClr val="a56c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06b35"/>
                  </a:gs>
                  <a:gs pos="50000">
                    <a:srgbClr val="6e9349"/>
                  </a:gs>
                  <a:gs pos="100000">
                    <a:srgbClr val="506b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87a80"/>
                  </a:gs>
                  <a:gs pos="50000">
                    <a:srgbClr val="90a8b0"/>
                  </a:gs>
                  <a:gs pos="100000">
                    <a:srgbClr val="687a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48383"/>
                  </a:gs>
                  <a:gs pos="50000">
                    <a:srgbClr val="5eb4b4"/>
                  </a:gs>
                  <a:gs pos="100000">
                    <a:srgbClr val="4483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06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b9d59">
                    <a:alpha val="32156"/>
                  </a:srgbClr>
                </a:gs>
                <a:gs pos="100000">
                  <a:srgbClr val="6e9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49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a4509"/>
                </a:gs>
                <a:gs pos="50000">
                  <a:srgbClr val="e49514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e93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6e934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fcdd1">
                    <a:alpha val="32156"/>
                  </a:srgbClr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9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7:20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