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DCE-FE9E-4F13-BA7F-0DB78CE8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478-FAE6-45D2-8897-4783B82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A60-7A11-4429-B0C6-B6EBD071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0712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68768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4740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20712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79C-CE91-4A85-B3FB-3ED239C8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B96B-3BBF-446D-A57C-D2A3A5C43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FFF8-0ACC-4992-B3E7-4D9690D8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5D00-F38C-4EA8-A9D5-D4C5F7B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A9CF-52D5-477F-8FFD-309B1265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05BC-B027-4177-A11A-B0C6E792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87320" y="914400"/>
            <a:ext cx="6700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8949-0695-4E75-B60B-7FDD5F37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D13A-C1AA-447F-BEDF-3B380F9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44BB-4F03-42DB-A089-3BA9FCA0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E32C-4257-4B7F-B85E-A17EAE68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81AF-D348-4C7C-8F5B-1FF2813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73B0-2C43-40D6-80D3-6313997A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E4BB-9A5D-43E9-8F3B-6CF8F714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0712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68768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4740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0712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C3D0-B7DF-4FA6-B752-46EBF2D9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B59A-F44C-4814-8D34-2962BD67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3A9C-4802-488F-943F-7429F2EF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667E-37E6-4E61-9EA6-9D14CFE1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9E262-41A9-4AC9-BED4-C54E6181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ADB3-2856-4894-B6C9-781B97BD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722-724A-41DB-90BB-36C83735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687320" y="914400"/>
            <a:ext cx="6700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52B2-00D0-443C-9A25-DBBB822C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20610-10FA-430B-A960-3541270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33308-5ADB-467C-ACF2-A20263AB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EFA8-B000-4B6C-B9A2-A4776799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58B63-9740-403A-A781-6E0762FB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593D-732D-45C1-9C25-69002FDC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94740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07120" y="198072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68768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94740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07120" y="4010760"/>
            <a:ext cx="2151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4A37E-F640-4C8E-A1FE-E92AE44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213-ECD3-423E-AE94-8ADB570F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9CD3-8E02-4AA5-9E63-946CA6B0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687320" y="914400"/>
            <a:ext cx="6700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15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296-98C9-4788-8287-BF639F14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3B32-048C-437D-B4E2-B4F55723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2360" y="401076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65C4-CAED-41DC-A65F-8B6BE24F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112360" y="1980720"/>
            <a:ext cx="326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687680" y="4010760"/>
            <a:ext cx="66830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346-6AB4-417F-B140-D411C26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828800"/>
            <a:ext cx="1687680" cy="5029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914256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2200" cy="593640"/>
            <a:chOff x="0" y="0"/>
            <a:chExt cx="9142200" cy="593640"/>
          </a:xfrm>
        </p:grpSpPr>
        <p:sp>
          <p:nvSpPr>
            <p:cNvPr id="3" name="Rectangle 5"/>
            <p:cNvSpPr/>
            <p:nvPr/>
          </p:nvSpPr>
          <p:spPr>
            <a:xfrm>
              <a:off x="1688040" y="0"/>
              <a:ext cx="7454160" cy="557280"/>
            </a:xfrm>
            <a:prstGeom prst="rect">
              <a:avLst/>
            </a:prstGeom>
            <a:solidFill>
              <a:srgbClr val="2d9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477720"/>
              <a:ext cx="2862360" cy="115920"/>
            </a:xfrm>
            <a:prstGeom prst="rect">
              <a:avLst/>
            </a:prstGeom>
            <a:solidFill>
              <a:srgbClr val="2d96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5" name="Group 7"/>
          <p:cNvGrpSpPr/>
          <p:nvPr/>
        </p:nvGrpSpPr>
        <p:grpSpPr>
          <a:xfrm>
            <a:off x="0" y="177840"/>
            <a:ext cx="9142560" cy="557280"/>
            <a:chOff x="0" y="177840"/>
            <a:chExt cx="9142560" cy="557280"/>
          </a:xfrm>
        </p:grpSpPr>
        <p:sp>
          <p:nvSpPr>
            <p:cNvPr id="6" name="Rectangle 8"/>
            <p:cNvSpPr/>
            <p:nvPr/>
          </p:nvSpPr>
          <p:spPr>
            <a:xfrm>
              <a:off x="0" y="557280"/>
              <a:ext cx="9142560" cy="1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408160" y="177840"/>
              <a:ext cx="734040" cy="43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" name="Picture 10" descr="C:\WINDOWS\Profiles\apple\Application Data\Microsoft\Media Catalog\bg06-2a.emf"/>
          <p:cNvPicPr/>
          <p:nvPr/>
        </p:nvPicPr>
        <p:blipFill>
          <a:blip r:embed="rId2"/>
          <a:stretch/>
        </p:blipFill>
        <p:spPr>
          <a:xfrm>
            <a:off x="8651880" y="247680"/>
            <a:ext cx="301680" cy="40968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1687680" y="1828800"/>
            <a:ext cx="7456320" cy="360"/>
            <a:chOff x="1687680" y="1828800"/>
            <a:chExt cx="7456320" cy="360"/>
          </a:xfrm>
        </p:grpSpPr>
        <p:sp>
          <p:nvSpPr>
            <p:cNvPr id="10" name="Line 11"/>
            <p:cNvSpPr/>
            <p:nvPr/>
          </p:nvSpPr>
          <p:spPr>
            <a:xfrm>
              <a:off x="1687680" y="1828800"/>
              <a:ext cx="74563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" name=""/>
            <p:cNvSpPr txBox="1"/>
            <p:nvPr/>
          </p:nvSpPr>
          <p:spPr>
            <a:xfrm>
              <a:off x="1687680" y="1828800"/>
              <a:ext cx="745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1687680" y="1828800"/>
            <a:ext cx="360" cy="5029200"/>
            <a:chOff x="1687680" y="1828800"/>
            <a:chExt cx="360" cy="5029200"/>
          </a:xfrm>
        </p:grpSpPr>
        <p:sp>
          <p:nvSpPr>
            <p:cNvPr id="13" name="Line 12"/>
            <p:cNvSpPr/>
            <p:nvPr/>
          </p:nvSpPr>
          <p:spPr>
            <a:xfrm>
              <a:off x="1687680" y="1828800"/>
              <a:ext cx="0" cy="5029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" name=""/>
            <p:cNvSpPr txBox="1"/>
            <p:nvPr/>
          </p:nvSpPr>
          <p:spPr>
            <a:xfrm>
              <a:off x="1687680" y="1828800"/>
              <a:ext cx="3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0" y="6629400"/>
            <a:ext cx="9144000" cy="360"/>
            <a:chOff x="0" y="6629400"/>
            <a:chExt cx="9144000" cy="360"/>
          </a:xfrm>
        </p:grpSpPr>
        <p:sp>
          <p:nvSpPr>
            <p:cNvPr id="16" name="Line 13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" name=""/>
            <p:cNvSpPr txBox="1"/>
            <p:nvPr/>
          </p:nvSpPr>
          <p:spPr>
            <a:xfrm>
              <a:off x="0" y="6629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96a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dt" idx="1"/>
          </p:nvPr>
        </p:nvSpPr>
        <p:spPr>
          <a:xfrm>
            <a:off x="1758600" y="6122880"/>
            <a:ext cx="16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ftr" idx="2"/>
          </p:nvPr>
        </p:nvSpPr>
        <p:spPr>
          <a:xfrm>
            <a:off x="3411360" y="6124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sldNum" idx="3"/>
          </p:nvPr>
        </p:nvSpPr>
        <p:spPr>
          <a:xfrm>
            <a:off x="6323040" y="6122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보람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52D6-E0D4-40A9-842E-77CE4C03F0CB}" type="slidenum">
              <a:rPr b="0" lang="en-US" sz="1400" spc="-1" strike="noStrike">
                <a:solidFill>
                  <a:srgbClr val="000000"/>
                </a:solidFill>
                <a:latin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"/>
          <p:cNvGrpSpPr/>
          <p:nvPr/>
        </p:nvGrpSpPr>
        <p:grpSpPr>
          <a:xfrm>
            <a:off x="0" y="0"/>
            <a:ext cx="9142200" cy="593640"/>
            <a:chOff x="0" y="0"/>
            <a:chExt cx="9142200" cy="593640"/>
          </a:xfrm>
        </p:grpSpPr>
        <p:sp>
          <p:nvSpPr>
            <p:cNvPr id="60" name="Rectangle 3"/>
            <p:cNvSpPr/>
            <p:nvPr/>
          </p:nvSpPr>
          <p:spPr>
            <a:xfrm>
              <a:off x="1688040" y="0"/>
              <a:ext cx="7454160" cy="55728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0" y="477720"/>
              <a:ext cx="2862360" cy="11592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2" name="Rectangle 5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3" name="Group 6"/>
          <p:cNvGrpSpPr/>
          <p:nvPr/>
        </p:nvGrpSpPr>
        <p:grpSpPr>
          <a:xfrm>
            <a:off x="0" y="177840"/>
            <a:ext cx="9142560" cy="557280"/>
            <a:chOff x="0" y="177840"/>
            <a:chExt cx="9142560" cy="557280"/>
          </a:xfrm>
        </p:grpSpPr>
        <p:sp>
          <p:nvSpPr>
            <p:cNvPr id="64" name="Rectangle 7"/>
            <p:cNvSpPr/>
            <p:nvPr/>
          </p:nvSpPr>
          <p:spPr>
            <a:xfrm>
              <a:off x="0" y="557280"/>
              <a:ext cx="9142560" cy="177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" name="Rectangle 8"/>
            <p:cNvSpPr/>
            <p:nvPr/>
          </p:nvSpPr>
          <p:spPr>
            <a:xfrm>
              <a:off x="8401680" y="177840"/>
              <a:ext cx="740520" cy="43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66" name="Picture 9" descr="C:\WINDOWS\Profiles\apple\Application Data\Microsoft\Media Catalog\bg06-1a.emf"/>
          <p:cNvPicPr/>
          <p:nvPr/>
        </p:nvPicPr>
        <p:blipFill>
          <a:blip r:embed="rId2"/>
          <a:stretch/>
        </p:blipFill>
        <p:spPr>
          <a:xfrm>
            <a:off x="8651880" y="304920"/>
            <a:ext cx="289080" cy="2667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687680" y="2286000"/>
            <a:ext cx="7456320" cy="360"/>
            <a:chOff x="1687680" y="2286000"/>
            <a:chExt cx="7456320" cy="360"/>
          </a:xfrm>
        </p:grpSpPr>
        <p:sp>
          <p:nvSpPr>
            <p:cNvPr id="68" name="Line 10"/>
            <p:cNvSpPr/>
            <p:nvPr/>
          </p:nvSpPr>
          <p:spPr>
            <a:xfrm>
              <a:off x="1687680" y="2286000"/>
              <a:ext cx="7456320" cy="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687680" y="2286000"/>
              <a:ext cx="745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687680" y="2286000"/>
            <a:ext cx="360" cy="4572000"/>
            <a:chOff x="1687680" y="2286000"/>
            <a:chExt cx="360" cy="4572000"/>
          </a:xfrm>
        </p:grpSpPr>
        <p:sp>
          <p:nvSpPr>
            <p:cNvPr id="71" name="Line 11"/>
            <p:cNvSpPr/>
            <p:nvPr/>
          </p:nvSpPr>
          <p:spPr>
            <a:xfrm>
              <a:off x="1687680" y="2286000"/>
              <a:ext cx="0" cy="4572000"/>
            </a:xfrm>
            <a:prstGeom prst="line">
              <a:avLst/>
            </a:prstGeom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1687680" y="2286000"/>
              <a:ext cx="360" cy="457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0" y="6629400"/>
            <a:ext cx="9144000" cy="360"/>
            <a:chOff x="0" y="6629400"/>
            <a:chExt cx="9144000" cy="360"/>
          </a:xfrm>
        </p:grpSpPr>
        <p:sp>
          <p:nvSpPr>
            <p:cNvPr id="74" name="Line 12"/>
            <p:cNvSpPr/>
            <p:nvPr/>
          </p:nvSpPr>
          <p:spPr>
            <a:xfrm>
              <a:off x="0" y="66294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0" y="6629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96ab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15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2027160" y="612468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4029120" y="612468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943320" y="6124680"/>
            <a:ext cx="1900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보람M"/>
                <a:ea typeface="-보람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C577-EE54-4AC6-8ABF-382B8F85B0B9}" type="slidenum">
              <a:rPr b="0" lang="en-US" sz="1400" spc="-1" strike="noStrike">
                <a:solidFill>
                  <a:srgbClr val="000000"/>
                </a:solidFill>
                <a:latin typeface="-보람M"/>
                <a:ea typeface="-보람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E055-3FDF-4EF3-81D3-9132DEEB54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491-B410-4E05-A4CC-BCFA9F976C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4097"/>
          <p:cNvSpPr/>
          <p:nvPr/>
        </p:nvSpPr>
        <p:spPr>
          <a:xfrm>
            <a:off x="108000" y="61657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9" name="文本框 4098"/>
          <p:cNvSpPr/>
          <p:nvPr/>
        </p:nvSpPr>
        <p:spPr>
          <a:xfrm>
            <a:off x="1806840" y="1268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简洁工作汇报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258-204F-4077-A353-7F5E554B06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87320" y="914400"/>
            <a:ext cx="6700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2d96a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87680" y="198072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5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5123"/>
          <p:cNvSpPr/>
          <p:nvPr/>
        </p:nvSpPr>
        <p:spPr>
          <a:xfrm>
            <a:off x="2556000" y="3933720"/>
            <a:ext cx="5041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Gulim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Gulim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7:1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