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BDE-FEA2-4732-B521-DC1A06D2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3A2-0919-4285-9BE7-9663B2F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249-4668-465E-9B98-925A0066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9DB-72A8-44F0-B58D-82486924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180-6798-4704-8F01-71AD78B0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54A8-C73D-45E7-9A38-B710DB6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833-2735-40A4-9F0D-F0B77CE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E12-F8B8-4420-8065-7D6FAF0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B13D-0993-4C76-BFF9-D17A5B90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252-1D56-403F-BB1B-ACAEBB8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84B-99C0-4D99-A2C2-1893DA5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C4E-830F-44E3-B6B9-2007D20F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BA12-971F-41C9-A951-1A799BB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3357-A54A-404A-9B88-70EE581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3818-D764-48EA-A42F-776A6E2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BE7-ED80-4573-9015-FBB3BE60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C961-50E7-4520-9470-CAD8EAEC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B14-8ED1-45E0-BC40-6E926B49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244-4F6C-4C5E-946F-99891064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31D-6D74-4288-B155-4C88CC78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666-FE93-4ABD-AF0E-DE5379B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8E8-7F7F-4028-8844-47C0822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B55-F4C2-42AB-ACA2-6FDDEFD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A74-995F-4A34-9697-9A38DBE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74A-8DFB-4964-81AB-649AEBEABD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C44-5BAF-4556-BEA2-D172C58A96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233-32A4-487D-ABE2-25E9972DC2E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541-8691-404F-9808-B74BAA0DB7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857680" y="412740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203640" y="52293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653560" y="83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简约可爱小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857760" y="105552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192600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21200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642672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3681720" y="642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140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2140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6426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7DF0-C79F-4491-B631-CDC857B224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2211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212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3681720" y="500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212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149"/>
          <p:cNvSpPr/>
          <p:nvPr/>
        </p:nvSpPr>
        <p:spPr>
          <a:xfrm>
            <a:off x="169236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