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77BE-39D1-4CC6-8C4C-96A082B74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52480" y="41166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8471-F25A-40AE-A565-55629337B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056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DC05-84C1-4CBF-B250-7F6813733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716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184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5248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9716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184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74A2-D377-4781-A357-03AE0ABA7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FED1E-E30A-4DA1-B750-EB549E17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5248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F6A88-58D5-4FD0-BE6F-D3A7546A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7AF8E-FCB0-4B2C-B6FF-F87D00C8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A499D-BC0D-4E17-ABF1-624BC089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B9835-871C-482D-9C95-0AEF570E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04CA6-22B3-429F-9F7F-6F180414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8072F-59AC-4A7C-A0D6-4A393500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5248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30A4-2150-4DB2-9E25-9DBCDA246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56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FED42-F675-459F-AA05-92E79A08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C1C44-47AB-4F92-AD8B-855EE180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52480" y="41166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2A407-E817-4305-BE47-65160B0B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056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F92B4-B961-4C33-A904-52A3E962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9716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184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5248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09716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184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FAE02-9B85-4DBD-8AB5-12F6EDB3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C3524C-2193-4D3B-8CF8-09E1C6F6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5248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F4083B-EBD8-43F1-94D3-35AB2FE8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67749F-3FF7-49F9-AB66-610694E8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9156EA-D8E7-4B49-9356-57DBCE93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056C55-BB35-4189-868A-889DE5E6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C8BA-9903-44A5-A3AD-09D84701F7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208EB6-5A96-44E0-805B-24810D32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7BA498-7F72-4BD4-932F-089B170A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056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2FED47-5BBE-4685-8226-DF8EC9CF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6DB710-2D0C-4D72-A4B6-CD2B2CAF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752480" y="41166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D34E2B-898B-40FF-9F4B-F92F004C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056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EC4470-83BA-4E61-B8D7-45C22A34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9716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44184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75248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09716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44184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79E60C-2CA7-4C65-A583-98396899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75248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5CEB-7C24-42A1-A23C-FA343BE11F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056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752480" y="41166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056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9716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41840" y="175248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75248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09716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41840" y="41166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4AAB-F336-492C-A042-BE64C61BC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39C7-694D-468D-B675-22DB81DEF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B0BD-406A-4DAB-9039-3F8A17541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05680" y="41166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5EBE-FD8E-4FF3-9988-1E00711E9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175248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1166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1521-708A-4032-BE4D-436A63EB6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nordridesign.cn/index.php" TargetMode="External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Arial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292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D2D8-AE55-4A13-9391-13F64511A0F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781E-E7D0-4686-BEC4-9EE5210806BE}" type="datetime">
              <a:rPr b="0" lang="zh-TW" sz="1400" spc="-1" strike="noStrike">
                <a:solidFill>
                  <a:srgbClr val="000000"/>
                </a:solidFill>
                <a:latin typeface="Arial"/>
                <a:ea typeface="宋体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103E-DB89-49FD-81CD-27E498E304D2}" type="slidenum">
              <a:rPr b="0" lang="zh-TW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文本框 3078"/>
          <p:cNvSpPr/>
          <p:nvPr/>
        </p:nvSpPr>
        <p:spPr>
          <a:xfrm>
            <a:off x="3767040" y="224964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3079"/>
          <p:cNvSpPr/>
          <p:nvPr/>
        </p:nvSpPr>
        <p:spPr>
          <a:xfrm>
            <a:off x="398304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3080"/>
          <p:cNvSpPr/>
          <p:nvPr/>
        </p:nvSpPr>
        <p:spPr>
          <a:xfrm>
            <a:off x="421020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3081"/>
          <p:cNvSpPr/>
          <p:nvPr/>
        </p:nvSpPr>
        <p:spPr>
          <a:xfrm>
            <a:off x="449748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082"/>
          <p:cNvSpPr/>
          <p:nvPr/>
        </p:nvSpPr>
        <p:spPr>
          <a:xfrm>
            <a:off x="471168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083"/>
          <p:cNvSpPr/>
          <p:nvPr/>
        </p:nvSpPr>
        <p:spPr>
          <a:xfrm>
            <a:off x="4991040" y="224964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3084"/>
          <p:cNvSpPr/>
          <p:nvPr/>
        </p:nvSpPr>
        <p:spPr>
          <a:xfrm>
            <a:off x="521820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085"/>
          <p:cNvSpPr/>
          <p:nvPr/>
        </p:nvSpPr>
        <p:spPr>
          <a:xfrm>
            <a:off x="543240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086"/>
          <p:cNvSpPr/>
          <p:nvPr/>
        </p:nvSpPr>
        <p:spPr>
          <a:xfrm>
            <a:off x="4032360" y="273204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3087" descr="logo"/>
          <p:cNvPicPr/>
          <p:nvPr/>
        </p:nvPicPr>
        <p:blipFill>
          <a:blip r:embed="rId3"/>
          <a:stretch/>
        </p:blipFill>
        <p:spPr>
          <a:xfrm>
            <a:off x="3070080" y="223848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3088" descr="logo2"/>
          <p:cNvPicPr/>
          <p:nvPr/>
        </p:nvPicPr>
        <p:blipFill>
          <a:blip r:embed="rId4"/>
          <a:stretch/>
        </p:blipFill>
        <p:spPr>
          <a:xfrm>
            <a:off x="2517840" y="206064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55" name="矩形 3089">
            <a:hlinkClick r:id="rId5"/>
          </p:cNvPr>
          <p:cNvSpPr/>
          <p:nvPr/>
        </p:nvSpPr>
        <p:spPr>
          <a:xfrm>
            <a:off x="2438280" y="1773360"/>
            <a:ext cx="3988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8815-7820-450E-8EB1-FA8A1EC1612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4C74-4DC2-45EF-BF8B-AFAE6E8113B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75248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Arial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5121"/>
          <p:cNvGrpSpPr/>
          <p:nvPr/>
        </p:nvGrpSpPr>
        <p:grpSpPr>
          <a:xfrm>
            <a:off x="1066680" y="4952520"/>
            <a:ext cx="583560" cy="381240"/>
            <a:chOff x="1066680" y="4952520"/>
            <a:chExt cx="583560" cy="381240"/>
          </a:xfrm>
        </p:grpSpPr>
        <p:sp>
          <p:nvSpPr>
            <p:cNvPr id="172" name="圆角矩形 5122"/>
            <p:cNvSpPr/>
            <p:nvPr/>
          </p:nvSpPr>
          <p:spPr>
            <a:xfrm flipV="1">
              <a:off x="1425600" y="4952160"/>
              <a:ext cx="224640" cy="381240"/>
            </a:xfrm>
            <a:custGeom>
              <a:avLst/>
              <a:gdLst>
                <a:gd name="textAreaLeft" fmla="*/ 10800 w 224640"/>
                <a:gd name="textAreaRight" fmla="*/ 213840 w 224640"/>
                <a:gd name="textAreaTop" fmla="*/ 10800 h 381240"/>
                <a:gd name="textAreaBottom" fmla="*/ 370440 h 381240"/>
              </a:gdLst>
              <a:ahLst/>
              <a:rect l="textAreaLeft" t="textAreaTop" r="textAreaRight" b="textAreaBottom"/>
              <a:pathLst>
                <a:path w="21600" h="36634">
                  <a:moveTo>
                    <a:pt x="3600" y="0"/>
                  </a:moveTo>
                  <a:arcTo wR="3600" hR="3600" stAng="16200000" swAng="-5400000"/>
                  <a:lnTo>
                    <a:pt x="0" y="33034"/>
                  </a:lnTo>
                  <a:arcTo wR="3600" hR="3600" stAng="10800000" swAng="-5400000"/>
                  <a:lnTo>
                    <a:pt x="18000" y="36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066680" y="5105160"/>
              <a:ext cx="360" cy="228600"/>
              <a:chOff x="1066680" y="5105160"/>
              <a:chExt cx="360" cy="228600"/>
            </a:xfrm>
          </p:grpSpPr>
          <p:sp>
            <p:nvSpPr>
              <p:cNvPr id="174" name="直接连接符 5123"/>
              <p:cNvSpPr/>
              <p:nvPr/>
            </p:nvSpPr>
            <p:spPr>
              <a:xfrm flipV="1">
                <a:off x="1066680" y="5105160"/>
                <a:ext cx="0" cy="228600"/>
              </a:xfrm>
              <a:prstGeom prst="line">
                <a:avLst/>
              </a:prstGeom>
              <a:ln w="316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 rot="10800000">
                <a:off x="1066680" y="510516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圆角矩形 5124"/>
            <p:cNvSpPr/>
            <p:nvPr/>
          </p:nvSpPr>
          <p:spPr>
            <a:xfrm flipV="1">
              <a:off x="1204200" y="5028480"/>
              <a:ext cx="131760" cy="304920"/>
            </a:xfrm>
            <a:custGeom>
              <a:avLst/>
              <a:gdLst>
                <a:gd name="textAreaLeft" fmla="*/ 6120 w 131760"/>
                <a:gd name="textAreaRight" fmla="*/ 125640 w 131760"/>
                <a:gd name="textAreaTop" fmla="*/ 6120 h 304920"/>
                <a:gd name="textAreaBottom" fmla="*/ 298800 h 304920"/>
              </a:gdLst>
              <a:ahLst/>
              <a:rect l="textAreaLeft" t="textAreaTop" r="textAreaRight" b="textAreaBottom"/>
              <a:pathLst>
                <a:path w="21600" h="49910">
                  <a:moveTo>
                    <a:pt x="3600" y="0"/>
                  </a:moveTo>
                  <a:arcTo wR="3600" hR="3600" stAng="16200000" swAng="-5400000"/>
                  <a:lnTo>
                    <a:pt x="0" y="46310"/>
                  </a:lnTo>
                  <a:arcTo wR="3600" hR="3600" stAng="10800000" swAng="-5400000"/>
                  <a:lnTo>
                    <a:pt x="18000" y="499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文本框 5125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286000" y="59432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79" name="文本框 5127"/>
          <p:cNvSpPr/>
          <p:nvPr/>
        </p:nvSpPr>
        <p:spPr>
          <a:xfrm>
            <a:off x="2647440" y="4724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节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晶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E9C8-BEC1-48EB-AA82-06BB8DAFC8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微软雅黑"/>
              </a:rPr>
              <a:t>按一下添加标题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057040" y="175248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3366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3366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3366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3366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首页主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黑体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副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黑体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内页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8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黑体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内页内容文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宋体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6147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灯片编号占位符 1"/>
          <p:cNvSpPr/>
          <p:nvPr/>
        </p:nvSpPr>
        <p:spPr>
          <a:xfrm>
            <a:off x="6553080" y="6353280"/>
            <a:ext cx="21337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40F4-C85B-4C9D-98B4-D0732FB7B4F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03:59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12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Version">
    <vt:r8>1</vt:r8>
  </property>
</Properties>
</file>