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ABC6B-5B76-41D0-BB68-C1FAF97F6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218960"/>
            <a:ext cx="822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57200" y="3447720"/>
            <a:ext cx="822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C3DCB-69C2-4EEA-9363-22458A3BD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424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57200" y="344772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4240" y="344772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639D10-329C-4A8C-986C-22A8861694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21896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39640" y="121896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22080" y="121896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57200" y="344772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39640" y="344772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22080" y="344772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4AFA6C-E836-4FDE-9A63-8BFB1C3BEE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887B7D-B957-4C69-B204-6580828DC2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218960"/>
            <a:ext cx="8229600" cy="42670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82EF89-C800-4C31-B5EE-95A5D7DB0E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218960"/>
            <a:ext cx="8229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54524-F11B-4056-BEF6-3FA3883ED5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218960"/>
            <a:ext cx="40158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74240" y="1218960"/>
            <a:ext cx="40158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670244-A46E-4A9F-97F2-4F51F8809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6DACD5-9E03-4A57-8EC5-500435C9F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1F85D0-D861-4507-BCA4-6BBB452461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4240" y="1218960"/>
            <a:ext cx="40158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57200" y="344772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7794E-30AD-43AB-8431-D4298B8BE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218960"/>
            <a:ext cx="8229600" cy="42670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D1E5B-B680-453A-A72E-C955F87AF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218960"/>
            <a:ext cx="40158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424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74240" y="344772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6B1A1D-51A0-419B-8F71-168ABB5B2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424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57200" y="3447720"/>
            <a:ext cx="822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106DBF-5C89-475B-9A76-68B9B5980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218960"/>
            <a:ext cx="822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57200" y="3447720"/>
            <a:ext cx="822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C4E22B-0A10-4918-9945-23CFB2F321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7424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57200" y="344772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74240" y="344772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6AA328-400F-4DA9-B825-8CB90A03C9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21896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39640" y="121896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22080" y="121896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57200" y="344772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39640" y="344772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22080" y="344772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36FB04-CFB9-4ADE-B06A-AE122429AA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D16E16-7E87-4D81-B712-F7CFF1190E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218960"/>
            <a:ext cx="8229600" cy="42670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41C88E-A1A6-4F01-B831-C350568F18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218960"/>
            <a:ext cx="8229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E37615-0610-4FA9-A26D-A93B6E096C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218960"/>
            <a:ext cx="40158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674240" y="1218960"/>
            <a:ext cx="40158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ECA830-819B-4E2B-A459-809DEEC41D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524FCA-7D28-49AD-B778-82010AF15B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218960"/>
            <a:ext cx="8229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966DE-EC6F-4F46-B3DE-B9974FBA5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CF60D0-20BC-4927-9FA2-39D89B30C2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74240" y="1218960"/>
            <a:ext cx="40158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4"/>
          <p:cNvSpPr>
            <a:spLocks noGrp="1"/>
          </p:cNvSpPr>
          <p:nvPr>
            <p:ph/>
          </p:nvPr>
        </p:nvSpPr>
        <p:spPr>
          <a:xfrm>
            <a:off x="457200" y="344772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0D8838-5676-43BB-8C79-214A479FE0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218960"/>
            <a:ext cx="40158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67424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4"/>
          <p:cNvSpPr>
            <a:spLocks noGrp="1"/>
          </p:cNvSpPr>
          <p:nvPr>
            <p:ph/>
          </p:nvPr>
        </p:nvSpPr>
        <p:spPr>
          <a:xfrm>
            <a:off x="4674240" y="344772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EFC570-23C3-4668-8A52-028E8AD7FE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467424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4"/>
          <p:cNvSpPr>
            <a:spLocks noGrp="1"/>
          </p:cNvSpPr>
          <p:nvPr>
            <p:ph/>
          </p:nvPr>
        </p:nvSpPr>
        <p:spPr>
          <a:xfrm>
            <a:off x="457200" y="3447720"/>
            <a:ext cx="822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5111A4-2A77-4031-A079-CAF4688CEC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218960"/>
            <a:ext cx="822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3"/>
          <p:cNvSpPr>
            <a:spLocks noGrp="1"/>
          </p:cNvSpPr>
          <p:nvPr>
            <p:ph/>
          </p:nvPr>
        </p:nvSpPr>
        <p:spPr>
          <a:xfrm>
            <a:off x="457200" y="3447720"/>
            <a:ext cx="822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2572E2-9AE8-40A3-AD94-66BB600E17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467424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4"/>
          <p:cNvSpPr>
            <a:spLocks noGrp="1"/>
          </p:cNvSpPr>
          <p:nvPr>
            <p:ph/>
          </p:nvPr>
        </p:nvSpPr>
        <p:spPr>
          <a:xfrm>
            <a:off x="457200" y="344772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5"/>
          <p:cNvSpPr>
            <a:spLocks noGrp="1"/>
          </p:cNvSpPr>
          <p:nvPr>
            <p:ph/>
          </p:nvPr>
        </p:nvSpPr>
        <p:spPr>
          <a:xfrm>
            <a:off x="4674240" y="344772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989834-3C76-45D7-82BF-49AA01CC22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21896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3239640" y="121896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6022080" y="121896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5"/>
          <p:cNvSpPr>
            <a:spLocks noGrp="1"/>
          </p:cNvSpPr>
          <p:nvPr>
            <p:ph/>
          </p:nvPr>
        </p:nvSpPr>
        <p:spPr>
          <a:xfrm>
            <a:off x="457200" y="344772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6"/>
          <p:cNvSpPr>
            <a:spLocks noGrp="1"/>
          </p:cNvSpPr>
          <p:nvPr>
            <p:ph/>
          </p:nvPr>
        </p:nvSpPr>
        <p:spPr>
          <a:xfrm>
            <a:off x="3239640" y="344772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7"/>
          <p:cNvSpPr>
            <a:spLocks noGrp="1"/>
          </p:cNvSpPr>
          <p:nvPr>
            <p:ph/>
          </p:nvPr>
        </p:nvSpPr>
        <p:spPr>
          <a:xfrm>
            <a:off x="6022080" y="344772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439A5C-B9E8-48BC-9FB0-9E76A9A93D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655609-7D53-4011-9FC7-08F0B6956A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218960"/>
            <a:ext cx="8229600" cy="42670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F6BAA3-88F3-460D-8576-B40EB7B3D4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218960"/>
            <a:ext cx="8229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A5B136-DCF9-49A1-8109-1D4A240888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218960"/>
            <a:ext cx="40158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4240" y="1218960"/>
            <a:ext cx="40158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D0FCA-1DDD-4E24-BF7F-62E57C3A7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218960"/>
            <a:ext cx="40158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PlaceHolder 3"/>
          <p:cNvSpPr>
            <a:spLocks noGrp="1"/>
          </p:cNvSpPr>
          <p:nvPr>
            <p:ph/>
          </p:nvPr>
        </p:nvSpPr>
        <p:spPr>
          <a:xfrm>
            <a:off x="4674240" y="1218960"/>
            <a:ext cx="40158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2042E0-7F4D-4198-B4BC-D2E9CC5C64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3D383C-64B7-442B-A9F4-1A7D414B1F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89DF46-1F82-4045-B337-B0C5603DF2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3"/>
          <p:cNvSpPr>
            <a:spLocks noGrp="1"/>
          </p:cNvSpPr>
          <p:nvPr>
            <p:ph/>
          </p:nvPr>
        </p:nvSpPr>
        <p:spPr>
          <a:xfrm>
            <a:off x="4674240" y="1218960"/>
            <a:ext cx="40158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4"/>
          <p:cNvSpPr>
            <a:spLocks noGrp="1"/>
          </p:cNvSpPr>
          <p:nvPr>
            <p:ph/>
          </p:nvPr>
        </p:nvSpPr>
        <p:spPr>
          <a:xfrm>
            <a:off x="457200" y="344772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83132E-3A07-4F25-B5E0-19E515E2D3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218960"/>
            <a:ext cx="40158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3"/>
          <p:cNvSpPr>
            <a:spLocks noGrp="1"/>
          </p:cNvSpPr>
          <p:nvPr>
            <p:ph/>
          </p:nvPr>
        </p:nvSpPr>
        <p:spPr>
          <a:xfrm>
            <a:off x="467424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p:nvPr>
        </p:nvSpPr>
        <p:spPr>
          <a:xfrm>
            <a:off x="4674240" y="344772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A5A647-EEFE-4847-BC9F-829F41F5FA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3"/>
          <p:cNvSpPr>
            <a:spLocks noGrp="1"/>
          </p:cNvSpPr>
          <p:nvPr>
            <p:ph/>
          </p:nvPr>
        </p:nvSpPr>
        <p:spPr>
          <a:xfrm>
            <a:off x="467424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4"/>
          <p:cNvSpPr>
            <a:spLocks noGrp="1"/>
          </p:cNvSpPr>
          <p:nvPr>
            <p:ph/>
          </p:nvPr>
        </p:nvSpPr>
        <p:spPr>
          <a:xfrm>
            <a:off x="457200" y="3447720"/>
            <a:ext cx="822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BAA28D-06BA-4CFA-A43E-4F6E59D4CD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218960"/>
            <a:ext cx="822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3"/>
          <p:cNvSpPr>
            <a:spLocks noGrp="1"/>
          </p:cNvSpPr>
          <p:nvPr>
            <p:ph/>
          </p:nvPr>
        </p:nvSpPr>
        <p:spPr>
          <a:xfrm>
            <a:off x="457200" y="3447720"/>
            <a:ext cx="822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D53946-8FE1-4FDC-921D-E51C2678DE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3"/>
          <p:cNvSpPr>
            <a:spLocks noGrp="1"/>
          </p:cNvSpPr>
          <p:nvPr>
            <p:ph/>
          </p:nvPr>
        </p:nvSpPr>
        <p:spPr>
          <a:xfrm>
            <a:off x="467424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4"/>
          <p:cNvSpPr>
            <a:spLocks noGrp="1"/>
          </p:cNvSpPr>
          <p:nvPr>
            <p:ph/>
          </p:nvPr>
        </p:nvSpPr>
        <p:spPr>
          <a:xfrm>
            <a:off x="457200" y="344772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5"/>
          <p:cNvSpPr>
            <a:spLocks noGrp="1"/>
          </p:cNvSpPr>
          <p:nvPr>
            <p:ph/>
          </p:nvPr>
        </p:nvSpPr>
        <p:spPr>
          <a:xfrm>
            <a:off x="4674240" y="344772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FB1FE8-5E40-4B86-83D0-7DE788ED90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21896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3"/>
          <p:cNvSpPr>
            <a:spLocks noGrp="1"/>
          </p:cNvSpPr>
          <p:nvPr>
            <p:ph/>
          </p:nvPr>
        </p:nvSpPr>
        <p:spPr>
          <a:xfrm>
            <a:off x="3239640" y="121896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4"/>
          <p:cNvSpPr>
            <a:spLocks noGrp="1"/>
          </p:cNvSpPr>
          <p:nvPr>
            <p:ph/>
          </p:nvPr>
        </p:nvSpPr>
        <p:spPr>
          <a:xfrm>
            <a:off x="6022080" y="121896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5"/>
          <p:cNvSpPr>
            <a:spLocks noGrp="1"/>
          </p:cNvSpPr>
          <p:nvPr>
            <p:ph/>
          </p:nvPr>
        </p:nvSpPr>
        <p:spPr>
          <a:xfrm>
            <a:off x="457200" y="344772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6"/>
          <p:cNvSpPr>
            <a:spLocks noGrp="1"/>
          </p:cNvSpPr>
          <p:nvPr>
            <p:ph/>
          </p:nvPr>
        </p:nvSpPr>
        <p:spPr>
          <a:xfrm>
            <a:off x="3239640" y="344772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7"/>
          <p:cNvSpPr>
            <a:spLocks noGrp="1"/>
          </p:cNvSpPr>
          <p:nvPr>
            <p:ph/>
          </p:nvPr>
        </p:nvSpPr>
        <p:spPr>
          <a:xfrm>
            <a:off x="6022080" y="3447720"/>
            <a:ext cx="264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12BD6F-ECE4-47F5-B828-BCDA8ADCB7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61DED-807E-4260-AEDA-2079D3FE2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3C825-BE82-4F2F-8B16-7F9C0FF75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1218960"/>
            <a:ext cx="40158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57200" y="344772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CDCBB-3A46-4087-9744-157C83668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218960"/>
            <a:ext cx="40158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4240" y="344772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60E28-0D83-4A24-84B5-78A4342C8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4240" y="1218960"/>
            <a:ext cx="40158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57200" y="3447720"/>
            <a:ext cx="8229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486B6-FA9C-4CC0-9B73-94185EC305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218960"/>
            <a:ext cx="82296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CD51B-25A5-4D5E-8DAE-4079D05B2748}" type="datetime">
              <a:rPr b="0" lang="en-US" sz="1200" spc="-1" strike="noStrike">
                <a:solidFill>
                  <a:srgbClr val="898989"/>
                </a:solidFill>
                <a:latin typeface="Calibri"/>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3D36D-2DF1-4D13-B3FA-A6973BF47F2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218960"/>
            <a:ext cx="82296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E6F0F-907A-4E70-AF9F-394AC2D00B39}" type="datetime">
              <a:rPr b="0" lang="en-US" sz="1200" spc="-1" strike="noStrike">
                <a:solidFill>
                  <a:srgbClr val="898989"/>
                </a:solidFill>
                <a:latin typeface="Calibri"/>
                <a:ea typeface="PMingLiU"/>
              </a:rPr>
              <a:t>07/30/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7923B-3082-41C6-852B-EA0A419B8720}" type="slidenum">
              <a:rPr b="0" lang="en-US" sz="1200" spc="-1" strike="noStrike">
                <a:solidFill>
                  <a:srgbClr val="898989"/>
                </a:solidFill>
                <a:latin typeface="Calibri"/>
                <a:ea typeface="PMingLiU"/>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218960"/>
            <a:ext cx="82296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F7536-35A1-4E24-95DF-FE54D4D4692A}" type="datetime">
              <a:rPr b="0" lang="en-US" sz="1200" spc="-1" strike="noStrike">
                <a:solidFill>
                  <a:srgbClr val="898989"/>
                </a:solidFill>
                <a:latin typeface="Calibri"/>
                <a:ea typeface="PMingLiU"/>
              </a:rPr>
              <a:t>07/30/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CEC09-85C4-4A8E-BAB9-14AC1E270E63}" type="slidenum">
              <a:rPr b="0" lang="en-US" sz="1200" spc="-1" strike="noStrike">
                <a:solidFill>
                  <a:srgbClr val="898989"/>
                </a:solidFill>
                <a:latin typeface="Calibri"/>
                <a:ea typeface="PMingLiU"/>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7BD10-FE7A-45DE-8942-B59E094C77C5}" type="datetime">
              <a:rPr b="0" lang="zh-CN" sz="1400" spc="-1" strike="noStrike">
                <a:solidFill>
                  <a:srgbClr val="000000"/>
                </a:solidFill>
                <a:latin typeface="Arial"/>
                <a:ea typeface="宋体"/>
              </a:rPr>
              <a:t>26/7/30</a:t>
            </a:fld>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A3A95-1232-4B69-8822-06366AD1A1E3}"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266720" y="5847840"/>
            <a:ext cx="4491000" cy="628920"/>
          </a:xfrm>
          <a:prstGeom prst="rect">
            <a:avLst/>
          </a:prstGeom>
          <a:noFill/>
          <a:ln w="0">
            <a:noFill/>
          </a:ln>
        </p:spPr>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 </a:t>
            </a:r>
            <a:endParaRPr b="0" lang="en-US" sz="2000" spc="-1" strike="noStrike">
              <a:solidFill>
                <a:srgbClr val="000000"/>
              </a:solidFill>
              <a:latin typeface="Arial"/>
            </a:endParaRPr>
          </a:p>
        </p:txBody>
      </p:sp>
      <p:sp>
        <p:nvSpPr>
          <p:cNvPr id="165" name="PlaceHolder 2"/>
          <p:cNvSpPr>
            <a:spLocks noGrp="1"/>
          </p:cNvSpPr>
          <p:nvPr>
            <p:ph type="title"/>
          </p:nvPr>
        </p:nvSpPr>
        <p:spPr>
          <a:xfrm>
            <a:off x="4266720" y="5181120"/>
            <a:ext cx="44960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宋体"/>
              </a:rPr>
              <a:t>  </a:t>
            </a:r>
            <a:endParaRPr b="0" lang="en-US" sz="4400" spc="-1" strike="noStrike">
              <a:solidFill>
                <a:srgbClr val="000000"/>
              </a:solidFill>
              <a:latin typeface="Arial"/>
            </a:endParaRPr>
          </a:p>
        </p:txBody>
      </p:sp>
      <p:sp>
        <p:nvSpPr>
          <p:cNvPr id="166" name="文本框 5123"/>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167" name="文本框 5124"/>
          <p:cNvSpPr/>
          <p:nvPr/>
        </p:nvSpPr>
        <p:spPr>
          <a:xfrm>
            <a:off x="2790720" y="117360"/>
            <a:ext cx="5067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可爱表情卡通</a:t>
            </a:r>
            <a:r>
              <a:rPr b="0" lang="zh-CN" sz="4000" spc="-1" strike="noStrike">
                <a:solidFill>
                  <a:srgbClr val="000000"/>
                </a:solidFill>
                <a:latin typeface="Arial"/>
                <a:ea typeface="宋体"/>
              </a:rPr>
              <a:t>PPT</a:t>
            </a:r>
            <a:r>
              <a:rPr b="0" lang="zh-CN" sz="4000" spc="-1" strike="noStrike">
                <a:solidFill>
                  <a:srgbClr val="000000"/>
                </a:solidFill>
                <a:latin typeface="Arial"/>
                <a:ea typeface="宋体"/>
              </a:rPr>
              <a:t>模板在线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PMingLiU"/>
              </a:rPr>
              <a:t>Slide Master</a:t>
            </a:r>
            <a:endParaRPr b="0" lang="en-US" sz="4400" spc="-1" strike="noStrike">
              <a:solidFill>
                <a:srgbClr val="000000"/>
              </a:solidFill>
              <a:latin typeface="Arial"/>
            </a:endParaRPr>
          </a:p>
        </p:txBody>
      </p:sp>
      <p:sp>
        <p:nvSpPr>
          <p:cNvPr id="169" name=""/>
          <p:cNvSpPr txBox="1"/>
          <p:nvPr/>
        </p:nvSpPr>
        <p:spPr>
          <a:xfrm>
            <a:off x="457200" y="1218960"/>
            <a:ext cx="82296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Your Text he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文本框 6147"/>
          <p:cNvSpPr/>
          <p:nvPr/>
        </p:nvSpPr>
        <p:spPr>
          <a:xfrm>
            <a:off x="828720" y="1557360"/>
            <a:ext cx="4537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a07500"/>
                </a:solidFill>
                <a:uFillTx/>
                <a:latin typeface="Arial"/>
                <a:ea typeface="Arial"/>
                <a:hlinkClick r:id="rId1"/>
              </a:rPr>
              <a:t>ppt</a:t>
            </a:r>
            <a:r>
              <a:rPr b="0" lang="zh-CN" sz="1600" spc="-1" strike="noStrike" u="sng">
                <a:solidFill>
                  <a:srgbClr val="a07500"/>
                </a:solidFill>
                <a:uFillTx/>
                <a:latin typeface="Arial"/>
                <a:ea typeface="Arial"/>
                <a:hlinkClick r:id="rId2"/>
              </a:rPr>
              <a:t>模版免费下载</a:t>
            </a:r>
            <a:r>
              <a:rPr b="0" lang="en-US" sz="1600" spc="-1" strike="noStrike">
                <a:solidFill>
                  <a:srgbClr val="000000"/>
                </a:solidFill>
                <a:latin typeface="Arial"/>
                <a:ea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7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174" name="灯片编号占位符 1"/>
          <p:cNvSpPr/>
          <p:nvPr/>
        </p:nvSpPr>
        <p:spPr>
          <a:xfrm>
            <a:off x="6553080" y="6245280"/>
            <a:ext cx="2133720" cy="47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F74CD-FE05-4521-AA0E-F3FE7DCF315B}"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0574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PMingLiU"/>
              </a:rPr>
              <a:t>Print Master</a:t>
            </a:r>
            <a:endParaRPr b="0" lang="en-US" sz="4400" spc="-1" strike="noStrike">
              <a:solidFill>
                <a:srgbClr val="000000"/>
              </a:solidFill>
              <a:latin typeface="Arial"/>
            </a:endParaRPr>
          </a:p>
        </p:txBody>
      </p:sp>
      <p:sp>
        <p:nvSpPr>
          <p:cNvPr id="176" name=""/>
          <p:cNvSpPr txBox="1"/>
          <p:nvPr/>
        </p:nvSpPr>
        <p:spPr>
          <a:xfrm>
            <a:off x="2057400" y="1676160"/>
            <a:ext cx="68580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Your Text he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Duis autem vel eum iriure dolor in hendrerit in vulputate veli 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幻灯片之家：www.eeppt.com</dc:creator>
  <dc:description>幻灯片之家：www.eeppt.com</dc:description>
  <cp:keywords>幻灯片之家：www.eeppt.com</cp:keywords>
  <dc:language>en-US</dc:language>
  <cp:lastModifiedBy>pc</cp:lastModifiedBy>
  <dcterms:modified xsi:type="dcterms:W3CDTF">2015-11-13T04:32:09Z</dcterms:modified>
  <cp:revision>3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