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24B8-C08F-42D0-83D5-F62DF541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0CFF-4EB9-463B-8F76-E4F0122A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195-3B3A-41FB-95B9-E966B866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47B8-1B95-474E-996E-821EF915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6E87-C843-45A3-9230-E73186DD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FECF-F2CA-46A8-9732-3186907C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BC1B-DFB1-4705-8073-B86AEF89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A62E-0ED0-4601-A6D4-D7D20851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B72C-BFF2-460D-BC1A-1C5E7191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B78C-3C5A-4A72-B30C-DDD4E9A3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8913-E967-4F03-886C-8666AB0A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A2B0-3D82-40C4-9D82-551251AE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8A06-A374-4E47-A1BE-08506D32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1D9B-3EF7-4106-8D3E-3400BCCC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875F-C8F2-4D90-82DF-8B56C311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0359-A93C-4487-B6F4-C64A237B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0978-03CD-4F1F-8472-251ACCFF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E80BD-95FF-4481-85A6-A2BBAD02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2B3C9-8A31-4A08-8A94-C7964EB9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3D1D5-D7A2-4D8B-B6CD-567EFC21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AF4D9-658F-4E15-8EF2-D088DBE8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AB1FF-DC06-446E-9283-D6DB62E1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4D2-D33F-4167-BEBB-2211D382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F36CD-8C58-4276-A32C-EEEFC957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323DF-ACDD-4F6F-B2D8-7EBC7CE6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609B5-81D9-4350-988A-EA1BD6C8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FF3B3-0AB0-478B-B4BE-9988EA09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76D96-2C40-4AF8-8A39-5833AD61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51392-E9A8-4FCB-BFDC-229CF8D9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0EBA0-9C1E-4F22-A6FB-5484C062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6B0-A2AA-4405-A111-E540D259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427-BC8A-4B4E-BEF1-6D57CE6D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2F8-6887-49C9-B34A-A2B8C710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6C0-EF41-4BA1-9C47-7E0C9D98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17A-2629-4CA1-9F69-DC702AF8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9DB-8506-4FEE-B0BA-49429108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large_zrvi_3334p204234[1]"/>
          <p:cNvPicPr/>
          <p:nvPr/>
        </p:nvPicPr>
        <p:blipFill>
          <a:blip r:embed="rId2"/>
          <a:stretch/>
        </p:blipFill>
        <p:spPr>
          <a:xfrm>
            <a:off x="0" y="3240"/>
            <a:ext cx="9174240" cy="685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9013-C186-4832-B332-E2890FAA4D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049" descr="large_vsrH_4521o132014[1]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2327-1F6F-44B3-BDD0-166E2C730BB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25B3-B2C3-49B4-AA3E-A7E86B4A2A2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迷你简超粗圆"/>
                <a:ea typeface="迷你简超粗圆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5123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5124"/>
          <p:cNvSpPr/>
          <p:nvPr/>
        </p:nvSpPr>
        <p:spPr>
          <a:xfrm>
            <a:off x="1927080" y="476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可爱插画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超粗圆"/>
                <a:ea typeface="迷你简超粗圆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260360" y="3502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31" name="文本框 6147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D633-7EA2-4D24-B236-98864644B7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7169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7170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ffcccc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324000" y="4437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397440" y="5302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1:25:0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07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