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504-B6C0-4653-8A93-17B77538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0D9-EB44-4FA2-96EB-FC26FED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913-2A4D-4524-B890-A226D815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F62-1B8E-4B78-8C9B-E82E95D9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606B-C6B0-4553-A4DC-0D7B8C89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F2D6-5240-4072-891B-F3D9601C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5B14-FCD6-4F5F-A7E3-E9F5B1E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E1C0-6FCB-4C4B-95B2-99ED7539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EB8-5B8E-47FB-9C3D-6D6AFDE8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5DE-85E8-48D9-8845-85B02075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5669-697E-4BEE-A31C-228DC1B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C84-E03B-47F9-BC6E-9AF3E65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7575-C0A3-4FE6-89A7-2E9FA3B4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244E-1C47-4354-91CC-1C3B46F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D9D4-E40B-4E6D-904C-E8F0F51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B8EF-C1D3-48B7-85FF-59094EC5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9D1F-DE93-4A8A-8FD9-E7F20434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B1B-D9FE-4A68-96D7-95B558E0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BEF-704C-4853-B679-913AC768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0B5-AAEA-4E9D-8793-339BECDA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01C-EB5D-4BBE-A5DF-948CF52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5EA-BED4-454C-95AB-E5BC05F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1A9-2A44-4092-AC03-CE39A02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515-5176-4246-A6D5-7093DE7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82B-7122-465F-BB53-DC32B51B27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9C1D-F944-4C50-AF1F-1E5C29957E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6F22-B08C-4578-AF81-610D62373CE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087-26CE-4E3C-905F-2C76127515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691080" y="1928880"/>
            <a:ext cx="4373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155320" y="4809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科技商务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10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93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410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95" name="组合 410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96" name="组合 410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97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组合 41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02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组合 41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07" name="组合 41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08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组合 41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13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" name="组合 41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8" name="组合 41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9" name="组合 41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20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组合 41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5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" name="组合 41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30" name="组合 41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1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41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6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组合 41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41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组合 41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43" name="组合 41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44" name="组合 41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45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组合 41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50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" name="组合 41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55" name="组合 41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56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组合 41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161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" name="组合 41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6" name="组合 41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7" name="组合 41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8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组合 41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3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组合 41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8" name="组合 41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9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41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4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" name="组合 42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9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42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1" name="组合 42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2" name="组合 42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3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组合 42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8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组合 42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3" name="组合 42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4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组合 42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9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组合 42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4" name="组合 42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5" name="组合 42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6" name="组合 42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7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组合 42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2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组合 42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7" name="组合 42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8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组合 42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3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" name="组合 42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8" name="组合 42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9" name="组合 42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40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组合 42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5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组合 42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50" name="组合 42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1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组合 42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6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0" name="组合 42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1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组合 42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3" name="组合 42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4" name="组合 42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5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组合 42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70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组合 42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275" name="组合 42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76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组合 42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281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组合 42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6" name="组合 42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7" name="组合 42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8" name="组合 43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9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组合 43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4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8" name="组合 4310"/>
                <p:cNvGrpSpPr/>
                <p:nvPr/>
              </p:nvGrpSpPr>
              <p:grpSpPr>
                <a:xfrm>
                  <a:off x="2051280" y="1178280"/>
                  <a:ext cx="352800" cy="312480"/>
                  <a:chOff x="2051280" y="1178280"/>
                  <a:chExt cx="352800" cy="312480"/>
                </a:xfrm>
              </p:grpSpPr>
              <p:grpSp>
                <p:nvGrpSpPr>
                  <p:cNvPr id="299" name="组合 4311"/>
                  <p:cNvGrpSpPr/>
                  <p:nvPr/>
                </p:nvGrpSpPr>
                <p:grpSpPr>
                  <a:xfrm>
                    <a:off x="2051280" y="1178280"/>
                    <a:ext cx="334440" cy="235440"/>
                    <a:chOff x="2051280" y="1178280"/>
                    <a:chExt cx="334440" cy="235440"/>
                  </a:xfrm>
                </p:grpSpPr>
                <p:sp>
                  <p:nvSpPr>
                    <p:cNvPr id="300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组合 4316"/>
                  <p:cNvGrpSpPr/>
                  <p:nvPr/>
                </p:nvGrpSpPr>
                <p:grpSpPr>
                  <a:xfrm>
                    <a:off x="2138040" y="1179720"/>
                    <a:ext cx="266040" cy="311040"/>
                    <a:chOff x="2138040" y="1179720"/>
                    <a:chExt cx="266040" cy="311040"/>
                  </a:xfrm>
                </p:grpSpPr>
                <p:sp>
                  <p:nvSpPr>
                    <p:cNvPr id="305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9" name="组合 43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0" name="组合 43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1" name="组合 43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2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组合 43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7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组合 4333"/>
                <p:cNvGrpSpPr/>
                <p:nvPr/>
              </p:nvGrpSpPr>
              <p:grpSpPr>
                <a:xfrm>
                  <a:off x="2068200" y="1189800"/>
                  <a:ext cx="352800" cy="312480"/>
                  <a:chOff x="2068200" y="1189800"/>
                  <a:chExt cx="352800" cy="312480"/>
                </a:xfrm>
              </p:grpSpPr>
              <p:grpSp>
                <p:nvGrpSpPr>
                  <p:cNvPr id="322" name="组合 4334"/>
                  <p:cNvGrpSpPr/>
                  <p:nvPr/>
                </p:nvGrpSpPr>
                <p:grpSpPr>
                  <a:xfrm>
                    <a:off x="2068200" y="1189800"/>
                    <a:ext cx="334440" cy="235440"/>
                    <a:chOff x="2068200" y="1189800"/>
                    <a:chExt cx="334440" cy="235440"/>
                  </a:xfrm>
                </p:grpSpPr>
                <p:sp>
                  <p:nvSpPr>
                    <p:cNvPr id="323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组合 4339"/>
                  <p:cNvGrpSpPr/>
                  <p:nvPr/>
                </p:nvGrpSpPr>
                <p:grpSpPr>
                  <a:xfrm>
                    <a:off x="2155320" y="1190880"/>
                    <a:ext cx="265680" cy="311400"/>
                    <a:chOff x="2155320" y="1190880"/>
                    <a:chExt cx="265680" cy="311400"/>
                  </a:xfrm>
                </p:grpSpPr>
                <p:sp>
                  <p:nvSpPr>
                    <p:cNvPr id="328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2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4347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6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组合 4349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8" name="组合 4350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9" name="组合 4351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40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组合 4356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5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组合 4361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50" name="组合 4362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1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组合 4367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6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组合 4372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1" name="组合 4373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2" name="组合 4374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3" name="组合 4375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4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组合 4380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9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组合 4385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4" name="组合 4386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5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组合 4391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80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组合 4396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5" name="组合 4397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6" name="组合 4398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7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组合 4403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2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组合 4408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7" name="组合 4409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8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组合 4414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3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7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612800" y="3527280"/>
            <a:ext cx="360" cy="335160"/>
            <a:chOff x="1612800" y="3527280"/>
            <a:chExt cx="360" cy="335160"/>
          </a:xfrm>
        </p:grpSpPr>
        <p:sp>
          <p:nvSpPr>
            <p:cNvPr id="416" name="Line 58"/>
            <p:cNvSpPr/>
            <p:nvPr/>
          </p:nvSpPr>
          <p:spPr>
            <a:xfrm>
              <a:off x="1612800" y="3527280"/>
              <a:ext cx="0" cy="3351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612800" y="352728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57160" y="3871800"/>
            <a:ext cx="1495440" cy="360"/>
            <a:chOff x="857160" y="3871800"/>
            <a:chExt cx="1495440" cy="360"/>
          </a:xfrm>
        </p:grpSpPr>
        <p:sp>
          <p:nvSpPr>
            <p:cNvPr id="419" name="Line 59"/>
            <p:cNvSpPr/>
            <p:nvPr/>
          </p:nvSpPr>
          <p:spPr>
            <a:xfrm flipH="1">
              <a:off x="857160" y="3871800"/>
              <a:ext cx="14954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857160" y="387180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461360" y="2006640"/>
            <a:ext cx="360" cy="334800"/>
            <a:chOff x="7461360" y="2006640"/>
            <a:chExt cx="360" cy="334800"/>
          </a:xfrm>
        </p:grpSpPr>
        <p:sp>
          <p:nvSpPr>
            <p:cNvPr id="422" name="Line 65"/>
            <p:cNvSpPr/>
            <p:nvPr/>
          </p:nvSpPr>
          <p:spPr>
            <a:xfrm>
              <a:off x="7461360" y="200664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461360" y="200664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565680" y="1992240"/>
            <a:ext cx="1632240" cy="360"/>
            <a:chOff x="6565680" y="1992240"/>
            <a:chExt cx="1632240" cy="360"/>
          </a:xfrm>
        </p:grpSpPr>
        <p:sp>
          <p:nvSpPr>
            <p:cNvPr id="425" name="Line 66"/>
            <p:cNvSpPr/>
            <p:nvPr/>
          </p:nvSpPr>
          <p:spPr>
            <a:xfrm flipH="1">
              <a:off x="6565680" y="1992240"/>
              <a:ext cx="16318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566040" y="199224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581280" y="2009880"/>
            <a:ext cx="360" cy="334800"/>
            <a:chOff x="3581280" y="2009880"/>
            <a:chExt cx="360" cy="334800"/>
          </a:xfrm>
        </p:grpSpPr>
        <p:sp>
          <p:nvSpPr>
            <p:cNvPr id="428" name="Line 68"/>
            <p:cNvSpPr/>
            <p:nvPr/>
          </p:nvSpPr>
          <p:spPr>
            <a:xfrm>
              <a:off x="3581280" y="200988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3581280" y="20098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657160" y="1992240"/>
            <a:ext cx="1771920" cy="360"/>
            <a:chOff x="2657160" y="1992240"/>
            <a:chExt cx="1771920" cy="360"/>
          </a:xfrm>
        </p:grpSpPr>
        <p:sp>
          <p:nvSpPr>
            <p:cNvPr id="431" name="Line 69"/>
            <p:cNvSpPr/>
            <p:nvPr/>
          </p:nvSpPr>
          <p:spPr>
            <a:xfrm flipH="1">
              <a:off x="2657160" y="1992240"/>
              <a:ext cx="17715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2657520" y="199224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530680" y="3494160"/>
            <a:ext cx="360" cy="334800"/>
            <a:chOff x="5530680" y="3494160"/>
            <a:chExt cx="360" cy="334800"/>
          </a:xfrm>
        </p:grpSpPr>
        <p:sp>
          <p:nvSpPr>
            <p:cNvPr id="434" name="Line 71"/>
            <p:cNvSpPr/>
            <p:nvPr/>
          </p:nvSpPr>
          <p:spPr>
            <a:xfrm>
              <a:off x="5530680" y="349416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5530680" y="34941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19600" y="3828960"/>
            <a:ext cx="1587600" cy="360"/>
            <a:chOff x="4719600" y="3828960"/>
            <a:chExt cx="1587600" cy="360"/>
          </a:xfrm>
        </p:grpSpPr>
        <p:sp>
          <p:nvSpPr>
            <p:cNvPr id="437" name="Line 72"/>
            <p:cNvSpPr/>
            <p:nvPr/>
          </p:nvSpPr>
          <p:spPr>
            <a:xfrm flipH="1">
              <a:off x="4719600" y="3828960"/>
              <a:ext cx="15876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719600" y="382896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131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40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5134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43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组合 5137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46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组合 514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49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0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151"/>
          <p:cNvSpPr/>
          <p:nvPr/>
        </p:nvSpPr>
        <p:spPr>
          <a:xfrm>
            <a:off x="611280" y="77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7da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B065-C021-4990-B937-C0066B802D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65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11Z</dcterms:modified>
  <cp:revision>3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