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372-C40E-44F0-8F22-415BE3CA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754-3334-45E5-B8E1-657EBC2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A51-105F-4D01-8BEE-C60C272F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F90-DC50-45E0-8C60-44385672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C622-66F6-48AA-A895-08EC6008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619-995E-4D42-ACBE-54B99D61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0FB6-194D-4660-B9CD-5DDDE47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772B-E567-4C81-8238-5E2D8900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F026-5AE6-4416-8768-2A61F45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7C6F-AED5-49AD-ACEA-99CC5748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721B-242B-4AB4-8F8E-F4C2089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F35-20B8-4842-8EDC-F8BB5C5A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BF3-8DE4-4467-903C-A2083F4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4E9-B493-44C9-B930-9AFAE19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99D3-C243-4727-A9EC-2870643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5E76-6788-4DA6-A17E-6F015508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027C-3480-4AFE-97A2-FBBA6937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E37-1E6D-4C7C-A3D4-91061B6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3EA-03A0-4835-8B6D-B42D0732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BFF-7794-4372-82D3-F1D16E34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01F-BB10-4077-86D3-E488AB02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D32-9966-4926-AB1E-F6A33DF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2D9-3C44-4C0B-B5E9-3023CD9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ACC-3B56-4677-9953-669F595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7693-6B4D-4155-B303-C46CA1A0D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F28C-FF6D-4A9A-A87F-923AC2588D9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1617-072E-45AD-AEE0-B7FA25282D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5334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Impact"/>
              </a:rPr>
              <a:t>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5638680"/>
            <a:ext cx="4876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eaeaea"/>
                </a:solidFill>
                <a:latin typeface="Trebuchet MS"/>
              </a:rPr>
              <a:t>Your Subti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文本框 4099"/>
          <p:cNvSpPr/>
          <p:nvPr/>
        </p:nvSpPr>
        <p:spPr>
          <a:xfrm>
            <a:off x="763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4100"/>
          <p:cNvSpPr/>
          <p:nvPr/>
        </p:nvSpPr>
        <p:spPr>
          <a:xfrm>
            <a:off x="2761560" y="3276720"/>
            <a:ext cx="51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卡通抽象人脸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64F6-7580-4A44-877C-C68ECE4BBB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5123"/>
          <p:cNvSpPr/>
          <p:nvPr/>
        </p:nvSpPr>
        <p:spPr>
          <a:xfrm>
            <a:off x="1523880" y="38862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8:48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2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