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DEA-519D-448C-B990-9A181F99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6AB-4EBD-410D-A789-FF805691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1D44-4A87-4A7B-A969-1363E1AB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0BB8-BDF8-4E5F-95C0-E399068B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7432-B3F1-4337-8E8E-E8BAC261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664A-AD3A-4CAD-B777-BFBF91E5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F2E1-D6F3-4E0F-B5CD-207977C9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BB66-2A93-47B5-8A6B-E18948B1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3E31-BBE5-4631-B95A-518EA3D3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0C9C-8736-40AE-8133-949B3141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72D3-EF70-4E12-B7BA-5D87FDA1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23A3-921D-43AA-8D97-8FE1C499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E513-F0A8-4778-BC74-E947B39E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6A83-A249-49AB-A14A-1ECFC2DF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C7C2-C1CE-443A-A6AC-FBFFD8C7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6348-60B0-40CB-9B3D-4EDFCFE5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0210-E504-447C-BC25-07A6BFE6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333-016D-44FC-86A1-3EB70168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E65C-A4A8-4709-83A9-0A497074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DAD5-3794-4D46-A86E-EA011B14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EEF6-398F-4FF9-ADC4-9C39D093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2264-DA49-4ABE-9AA0-13B6FA3B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01C-D9D6-4CDB-9255-2B2F2DB7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5719-A198-4C37-938F-A3CC4EE5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4E9C-D234-48F5-903F-B53F614E080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F78A-2444-4D88-89C0-4A5A63B190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59DC-BED6-4754-A40F-25277C0233B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97A5-5C02-44C0-BA55-F0B816A45DF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1286280" y="1285920"/>
            <a:ext cx="1642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1702440" y="437112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175120" y="135720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2666160" y="549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人偶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8E18-1349-4503-AF22-1C6DB30981B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9"/>
          <p:cNvSpPr/>
          <p:nvPr/>
        </p:nvSpPr>
        <p:spPr>
          <a:xfrm>
            <a:off x="49266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9"/>
          <p:cNvSpPr/>
          <p:nvPr/>
        </p:nvSpPr>
        <p:spPr>
          <a:xfrm>
            <a:off x="32119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1568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65696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34261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34261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3426120" y="3416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3426120" y="413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38548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49266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328356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4354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2357280" y="4286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19260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51408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49978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1357200" y="2714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/>
          <p:cNvSpPr/>
          <p:nvPr/>
        </p:nvSpPr>
        <p:spPr>
          <a:xfrm>
            <a:off x="6426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3569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2640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55695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2997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5212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7355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/>
          <p:cNvSpPr/>
          <p:nvPr/>
        </p:nvSpPr>
        <p:spPr>
          <a:xfrm>
            <a:off x="2783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9"/>
          <p:cNvSpPr/>
          <p:nvPr/>
        </p:nvSpPr>
        <p:spPr>
          <a:xfrm>
            <a:off x="56408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9975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4212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"/>
          <p:cNvSpPr/>
          <p:nvPr/>
        </p:nvSpPr>
        <p:spPr>
          <a:xfrm>
            <a:off x="6426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1854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0245"/>
          <p:cNvSpPr/>
          <p:nvPr/>
        </p:nvSpPr>
        <p:spPr>
          <a:xfrm>
            <a:off x="1619280" y="4653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9"/>
          <p:cNvSpPr/>
          <p:nvPr/>
        </p:nvSpPr>
        <p:spPr>
          <a:xfrm>
            <a:off x="57121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9"/>
          <p:cNvSpPr/>
          <p:nvPr/>
        </p:nvSpPr>
        <p:spPr>
          <a:xfrm>
            <a:off x="34261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22831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45691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45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