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433-1193-4923-8CD0-E476EC48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C8C-0725-414C-96CA-67F862A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0D7-94B9-422C-86A9-16B56A77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FBD-C2ED-4436-BAD4-E9E5F81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2EB3-8A5E-4E75-B2D5-CD128E34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4102-B390-47FD-9885-E4EC8CFF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EC79-2356-4C72-8DCC-86018F3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EB1-6501-4AAC-9417-7B58AB0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1C9-1CEB-4347-9000-5B938E9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B64-ED4A-4928-9886-12E8052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D5E7-8834-4449-B694-1FDDD3E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97D-89FA-45F4-A228-4832603B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8FBB-6C5E-4966-9B28-2A217DF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8F8-B13F-45E3-9022-723A0983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619-25B5-4379-81A1-7F51E3D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D22-9C8B-4311-9C51-08622BA6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BF61-5581-499B-B4D0-34126378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7AA-5958-46E6-9D2D-BCACB243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D2B-E584-45AA-8C71-FC4D8EC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6CB-93AE-4FF0-8478-9CA398A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237-72C7-4416-9143-0E8FBF30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0A0-0591-46BF-B1BA-FB7B02F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A1D-9351-41CF-850A-466B698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CCC-E54A-49EC-B843-E6FDFCB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5986-F13A-4819-823F-E26CABCC37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C67-B6F5-4630-B149-BDB2CEF738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655-6318-4507-AAFA-4F4F7F929D4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ACE-BFE4-4218-9388-883316A5BE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图片7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图片7_副本.jpg"/>
          <p:cNvPicPr/>
          <p:nvPr/>
        </p:nvPicPr>
        <p:blipFill>
          <a:blip r:embed="rId2"/>
          <a:stretch/>
        </p:blipFill>
        <p:spPr>
          <a:xfrm>
            <a:off x="8072280" y="1571760"/>
            <a:ext cx="1071720" cy="42145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828720" y="530208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658600" y="2637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松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7063-FAEE-44B4-8EB8-56DED3453C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7" descr="截图08_副本.jpg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09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20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