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B81-3AE7-42CE-B195-792A9E73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0FB-7F56-4519-9AA8-232E0668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9FA-EBA9-4C35-A3B0-234B74A5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795-1520-4BEE-AB4B-A34CF787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B1BF-FFE3-4270-B139-91168913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96D6-4215-4187-A649-B52CC6F1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C475-A0CB-4A9F-B8E1-5A8B7BBA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95A8-E608-4C67-9FFA-A8602923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FD6A-FC27-46D1-89D0-15EB3BBA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19A1-26E4-4A51-B835-522AB1E3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7F6F-9296-44A7-8D5C-7D2E2FFD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397-E954-4EF9-8901-FF06DC3C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1895-B7E9-4A03-8480-02028F8E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9A3C-581A-4D62-8E51-D039DC23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1477-8B13-4AEE-88CE-ED5DE678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DFA7-B510-46DE-A55E-8B71E03F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B02C-0548-4527-B1ED-B9814FB5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B1E-204A-4147-932A-97C7BC40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E3A-8BAC-4813-BE1F-5FD5C055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9E8-6B87-4C97-AA43-6E82E468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235-9C3E-49CE-9749-4639C494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571-DDC6-4891-A78E-0D695BC7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AD7-537B-4E78-ACB8-03B6FBD2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AA5-ADB3-4484-8CB2-E0E5A44C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0C35-9001-4DB1-A130-022DF2E97B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49B8-AC0B-428C-96FB-6DBCD59D73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41AE-AFF0-4F7D-9FC8-9A9017CC84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43200" y="5373720"/>
            <a:ext cx="2428920" cy="1440"/>
            <a:chOff x="3643200" y="5373720"/>
            <a:chExt cx="2428920" cy="1440"/>
          </a:xfrm>
        </p:grpSpPr>
        <p:sp>
          <p:nvSpPr>
            <p:cNvPr id="84" name="直接连接符 5"/>
            <p:cNvSpPr/>
            <p:nvPr/>
          </p:nvSpPr>
          <p:spPr>
            <a:xfrm>
              <a:off x="3643200" y="5373720"/>
              <a:ext cx="242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43200" y="5373720"/>
              <a:ext cx="242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6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7"/>
          <p:cNvSpPr/>
          <p:nvPr/>
        </p:nvSpPr>
        <p:spPr>
          <a:xfrm>
            <a:off x="1698120" y="1890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羊年新年喜庆节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9141-D428-42E8-B7EB-89E028EFE8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174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27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7Z</dcterms:modified>
  <cp:revision>1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