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6775-75BF-4BCE-871F-EF8999DA4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77676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5D1C6-7D8B-4A2C-9E20-EFAAAE4B6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540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2303-338C-4BCE-A35B-1B1538B16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4400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904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4400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904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82323-3FC6-4CB7-BDC4-0158426C1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669E5-E82B-46C1-8962-1FBAA99A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39B1B-72BF-4132-8A7C-FDEC34E5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B72D2-D314-4BF0-9CD6-A01824D2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23905-C52C-4740-BACF-CE9BFF30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C21DA-6A0E-4BB4-B047-47BFE29D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6C57B-3A8B-468A-BB1E-490A2F8F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B7FFF-5A30-45E4-9B66-9771618A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87E67-8A23-42C5-B2B7-3C418DB79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540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D167C-799E-49A4-B5F6-F3E82A61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47386-6BC6-468F-A7C1-9E4EA561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18960" y="377676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7B032-1BD7-4D94-A713-FD1AFA28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540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BB54F-13CF-44B0-B5ED-ADBFC41E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4400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904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1896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4400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904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69B2F-531D-499A-9B53-40ECC30D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5DB39-980F-4A62-AADE-CA5F792E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1CCEE-50A2-46ED-8898-DD7CD493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F15FB-D11F-473E-A538-3B40AFD8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83FFB-647D-4CB0-921A-0A564C7E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EE1A2-002D-417A-BE56-DCF5897C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445F-7207-4587-AB31-A901AD0C7D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FFA19-1F90-48B2-8841-97DE4336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7834C-2D94-4F02-8EC5-640923FD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4540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406C1-4D8D-484D-8F0B-168C16FB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FE16D-31BA-4E54-B93C-6C476537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218960" y="377676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A1F59-350E-40ED-890A-33EE6166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540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FBD25-93F7-4A6D-95EE-845F92B9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4400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904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21896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4400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904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BC195-F47D-4A7F-8E84-4792E2DB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5808-F4DC-43DF-B9C2-A9569EE3C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07B26-C974-4589-9776-8514CFF44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47DB4-DB89-4108-905B-32C93F374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7120-3CF5-4ABC-B52D-F57D83A82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540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D4AD2-C7F7-4C40-A119-3B2745D02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82857-FBA4-4179-B98F-B28436B47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8686800" y="457200"/>
            <a:ext cx="457200" cy="3962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pic>
        <p:nvPicPr>
          <p:cNvPr id="1" name="对象 1026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solidFill>
            <a:srgbClr val="2e4f5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87d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66d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943240" y="6444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505320" y="646380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1293-E140-4165-8B01-786201666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472080"/>
            <a:ext cx="8250120" cy="360"/>
            <a:chOff x="425520" y="6472080"/>
            <a:chExt cx="8250120" cy="360"/>
          </a:xfrm>
        </p:grpSpPr>
        <p:sp>
          <p:nvSpPr>
            <p:cNvPr id="7" name="直接连接符 1031"/>
            <p:cNvSpPr/>
            <p:nvPr/>
          </p:nvSpPr>
          <p:spPr>
            <a:xfrm>
              <a:off x="425520" y="6472080"/>
              <a:ext cx="8250120" cy="0"/>
            </a:xfrm>
            <a:prstGeom prst="line">
              <a:avLst/>
            </a:prstGeom>
            <a:ln w="9360">
              <a:solidFill>
                <a:srgbClr val="2e4f5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472080"/>
              <a:ext cx="8250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C51A-7692-4961-A914-FF831B61DD3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46EF-2834-4C2E-AEFB-31CA5CEB74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2054"/>
          <p:cNvSpPr/>
          <p:nvPr/>
        </p:nvSpPr>
        <p:spPr>
          <a:xfrm>
            <a:off x="7534440" y="601992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  <a:ea typeface="굴림"/>
              </a:rPr>
              <a:t>LOGO</a:t>
            </a:r>
            <a:endParaRPr b="0" lang="en-US" sz="2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solidFill>
            <a:srgbClr val="2e4f5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87d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66d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DB54-7229-41A1-8389-A66FF662C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76360" y="2362320"/>
            <a:ext cx="5638680" cy="1295280"/>
          </a:xfrm>
          <a:prstGeom prst="rect">
            <a:avLst/>
          </a:prstGeom>
          <a:solidFill>
            <a:srgbClr val="2e4f5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7dd21"/>
                </a:solidFill>
                <a:uFillTx/>
                <a:latin typeface="Verdana"/>
                <a:ea typeface="굴림"/>
              </a:rPr>
              <a:t>PowerPoint Template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76720" y="40384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31" name="文本框 4100"/>
          <p:cNvSpPr/>
          <p:nvPr/>
        </p:nvSpPr>
        <p:spPr>
          <a:xfrm>
            <a:off x="2953440" y="45720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绿色灯光企业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</a:t>
            </a:r>
            <a:endParaRPr b="0" lang="en-US" sz="40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32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4f56"/>
                </a:solidFill>
                <a:latin typeface="Lucida Sans Unicode"/>
              </a:rPr>
              <a:t>Company Logo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圆角矩形 5121"/>
          <p:cNvSpPr/>
          <p:nvPr/>
        </p:nvSpPr>
        <p:spPr>
          <a:xfrm>
            <a:off x="2168640" y="4605480"/>
            <a:ext cx="5473440" cy="360360"/>
          </a:xfrm>
          <a:prstGeom prst="roundRect">
            <a:avLst>
              <a:gd name="adj" fmla="val 16667"/>
            </a:avLst>
          </a:prstGeom>
          <a:solidFill>
            <a:srgbClr val="2e4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34" name="圆角矩形 5122"/>
          <p:cNvSpPr/>
          <p:nvPr/>
        </p:nvSpPr>
        <p:spPr>
          <a:xfrm>
            <a:off x="2168640" y="2019240"/>
            <a:ext cx="5473440" cy="360360"/>
          </a:xfrm>
          <a:prstGeom prst="roundRect">
            <a:avLst>
              <a:gd name="adj" fmla="val 16667"/>
            </a:avLst>
          </a:prstGeom>
          <a:solidFill>
            <a:srgbClr val="b66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35" name="圆角矩形 5123"/>
          <p:cNvSpPr/>
          <p:nvPr/>
        </p:nvSpPr>
        <p:spPr>
          <a:xfrm>
            <a:off x="2182680" y="2876400"/>
            <a:ext cx="5473800" cy="360360"/>
          </a:xfrm>
          <a:prstGeom prst="roundRect">
            <a:avLst>
              <a:gd name="adj" fmla="val 16667"/>
            </a:avLst>
          </a:prstGeom>
          <a:solidFill>
            <a:srgbClr val="419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36" name="圆角矩形 5124"/>
          <p:cNvSpPr/>
          <p:nvPr/>
        </p:nvSpPr>
        <p:spPr>
          <a:xfrm>
            <a:off x="2168640" y="3727440"/>
            <a:ext cx="5473440" cy="360360"/>
          </a:xfrm>
          <a:prstGeom prst="roundRect">
            <a:avLst>
              <a:gd name="adj" fmla="val 16667"/>
            </a:avLst>
          </a:prstGeom>
          <a:solidFill>
            <a:srgbClr val="487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37" name="椭圆 5125"/>
          <p:cNvSpPr/>
          <p:nvPr/>
        </p:nvSpPr>
        <p:spPr>
          <a:xfrm>
            <a:off x="1752480" y="1903320"/>
            <a:ext cx="648000" cy="647640"/>
          </a:xfrm>
          <a:prstGeom prst="ellipse">
            <a:avLst/>
          </a:prstGeom>
          <a:gradFill rotWithShape="0">
            <a:gsLst>
              <a:gs pos="0">
                <a:srgbClr val="b66d48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38" name="椭圆 5126"/>
          <p:cNvSpPr/>
          <p:nvPr/>
        </p:nvSpPr>
        <p:spPr>
          <a:xfrm>
            <a:off x="1752480" y="2695680"/>
            <a:ext cx="648000" cy="64764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39" name="椭圆 5127"/>
          <p:cNvSpPr/>
          <p:nvPr/>
        </p:nvSpPr>
        <p:spPr>
          <a:xfrm>
            <a:off x="1752480" y="3560760"/>
            <a:ext cx="648000" cy="647640"/>
          </a:xfrm>
          <a:prstGeom prst="ellipse">
            <a:avLst/>
          </a:prstGeom>
          <a:gradFill rotWithShape="0">
            <a:gsLst>
              <a:gs pos="0">
                <a:srgbClr val="487da4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0" name="椭圆 5128"/>
          <p:cNvSpPr/>
          <p:nvPr/>
        </p:nvSpPr>
        <p:spPr>
          <a:xfrm>
            <a:off x="1752480" y="4495680"/>
            <a:ext cx="648000" cy="648000"/>
          </a:xfrm>
          <a:prstGeom prst="ellipse">
            <a:avLst/>
          </a:prstGeom>
          <a:gradFill rotWithShape="0">
            <a:gsLst>
              <a:gs pos="0">
                <a:srgbClr val="2e4f5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2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solidFill>
            <a:srgbClr val="2e4f5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圆角矩形 5130"/>
          <p:cNvSpPr/>
          <p:nvPr/>
        </p:nvSpPr>
        <p:spPr>
          <a:xfrm>
            <a:off x="2490840" y="1979640"/>
            <a:ext cx="49356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Introduction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3" name="圆角矩形 5131"/>
          <p:cNvSpPr/>
          <p:nvPr/>
        </p:nvSpPr>
        <p:spPr>
          <a:xfrm>
            <a:off x="2490840" y="2817720"/>
            <a:ext cx="494964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trategy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4" name="圆角矩形 5132"/>
          <p:cNvSpPr/>
          <p:nvPr/>
        </p:nvSpPr>
        <p:spPr>
          <a:xfrm>
            <a:off x="2490840" y="3656160"/>
            <a:ext cx="49356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hallenges Forward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5" name="圆角矩形 5133"/>
          <p:cNvSpPr/>
          <p:nvPr/>
        </p:nvSpPr>
        <p:spPr>
          <a:xfrm>
            <a:off x="2567160" y="4548240"/>
            <a:ext cx="494028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onclusion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6" name="页脚占位符 1"/>
          <p:cNvSpPr/>
          <p:nvPr/>
        </p:nvSpPr>
        <p:spPr>
          <a:xfrm>
            <a:off x="5943600" y="6445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4f56"/>
                </a:solidFill>
                <a:latin typeface="Lucida Sans Unicode"/>
              </a:rPr>
              <a:t>Company Logo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solidFill>
            <a:srgbClr val="2e4f5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Competitors 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4f56"/>
                </a:solidFill>
                <a:latin typeface="Arial"/>
              </a:rPr>
              <a:t>Strengths</a:t>
            </a: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Weaknesses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49" name="文本框 6147"/>
          <p:cNvSpPr/>
          <p:nvPr/>
        </p:nvSpPr>
        <p:spPr>
          <a:xfrm>
            <a:off x="1371600" y="23623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66d48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b66d48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e4f56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50" name="页脚占位符 1"/>
          <p:cNvSpPr/>
          <p:nvPr/>
        </p:nvSpPr>
        <p:spPr>
          <a:xfrm>
            <a:off x="5943600" y="6445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4f56"/>
                </a:solidFill>
                <a:latin typeface="Lucida Sans Unicode"/>
              </a:rPr>
              <a:t>Company Logo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solidFill>
            <a:srgbClr val="2e4f5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t Doc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内容占位符 7170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554360"/>
          </a:xfrm>
          <a:prstGeom prst="rect">
            <a:avLst/>
          </a:prstGeom>
          <a:ln w="0">
            <a:noFill/>
          </a:ln>
        </p:spPr>
      </p:pic>
      <p:sp>
        <p:nvSpPr>
          <p:cNvPr id="153" name="页脚占位符 1"/>
          <p:cNvSpPr/>
          <p:nvPr/>
        </p:nvSpPr>
        <p:spPr>
          <a:xfrm>
            <a:off x="5943600" y="6445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4f56"/>
                </a:solidFill>
                <a:latin typeface="Lucida Sans Unicode"/>
              </a:rPr>
              <a:t>Company Logo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e4f5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1C22-6487-43A7-957C-0E51A77E909F}" type="slidenum">
              <a:rPr b="0" lang="zh-CN" sz="1400" spc="-1" strike="noStrike">
                <a:solidFill>
                  <a:srgbClr val="2e4f5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内容占位符 8193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657600" cy="3246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85800"/>
          </a:xfrm>
          <a:prstGeom prst="rect">
            <a:avLst/>
          </a:prstGeom>
          <a:solidFill>
            <a:srgbClr val="2e4f5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矩形 8195"/>
          <p:cNvSpPr txBox="1"/>
          <p:nvPr/>
        </p:nvSpPr>
        <p:spPr>
          <a:xfrm>
            <a:off x="1676520" y="1981080"/>
            <a:ext cx="5832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8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2e4f56"/>
                    </a:gs>
                    <a:gs pos="100000">
                      <a:srgbClr val="b66d48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2e4f56"/>
                  </a:gs>
                  <a:gs pos="100000">
                    <a:srgbClr val="b66d48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页脚占位符 1"/>
          <p:cNvSpPr/>
          <p:nvPr/>
        </p:nvSpPr>
        <p:spPr>
          <a:xfrm>
            <a:off x="5943600" y="6445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4f56"/>
                </a:solidFill>
                <a:latin typeface="Lucida Sans Unicode"/>
              </a:rPr>
              <a:t>Company Logo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59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