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99520" y="4107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53697-62DD-49FF-8546-BFD7BFF2B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5E72E-450C-4099-AEB9-5BDC8A0C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AE5BD-F850-446D-B1D9-3135979D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7A3FC-DBEB-43A4-9CBA-90346274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6270E-F574-4C5E-9B14-61F9779B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99520" y="4107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A86AB-532A-41A3-8B4F-F6167D8B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1F4C2-D1BD-44D4-A9C7-6E239050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0B0B9-BB4E-4E34-BB1D-904738F6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45D34-3E3C-47DA-8CB8-CAD18631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957EA-A0DC-4B5F-A9DE-91890652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5CB33-B3E7-4F4F-84CC-17B72435F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53AA1-31A0-4711-94B2-5BA0F432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9520" y="4107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E363E983-601C-4B4B-94C6-ED90B67EC726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9CEC-E962-4E42-8B42-360DA05E534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A0C5-ECA1-4FC2-80F4-8CBD8160457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9600" y="3428640"/>
            <a:ext cx="70596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ffffff"/>
                </a:solidFill>
                <a:latin typeface="Arial"/>
              </a:rPr>
              <a:t>Insert the title of your </a:t>
            </a:r>
            <a:br>
              <a:rPr sz="3000"/>
            </a:br>
            <a:r>
              <a:rPr b="1" sz="3000" spc="-1" strike="noStrike">
                <a:solidFill>
                  <a:srgbClr val="ffffff"/>
                </a:solidFill>
                <a:latin typeface="Arial"/>
              </a:rPr>
              <a:t>presentation he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09600" y="4592520"/>
            <a:ext cx="708336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</a:rPr>
              <a:t>Enter your subtitle or main author‘s nam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3" descr="Logo_ptl_schwarz"/>
          <p:cNvPicPr/>
          <p:nvPr/>
        </p:nvPicPr>
        <p:blipFill>
          <a:blip r:embed="rId1"/>
          <a:stretch/>
        </p:blipFill>
        <p:spPr>
          <a:xfrm>
            <a:off x="6648480" y="6181560"/>
            <a:ext cx="2224080" cy="39240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4100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4101"/>
          <p:cNvSpPr/>
          <p:nvPr/>
        </p:nvSpPr>
        <p:spPr>
          <a:xfrm>
            <a:off x="1790280" y="66996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绿色格子工作计划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Arial"/>
              </a:rPr>
              <a:t>Sample Slide </a:t>
            </a:r>
            <a:r>
              <a:rPr b="1" sz="2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sz="2600" spc="-1" strike="noStrike">
                <a:solidFill>
                  <a:srgbClr val="000000"/>
                </a:solidFill>
                <a:latin typeface="Arial"/>
              </a:rPr>
              <a:t> Bullet Poi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e text demonstrates how your own text will look when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 replace the placeholder with your own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is is a placeholder text. This text can be replaced with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r own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If you don’t want to use the style and size of the fonts as used in this placeholder it is possible to replace it by selecting different op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or replacing the placeholder text you need to click on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placeholder text and insert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text that you insert will retain the same style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 format as the placeholde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6647040" y="6181560"/>
            <a:ext cx="2225520" cy="392400"/>
            <a:chOff x="6647040" y="6181560"/>
            <a:chExt cx="2225520" cy="392400"/>
          </a:xfrm>
        </p:grpSpPr>
        <p:pic>
          <p:nvPicPr>
            <p:cNvPr id="128" name="Picture 12" descr="Logo_ptl_für schwarz"/>
            <p:cNvPicPr/>
            <p:nvPr/>
          </p:nvPicPr>
          <p:blipFill>
            <a:blip r:embed="rId1"/>
            <a:stretch/>
          </p:blipFill>
          <p:spPr>
            <a:xfrm>
              <a:off x="6647040" y="6181560"/>
              <a:ext cx="2225520" cy="3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12" descr="Logo_ptl_für schwarz"/>
            <p:cNvPicPr/>
            <p:nvPr/>
          </p:nvPicPr>
          <p:blipFill>
            <a:blip r:embed="rId2"/>
            <a:srcRect l="0" t="0" r="30532" b="0"/>
            <a:stretch/>
          </p:blipFill>
          <p:spPr>
            <a:xfrm>
              <a:off x="6647040" y="6181560"/>
              <a:ext cx="1546200" cy="3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文本框 5126"/>
          <p:cNvSpPr/>
          <p:nvPr/>
        </p:nvSpPr>
        <p:spPr>
          <a:xfrm>
            <a:off x="701640" y="11145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40505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c40505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540C-4565-4CF7-8A1B-E439E4E5FDE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uppieren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6" name="Rectangle 2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"/>
            <p:cNvSpPr/>
            <p:nvPr/>
          </p:nvSpPr>
          <p:spPr>
            <a:xfrm>
              <a:off x="461880" y="726840"/>
              <a:ext cx="8539200" cy="50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Feel free to use this PowerPoint template and background for your personal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educational and business presentation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Make a </a:t>
              </a: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py for backups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 on your harddrive or local network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Use the free templates for your presentations and project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Print hand outs or other promotional item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Link back to our website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 if you like our free design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Display screenshots of our templates on your website or blog.</a:t>
              </a:r>
              <a:br>
                <a:rPr sz="1400"/>
              </a:b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(should provide a link to our website – no dow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load purpos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Arial"/>
                </a:rPr>
                <a:t>Please feel free to contact us, if you do have any questions about usag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a50021"/>
                  </a:solidFill>
                  <a:latin typeface="Arial"/>
                </a:rPr>
                <a:t>Don‘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Resell or distribute the templates or background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Make it available on a</a:t>
              </a: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 website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, portal or social network website </a:t>
              </a: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for download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br>
                <a:rPr sz="1400"/>
              </a:b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(Incl. groups, file sharing networks, Slideshare etc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Edit or modify the downloaded templates and claim / pass off as your own work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All copyright and intellectual property rights, without limitation, are retained b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PresentationLoad.com. By downloading and using this template, you agree to this statemen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4"/>
            <p:cNvSpPr/>
            <p:nvPr/>
          </p:nvSpPr>
          <p:spPr>
            <a:xfrm>
              <a:off x="459720" y="288720"/>
              <a:ext cx="220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Arial"/>
                </a:rPr>
                <a:t>Copyright not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6"/>
          <p:cNvGrpSpPr/>
          <p:nvPr/>
        </p:nvGrpSpPr>
        <p:grpSpPr>
          <a:xfrm>
            <a:off x="6647040" y="6181560"/>
            <a:ext cx="2225520" cy="392400"/>
            <a:chOff x="6647040" y="6181560"/>
            <a:chExt cx="2225520" cy="392400"/>
          </a:xfrm>
        </p:grpSpPr>
        <p:pic>
          <p:nvPicPr>
            <p:cNvPr id="140" name="Picture 12" descr="Logo_ptl_für schwarz"/>
            <p:cNvPicPr/>
            <p:nvPr/>
          </p:nvPicPr>
          <p:blipFill>
            <a:blip r:embed="rId1"/>
            <a:stretch/>
          </p:blipFill>
          <p:spPr>
            <a:xfrm>
              <a:off x="6647040" y="6181560"/>
              <a:ext cx="2225520" cy="3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12" descr="Logo_ptl_für schwarz"/>
            <p:cNvPicPr/>
            <p:nvPr/>
          </p:nvPicPr>
          <p:blipFill>
            <a:blip r:embed="rId2"/>
            <a:srcRect l="0" t="0" r="30532" b="0"/>
            <a:stretch/>
          </p:blipFill>
          <p:spPr>
            <a:xfrm>
              <a:off x="6647040" y="6181560"/>
              <a:ext cx="1546200" cy="392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7:56Z</dcterms:modified>
  <cp:revision>7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