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74D3-DF5D-4956-9789-7B81A041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F7B7-42B1-461C-B790-42AADC42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3DB-4FDF-4B62-9C70-EC97762F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0514-CD4A-4074-8880-DB7E0706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EAED-6837-4924-9E46-9A4ED6FD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0848-6763-4A6B-94EC-6DB30DE3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17BE-D24A-4C7E-B6DF-1FC337C9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CB32-5DB8-4611-90FE-9AF3DCA1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38A6-FF4D-4F40-A69B-637F9A9E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D7BE-C1B2-44CE-B715-76CC3495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E177-92E9-4F3D-ABDD-6426BFAA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769-0122-44A5-A98C-F4E42A71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E5EA-DDD7-45BC-8F42-7C53D434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D442-E236-496A-91F6-4F063AEE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5ECD-0561-4102-9510-20129988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6B7F-5C11-42E3-B3F4-5E4AF17A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C3A9-8496-4302-A5F0-3BC8AEF0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E8F-D23E-4854-9A64-95AE6BEA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AA2-CDC6-4ADE-BD72-8F8AFD10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2058-FFAE-454A-A253-A991424A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509-D3D3-405C-8EC0-80180B19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C36-387D-490A-A564-DEF6E4E0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0709-6472-4C5E-B1F5-1C59DA89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988-AA9D-435A-8CAE-EF8AA876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F205-4BC4-465F-8047-91F4F8D2CAB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7217-961C-44E2-ACD0-DA2EDCCF3D6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79BB-2A9B-4CD0-9097-FB4F18EA23D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E177-5729-4DE9-99FD-4099B63DD2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1571760" y="11476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643040" y="19288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企业商务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3075" descr="幻灯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3076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2364480" y="2602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工作计划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5DAA-DC6D-4528-AB3F-A8795B31631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4997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9"/>
          <p:cNvSpPr/>
          <p:nvPr/>
        </p:nvSpPr>
        <p:spPr>
          <a:xfrm>
            <a:off x="4140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/>
          <p:cNvSpPr/>
          <p:nvPr/>
        </p:nvSpPr>
        <p:spPr>
          <a:xfrm>
            <a:off x="2354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50004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59979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283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21405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43549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3286080" y="2571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5212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4283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6627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2711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3854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64980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43549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5140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49978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8"/>
          <p:cNvSpPr/>
          <p:nvPr/>
        </p:nvSpPr>
        <p:spPr>
          <a:xfrm>
            <a:off x="7736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1428840" y="3000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4164840" y="3500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6283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6498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22831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3569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428364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55695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2997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/>
          <p:cNvSpPr/>
          <p:nvPr/>
        </p:nvSpPr>
        <p:spPr>
          <a:xfrm>
            <a:off x="44265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60696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2997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44265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54Z</dcterms:modified>
  <cp:revision>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