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0FCB-F062-4DE9-9226-8E820A5CB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6F46-C5A0-4525-B038-D38FE0515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DFA6-03A2-4ED9-9F9F-AE26EC1A4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DB5A-C45C-40C0-814E-85FA5CAF1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312E-3228-4CC9-B1F6-CD5889AD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3747B-95BD-4E2D-BF09-980BFCA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B91C8-3EC3-45BA-9514-A2FC27FA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D5F72-F7B1-4F4C-82C8-F0E7633E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2419-40CA-4B57-8939-4CD275D0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4495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99771-69C7-454E-915C-5615E90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990D2-F9E2-46CD-88FA-3C39926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EBC8-39EC-4F12-B461-CE920CC33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AF64-A464-4B1F-8D02-140A100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30ED2-697A-4357-BE45-C629D81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7C89-A893-4276-BDEC-91B243C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7029B-E3B0-4016-887E-E02BDD2F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6B2C-0DA8-44F1-BAE0-FB0B5633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EE1B6-42AD-4934-9290-E7EAAE5E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100CF-F133-4EB1-B351-C97578E9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9080E-33D1-43E7-A074-A689DE4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49507-BB0E-4823-8951-23C3D7A1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4C23B-030B-4042-9E31-55D77072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EE55-A7C7-401A-AFE6-B7F2CDCD8A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4495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515F1-997F-458A-B825-F69D8345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6E55E-CD16-4125-83D4-B02D022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FB994-7FF0-4082-B4B0-6841B9A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CC228-102E-45B7-82FF-159700D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F3A38-C82D-483A-BFC1-9578137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46726-37D0-483E-B77D-00FE0009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523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21956-18DC-43F5-A078-DC787177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5FEE-0FD8-46D0-BCBB-FF8DCBCCF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6FF6-2B1A-4B7D-B09E-FCECB68B9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44956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7598-A4E2-42B6-805E-CBB2E8E55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2EEE-728B-4F60-BA72-99DF530EE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523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29DD-99EC-4B58-873E-5F7E82564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19240"/>
            <a:ext cx="4495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523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F4B0-FF34-4425-A0CE-B788B9CAC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0_back_b"/>
          <p:cNvPicPr/>
          <p:nvPr/>
        </p:nvPicPr>
        <p:blipFill>
          <a:blip r:embed="rId2"/>
          <a:stretch/>
        </p:blipFill>
        <p:spPr>
          <a:xfrm>
            <a:off x="228600" y="1295280"/>
            <a:ext cx="3324240" cy="5200920"/>
          </a:xfrm>
          <a:prstGeom prst="rect">
            <a:avLst/>
          </a:prstGeom>
          <a:ln w="0">
            <a:noFill/>
          </a:ln>
        </p:spPr>
      </p:pic>
      <p:sp>
        <p:nvSpPr>
          <p:cNvPr id="1" name="矩形 1026"/>
          <p:cNvSpPr/>
          <p:nvPr/>
        </p:nvSpPr>
        <p:spPr>
          <a:xfrm>
            <a:off x="228600" y="561960"/>
            <a:ext cx="8686800" cy="5915160"/>
          </a:xfrm>
          <a:prstGeom prst="rect">
            <a:avLst/>
          </a:prstGeom>
          <a:noFill/>
          <a:ln w="2844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cb6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1392-FA99-4CDF-83EC-481874B795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1032" descr="09_icon"/>
          <p:cNvPicPr/>
          <p:nvPr/>
        </p:nvPicPr>
        <p:blipFill>
          <a:blip r:embed="rId3"/>
          <a:stretch/>
        </p:blipFill>
        <p:spPr>
          <a:xfrm>
            <a:off x="5477040" y="237960"/>
            <a:ext cx="62208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555-6E2B-4E35-9BF7-F652E13B8E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E9DA-FB6C-45DF-88F4-5BC10A1420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049"/>
          <p:cNvSpPr/>
          <p:nvPr/>
        </p:nvSpPr>
        <p:spPr>
          <a:xfrm>
            <a:off x="271440" y="276120"/>
            <a:ext cx="8621640" cy="6305760"/>
          </a:xfrm>
          <a:prstGeom prst="rect">
            <a:avLst/>
          </a:prstGeom>
          <a:noFill/>
          <a:ln w="38160">
            <a:solidFill>
              <a:srgbClr val="2a4c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pic>
        <p:nvPicPr>
          <p:cNvPr id="86" name="图片 2050" descr="10_back"/>
          <p:cNvPicPr/>
          <p:nvPr/>
        </p:nvPicPr>
        <p:blipFill>
          <a:blip r:embed="rId2"/>
          <a:stretch/>
        </p:blipFill>
        <p:spPr>
          <a:xfrm>
            <a:off x="4137120" y="304920"/>
            <a:ext cx="4734000" cy="62481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054"/>
          <p:cNvSpPr/>
          <p:nvPr/>
        </p:nvSpPr>
        <p:spPr>
          <a:xfrm>
            <a:off x="457200" y="457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cb6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a4c4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c4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09D0-CC20-464E-A6ED-998E25F1A7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3161880"/>
            <a:ext cx="712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a4c41"/>
                </a:solidFill>
                <a:latin typeface="Verdana"/>
              </a:rPr>
              <a:t>PowerPoint Templ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4098" descr="09_icon"/>
          <p:cNvPicPr/>
          <p:nvPr/>
        </p:nvPicPr>
        <p:blipFill>
          <a:blip r:embed="rId1"/>
          <a:stretch/>
        </p:blipFill>
        <p:spPr>
          <a:xfrm>
            <a:off x="5181480" y="3657600"/>
            <a:ext cx="747720" cy="914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440" y="39013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文本框 4100"/>
          <p:cNvSpPr/>
          <p:nvPr/>
        </p:nvSpPr>
        <p:spPr>
          <a:xfrm>
            <a:off x="457200" y="6095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a4c4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a4c4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3" name="文本框 4101"/>
          <p:cNvSpPr/>
          <p:nvPr/>
        </p:nvSpPr>
        <p:spPr>
          <a:xfrm>
            <a:off x="1784160" y="10666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Arial"/>
              </a:rPr>
              <a:t>绿色清新企业</a:t>
            </a: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2a4c41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34" name="页脚占位符 1"/>
          <p:cNvSpPr/>
          <p:nvPr/>
        </p:nvSpPr>
        <p:spPr>
          <a:xfrm>
            <a:off x="5977080" y="6594480"/>
            <a:ext cx="289548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13314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325" name="圆角矩形 13315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6" name="圆角矩形 13316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7" name="圆角矩形 13317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8" name="燕尾形 13318"/>
            <p:cNvSpPr/>
            <p:nvPr/>
          </p:nvSpPr>
          <p:spPr>
            <a:xfrm>
              <a:off x="3151440" y="207180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9" name="燕尾形 13319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1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0" name="椭圆 13320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cb6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1" name="椭圆 13321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1cb6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2" name="椭圆 13322"/>
            <p:cNvSpPr/>
            <p:nvPr/>
          </p:nvSpPr>
          <p:spPr>
            <a:xfrm>
              <a:off x="63327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e37"/>
                </a:gs>
                <a:gs pos="50000">
                  <a:srgbClr val="91cb65"/>
                </a:gs>
                <a:gs pos="100000">
                  <a:srgbClr val="4e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3" name="椭圆 13323"/>
            <p:cNvSpPr/>
            <p:nvPr/>
          </p:nvSpPr>
          <p:spPr>
            <a:xfrm>
              <a:off x="6357960" y="1571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c8140"/>
                </a:gs>
                <a:gs pos="100000">
                  <a:srgbClr val="91cb6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4" name="椭圆 13324"/>
            <p:cNvSpPr/>
            <p:nvPr/>
          </p:nvSpPr>
          <p:spPr>
            <a:xfrm>
              <a:off x="6411960" y="163512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5" name="椭圆 13325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9bd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6" name="椭圆 13326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49bd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7" name="椭圆 13327"/>
            <p:cNvSpPr/>
            <p:nvPr/>
          </p:nvSpPr>
          <p:spPr>
            <a:xfrm>
              <a:off x="1406520" y="15573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f5473"/>
                </a:gs>
                <a:gs pos="50000">
                  <a:srgbClr val="749bd4"/>
                </a:gs>
                <a:gs pos="100000">
                  <a:srgbClr val="3f547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8" name="椭圆 13328"/>
            <p:cNvSpPr/>
            <p:nvPr/>
          </p:nvSpPr>
          <p:spPr>
            <a:xfrm>
              <a:off x="1408320" y="15606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a6287"/>
                </a:gs>
                <a:gs pos="100000">
                  <a:srgbClr val="749bd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39" name="椭圆 13329"/>
            <p:cNvSpPr/>
            <p:nvPr/>
          </p:nvSpPr>
          <p:spPr>
            <a:xfrm>
              <a:off x="1481400" y="163224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40" name="组合 13330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341" name="椭圆 13331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2" name="椭圆 13332"/>
              <p:cNvSpPr/>
              <p:nvPr/>
            </p:nvSpPr>
            <p:spPr>
              <a:xfrm>
                <a:off x="151848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3" name="椭圆 13333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44" name="椭圆 13334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45" name="椭圆 13335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2a6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6" name="椭圆 13336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2a693">
                    <a:alpha val="32156"/>
                  </a:srgbClr>
                </a:gs>
                <a:gs pos="100000">
                  <a:srgbClr val="1f4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7" name="椭圆 13337"/>
            <p:cNvSpPr/>
            <p:nvPr/>
          </p:nvSpPr>
          <p:spPr>
            <a:xfrm>
              <a:off x="387036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45a50"/>
                </a:gs>
                <a:gs pos="50000">
                  <a:srgbClr val="42a693"/>
                </a:gs>
                <a:gs pos="100000">
                  <a:srgbClr val="245a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8" name="椭圆 13338"/>
            <p:cNvSpPr/>
            <p:nvPr/>
          </p:nvSpPr>
          <p:spPr>
            <a:xfrm>
              <a:off x="3872160" y="15652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a695d"/>
                </a:gs>
                <a:gs pos="100000">
                  <a:srgbClr val="42a69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49" name="椭圆 13339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50" name="组合 13340"/>
            <p:cNvGrpSpPr/>
            <p:nvPr/>
          </p:nvGrpSpPr>
          <p:grpSpPr>
            <a:xfrm>
              <a:off x="3965760" y="1650960"/>
              <a:ext cx="1290600" cy="1278000"/>
              <a:chOff x="3965760" y="1650960"/>
              <a:chExt cx="1290600" cy="1278000"/>
            </a:xfrm>
          </p:grpSpPr>
          <p:sp>
            <p:nvSpPr>
              <p:cNvPr id="351" name="椭圆 13341"/>
              <p:cNvSpPr/>
              <p:nvPr/>
            </p:nvSpPr>
            <p:spPr>
              <a:xfrm>
                <a:off x="396576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2" name="椭圆 13342"/>
              <p:cNvSpPr/>
              <p:nvPr/>
            </p:nvSpPr>
            <p:spPr>
              <a:xfrm>
                <a:off x="398232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3" name="椭圆 13343"/>
              <p:cNvSpPr/>
              <p:nvPr/>
            </p:nvSpPr>
            <p:spPr>
              <a:xfrm>
                <a:off x="399564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4" name="椭圆 13344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3345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356" name="椭圆 13346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7" name="椭圆 13347"/>
              <p:cNvSpPr/>
              <p:nvPr/>
            </p:nvSpPr>
            <p:spPr>
              <a:xfrm>
                <a:off x="6452280" y="165780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8" name="椭圆 13348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59" name="椭圆 13349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60" name="文本框 13350"/>
            <p:cNvSpPr/>
            <p:nvPr/>
          </p:nvSpPr>
          <p:spPr>
            <a:xfrm>
              <a:off x="17650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1" name="文本框 13351"/>
            <p:cNvSpPr/>
            <p:nvPr/>
          </p:nvSpPr>
          <p:spPr>
            <a:xfrm>
              <a:off x="423360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2" name="文本框 13352"/>
            <p:cNvSpPr/>
            <p:nvPr/>
          </p:nvSpPr>
          <p:spPr>
            <a:xfrm>
              <a:off x="67006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63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4338"/>
          <p:cNvGrpSpPr/>
          <p:nvPr/>
        </p:nvGrpSpPr>
        <p:grpSpPr>
          <a:xfrm>
            <a:off x="1949400" y="1349280"/>
            <a:ext cx="5365440" cy="4441680"/>
            <a:chOff x="1949400" y="1349280"/>
            <a:chExt cx="5365440" cy="4441680"/>
          </a:xfrm>
        </p:grpSpPr>
        <p:sp>
          <p:nvSpPr>
            <p:cNvPr id="366" name="矩形 14339"/>
            <p:cNvSpPr/>
            <p:nvPr/>
          </p:nvSpPr>
          <p:spPr>
            <a:xfrm rot="13770000">
              <a:off x="5091120" y="3720240"/>
              <a:ext cx="932040" cy="1839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7" name="矩形 14340"/>
            <p:cNvSpPr/>
            <p:nvPr/>
          </p:nvSpPr>
          <p:spPr>
            <a:xfrm rot="20856000">
              <a:off x="3177360" y="3280680"/>
              <a:ext cx="973080" cy="1674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68" name="矩形 14341"/>
            <p:cNvSpPr/>
            <p:nvPr/>
          </p:nvSpPr>
          <p:spPr>
            <a:xfrm rot="18394200">
              <a:off x="5211360" y="2215080"/>
              <a:ext cx="578160" cy="12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69" name="组合 14342"/>
            <p:cNvGrpSpPr/>
            <p:nvPr/>
          </p:nvGrpSpPr>
          <p:grpSpPr>
            <a:xfrm>
              <a:off x="4083120" y="2250360"/>
              <a:ext cx="1551960" cy="1545120"/>
              <a:chOff x="4083120" y="2250360"/>
              <a:chExt cx="1551960" cy="1545120"/>
            </a:xfrm>
          </p:grpSpPr>
          <p:grpSp>
            <p:nvGrpSpPr>
              <p:cNvPr id="370" name="组合 14343"/>
              <p:cNvGrpSpPr/>
              <p:nvPr/>
            </p:nvGrpSpPr>
            <p:grpSpPr>
              <a:xfrm>
                <a:off x="4083120" y="2250360"/>
                <a:ext cx="1551960" cy="1545120"/>
                <a:chOff x="4083120" y="2250360"/>
                <a:chExt cx="1551960" cy="1545120"/>
              </a:xfrm>
            </p:grpSpPr>
            <p:sp>
              <p:nvSpPr>
                <p:cNvPr id="371" name="椭圆 14344"/>
                <p:cNvSpPr/>
                <p:nvPr/>
              </p:nvSpPr>
              <p:spPr>
                <a:xfrm>
                  <a:off x="4083120" y="2250360"/>
                  <a:ext cx="1551960" cy="154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9bd4"/>
                    </a:gs>
                    <a:gs pos="100000">
                      <a:srgbClr val="1c26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72" name="任意多边形 14345"/>
                <p:cNvSpPr/>
                <p:nvPr/>
              </p:nvSpPr>
              <p:spPr>
                <a:xfrm>
                  <a:off x="4260240" y="2275920"/>
                  <a:ext cx="1197360" cy="583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49bd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文本框 14346"/>
              <p:cNvSpPr/>
              <p:nvPr/>
            </p:nvSpPr>
            <p:spPr>
              <a:xfrm>
                <a:off x="4142160" y="29221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74" name="组合 14347"/>
            <p:cNvGrpSpPr/>
            <p:nvPr/>
          </p:nvGrpSpPr>
          <p:grpSpPr>
            <a:xfrm>
              <a:off x="5429520" y="1349280"/>
              <a:ext cx="909360" cy="837360"/>
              <a:chOff x="5429520" y="1349280"/>
              <a:chExt cx="909360" cy="837360"/>
            </a:xfrm>
          </p:grpSpPr>
          <p:grpSp>
            <p:nvGrpSpPr>
              <p:cNvPr id="375" name="组合 14348"/>
              <p:cNvGrpSpPr/>
              <p:nvPr/>
            </p:nvGrpSpPr>
            <p:grpSpPr>
              <a:xfrm>
                <a:off x="5441400" y="1349280"/>
                <a:ext cx="838440" cy="837360"/>
                <a:chOff x="5441400" y="1349280"/>
                <a:chExt cx="838440" cy="837360"/>
              </a:xfrm>
            </p:grpSpPr>
            <p:sp>
              <p:nvSpPr>
                <p:cNvPr id="376" name="椭圆 14349"/>
                <p:cNvSpPr/>
                <p:nvPr/>
              </p:nvSpPr>
              <p:spPr>
                <a:xfrm>
                  <a:off x="5441400" y="1349280"/>
                  <a:ext cx="838440" cy="83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a693"/>
                    </a:gs>
                    <a:gs pos="100000">
                      <a:srgbClr val="1028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77" name="任意多边形 14350"/>
                <p:cNvSpPr/>
                <p:nvPr/>
              </p:nvSpPr>
              <p:spPr>
                <a:xfrm>
                  <a:off x="5537160" y="1362960"/>
                  <a:ext cx="646920" cy="316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a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文本框 14351"/>
              <p:cNvSpPr/>
              <p:nvPr/>
            </p:nvSpPr>
            <p:spPr>
              <a:xfrm>
                <a:off x="5429520" y="167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14352"/>
            <p:cNvGrpSpPr/>
            <p:nvPr/>
          </p:nvGrpSpPr>
          <p:grpSpPr>
            <a:xfrm>
              <a:off x="1949400" y="2571480"/>
              <a:ext cx="1680120" cy="1738440"/>
              <a:chOff x="1949400" y="2571480"/>
              <a:chExt cx="1680120" cy="1738440"/>
            </a:xfrm>
          </p:grpSpPr>
          <p:grpSp>
            <p:nvGrpSpPr>
              <p:cNvPr id="380" name="组合 14353"/>
              <p:cNvGrpSpPr/>
              <p:nvPr/>
            </p:nvGrpSpPr>
            <p:grpSpPr>
              <a:xfrm>
                <a:off x="1949400" y="2571480"/>
                <a:ext cx="1680120" cy="1738440"/>
                <a:chOff x="1949400" y="2571480"/>
                <a:chExt cx="1680120" cy="1738440"/>
              </a:xfrm>
            </p:grpSpPr>
            <p:sp>
              <p:nvSpPr>
                <p:cNvPr id="381" name="椭圆 14354"/>
                <p:cNvSpPr/>
                <p:nvPr/>
              </p:nvSpPr>
              <p:spPr>
                <a:xfrm>
                  <a:off x="1949400" y="2571480"/>
                  <a:ext cx="1680120" cy="173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761"/>
                    </a:gs>
                    <a:gs pos="100000">
                      <a:srgbClr val="787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14355"/>
                <p:cNvSpPr/>
                <p:nvPr/>
              </p:nvSpPr>
              <p:spPr>
                <a:xfrm>
                  <a:off x="2141280" y="2600280"/>
                  <a:ext cx="1296000" cy="655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c7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文本框 14356"/>
              <p:cNvSpPr/>
              <p:nvPr/>
            </p:nvSpPr>
            <p:spPr>
              <a:xfrm>
                <a:off x="2009880" y="33465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14357"/>
            <p:cNvGrpSpPr/>
            <p:nvPr/>
          </p:nvGrpSpPr>
          <p:grpSpPr>
            <a:xfrm>
              <a:off x="5375160" y="3859560"/>
              <a:ext cx="1939680" cy="1931400"/>
              <a:chOff x="5375160" y="3859560"/>
              <a:chExt cx="1939680" cy="1931400"/>
            </a:xfrm>
          </p:grpSpPr>
          <p:grpSp>
            <p:nvGrpSpPr>
              <p:cNvPr id="385" name="组合 14358"/>
              <p:cNvGrpSpPr/>
              <p:nvPr/>
            </p:nvGrpSpPr>
            <p:grpSpPr>
              <a:xfrm>
                <a:off x="5375160" y="3859560"/>
                <a:ext cx="1939680" cy="1931400"/>
                <a:chOff x="5375160" y="3859560"/>
                <a:chExt cx="1939680" cy="1931400"/>
              </a:xfrm>
            </p:grpSpPr>
            <p:sp>
              <p:nvSpPr>
                <p:cNvPr id="386" name="椭圆 14359"/>
                <p:cNvSpPr/>
                <p:nvPr/>
              </p:nvSpPr>
              <p:spPr>
                <a:xfrm>
                  <a:off x="5375160" y="3859560"/>
                  <a:ext cx="1939680" cy="1931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a68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387" name="任意多边形 14360"/>
                <p:cNvSpPr/>
                <p:nvPr/>
              </p:nvSpPr>
              <p:spPr>
                <a:xfrm>
                  <a:off x="5596920" y="3891600"/>
                  <a:ext cx="1496160" cy="729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cb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文本框 14361"/>
              <p:cNvSpPr/>
              <p:nvPr/>
            </p:nvSpPr>
            <p:spPr>
              <a:xfrm>
                <a:off x="5625720" y="4696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92" name="右箭头 15363"/>
            <p:cNvSpPr/>
            <p:nvPr/>
          </p:nvSpPr>
          <p:spPr>
            <a:xfrm rot="17973000">
              <a:off x="4570920" y="25117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3" name="右箭头 15364"/>
            <p:cNvSpPr/>
            <p:nvPr/>
          </p:nvSpPr>
          <p:spPr>
            <a:xfrm rot="3465600">
              <a:off x="4621320" y="462204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4" name="右箭头 15365"/>
            <p:cNvSpPr/>
            <p:nvPr/>
          </p:nvSpPr>
          <p:spPr>
            <a:xfrm rot="14368800">
              <a:off x="34023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5" name="右箭头 15366"/>
            <p:cNvSpPr/>
            <p:nvPr/>
          </p:nvSpPr>
          <p:spPr>
            <a:xfrm rot="7534800">
              <a:off x="3363840" y="458820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6" name="右箭头 15367"/>
            <p:cNvSpPr/>
            <p:nvPr/>
          </p:nvSpPr>
          <p:spPr>
            <a:xfrm>
              <a:off x="5203800" y="358920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7" name="右箭头 15368"/>
            <p:cNvSpPr/>
            <p:nvPr/>
          </p:nvSpPr>
          <p:spPr>
            <a:xfrm rot="10800000">
              <a:off x="2793600" y="3583080"/>
              <a:ext cx="863640" cy="288720"/>
            </a:xfrm>
            <a:prstGeom prst="rightArrow">
              <a:avLst>
                <a:gd name="adj1" fmla="val 35167"/>
                <a:gd name="adj2" fmla="val 121119"/>
              </a:avLst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8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99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0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1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2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3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4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5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6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7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8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09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0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dfe4b2"/>
                </a:gs>
                <a:gs pos="100000">
                  <a:srgbClr val="bdc76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1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1cb6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2" name="椭圆 15383"/>
            <p:cNvSpPr/>
            <p:nvPr/>
          </p:nvSpPr>
          <p:spPr>
            <a:xfrm>
              <a:off x="354780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1cb6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3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e37"/>
                </a:gs>
                <a:gs pos="50000">
                  <a:srgbClr val="91cb65"/>
                </a:gs>
                <a:gs pos="100000">
                  <a:srgbClr val="4e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4" name="椭圆 1538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c8140"/>
                </a:gs>
                <a:gs pos="100000">
                  <a:srgbClr val="91cb6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15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16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7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8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19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20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21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42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16386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25" name="圆角矩形 16387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6" name="圆角矩形 16388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7" name="圆角矩形 16389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28" name="圆角矩形 16390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29" name="组合 16391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30" name="椭圆 16392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1" name="椭圆 16393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2" name="椭圆 16394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3" name="椭圆 16395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34" name="椭圆 16396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35" name="文本框 16397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6" name="文本框 16398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437" name="组合 16399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38" name="圆角矩形 16400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39" name="圆角矩形 16401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0" name="圆角矩形 16402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1" name="圆角矩形 16403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442" name="组合 16404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43" name="椭圆 16405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4" name="椭圆 16406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5" name="椭圆 16407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6" name="椭圆 16408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47" name="椭圆 16409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448" name="文本框 16410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49" name="文本框 16411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450" name="组合 16412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51" name="圆角矩形 16413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2" name="圆角矩形 16414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3" name="圆角矩形 16415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4" name="圆角矩形 16416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5" name="椭圆 16417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6" name="椭圆 16418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7" name="椭圆 16419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8" name="椭圆 16420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59" name="椭圆 16421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0" name="文本框 16422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461" name="文本框 16423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46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组合 17410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465" name="组合 17411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466" name="矩形 17412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67" name="矩形 17413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68" name="组合 17414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69" name="组合 17415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70" name="组合 17416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71" name="任意多边形 17417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任意多边形 1741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组合 17419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74" name="任意多边形 17420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任意多边形 17421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组合 1742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77" name="椭圆 1742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78" name="椭圆 1742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79" name="椭圆 17425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7426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7427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组合 17428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83" name="椭圆 17429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椭圆 17430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椭圆 17431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椭圆 17432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文本框 1743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488" name="文本框 17434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489" name="组合 1743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90" name="组合 17436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91" name="组合 17437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92" name="任意多边形 17438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任意多边形 17439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组合 1744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95" name="任意多边形 1744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任意多边形 17442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7" name="组合 1744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98" name="椭圆 1744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1744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17446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17447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02" name="椭圆 17448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组合 17449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504" name="椭圆 17450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椭圆 17451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椭圆 17452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椭圆 17453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8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09" name="文本框 17455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7456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11" name="组合 17457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12" name="组合 17458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13" name="任意多边形 17459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17460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组合 17461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16" name="任意多边形 17462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任意多边形 17463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19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2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23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25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30" name="文本框 17476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531" name="组合 17477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32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33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34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37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a4c4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9" name="椭圆 1748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0" name="椭圆 1748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1" name="椭圆 17487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2" name="椭圆 17488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43" name="椭圆 17489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grpSp>
            <p:nvGrpSpPr>
              <p:cNvPr id="544" name="组合 17490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45" name="椭圆 17491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6" name="椭圆 17492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7493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7494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0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a4c41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52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3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4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55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cxnSp>
            <p:nvCxnSpPr>
              <p:cNvPr id="556" name="直接箭头连接符 17502"/>
              <p:cNvCxnSpPr>
                <a:stCxn id="552" idx="3"/>
                <a:endCxn id="55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7" name="直接箭头连接符 17503"/>
              <p:cNvCxnSpPr>
                <a:stCxn id="553" idx="3"/>
                <a:endCxn id="55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558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59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62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63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64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2a693"/>
                  </a:gs>
                  <a:gs pos="100000">
                    <a:srgbClr val="2e7467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5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8cec4"/>
                  </a:gs>
                  <a:gs pos="50000">
                    <a:srgbClr val="42a693">
                      <a:alpha val="0"/>
                    </a:srgbClr>
                  </a:gs>
                  <a:gs pos="100000">
                    <a:srgbClr val="98cec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66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67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68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69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70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71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fd98f"/>
                  </a:gs>
                  <a:gs pos="100000">
                    <a:srgbClr val="91cb65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2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e9be"/>
                  </a:gs>
                  <a:gs pos="100000">
                    <a:srgbClr val="91cb65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3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74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2a4c41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575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76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77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78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5db9b"/>
                  </a:gs>
                  <a:gs pos="100000">
                    <a:srgbClr val="bdc76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79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e4b2"/>
                  </a:gs>
                  <a:gs pos="100000">
                    <a:srgbClr val="bdc76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80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81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582" name="文本框 18455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3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圆角矩形 19458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6" name="圆角矩形 19459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7" name="圆角矩形 19460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588" name="圆角矩形 19461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589" name="组合 19462"/>
          <p:cNvGrpSpPr/>
          <p:nvPr/>
        </p:nvGrpSpPr>
        <p:grpSpPr>
          <a:xfrm>
            <a:off x="1127520" y="1406160"/>
            <a:ext cx="6215400" cy="1324800"/>
            <a:chOff x="1127520" y="1406160"/>
            <a:chExt cx="6215400" cy="1324800"/>
          </a:xfrm>
        </p:grpSpPr>
        <p:sp>
          <p:nvSpPr>
            <p:cNvPr id="590" name="矩形 19463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435e2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91" name="组合 19464"/>
            <p:cNvGrpSpPr/>
            <p:nvPr/>
          </p:nvGrpSpPr>
          <p:grpSpPr>
            <a:xfrm>
              <a:off x="2258280" y="1787400"/>
              <a:ext cx="901080" cy="124200"/>
              <a:chOff x="2258280" y="1787400"/>
              <a:chExt cx="901080" cy="124200"/>
            </a:xfrm>
          </p:grpSpPr>
          <p:sp>
            <p:nvSpPr>
              <p:cNvPr id="592" name="椭圆 19465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3" name="矩形 19466"/>
              <p:cNvSpPr/>
              <p:nvPr/>
            </p:nvSpPr>
            <p:spPr>
              <a:xfrm>
                <a:off x="234468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4" name="椭圆 19467"/>
              <p:cNvSpPr/>
              <p:nvPr/>
            </p:nvSpPr>
            <p:spPr>
              <a:xfrm>
                <a:off x="302292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5" name="椭圆 19468"/>
              <p:cNvSpPr/>
              <p:nvPr/>
            </p:nvSpPr>
            <p:spPr>
              <a:xfrm>
                <a:off x="3096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596" name="矩形 19469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597" name="组合 19470"/>
            <p:cNvGrpSpPr/>
            <p:nvPr/>
          </p:nvGrpSpPr>
          <p:grpSpPr>
            <a:xfrm>
              <a:off x="3922920" y="1787400"/>
              <a:ext cx="901080" cy="124200"/>
              <a:chOff x="3922920" y="1787400"/>
              <a:chExt cx="901080" cy="124200"/>
            </a:xfrm>
          </p:grpSpPr>
          <p:sp>
            <p:nvSpPr>
              <p:cNvPr id="598" name="椭圆 19471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599" name="矩形 19472"/>
              <p:cNvSpPr/>
              <p:nvPr/>
            </p:nvSpPr>
            <p:spPr>
              <a:xfrm>
                <a:off x="400932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0" name="椭圆 19473"/>
              <p:cNvSpPr/>
              <p:nvPr/>
            </p:nvSpPr>
            <p:spPr>
              <a:xfrm>
                <a:off x="468756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1" name="椭圆 19474"/>
              <p:cNvSpPr/>
              <p:nvPr/>
            </p:nvSpPr>
            <p:spPr>
              <a:xfrm>
                <a:off x="476064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02" name="矩形 19475"/>
            <p:cNvSpPr/>
            <p:nvPr/>
          </p:nvSpPr>
          <p:spPr>
            <a:xfrm rot="3418800">
              <a:off x="4595760" y="15516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435e2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03" name="组合 19476"/>
            <p:cNvGrpSpPr/>
            <p:nvPr/>
          </p:nvGrpSpPr>
          <p:grpSpPr>
            <a:xfrm>
              <a:off x="5587560" y="1787400"/>
              <a:ext cx="1178640" cy="124200"/>
              <a:chOff x="5587560" y="1787400"/>
              <a:chExt cx="1178640" cy="124200"/>
            </a:xfrm>
          </p:grpSpPr>
          <p:sp>
            <p:nvSpPr>
              <p:cNvPr id="604" name="椭圆 19477"/>
              <p:cNvSpPr/>
              <p:nvPr/>
            </p:nvSpPr>
            <p:spPr>
              <a:xfrm>
                <a:off x="558756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5" name="矩形 19478"/>
              <p:cNvSpPr/>
              <p:nvPr/>
            </p:nvSpPr>
            <p:spPr>
              <a:xfrm>
                <a:off x="570060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6" name="椭圆 19479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07" name="椭圆 19480"/>
              <p:cNvSpPr/>
              <p:nvPr/>
            </p:nvSpPr>
            <p:spPr>
              <a:xfrm>
                <a:off x="668304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08" name="矩形 19481"/>
            <p:cNvSpPr/>
            <p:nvPr/>
          </p:nvSpPr>
          <p:spPr>
            <a:xfrm rot="3418800">
              <a:off x="6260400" y="1551600"/>
              <a:ext cx="874080" cy="971280"/>
            </a:xfrm>
            <a:prstGeom prst="rect">
              <a:avLst/>
            </a:prstGeom>
            <a:solidFill>
              <a:srgbClr val="42a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609" name="矩形 19482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0" name="矩形 19483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1" name="矩形 19484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2" name="矩形 19485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3" name="矩形 19486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4" name="矩形 19487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5" name="矩形 19488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6" name="矩形 19489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c41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17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838080" y="1981080"/>
          <a:ext cx="7467480" cy="322272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2a693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a4c4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0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21506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623" name="椭圆 21507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4" name="椭圆 21508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5" name="椭圆 21509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6" name="任意多边形 21510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91cb65"/>
                </a:gs>
                <a:gs pos="100000">
                  <a:srgbClr val="b6dc9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7" name="任意多边形 21511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2a693"/>
                </a:gs>
                <a:gs pos="100000">
                  <a:srgbClr val="28655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8" name="任意多边形 21512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29" name="任意多边形 21513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c761"/>
                </a:gs>
                <a:gs pos="100000">
                  <a:srgbClr val="676c3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0" name="椭圆 21514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1" name="文本框 21515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2" name="文本框 21516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33" name="文本框 21517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34" name="组合 21518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635" name="任意多边形 21519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75e81"/>
                  </a:gs>
                  <a:gs pos="100000">
                    <a:srgbClr val="749bd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6" name="任意多边形 21520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9bd4"/>
                  </a:gs>
                  <a:gs pos="100000">
                    <a:srgbClr val="364862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7" name="任意多边形 21521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9bd4"/>
                  </a:gs>
                  <a:gs pos="100000">
                    <a:srgbClr val="3648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638" name="文本框 21522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639" name="文本框 21523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0" name="任意多边形 21524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a4c4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1" name="椭圆 21525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64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22530"/>
          <p:cNvGrpSpPr/>
          <p:nvPr/>
        </p:nvGrpSpPr>
        <p:grpSpPr>
          <a:xfrm>
            <a:off x="914400" y="1523880"/>
            <a:ext cx="7391520" cy="4156200"/>
            <a:chOff x="914400" y="1523880"/>
            <a:chExt cx="7391520" cy="4156200"/>
          </a:xfrm>
        </p:grpSpPr>
        <p:sp>
          <p:nvSpPr>
            <p:cNvPr id="645" name="上箭头 22531"/>
            <p:cNvSpPr/>
            <p:nvPr/>
          </p:nvSpPr>
          <p:spPr>
            <a:xfrm>
              <a:off x="1905120" y="2286000"/>
              <a:ext cx="5530680" cy="274320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6" name="圆角矩形 22532"/>
            <p:cNvSpPr/>
            <p:nvPr/>
          </p:nvSpPr>
          <p:spPr>
            <a:xfrm>
              <a:off x="2438280" y="152388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2a693"/>
                </a:gs>
                <a:gs pos="50000">
                  <a:srgbClr val="85c6ba"/>
                </a:gs>
                <a:gs pos="100000">
                  <a:srgbClr val="42a693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647" name="文本框 22533"/>
            <p:cNvSpPr/>
            <p:nvPr/>
          </p:nvSpPr>
          <p:spPr>
            <a:xfrm>
              <a:off x="3656160" y="2895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648" name="组合 22534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649" name="组合 22535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650" name="椭圆 22536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761"/>
                    </a:gs>
                    <a:gs pos="100000">
                      <a:srgbClr val="787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 22537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c7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文本框 22538"/>
              <p:cNvSpPr/>
              <p:nvPr/>
            </p:nvSpPr>
            <p:spPr>
              <a:xfrm>
                <a:off x="107244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22539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654" name="组合 22540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655" name="椭圆 22541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9bd4"/>
                    </a:gs>
                    <a:gs pos="100000">
                      <a:srgbClr val="1c26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 22542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49bd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文本框 22543"/>
              <p:cNvSpPr/>
              <p:nvPr/>
            </p:nvSpPr>
            <p:spPr>
              <a:xfrm>
                <a:off x="692460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2254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grpSp>
            <p:nvGrpSpPr>
              <p:cNvPr id="659" name="组合 22545"/>
              <p:cNvGrpSpPr/>
              <p:nvPr/>
            </p:nvGrpSpPr>
            <p:grpSpPr>
              <a:xfrm>
                <a:off x="2819520" y="4159080"/>
                <a:ext cx="1523880" cy="1521000"/>
                <a:chOff x="2819520" y="4159080"/>
                <a:chExt cx="1523880" cy="1521000"/>
              </a:xfrm>
            </p:grpSpPr>
            <p:sp>
              <p:nvSpPr>
                <p:cNvPr id="660" name="椭圆 22546"/>
                <p:cNvSpPr/>
                <p:nvPr/>
              </p:nvSpPr>
              <p:spPr>
                <a:xfrm>
                  <a:off x="2819520" y="41590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a68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 22547"/>
                <p:cNvSpPr/>
                <p:nvPr/>
              </p:nvSpPr>
              <p:spPr>
                <a:xfrm>
                  <a:off x="2993760" y="41842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cb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文本框 22548"/>
              <p:cNvSpPr/>
              <p:nvPr/>
            </p:nvSpPr>
            <p:spPr>
              <a:xfrm>
                <a:off x="2895840" y="48891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663" name="组合 22549"/>
            <p:cNvGrpSpPr/>
            <p:nvPr/>
          </p:nvGrpSpPr>
          <p:grpSpPr>
            <a:xfrm>
              <a:off x="4876920" y="4114800"/>
              <a:ext cx="1523880" cy="1520640"/>
              <a:chOff x="4876920" y="4114800"/>
              <a:chExt cx="1523880" cy="1520640"/>
            </a:xfrm>
          </p:grpSpPr>
          <p:grpSp>
            <p:nvGrpSpPr>
              <p:cNvPr id="664" name="组合 22550"/>
              <p:cNvGrpSpPr/>
              <p:nvPr/>
            </p:nvGrpSpPr>
            <p:grpSpPr>
              <a:xfrm>
                <a:off x="4876920" y="4114800"/>
                <a:ext cx="1523880" cy="1520640"/>
                <a:chOff x="4876920" y="4114800"/>
                <a:chExt cx="1523880" cy="1520640"/>
              </a:xfrm>
            </p:grpSpPr>
            <p:sp>
              <p:nvSpPr>
                <p:cNvPr id="665" name="椭圆 22551"/>
                <p:cNvSpPr/>
                <p:nvPr/>
              </p:nvSpPr>
              <p:spPr>
                <a:xfrm>
                  <a:off x="4876920" y="411480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a693"/>
                    </a:gs>
                    <a:gs pos="100000">
                      <a:srgbClr val="2255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 22552"/>
                <p:cNvSpPr/>
                <p:nvPr/>
              </p:nvSpPr>
              <p:spPr>
                <a:xfrm>
                  <a:off x="5051160" y="41400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2a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文本框 22553"/>
              <p:cNvSpPr/>
              <p:nvPr/>
            </p:nvSpPr>
            <p:spPr>
              <a:xfrm>
                <a:off x="4953240" y="48445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0560" y="237960"/>
            <a:ext cx="4425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37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38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c761"/>
                </a:gs>
                <a:gs pos="50000">
                  <a:srgbClr val="f1f3de"/>
                </a:gs>
                <a:gs pos="100000">
                  <a:srgbClr val="bdc76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39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bdc76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0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1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42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3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a693"/>
                </a:gs>
                <a:gs pos="50000">
                  <a:srgbClr val="d7ece8"/>
                </a:gs>
                <a:gs pos="100000">
                  <a:srgbClr val="42a693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4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2a69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5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6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47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48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cb65"/>
                </a:gs>
                <a:gs pos="50000">
                  <a:srgbClr val="e8f4de"/>
                </a:gs>
                <a:gs pos="100000">
                  <a:srgbClr val="91cb65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49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1cb6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0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1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52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3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9bd4"/>
                </a:gs>
                <a:gs pos="50000">
                  <a:srgbClr val="e2eaf6"/>
                </a:gs>
                <a:gs pos="100000">
                  <a:srgbClr val="749bd4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4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749bd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5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56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57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a4c41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6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9359-F79E-4039-9FB4-BEAE2C9780EB}" type="slidenum">
              <a:rPr b="0" lang="zh-CN" sz="1400" spc="-1" strike="noStrike">
                <a:solidFill>
                  <a:srgbClr val="2a4c41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23553"/>
          <p:cNvSpPr txBox="1"/>
          <p:nvPr/>
        </p:nvSpPr>
        <p:spPr>
          <a:xfrm>
            <a:off x="1828800" y="29718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2a4c41"/>
                    </a:gs>
                    <a:gs pos="100000">
                      <a:srgbClr val="91cb65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2a4c41"/>
                  </a:gs>
                  <a:gs pos="100000">
                    <a:srgbClr val="91cb65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4" name="图片 23554" descr="09_icon"/>
          <p:cNvPicPr/>
          <p:nvPr/>
        </p:nvPicPr>
        <p:blipFill>
          <a:blip r:embed="rId1"/>
          <a:stretch/>
        </p:blipFill>
        <p:spPr>
          <a:xfrm>
            <a:off x="5257800" y="37339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85440" y="39013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页脚占位符 1"/>
          <p:cNvSpPr/>
          <p:nvPr/>
        </p:nvSpPr>
        <p:spPr>
          <a:xfrm>
            <a:off x="5977080" y="6594480"/>
            <a:ext cx="2895480" cy="16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8880" y="1309680"/>
            <a:ext cx="75470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4c4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c41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2a4c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c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42a69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3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64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65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c761"/>
              </a:gs>
              <a:gs pos="100000">
                <a:srgbClr val="d5db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66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grpSp>
        <p:nvGrpSpPr>
          <p:cNvPr id="167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68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69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0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cb65"/>
                    </a:gs>
                    <a:gs pos="100000">
                      <a:srgbClr val="47633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e8bb"/>
                    </a:gs>
                    <a:gs pos="100000">
                      <a:srgbClr val="91cb6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c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f4d44"/>
                  </a:gs>
                  <a:gs pos="100000">
                    <a:srgbClr val="42a69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73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42a693">
                      <a:alpha val="0"/>
                    </a:srgbClr>
                  </a:gs>
                  <a:gs pos="100000">
                    <a:srgbClr val="bde0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74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48374"/>
                  </a:gs>
                  <a:gs pos="100000">
                    <a:srgbClr val="42a69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75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a69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176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grpSp>
        <p:nvGrpSpPr>
          <p:cNvPr id="177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78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79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180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1cb65"/>
              </a:gs>
              <a:gs pos="100000">
                <a:srgbClr val="dce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181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8194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4" name="任意多边形 8195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5" name="椭圆 8196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1cb65"/>
                </a:gs>
                <a:gs pos="100000">
                  <a:srgbClr val="3246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6" name="椭圆 8197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2a693"/>
                </a:gs>
                <a:gs pos="100000">
                  <a:srgbClr val="1534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7" name="椭圆 8198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dc761"/>
                </a:gs>
                <a:gs pos="100000">
                  <a:srgbClr val="4347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8" name="椭圆 8199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89" name="椭圆 8200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749bd4"/>
                </a:gs>
                <a:gs pos="100000">
                  <a:srgbClr val="2835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0" name="文本框 8201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1" name="文本框 8202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2" name="文本框 8203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3" name="文本框 8204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4" name="文本框 8205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195" name="文本框 8206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a4c41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97" name="直接连接符 8207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cxnSp>
          <p:nvCxnSpPr>
            <p:cNvPr id="199" name="直接箭头连接符 8208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a4c41"/>
              </a:solidFill>
              <a:round/>
            </a:ln>
          </p:spPr>
        </p:cxnSp>
        <p:sp>
          <p:nvSpPr>
            <p:cNvPr id="200" name="文本框 8209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01" name="文本框 8210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1cb65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a4c41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2a4c41"/>
              </a:solidFill>
              <a:latin typeface="Arial"/>
            </a:endParaRPr>
          </a:p>
        </p:txBody>
      </p:sp>
      <p:sp>
        <p:nvSpPr>
          <p:cNvPr id="20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9218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5" name="圆柱形 9219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862"/>
                </a:gs>
                <a:gs pos="50000">
                  <a:srgbClr val="749bd4"/>
                </a:gs>
                <a:gs pos="100000">
                  <a:srgbClr val="3648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6" name="圆柱形 9220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862"/>
                </a:gs>
                <a:gs pos="50000">
                  <a:srgbClr val="749bd4"/>
                </a:gs>
                <a:gs pos="100000">
                  <a:srgbClr val="3648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7" name="圆柱形 9221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4862"/>
                </a:gs>
                <a:gs pos="50000">
                  <a:srgbClr val="749bd4"/>
                </a:gs>
                <a:gs pos="100000">
                  <a:srgbClr val="3648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8" name="文本框 9222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09" name="文本框 9223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0" name="文本框 9224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1" name="左箭头 9225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2" name="圆角矩形 9226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3" name="文本框 9227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4" name="圆角矩形 9228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5" name="文本框 9229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6" name="右箭头 9230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7" name="圆柱形 9231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8" name="上箭头 9232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19" name="文本框 9233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20" name="圆柱形 9234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35e2f"/>
                </a:gs>
                <a:gs pos="50000">
                  <a:srgbClr val="91cb65"/>
                </a:gs>
                <a:gs pos="100000">
                  <a:srgbClr val="435e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21" name="文本框 9235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22" name="下箭头 9236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23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0242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226" name="组合 10243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227" name="上箭头 10244"/>
              <p:cNvSpPr/>
              <p:nvPr/>
            </p:nvSpPr>
            <p:spPr>
              <a:xfrm flipH="1" rot="16200000">
                <a:off x="2927880" y="2951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8" name="上箭头 10245"/>
              <p:cNvSpPr/>
              <p:nvPr/>
            </p:nvSpPr>
            <p:spPr>
              <a:xfrm flipH="1" rot="5400000">
                <a:off x="5531400" y="290088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29" name="上箭头 10246"/>
              <p:cNvSpPr/>
              <p:nvPr/>
            </p:nvSpPr>
            <p:spPr>
              <a:xfrm flipH="1" rot="10800000">
                <a:off x="423864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0" name="椭圆 10247"/>
              <p:cNvSpPr/>
              <p:nvPr/>
            </p:nvSpPr>
            <p:spPr>
              <a:xfrm>
                <a:off x="3305880" y="190512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1" name="椭圆 10248"/>
              <p:cNvSpPr/>
              <p:nvPr/>
            </p:nvSpPr>
            <p:spPr>
              <a:xfrm>
                <a:off x="3438720" y="204012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2" name="椭圆 10249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1cb6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3" name="椭圆 10250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4" name="椭圆 10251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e6e37"/>
                  </a:gs>
                  <a:gs pos="50000">
                    <a:srgbClr val="91cb65"/>
                  </a:gs>
                  <a:gs pos="100000">
                    <a:srgbClr val="4e6e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35" name="椭圆 10252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236" name="圆柱形 10253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7" name="圆柱形 10254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8" name="圆柱形 10255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39" name="圆柱形 10256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0" name="圆柱形 10257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1" name="圆柱形 10258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d44"/>
                </a:gs>
                <a:gs pos="50000">
                  <a:srgbClr val="42a693"/>
                </a:gs>
                <a:gs pos="100000">
                  <a:srgbClr val="1f4d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2" name="文本框 10259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3" name="圆角矩形 10260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c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4" name="文本框 10261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5" name="文本框 10262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6" name="文本框 10263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7" name="文本框 10264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8" name="文本框 10265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49" name="文本框 10266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250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53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4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57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60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63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66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69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72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75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78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2a4c41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280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1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2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283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a4c41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284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85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c2d"/>
                  </a:gs>
                  <a:gs pos="50000">
                    <a:srgbClr val="bdc761"/>
                  </a:gs>
                  <a:gs pos="100000">
                    <a:srgbClr val="575c2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6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bdc7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7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5e2f"/>
                  </a:gs>
                  <a:gs pos="50000">
                    <a:srgbClr val="91cb65"/>
                  </a:gs>
                  <a:gs pos="100000">
                    <a:srgbClr val="435e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8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1cb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89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4862"/>
                  </a:gs>
                  <a:gs pos="50000">
                    <a:srgbClr val="749bd4"/>
                  </a:gs>
                  <a:gs pos="100000">
                    <a:srgbClr val="3648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0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d44"/>
                  </a:gs>
                  <a:gs pos="50000">
                    <a:srgbClr val="42a693"/>
                  </a:gs>
                  <a:gs pos="100000">
                    <a:srgbClr val="1f4d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1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2a6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2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3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899046"/>
                  </a:gs>
                  <a:gs pos="50000">
                    <a:srgbClr val="bdc761"/>
                  </a:gs>
                  <a:gs pos="100000">
                    <a:srgbClr val="8990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4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99349"/>
                  </a:gs>
                  <a:gs pos="50000">
                    <a:srgbClr val="91cb65"/>
                  </a:gs>
                  <a:gs pos="100000">
                    <a:srgbClr val="6993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5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749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6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54709a"/>
                  </a:gs>
                  <a:gs pos="50000">
                    <a:srgbClr val="749bd4"/>
                  </a:gs>
                  <a:gs pos="100000">
                    <a:srgbClr val="5470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297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0786b"/>
                  </a:gs>
                  <a:gs pos="50000">
                    <a:srgbClr val="42a693"/>
                  </a:gs>
                  <a:gs pos="100000">
                    <a:srgbClr val="3078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44956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01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bd073">
                    <a:alpha val="32156"/>
                  </a:srgbClr>
                </a:gs>
                <a:gs pos="100000">
                  <a:srgbClr val="91cb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2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bdc7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3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5c2d"/>
                </a:gs>
                <a:gs pos="50000">
                  <a:srgbClr val="bdc761"/>
                </a:gs>
                <a:gs pos="100000">
                  <a:srgbClr val="575c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4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5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6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1cb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7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5e2f"/>
                </a:gs>
                <a:gs pos="50000">
                  <a:srgbClr val="91cb65"/>
                </a:gs>
                <a:gs pos="100000">
                  <a:srgbClr val="43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8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09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10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fc5e6">
                    <a:alpha val="32156"/>
                  </a:srgbClr>
                </a:gs>
                <a:gs pos="100000">
                  <a:srgbClr val="749b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11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12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2a4c41"/>
                </a:solidFill>
                <a:latin typeface="Arial"/>
              </a:endParaRPr>
            </a:p>
          </p:txBody>
        </p:sp>
        <p:grpSp>
          <p:nvGrpSpPr>
            <p:cNvPr id="313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4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749b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5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d3c52"/>
                  </a:gs>
                  <a:gs pos="50000">
                    <a:srgbClr val="749bd4"/>
                  </a:gs>
                  <a:gs pos="100000">
                    <a:srgbClr val="2d3c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6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7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8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  <p:sp>
            <p:nvSpPr>
              <p:cNvPr id="319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a4c41"/>
                  </a:solidFill>
                  <a:latin typeface="Arial"/>
                </a:endParaRPr>
              </a:p>
            </p:txBody>
          </p:sp>
        </p:grpSp>
        <p:sp>
          <p:nvSpPr>
            <p:cNvPr id="320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  <p:sp>
          <p:nvSpPr>
            <p:cNvPr id="321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c41"/>
                </a:solidFill>
                <a:latin typeface="Arial"/>
              </a:endParaRPr>
            </a:p>
          </p:txBody>
        </p:sp>
      </p:grpSp>
      <p:sp>
        <p:nvSpPr>
          <p:cNvPr id="322" name="页脚占位符 1"/>
          <p:cNvSpPr/>
          <p:nvPr/>
        </p:nvSpPr>
        <p:spPr>
          <a:xfrm>
            <a:off x="6058080" y="646740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2a4c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2:51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57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