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E00-C374-4B22-B47C-88007DF0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EFC-7719-414D-A0D0-BB65B895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7BAE-25F0-4BF0-8539-85A02958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B2D-1A52-415C-BA98-2A41B71C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92C-0F36-47F2-B6D2-FCFB44B4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5A5-1E87-48C4-88FF-05EAB5DA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94C-8BD9-4A09-B7B1-2C0F425E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808-9398-48BB-83D2-514AA80E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F13-99F1-4018-B6D4-AB262B59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7C8D-D4EC-43F5-95C9-12E0DF0A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B33-3198-4262-B07B-4C14E8C7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258-259C-4E06-9C8D-2FB68627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569760"/>
            <a:ext cx="264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5697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697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77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078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3079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46" name="图片 3080" descr="soft7"/>
            <p:cNvPicPr/>
            <p:nvPr/>
          </p:nvPicPr>
          <p:blipFill>
            <a:blip r:embed="rId8"/>
            <a:srcRect l="0" t="0" r="0" b="19888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3081" descr="soft7"/>
            <p:cNvPicPr/>
            <p:nvPr/>
          </p:nvPicPr>
          <p:blipFill>
            <a:blip r:embed="rId9"/>
            <a:srcRect l="0" t="0" r="0" b="1988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矩形 3082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083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084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3086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090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3091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8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3349080" y="1125360"/>
              <a:ext cx="360" cy="576360"/>
              <a:chOff x="3349080" y="1125360"/>
              <a:chExt cx="360" cy="576360"/>
            </a:xfrm>
          </p:grpSpPr>
          <p:sp>
            <p:nvSpPr>
              <p:cNvPr id="61" name="直接连接符 3094"/>
              <p:cNvSpPr/>
              <p:nvPr/>
            </p:nvSpPr>
            <p:spPr>
              <a:xfrm>
                <a:off x="3349080" y="1125360"/>
                <a:ext cx="0" cy="57636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3349080" y="1125360"/>
                <a:ext cx="36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8EDE-92D8-4577-A48F-33388031CD0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C882-7534-47E7-86DC-BE8F00670F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5121"/>
          <p:cNvSpPr/>
          <p:nvPr/>
        </p:nvSpPr>
        <p:spPr>
          <a:xfrm>
            <a:off x="3994200" y="465300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5122"/>
          <p:cNvSpPr/>
          <p:nvPr/>
        </p:nvSpPr>
        <p:spPr>
          <a:xfrm>
            <a:off x="5865840" y="531648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124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5125"/>
          <p:cNvSpPr/>
          <p:nvPr/>
        </p:nvSpPr>
        <p:spPr>
          <a:xfrm>
            <a:off x="1998360" y="765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日历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147"/>
          <p:cNvSpPr/>
          <p:nvPr/>
        </p:nvSpPr>
        <p:spPr>
          <a:xfrm>
            <a:off x="468360" y="765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6A32-9B62-4993-9E66-6A2D1ECB2E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7169"/>
          <p:cNvSpPr/>
          <p:nvPr/>
        </p:nvSpPr>
        <p:spPr>
          <a:xfrm>
            <a:off x="0" y="4508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33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