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C2BF-04DA-48D8-ACD5-8F4EF8B17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FF19-2386-4582-932F-402F120BB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18FC-D9EC-47E8-BD6C-5C8B4A7A9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9707-F1C3-40C4-9646-38C5B7A85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FE0B0-BD77-46FE-BC9E-BBD34A43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5D63-CC47-4414-8B76-97A3F46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8E2A-9C6F-4FF9-BE19-36515C5C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FB33-B1D5-4C43-AB3E-7320A14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166DA-675F-433C-9AF3-61282476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3CED-D104-4FA9-8EF8-DB3CF52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E6DA2-5D30-43AF-9244-F2A1DCA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4334-7337-4BAB-8132-0273103F8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5C11-BE8E-45C2-8305-539312A2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627A-64E2-494A-8D4C-D1BFAF0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E0EF7-8C97-4F76-9322-0FE900A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9575-A17B-4120-8462-4B36095E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B2DC8-33D7-4803-BD7D-81C0B2D9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B9EB9-D85E-4624-9452-8E1372FB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D6796-ADD9-4163-86F9-FBFDC996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3268F-9D4E-412B-A23C-75BAC2F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007B6-12B0-4323-9716-B54C6D27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8B227-4B4F-4DD9-B359-A065EBC0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2830-FCD9-4B6B-94FF-D56CA8D0C1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85BB3-37E0-495A-9A0E-B9A22D7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97A67-FA5A-4533-9F43-C63C83E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3DB28-780A-4461-9A1D-59D08D1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18FF3-C176-40C5-8174-05AECC0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69775-A092-4E35-A334-14BE510C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0BEAC-3007-4816-B4CB-82B5A2DE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B6A5D-89B5-427B-87CB-84511499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D402-8716-4B53-BF95-188359EFC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6F80-416A-462A-98A9-98DC0FDA6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43AB-9330-424C-AA80-55F91A676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04D0-AE15-4F30-A211-3BFE6AB2A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E30E-5857-47E5-BA28-FB67F9566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D41C-8965-4D71-AB83-A65475D40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0"/>
          <p:cNvSpPr/>
          <p:nvPr/>
        </p:nvSpPr>
        <p:spPr>
          <a:xfrm>
            <a:off x="0" y="0"/>
            <a:ext cx="9144000" cy="7477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50000">
                <a:srgbClr val="f2ef62"/>
              </a:gs>
              <a:gs pos="100000">
                <a:srgbClr val="ba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圆角矩形 12441"/>
          <p:cNvSpPr/>
          <p:nvPr/>
        </p:nvSpPr>
        <p:spPr>
          <a:xfrm>
            <a:off x="123840" y="809640"/>
            <a:ext cx="8928000" cy="601992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CCDA-692A-486C-AF7B-BC379292831B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圆角矩形 12442"/>
          <p:cNvSpPr/>
          <p:nvPr/>
        </p:nvSpPr>
        <p:spPr>
          <a:xfrm>
            <a:off x="127080" y="797040"/>
            <a:ext cx="8928000" cy="602748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" name="图片 12443" descr="laonr"/>
          <p:cNvPicPr/>
          <p:nvPr/>
        </p:nvPicPr>
        <p:blipFill>
          <a:blip r:embed="rId2"/>
          <a:stretch/>
        </p:blipFill>
        <p:spPr>
          <a:xfrm>
            <a:off x="7701120" y="0"/>
            <a:ext cx="1442880" cy="14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5F7-5FE8-49F8-9C93-05433B80D2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136-6CDC-4A20-BAC3-8263F7C430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343"/>
          <p:cNvSpPr/>
          <p:nvPr/>
        </p:nvSpPr>
        <p:spPr>
          <a:xfrm>
            <a:off x="0" y="2017800"/>
            <a:ext cx="9144000" cy="3316320"/>
          </a:xfrm>
          <a:prstGeom prst="rect">
            <a:avLst/>
          </a:prstGeom>
          <a:gradFill rotWithShape="0">
            <a:gsLst>
              <a:gs pos="0">
                <a:srgbClr val="507800">
                  <a:alpha val="80392"/>
                </a:srgbClr>
              </a:gs>
              <a:gs pos="100000">
                <a:srgbClr val="f2ef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" name="组合 13344"/>
          <p:cNvGrpSpPr/>
          <p:nvPr/>
        </p:nvGrpSpPr>
        <p:grpSpPr>
          <a:xfrm>
            <a:off x="-18000" y="1541160"/>
            <a:ext cx="2844720" cy="2781360"/>
            <a:chOff x="-18000" y="1541160"/>
            <a:chExt cx="2844720" cy="2781360"/>
          </a:xfrm>
        </p:grpSpPr>
        <p:sp>
          <p:nvSpPr>
            <p:cNvPr id="87" name="任意多边形 13345"/>
            <p:cNvSpPr/>
            <p:nvPr/>
          </p:nvSpPr>
          <p:spPr>
            <a:xfrm flipH="1" rot="5407800">
              <a:off x="381960" y="2877120"/>
              <a:ext cx="1036440" cy="1805760"/>
            </a:xfrm>
            <a:custGeom>
              <a:avLst/>
              <a:gdLst/>
              <a:ahLst/>
              <a:rect l="l" t="t" r="r" b="b"/>
              <a:pathLst>
                <a:path fill="none" w="43199" h="28436">
                  <a:moveTo>
                    <a:pt x="0" y="0"/>
                  </a:moveTo>
                  <a:cubicBezTo>
                    <a:pt x="11928" y="0"/>
                    <a:pt x="21598" y="9668"/>
                    <a:pt x="21600" y="21596"/>
                  </a:cubicBezTo>
                </a:path>
                <a:path stroke="0" w="43199" h="28436">
                  <a:moveTo>
                    <a:pt x="21599" y="21596"/>
                  </a:moveTo>
                  <a:cubicBezTo>
                    <a:pt x="21599" y="21599"/>
                    <a:pt x="21599" y="21597"/>
                    <a:pt x="21599" y="21596"/>
                  </a:cubicBezTo>
                  <a:cubicBezTo>
                    <a:pt x="21599" y="9667"/>
                    <a:pt x="26434" y="-4"/>
                    <a:pt x="32399" y="-4"/>
                  </a:cubicBezTo>
                  <a:cubicBezTo>
                    <a:pt x="38364" y="-4"/>
                    <a:pt x="43199" y="9667"/>
                    <a:pt x="43199" y="21596"/>
                  </a:cubicBezTo>
                  <a:cubicBezTo>
                    <a:pt x="43199" y="23987"/>
                    <a:pt x="43005" y="26286"/>
                    <a:pt x="42647" y="28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任意多边形 13346"/>
            <p:cNvSpPr/>
            <p:nvPr/>
          </p:nvSpPr>
          <p:spPr>
            <a:xfrm flipH="1" rot="1756800">
              <a:off x="329760" y="1940040"/>
              <a:ext cx="2149200" cy="1983600"/>
            </a:xfrm>
            <a:custGeom>
              <a:avLst/>
              <a:gdLst/>
              <a:ahLst/>
              <a:rect l="l" t="t" r="r" b="b"/>
              <a:pathLst>
                <a:path fill="none" w="43199" h="28436">
                  <a:moveTo>
                    <a:pt x="0" y="0"/>
                  </a:moveTo>
                  <a:cubicBezTo>
                    <a:pt x="11928" y="0"/>
                    <a:pt x="21598" y="9668"/>
                    <a:pt x="21600" y="21596"/>
                  </a:cubicBezTo>
                </a:path>
                <a:path stroke="0" w="43199" h="28436">
                  <a:moveTo>
                    <a:pt x="21599" y="21596"/>
                  </a:moveTo>
                  <a:cubicBezTo>
                    <a:pt x="21599" y="21599"/>
                    <a:pt x="21599" y="21597"/>
                    <a:pt x="21599" y="21596"/>
                  </a:cubicBezTo>
                  <a:cubicBezTo>
                    <a:pt x="21599" y="9667"/>
                    <a:pt x="26434" y="-4"/>
                    <a:pt x="32399" y="-4"/>
                  </a:cubicBezTo>
                  <a:cubicBezTo>
                    <a:pt x="38364" y="-4"/>
                    <a:pt x="43199" y="9667"/>
                    <a:pt x="43199" y="21596"/>
                  </a:cubicBezTo>
                  <a:cubicBezTo>
                    <a:pt x="43199" y="23987"/>
                    <a:pt x="43005" y="26286"/>
                    <a:pt x="42647" y="28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9" name="椭圆 13347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bad16f"/>
              </a:gs>
            </a:gsLst>
            <a:lin ang="27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矩形 13348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文本框 13340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굴림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椭圆 13350"/>
          <p:cNvSpPr/>
          <p:nvPr/>
        </p:nvSpPr>
        <p:spPr>
          <a:xfrm>
            <a:off x="179280" y="2451240"/>
            <a:ext cx="3745080" cy="3636720"/>
          </a:xfrm>
          <a:prstGeom prst="ellipse">
            <a:avLst/>
          </a:prstGeom>
          <a:solidFill>
            <a:srgbClr val="f4f8e8"/>
          </a:solidFill>
          <a:ln w="0">
            <a:noFill/>
          </a:ln>
          <a:effectLst>
            <a:outerShdw dist="71785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3" name="椭圆 13351" descr=""/>
          <p:cNvPicPr/>
          <p:nvPr/>
        </p:nvPicPr>
        <p:blipFill>
          <a:blip r:embed="rId2"/>
          <a:stretch/>
        </p:blipFill>
        <p:spPr>
          <a:xfrm>
            <a:off x="225360" y="2500200"/>
            <a:ext cx="3570480" cy="3465720"/>
          </a:xfrm>
          <a:prstGeom prst="rect">
            <a:avLst/>
          </a:prstGeom>
          <a:ln w="0">
            <a:noFill/>
          </a:ln>
        </p:spPr>
      </p:pic>
      <p:sp>
        <p:nvSpPr>
          <p:cNvPr id="94" name="矩形 13352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507800">
                  <a:alpha val="80392"/>
                </a:srgbClr>
              </a:gs>
              <a:gs pos="100000">
                <a:srgbClr val="dbe8b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图片 13491" descr="021123"/>
          <p:cNvPicPr/>
          <p:nvPr/>
        </p:nvPicPr>
        <p:blipFill>
          <a:blip r:embed="rId3"/>
          <a:stretch/>
        </p:blipFill>
        <p:spPr>
          <a:xfrm>
            <a:off x="2886120" y="4021200"/>
            <a:ext cx="2141640" cy="150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굴림"/>
              </a:rPr>
              <a:t>www.wondershar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DD22-FAC9-488F-AE03-8B40C221D282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sameshow.com/quiz-creator.html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www.sameshow.com/powerpoint-to-flash-pro.html" TargetMode="External"/><Relationship Id="rId9" Type="http://schemas.openxmlformats.org/officeDocument/2006/relationships/image" Target="../media/image10.png"/><Relationship Id="rId10" Type="http://schemas.openxmlformats.org/officeDocument/2006/relationships/hyperlink" Target="http://www.sameshow.com/download/powerpoint-to-flash-download.php" TargetMode="External"/><Relationship Id="rId11" Type="http://schemas.openxmlformats.org/officeDocument/2006/relationships/image" Target="../media/image11.png"/><Relationship Id="rId12" Type="http://schemas.openxmlformats.org/officeDocument/2006/relationships/hyperlink" Target="http://www.ppt-to-dvd.com/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www.ppt-to-dvd.com/download/powerpoint-dvd-download.php" TargetMode="External"/><Relationship Id="rId15" Type="http://schemas.openxmlformats.org/officeDocument/2006/relationships/image" Target="../media/image11.png"/><Relationship Id="rId16" Type="http://schemas.openxmlformats.org/officeDocument/2006/relationships/hyperlink" Target="http://www.sameshow.com/download/ppt2flash-download.php" TargetMode="External"/><Relationship Id="rId17" Type="http://schemas.openxmlformats.org/officeDocument/2006/relationships/image" Target="../media/image12.png"/><Relationship Id="rId18" Type="http://schemas.openxmlformats.org/officeDocument/2006/relationships/hyperlink" Target="http://www.sameshow.com/powerpoint-to-flash.html" TargetMode="External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sameshow.com/powerpoint-to-flash-pro.php?sid=5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hyperlink" Target="http://www.ppt-to-dvd.com/index.php?sid=6" TargetMode="External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hyperlink" Target="http://www.sameshow.com/demo-creator.php?sid=6" TargetMode="External"/><Relationship Id="rId12" Type="http://schemas.openxmlformats.org/officeDocument/2006/relationships/image" Target="../media/image23.png"/><Relationship Id="rId13" Type="http://schemas.openxmlformats.org/officeDocument/2006/relationships/hyperlink" Target="http://www.sameshow.com/quiz-creator.php?sid=6" TargetMode="External"/><Relationship Id="rId14" Type="http://schemas.openxmlformats.org/officeDocument/2006/relationships/image" Target="../media/image24.png"/><Relationship Id="rId15" Type="http://schemas.openxmlformats.org/officeDocument/2006/relationships/hyperlink" Target="http://www.sameshow.com/powerpoint-to-flash.php?sid=4" TargetMode="External"/><Relationship Id="rId16" Type="http://schemas.openxmlformats.org/officeDocument/2006/relationships/hyperlink" Target="http://www.sameshow.com/demo-creator.php?sid=6" TargetMode="External"/><Relationship Id="rId17" Type="http://schemas.openxmlformats.org/officeDocument/2006/relationships/hyperlink" Target="http://www.ppt-to-dvd.com/index.html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5979"/>
          <p:cNvSpPr/>
          <p:nvPr/>
        </p:nvSpPr>
        <p:spPr>
          <a:xfrm>
            <a:off x="3448080" y="3133800"/>
            <a:ext cx="566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Arial"/>
              </a:rPr>
              <a:t>Click to edit Master subtitle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596520"/>
            <a:ext cx="8213760" cy="13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绿色系国外精美圣诞</a:t>
            </a: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PPT</a:t>
            </a: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模板</a:t>
            </a:r>
            <a:r>
              <a:rPr b="1" lang="zh-CN" sz="4000" spc="-1" strike="noStrike">
                <a:solidFill>
                  <a:srgbClr val="507800"/>
                </a:solidFill>
                <a:latin typeface="Arial"/>
                <a:ea typeface="굴림"/>
              </a:rPr>
              <a:t>下载</a:t>
            </a:r>
            <a:r>
              <a:rPr b="1" lang="en-US" sz="4400" spc="-1" strike="noStrike">
                <a:solidFill>
                  <a:srgbClr val="507800"/>
                </a:solidFill>
                <a:latin typeface="Arial"/>
                <a:ea typeface="굴림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92160" y="60688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Arial"/>
                <a:ea typeface="굴림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2430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文本框 8197"/>
          <p:cNvSpPr/>
          <p:nvPr/>
        </p:nvSpPr>
        <p:spPr>
          <a:xfrm>
            <a:off x="1023840" y="9684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4915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6" name="图片 49154" descr="ppt广告页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图片 49155" descr="盒子1"/>
            <p:cNvPicPr/>
            <p:nvPr/>
          </p:nvPicPr>
          <p:blipFill>
            <a:blip r:embed="rId2"/>
            <a:stretch/>
          </p:blipFill>
          <p:spPr>
            <a:xfrm>
              <a:off x="900000" y="96840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49156" descr="盒子2"/>
            <p:cNvPicPr/>
            <p:nvPr/>
          </p:nvPicPr>
          <p:blipFill>
            <a:blip r:embed="rId3"/>
            <a:stretch/>
          </p:blipFill>
          <p:spPr>
            <a:xfrm>
              <a:off x="900000" y="2705040"/>
              <a:ext cx="7923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49157" descr="盒子3"/>
            <p:cNvPicPr/>
            <p:nvPr/>
          </p:nvPicPr>
          <p:blipFill>
            <a:blip r:embed="rId4"/>
            <a:stretch/>
          </p:blipFill>
          <p:spPr>
            <a:xfrm>
              <a:off x="900000" y="436572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49158" descr="logo"/>
            <p:cNvPicPr/>
            <p:nvPr/>
          </p:nvPicPr>
          <p:blipFill>
            <a:blip r:embed="rId5"/>
            <a:stretch/>
          </p:blipFill>
          <p:spPr>
            <a:xfrm>
              <a:off x="3564000" y="6021360"/>
              <a:ext cx="547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49159" descr="盒子_4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93840" y="5877000"/>
              <a:ext cx="2665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49160"/>
            <p:cNvSpPr/>
            <p:nvPr/>
          </p:nvSpPr>
          <p:spPr>
            <a:xfrm>
              <a:off x="1762200" y="1042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Flash Professional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more a comprehensive flash presentation tool with e-learning capability rather than a simple PowerPoint to Flash conversion tool.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53" name="图片 49161" descr="按钮_Learn-More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364000" y="18446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49162" descr="按钮_Free-Tria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88000" y="18446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49163"/>
            <p:cNvSpPr/>
            <p:nvPr/>
          </p:nvSpPr>
          <p:spPr>
            <a:xfrm>
              <a:off x="1762200" y="2840040"/>
              <a:ext cx="669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PPT2Flash Standar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your most trustied conversion tool to transform PowerPoint slideshow to Flash movie clip with all originals retained.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文本框 49164"/>
            <p:cNvSpPr/>
            <p:nvPr/>
          </p:nvSpPr>
          <p:spPr>
            <a:xfrm>
              <a:off x="1762200" y="4498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DV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offers a direct conversion from PowerPoint presentations to videos which are ready for burning to DVD or viewing on PC without MS PowerPoint.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57" name="图片 49165" descr="按钮_Learn-More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364000" y="53402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图片 49166" descr="按钮_Free-Trial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588000" y="53402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图片 49167" descr="按钮2_Free-Trial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588000" y="357336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49168" descr="按钮2_Learn-More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364000" y="3573360"/>
              <a:ext cx="100044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FD33-9977-448F-8178-CBD9D40092BD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480" cy="7128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3"/>
          <p:cNvGrpSpPr/>
          <p:nvPr/>
        </p:nvGrpSpPr>
        <p:grpSpPr>
          <a:xfrm>
            <a:off x="228600" y="2666880"/>
            <a:ext cx="1905120" cy="1524240"/>
            <a:chOff x="228600" y="2666880"/>
            <a:chExt cx="1905120" cy="1524240"/>
          </a:xfrm>
        </p:grpSpPr>
        <p:sp>
          <p:nvSpPr>
            <p:cNvPr id="168" name="Rounded Rectangle 4"/>
            <p:cNvSpPr/>
            <p:nvPr/>
          </p:nvSpPr>
          <p:spPr>
            <a:xfrm>
              <a:off x="228600" y="2666880"/>
              <a:ext cx="1905120" cy="1280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2000"/>
              </a:blip>
              <a:srcRect/>
              <a:stretch/>
            </a:blipFill>
            <a:ln w="25560">
              <a:solidFill>
                <a:srgbClr val="687e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69" name="TextBox 8" descr=""/>
            <p:cNvPicPr/>
            <p:nvPr/>
          </p:nvPicPr>
          <p:blipFill>
            <a:blip r:embed="rId3"/>
            <a:stretch/>
          </p:blipFill>
          <p:spPr>
            <a:xfrm>
              <a:off x="304560" y="2922840"/>
              <a:ext cx="1752840" cy="12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ight Arrow 9"/>
          <p:cNvSpPr/>
          <p:nvPr/>
        </p:nvSpPr>
        <p:spPr>
          <a:xfrm>
            <a:off x="2286000" y="12193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08e12"/>
              </a:gs>
              <a:gs pos="100000">
                <a:srgbClr val="96be18"/>
              </a:gs>
            </a:gsLst>
            <a:lin ang="16200000"/>
          </a:gradFill>
          <a:ln w="9360">
            <a:solidFill>
              <a:srgbClr val="8dac2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1" name="Group 25"/>
          <p:cNvGrpSpPr/>
          <p:nvPr/>
        </p:nvGrpSpPr>
        <p:grpSpPr>
          <a:xfrm>
            <a:off x="2743200" y="914400"/>
            <a:ext cx="5867280" cy="1447920"/>
            <a:chOff x="2743200" y="914400"/>
            <a:chExt cx="5867280" cy="1447920"/>
          </a:xfrm>
        </p:grpSpPr>
        <p:pic>
          <p:nvPicPr>
            <p:cNvPr id="172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2743200" y="9144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24"/>
            <p:cNvGrpSpPr/>
            <p:nvPr/>
          </p:nvGrpSpPr>
          <p:grpSpPr>
            <a:xfrm>
              <a:off x="2957760" y="1017360"/>
              <a:ext cx="4909320" cy="1144800"/>
              <a:chOff x="2957760" y="1017360"/>
              <a:chExt cx="4909320" cy="1144800"/>
            </a:xfrm>
          </p:grpSpPr>
          <p:sp>
            <p:nvSpPr>
              <p:cNvPr id="174" name="TextBox 12"/>
              <p:cNvSpPr/>
              <p:nvPr/>
            </p:nvSpPr>
            <p:spPr>
              <a:xfrm>
                <a:off x="3899160" y="1017360"/>
                <a:ext cx="396792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onvert PowerPoint to flash for web sharing. Post your slide show on Myspace and blog. </a:t>
                </a:r>
                <a:endParaRPr b="0" lang="en-US" sz="23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175" name="Picture 14" descr="ppt2flash-pro.pn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2957760" y="1063800"/>
                <a:ext cx="804600" cy="108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6" name="Right Arrow 10"/>
          <p:cNvSpPr/>
          <p:nvPr/>
        </p:nvSpPr>
        <p:spPr>
          <a:xfrm>
            <a:off x="2286000" y="48769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39f6f"/>
              </a:gs>
              <a:gs pos="100000">
                <a:srgbClr val="c3d392"/>
              </a:gs>
            </a:gsLst>
            <a:lin ang="16200000"/>
          </a:gradFill>
          <a:ln w="9360">
            <a:solidFill>
              <a:srgbClr val="c0cd9a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7" name="Group 27"/>
          <p:cNvGrpSpPr/>
          <p:nvPr/>
        </p:nvGrpSpPr>
        <p:grpSpPr>
          <a:xfrm>
            <a:off x="2743200" y="4572000"/>
            <a:ext cx="5867280" cy="1447920"/>
            <a:chOff x="2743200" y="4572000"/>
            <a:chExt cx="5867280" cy="1447920"/>
          </a:xfrm>
        </p:grpSpPr>
        <p:pic>
          <p:nvPicPr>
            <p:cNvPr id="178" name="Rounded Rectangle 6" descr=""/>
            <p:cNvPicPr/>
            <p:nvPr/>
          </p:nvPicPr>
          <p:blipFill>
            <a:blip r:embed="rId7"/>
            <a:stretch/>
          </p:blipFill>
          <p:spPr>
            <a:xfrm>
              <a:off x="2743200" y="45720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3"/>
            <p:cNvSpPr/>
            <p:nvPr/>
          </p:nvSpPr>
          <p:spPr>
            <a:xfrm>
              <a:off x="3818880" y="4710960"/>
              <a:ext cx="4253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onvert PowerPoint to video or burn to DVD. Present your slide show on TV to share with family.</a:t>
              </a:r>
              <a:endParaRPr b="0" lang="en-US" sz="2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0" name="Picture 15" descr="ppt2dvd.pn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2960280" y="4670640"/>
              <a:ext cx="799560" cy="10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ight Arrow 11"/>
          <p:cNvSpPr/>
          <p:nvPr/>
        </p:nvSpPr>
        <p:spPr>
          <a:xfrm>
            <a:off x="2286000" y="30481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2" name="Group 26"/>
          <p:cNvGrpSpPr/>
          <p:nvPr/>
        </p:nvGrpSpPr>
        <p:grpSpPr>
          <a:xfrm>
            <a:off x="2743200" y="2743200"/>
            <a:ext cx="5867280" cy="1447920"/>
            <a:chOff x="2743200" y="2743200"/>
            <a:chExt cx="5867280" cy="1447920"/>
          </a:xfrm>
        </p:grpSpPr>
        <p:pic>
          <p:nvPicPr>
            <p:cNvPr id="183" name="Rounded Rectangle 5" descr=""/>
            <p:cNvPicPr/>
            <p:nvPr/>
          </p:nvPicPr>
          <p:blipFill>
            <a:blip r:embed="rId10"/>
            <a:stretch/>
          </p:blipFill>
          <p:spPr>
            <a:xfrm>
              <a:off x="2743200" y="27432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6" descr="democreator.png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2966760" y="2885760"/>
              <a:ext cx="6850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" descr="quizcreator.png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659400" y="3084120"/>
              <a:ext cx="68508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18"/>
            <p:cNvSpPr/>
            <p:nvPr/>
          </p:nvSpPr>
          <p:spPr>
            <a:xfrm>
              <a:off x="4449960" y="2859120"/>
              <a:ext cx="3632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flash-based quizzes and demo to slide show to interact with your audience.</a:t>
              </a:r>
              <a:endParaRPr b="0" lang="en-US" sz="23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7" name="Rounded Rectangle 28">
            <a:hlinkClick r:id="rId15"/>
          </p:cNvPr>
          <p:cNvSpPr/>
          <p:nvPr/>
        </p:nvSpPr>
        <p:spPr>
          <a:xfrm>
            <a:off x="7238880" y="1828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8fad2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Rounded Rectangle 29">
            <a:hlinkClick r:id="rId16"/>
          </p:cNvPr>
          <p:cNvSpPr/>
          <p:nvPr/>
        </p:nvSpPr>
        <p:spPr>
          <a:xfrm>
            <a:off x="7238880" y="36576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Rounded Rectangle 30">
            <a:hlinkClick r:id="rId17"/>
          </p:cNvPr>
          <p:cNvSpPr/>
          <p:nvPr/>
        </p:nvSpPr>
        <p:spPr>
          <a:xfrm>
            <a:off x="7238880" y="55087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页脚占位符 1"/>
          <p:cNvSpPr/>
          <p:nvPr/>
        </p:nvSpPr>
        <p:spPr>
          <a:xfrm>
            <a:off x="2430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