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B837-12FC-4262-BDC9-BA67AE6F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E09C-51D9-4E28-839D-F60058E3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C948-2F49-436B-8338-E0E235C5E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2612-D453-4989-9A25-B90E8F39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36AE8-6636-4C33-97AC-791F0BD9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EF17-0A21-4872-AA88-90D648A0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66D2A-FCEE-4384-81DE-C3452CDC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459E8-292A-4AB4-9332-5365694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0617C-C16B-4D11-8B08-13F56651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7822D-A18B-4694-97A1-D394A1C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F4BE5-B6CB-4AAB-A202-C05B2E7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0F48-68A2-4649-8B67-5C14CD58B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A4E42-3649-4EEF-8D53-65E0C2B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D3FC-BF8D-4284-ADDB-87437BE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1107-73E8-4E20-8DED-7BA2BC13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3EFC6-AD71-4C8B-B7F9-2E88BD04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795C9-759D-42AB-B682-3DD32AD7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4DD2C-4174-42E2-807A-14B87313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E5DFB-67DE-4CC8-9165-7BE9A4E1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A8F6D-03C5-4C84-A1F1-EC03F8E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8BA7A-E429-4011-BC02-7ECA385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C7A6B-39A0-4DA8-B894-9180B52D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83E0-7DCA-4272-B782-0328BECBF8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2C2D7-688F-41BD-A7C7-F2CA50C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326BC-590A-440E-A2C8-66F2F1E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2B4F-34BF-401E-B03C-7F23893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A91F2-7D12-41BF-9FDE-28B956A8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6076B-B78C-4A14-BC51-F5C17F4F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2D659-DCD7-491E-B669-4DE1BF09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D9799-1B1F-4E1E-9F91-7B5772BE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B135-2348-4851-A5FB-755F8A616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3FFC-6324-495C-A30A-B0FD168A0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AAE2-4C54-4A50-AD8E-FBB69A0B5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E44C-BB11-4F83-A0B9-FA62DD43D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FE58-754E-407D-8CBC-C199CC9C4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3FD0-836C-41F3-A2B8-B1629F2EC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948360" y="6477120"/>
            <a:ext cx="18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03280" y="6477120"/>
            <a:ext cx="112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85C-5262-4F29-A48C-3C23579F7D2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311-7FC1-44F9-A186-D2C0FB25C3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27B-0018-413C-A579-C2AA343007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054"/>
          <p:cNvSpPr/>
          <p:nvPr/>
        </p:nvSpPr>
        <p:spPr>
          <a:xfrm>
            <a:off x="0" y="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ogo</a:t>
            </a:r>
            <a:endParaRPr b="0" lang="en-US" sz="20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893-C1E8-476A-82A3-587970F87378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63664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蓝色医疗吊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be5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bbe5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47920" y="40478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6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9" name="文本框 5123"/>
          <p:cNvSpPr/>
          <p:nvPr/>
        </p:nvSpPr>
        <p:spPr>
          <a:xfrm>
            <a:off x="2700360" y="105264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8bdb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8bdb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bbe5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30" name="页脚占位符 1"/>
          <p:cNvSpPr/>
          <p:nvPr/>
        </p:nvSpPr>
        <p:spPr>
          <a:xfrm>
            <a:off x="6948360" y="6477120"/>
            <a:ext cx="18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5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322E-1FF8-4084-BBC7-FFE3D1751D09}" type="slidenum">
              <a:rPr b="0" lang="zh-CN" sz="1400" spc="-1" strike="noStrike">
                <a:solidFill>
                  <a:srgbClr val="bbe5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内容占位符 6146" descr=""/>
          <p:cNvPicPr/>
          <p:nvPr/>
        </p:nvPicPr>
        <p:blipFill>
          <a:blip r:embed="rId1"/>
          <a:stretch/>
        </p:blipFill>
        <p:spPr>
          <a:xfrm>
            <a:off x="1763640" y="184140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1"/>
          <p:cNvSpPr/>
          <p:nvPr/>
        </p:nvSpPr>
        <p:spPr>
          <a:xfrm>
            <a:off x="6948360" y="6477120"/>
            <a:ext cx="18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7:58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2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