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BC3-2E4B-4B12-9B94-365F0205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64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09880"/>
            <a:ext cx="64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397-06FF-4F12-BD1E-FD587271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286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0988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28680" y="380988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15B-8EBA-458D-A553-8051F9FC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99720" y="114300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9600" y="114300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0988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99720" y="380988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9600" y="380988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BAD-DB1F-438F-AAA0-AA17453B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4ECA-EB88-4527-8B75-EF215458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64771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3ACA-E615-40E4-A44C-0F870239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647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E5B9-F30F-4EC1-9E0F-8BD5D4E3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16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28680" y="1143000"/>
            <a:ext cx="316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BEE6-5383-41B2-ABF9-9662DE7D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B658-D296-4CCB-A146-1FDE6BC9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477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204E-6BA2-42D2-98C5-137C87CB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28680" y="1143000"/>
            <a:ext cx="316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80988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F9F4-B49D-464D-A695-E4B64E29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64771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6BF-1F3B-4A54-B1D4-07630ABB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16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286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28680" y="380988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4DB4-D657-472C-9599-98629141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286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09880"/>
            <a:ext cx="64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5EB1-A6F7-4FAB-A998-52CAD299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64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809880"/>
            <a:ext cx="64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8C54-0C9F-4ABD-9C7A-FE6EA19E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286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0988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28680" y="380988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2ABC-B8B0-4281-A92F-BC059796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99720" y="114300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9600" y="114300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80988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99720" y="380988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89600" y="3809880"/>
            <a:ext cx="2085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C647-1538-458F-A416-EB8A3099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647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1EE-6851-4DE3-8B67-42DD1919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16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28680" y="1143000"/>
            <a:ext cx="316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219-AE77-4496-A94F-E030D775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183-19B0-4E6B-9CF9-8BDB256C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6477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414-A390-4940-8EA8-7C039585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28680" y="1143000"/>
            <a:ext cx="316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0988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3E9-C4C7-486F-AE14-6FFE5191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16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286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28680" y="380988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BB9-8EC5-417F-9248-50C22894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5512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28680" y="1143000"/>
            <a:ext cx="316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09880"/>
            <a:ext cx="647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639-864E-4DD6-99ED-951988C8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143000"/>
            <a:ext cx="647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A879-AAB3-4BB0-BF62-116B56197AB5}" type="slidenum">
              <a:rPr b="1" lang="zh-CN" sz="10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4BB8-2ED5-49D8-8C85-CC0499054C0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5619-0866-49DB-8810-E2C6496BC5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宋体"/>
              </a:rPr>
              <a:t>From the Heave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9625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1783440" y="69228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迷幻彩绘工作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143000"/>
            <a:ext cx="647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931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</a:pPr>
            <a:endParaRPr b="1" lang="zh-CN" sz="16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文本框 5123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3A82-1AC4-4DB0-97FB-AA37AE1462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143000"/>
            <a:ext cx="647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02:0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5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