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A33-9053-4133-8ECD-4375C569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9EC-A3EC-468A-9F83-68509A7A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F3F-0015-4BAE-AAEC-51787B8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73F-7E45-4320-AAE1-AF80866F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9C1-41EC-45BD-9BDB-F5D038CC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348000" y="43920"/>
            <a:ext cx="5616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15D-E183-4042-8F71-991298E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BB2-B422-4097-910F-EFFABD74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239-AB28-438B-9B24-034FCC7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1DE-3B59-4563-9719-DCC2BB18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3D6-3948-4745-91E6-BB0B0586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A09-BE19-44AF-AB03-260EB9DD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38F-2FDB-49B3-A18B-F7A297A8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48000" y="43920"/>
            <a:ext cx="5616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48000" y="43920"/>
            <a:ext cx="5616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6793-BFFB-44BD-A567-25083DA1B75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CDD4-ED2C-4EE2-8CBE-2655800A60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606400"/>
            <a:ext cx="817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                   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文本框 4098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099"/>
          <p:cNvSpPr/>
          <p:nvPr/>
        </p:nvSpPr>
        <p:spPr>
          <a:xfrm>
            <a:off x="1696680" y="9079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梅花典雅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内容占位符 5121" descr="2008518225319305"/>
          <p:cNvPicPr/>
          <p:nvPr/>
        </p:nvPicPr>
        <p:blipFill>
          <a:blip r:embed="rId1"/>
          <a:stretch/>
        </p:blipFill>
        <p:spPr>
          <a:xfrm>
            <a:off x="2050920" y="1266840"/>
            <a:ext cx="1225800" cy="12254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362320" y="4627440"/>
            <a:ext cx="4800600" cy="360"/>
            <a:chOff x="2362320" y="4627440"/>
            <a:chExt cx="4800600" cy="360"/>
          </a:xfrm>
        </p:grpSpPr>
        <p:sp>
          <p:nvSpPr>
            <p:cNvPr id="122" name="直接连接符 5122"/>
            <p:cNvSpPr/>
            <p:nvPr/>
          </p:nvSpPr>
          <p:spPr>
            <a:xfrm>
              <a:off x="2362320" y="462744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2362320" y="46274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362320" y="2112840"/>
            <a:ext cx="4800600" cy="360"/>
            <a:chOff x="2362320" y="2112840"/>
            <a:chExt cx="4800600" cy="360"/>
          </a:xfrm>
        </p:grpSpPr>
        <p:sp>
          <p:nvSpPr>
            <p:cNvPr id="125" name="直接连接符 5123"/>
            <p:cNvSpPr/>
            <p:nvPr/>
          </p:nvSpPr>
          <p:spPr>
            <a:xfrm>
              <a:off x="2362320" y="211284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362320" y="21128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5124"/>
          <p:cNvSpPr/>
          <p:nvPr/>
        </p:nvSpPr>
        <p:spPr>
          <a:xfrm>
            <a:off x="3430440" y="1623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62320" y="2951280"/>
            <a:ext cx="4800600" cy="360"/>
            <a:chOff x="2362320" y="2951280"/>
            <a:chExt cx="4800600" cy="360"/>
          </a:xfrm>
        </p:grpSpPr>
        <p:sp>
          <p:nvSpPr>
            <p:cNvPr id="129" name="直接连接符 5125"/>
            <p:cNvSpPr/>
            <p:nvPr/>
          </p:nvSpPr>
          <p:spPr>
            <a:xfrm>
              <a:off x="2362320" y="295128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2362320" y="295128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63760" y="3787920"/>
            <a:ext cx="4799160" cy="1440"/>
            <a:chOff x="2363760" y="3787920"/>
            <a:chExt cx="4799160" cy="1440"/>
          </a:xfrm>
        </p:grpSpPr>
        <p:sp>
          <p:nvSpPr>
            <p:cNvPr id="132" name="直接连接符 5126"/>
            <p:cNvSpPr/>
            <p:nvPr/>
          </p:nvSpPr>
          <p:spPr>
            <a:xfrm>
              <a:off x="2363760" y="3787920"/>
              <a:ext cx="47991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363760" y="3787920"/>
              <a:ext cx="4799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362320" y="5487840"/>
            <a:ext cx="4800600" cy="360"/>
            <a:chOff x="2362320" y="5487840"/>
            <a:chExt cx="4800600" cy="360"/>
          </a:xfrm>
        </p:grpSpPr>
        <p:sp>
          <p:nvSpPr>
            <p:cNvPr id="135" name="直接连接符 5127"/>
            <p:cNvSpPr/>
            <p:nvPr/>
          </p:nvSpPr>
          <p:spPr>
            <a:xfrm>
              <a:off x="2362320" y="548784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62320" y="54878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文本框 5128"/>
          <p:cNvSpPr/>
          <p:nvPr/>
        </p:nvSpPr>
        <p:spPr>
          <a:xfrm>
            <a:off x="3430440" y="2486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5129"/>
          <p:cNvSpPr/>
          <p:nvPr/>
        </p:nvSpPr>
        <p:spPr>
          <a:xfrm>
            <a:off x="3430440" y="33256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130"/>
          <p:cNvSpPr/>
          <p:nvPr/>
        </p:nvSpPr>
        <p:spPr>
          <a:xfrm>
            <a:off x="3430440" y="41673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5131"/>
          <p:cNvSpPr/>
          <p:nvPr/>
        </p:nvSpPr>
        <p:spPr>
          <a:xfrm>
            <a:off x="3430440" y="50180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内容占位符 5132" descr="2008518225319305"/>
          <p:cNvPicPr/>
          <p:nvPr/>
        </p:nvPicPr>
        <p:blipFill>
          <a:blip r:embed="rId2"/>
          <a:stretch/>
        </p:blipFill>
        <p:spPr>
          <a:xfrm>
            <a:off x="2050920" y="206064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5133" descr="2008518225319305"/>
          <p:cNvPicPr/>
          <p:nvPr/>
        </p:nvPicPr>
        <p:blipFill>
          <a:blip r:embed="rId3"/>
          <a:stretch/>
        </p:blipFill>
        <p:spPr>
          <a:xfrm>
            <a:off x="2050920" y="292104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134" descr="2008518225319305"/>
          <p:cNvPicPr/>
          <p:nvPr/>
        </p:nvPicPr>
        <p:blipFill>
          <a:blip r:embed="rId4"/>
          <a:stretch/>
        </p:blipFill>
        <p:spPr>
          <a:xfrm>
            <a:off x="2050920" y="378792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135" descr="2008518225319305"/>
          <p:cNvPicPr/>
          <p:nvPr/>
        </p:nvPicPr>
        <p:blipFill>
          <a:blip r:embed="rId5"/>
          <a:stretch/>
        </p:blipFill>
        <p:spPr>
          <a:xfrm>
            <a:off x="2050920" y="4651200"/>
            <a:ext cx="1225800" cy="12258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5136"/>
          <p:cNvSpPr/>
          <p:nvPr/>
        </p:nvSpPr>
        <p:spPr>
          <a:xfrm>
            <a:off x="255600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内容占位符 6145" descr="2008518225323523"/>
          <p:cNvPicPr/>
          <p:nvPr/>
        </p:nvPicPr>
        <p:blipFill>
          <a:blip r:embed="rId1"/>
          <a:stretch/>
        </p:blipFill>
        <p:spPr>
          <a:xfrm>
            <a:off x="324000" y="283536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147" name="未知"/>
          <p:cNvSpPr/>
          <p:nvPr/>
        </p:nvSpPr>
        <p:spPr>
          <a:xfrm>
            <a:off x="1604880" y="4067280"/>
            <a:ext cx="5875560" cy="12254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1614600" y="1779480"/>
            <a:ext cx="5875200" cy="122580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6148"/>
          <p:cNvGrpSpPr/>
          <p:nvPr/>
        </p:nvGrpSpPr>
        <p:grpSpPr>
          <a:xfrm>
            <a:off x="1511280" y="2781360"/>
            <a:ext cx="396720" cy="396720"/>
            <a:chOff x="1511280" y="2781360"/>
            <a:chExt cx="396720" cy="396720"/>
          </a:xfrm>
        </p:grpSpPr>
        <p:sp>
          <p:nvSpPr>
            <p:cNvPr id="150" name="椭圆 6149"/>
            <p:cNvSpPr/>
            <p:nvPr/>
          </p:nvSpPr>
          <p:spPr>
            <a:xfrm>
              <a:off x="1511280" y="2781360"/>
              <a:ext cx="396720" cy="39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6150"/>
            <p:cNvSpPr/>
            <p:nvPr/>
          </p:nvSpPr>
          <p:spPr>
            <a:xfrm>
              <a:off x="1619280" y="2889360"/>
              <a:ext cx="181080" cy="18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未知"/>
          <p:cNvSpPr/>
          <p:nvPr/>
        </p:nvSpPr>
        <p:spPr>
          <a:xfrm rot="13500000">
            <a:off x="6086160" y="2191680"/>
            <a:ext cx="2413080" cy="1247760"/>
          </a:xfrm>
          <a:custGeom>
            <a:avLst/>
            <a:gdLst/>
            <a:ahLst/>
            <a:rect l="l" t="t" r="r" b="b"/>
            <a:pathLst>
              <a:path w="1928" h="997">
                <a:moveTo>
                  <a:pt x="1441" y="12"/>
                </a:moveTo>
                <a:lnTo>
                  <a:pt x="1441" y="12"/>
                </a:lnTo>
                <a:lnTo>
                  <a:pt x="1400" y="12"/>
                </a:lnTo>
                <a:lnTo>
                  <a:pt x="1362" y="16"/>
                </a:lnTo>
                <a:lnTo>
                  <a:pt x="1324" y="23"/>
                </a:lnTo>
                <a:lnTo>
                  <a:pt x="1288" y="34"/>
                </a:lnTo>
                <a:lnTo>
                  <a:pt x="1126" y="32"/>
                </a:lnTo>
                <a:lnTo>
                  <a:pt x="1126" y="32"/>
                </a:lnTo>
                <a:lnTo>
                  <a:pt x="1089" y="20"/>
                </a:lnTo>
                <a:lnTo>
                  <a:pt x="1051" y="13"/>
                </a:lnTo>
                <a:lnTo>
                  <a:pt x="1012" y="7"/>
                </a:lnTo>
                <a:lnTo>
                  <a:pt x="972" y="6"/>
                </a:lnTo>
                <a:lnTo>
                  <a:pt x="972" y="6"/>
                </a:lnTo>
                <a:lnTo>
                  <a:pt x="933" y="7"/>
                </a:lnTo>
                <a:lnTo>
                  <a:pt x="893" y="12"/>
                </a:lnTo>
                <a:lnTo>
                  <a:pt x="857" y="19"/>
                </a:lnTo>
                <a:lnTo>
                  <a:pt x="819" y="28"/>
                </a:lnTo>
                <a:lnTo>
                  <a:pt x="652" y="26"/>
                </a:lnTo>
                <a:lnTo>
                  <a:pt x="652" y="26"/>
                </a:lnTo>
                <a:lnTo>
                  <a:pt x="615" y="16"/>
                </a:lnTo>
                <a:lnTo>
                  <a:pt x="577" y="7"/>
                </a:lnTo>
                <a:lnTo>
                  <a:pt x="538" y="3"/>
                </a:lnTo>
                <a:lnTo>
                  <a:pt x="498" y="0"/>
                </a:lnTo>
                <a:lnTo>
                  <a:pt x="498" y="0"/>
                </a:lnTo>
                <a:lnTo>
                  <a:pt x="474" y="0"/>
                </a:lnTo>
                <a:lnTo>
                  <a:pt x="449" y="3"/>
                </a:lnTo>
                <a:lnTo>
                  <a:pt x="424" y="6"/>
                </a:lnTo>
                <a:lnTo>
                  <a:pt x="399" y="9"/>
                </a:lnTo>
                <a:lnTo>
                  <a:pt x="376" y="15"/>
                </a:lnTo>
                <a:lnTo>
                  <a:pt x="352" y="20"/>
                </a:lnTo>
                <a:lnTo>
                  <a:pt x="329" y="28"/>
                </a:lnTo>
                <a:lnTo>
                  <a:pt x="307" y="36"/>
                </a:lnTo>
                <a:lnTo>
                  <a:pt x="285" y="47"/>
                </a:lnTo>
                <a:lnTo>
                  <a:pt x="263" y="57"/>
                </a:lnTo>
                <a:lnTo>
                  <a:pt x="243" y="69"/>
                </a:lnTo>
                <a:lnTo>
                  <a:pt x="222" y="82"/>
                </a:lnTo>
                <a:lnTo>
                  <a:pt x="203" y="95"/>
                </a:lnTo>
                <a:lnTo>
                  <a:pt x="184" y="110"/>
                </a:lnTo>
                <a:lnTo>
                  <a:pt x="165" y="124"/>
                </a:lnTo>
                <a:lnTo>
                  <a:pt x="149" y="140"/>
                </a:lnTo>
                <a:lnTo>
                  <a:pt x="131" y="158"/>
                </a:lnTo>
                <a:lnTo>
                  <a:pt x="115" y="175"/>
                </a:lnTo>
                <a:lnTo>
                  <a:pt x="101" y="194"/>
                </a:lnTo>
                <a:lnTo>
                  <a:pt x="88" y="213"/>
                </a:lnTo>
                <a:lnTo>
                  <a:pt x="74" y="232"/>
                </a:lnTo>
                <a:lnTo>
                  <a:pt x="63" y="253"/>
                </a:lnTo>
                <a:lnTo>
                  <a:pt x="51" y="275"/>
                </a:lnTo>
                <a:lnTo>
                  <a:pt x="41" y="297"/>
                </a:lnTo>
                <a:lnTo>
                  <a:pt x="32" y="319"/>
                </a:lnTo>
                <a:lnTo>
                  <a:pt x="23" y="342"/>
                </a:lnTo>
                <a:lnTo>
                  <a:pt x="17" y="364"/>
                </a:lnTo>
                <a:lnTo>
                  <a:pt x="12" y="389"/>
                </a:lnTo>
                <a:lnTo>
                  <a:pt x="6" y="412"/>
                </a:lnTo>
                <a:lnTo>
                  <a:pt x="3" y="437"/>
                </a:lnTo>
                <a:lnTo>
                  <a:pt x="1" y="462"/>
                </a:lnTo>
                <a:lnTo>
                  <a:pt x="0" y="488"/>
                </a:lnTo>
                <a:lnTo>
                  <a:pt x="0" y="488"/>
                </a:lnTo>
                <a:lnTo>
                  <a:pt x="0" y="513"/>
                </a:lnTo>
                <a:lnTo>
                  <a:pt x="1" y="538"/>
                </a:lnTo>
                <a:lnTo>
                  <a:pt x="4" y="563"/>
                </a:lnTo>
                <a:lnTo>
                  <a:pt x="9" y="588"/>
                </a:lnTo>
                <a:lnTo>
                  <a:pt x="15" y="611"/>
                </a:lnTo>
                <a:lnTo>
                  <a:pt x="20" y="634"/>
                </a:lnTo>
                <a:lnTo>
                  <a:pt x="28" y="658"/>
                </a:lnTo>
                <a:lnTo>
                  <a:pt x="36" y="680"/>
                </a:lnTo>
                <a:lnTo>
                  <a:pt x="47" y="702"/>
                </a:lnTo>
                <a:lnTo>
                  <a:pt x="57" y="724"/>
                </a:lnTo>
                <a:lnTo>
                  <a:pt x="69" y="744"/>
                </a:lnTo>
                <a:lnTo>
                  <a:pt x="80" y="765"/>
                </a:lnTo>
                <a:lnTo>
                  <a:pt x="95" y="784"/>
                </a:lnTo>
                <a:lnTo>
                  <a:pt x="110" y="803"/>
                </a:lnTo>
                <a:lnTo>
                  <a:pt x="124" y="820"/>
                </a:lnTo>
                <a:lnTo>
                  <a:pt x="140" y="838"/>
                </a:lnTo>
                <a:lnTo>
                  <a:pt x="158" y="855"/>
                </a:lnTo>
                <a:lnTo>
                  <a:pt x="175" y="870"/>
                </a:lnTo>
                <a:lnTo>
                  <a:pt x="193" y="886"/>
                </a:lnTo>
                <a:lnTo>
                  <a:pt x="212" y="899"/>
                </a:lnTo>
                <a:lnTo>
                  <a:pt x="232" y="912"/>
                </a:lnTo>
                <a:lnTo>
                  <a:pt x="253" y="924"/>
                </a:lnTo>
                <a:lnTo>
                  <a:pt x="275" y="936"/>
                </a:lnTo>
                <a:lnTo>
                  <a:pt x="295" y="946"/>
                </a:lnTo>
                <a:lnTo>
                  <a:pt x="319" y="955"/>
                </a:lnTo>
                <a:lnTo>
                  <a:pt x="341" y="963"/>
                </a:lnTo>
                <a:lnTo>
                  <a:pt x="364" y="969"/>
                </a:lnTo>
                <a:lnTo>
                  <a:pt x="387" y="975"/>
                </a:lnTo>
                <a:lnTo>
                  <a:pt x="412" y="980"/>
                </a:lnTo>
                <a:lnTo>
                  <a:pt x="437" y="984"/>
                </a:lnTo>
                <a:lnTo>
                  <a:pt x="462" y="985"/>
                </a:lnTo>
                <a:lnTo>
                  <a:pt x="487" y="987"/>
                </a:lnTo>
                <a:lnTo>
                  <a:pt x="487" y="987"/>
                </a:lnTo>
                <a:lnTo>
                  <a:pt x="509" y="987"/>
                </a:lnTo>
                <a:lnTo>
                  <a:pt x="531" y="985"/>
                </a:lnTo>
                <a:lnTo>
                  <a:pt x="551" y="984"/>
                </a:lnTo>
                <a:lnTo>
                  <a:pt x="572" y="981"/>
                </a:lnTo>
                <a:lnTo>
                  <a:pt x="592" y="977"/>
                </a:lnTo>
                <a:lnTo>
                  <a:pt x="612" y="972"/>
                </a:lnTo>
                <a:lnTo>
                  <a:pt x="652" y="961"/>
                </a:lnTo>
                <a:lnTo>
                  <a:pt x="797" y="962"/>
                </a:lnTo>
                <a:lnTo>
                  <a:pt x="797" y="962"/>
                </a:lnTo>
                <a:lnTo>
                  <a:pt x="836" y="975"/>
                </a:lnTo>
                <a:lnTo>
                  <a:pt x="857" y="980"/>
                </a:lnTo>
                <a:lnTo>
                  <a:pt x="877" y="984"/>
                </a:lnTo>
                <a:lnTo>
                  <a:pt x="897" y="987"/>
                </a:lnTo>
                <a:lnTo>
                  <a:pt x="918" y="990"/>
                </a:lnTo>
                <a:lnTo>
                  <a:pt x="940" y="991"/>
                </a:lnTo>
                <a:lnTo>
                  <a:pt x="960" y="993"/>
                </a:lnTo>
                <a:lnTo>
                  <a:pt x="960" y="993"/>
                </a:lnTo>
                <a:lnTo>
                  <a:pt x="982" y="991"/>
                </a:lnTo>
                <a:lnTo>
                  <a:pt x="1004" y="991"/>
                </a:lnTo>
                <a:lnTo>
                  <a:pt x="1025" y="988"/>
                </a:lnTo>
                <a:lnTo>
                  <a:pt x="1045" y="985"/>
                </a:lnTo>
                <a:lnTo>
                  <a:pt x="1066" y="982"/>
                </a:lnTo>
                <a:lnTo>
                  <a:pt x="1086" y="978"/>
                </a:lnTo>
                <a:lnTo>
                  <a:pt x="1126" y="966"/>
                </a:lnTo>
                <a:lnTo>
                  <a:pt x="1266" y="968"/>
                </a:lnTo>
                <a:lnTo>
                  <a:pt x="1266" y="968"/>
                </a:lnTo>
                <a:lnTo>
                  <a:pt x="1304" y="980"/>
                </a:lnTo>
                <a:lnTo>
                  <a:pt x="1324" y="985"/>
                </a:lnTo>
                <a:lnTo>
                  <a:pt x="1345" y="990"/>
                </a:lnTo>
                <a:lnTo>
                  <a:pt x="1365" y="993"/>
                </a:lnTo>
                <a:lnTo>
                  <a:pt x="1387" y="996"/>
                </a:lnTo>
                <a:lnTo>
                  <a:pt x="1408" y="997"/>
                </a:lnTo>
                <a:lnTo>
                  <a:pt x="1430" y="997"/>
                </a:lnTo>
                <a:lnTo>
                  <a:pt x="1430" y="997"/>
                </a:lnTo>
                <a:lnTo>
                  <a:pt x="1454" y="997"/>
                </a:lnTo>
                <a:lnTo>
                  <a:pt x="1479" y="996"/>
                </a:lnTo>
                <a:lnTo>
                  <a:pt x="1504" y="993"/>
                </a:lnTo>
                <a:lnTo>
                  <a:pt x="1529" y="988"/>
                </a:lnTo>
                <a:lnTo>
                  <a:pt x="1552" y="984"/>
                </a:lnTo>
                <a:lnTo>
                  <a:pt x="1576" y="977"/>
                </a:lnTo>
                <a:lnTo>
                  <a:pt x="1599" y="969"/>
                </a:lnTo>
                <a:lnTo>
                  <a:pt x="1621" y="961"/>
                </a:lnTo>
                <a:lnTo>
                  <a:pt x="1643" y="952"/>
                </a:lnTo>
                <a:lnTo>
                  <a:pt x="1665" y="940"/>
                </a:lnTo>
                <a:lnTo>
                  <a:pt x="1685" y="928"/>
                </a:lnTo>
                <a:lnTo>
                  <a:pt x="1706" y="917"/>
                </a:lnTo>
                <a:lnTo>
                  <a:pt x="1725" y="903"/>
                </a:lnTo>
                <a:lnTo>
                  <a:pt x="1744" y="889"/>
                </a:lnTo>
                <a:lnTo>
                  <a:pt x="1763" y="873"/>
                </a:lnTo>
                <a:lnTo>
                  <a:pt x="1779" y="857"/>
                </a:lnTo>
                <a:lnTo>
                  <a:pt x="1797" y="841"/>
                </a:lnTo>
                <a:lnTo>
                  <a:pt x="1811" y="823"/>
                </a:lnTo>
                <a:lnTo>
                  <a:pt x="1827" y="804"/>
                </a:lnTo>
                <a:lnTo>
                  <a:pt x="1840" y="785"/>
                </a:lnTo>
                <a:lnTo>
                  <a:pt x="1854" y="765"/>
                </a:lnTo>
                <a:lnTo>
                  <a:pt x="1865" y="744"/>
                </a:lnTo>
                <a:lnTo>
                  <a:pt x="1877" y="724"/>
                </a:lnTo>
                <a:lnTo>
                  <a:pt x="1887" y="702"/>
                </a:lnTo>
                <a:lnTo>
                  <a:pt x="1896" y="680"/>
                </a:lnTo>
                <a:lnTo>
                  <a:pt x="1905" y="656"/>
                </a:lnTo>
                <a:lnTo>
                  <a:pt x="1911" y="633"/>
                </a:lnTo>
                <a:lnTo>
                  <a:pt x="1916" y="610"/>
                </a:lnTo>
                <a:lnTo>
                  <a:pt x="1921" y="585"/>
                </a:lnTo>
                <a:lnTo>
                  <a:pt x="1925" y="560"/>
                </a:lnTo>
                <a:lnTo>
                  <a:pt x="1927" y="535"/>
                </a:lnTo>
                <a:lnTo>
                  <a:pt x="1928" y="510"/>
                </a:lnTo>
                <a:lnTo>
                  <a:pt x="1928" y="510"/>
                </a:lnTo>
                <a:lnTo>
                  <a:pt x="1928" y="485"/>
                </a:lnTo>
                <a:lnTo>
                  <a:pt x="1927" y="459"/>
                </a:lnTo>
                <a:lnTo>
                  <a:pt x="1924" y="434"/>
                </a:lnTo>
                <a:lnTo>
                  <a:pt x="1919" y="411"/>
                </a:lnTo>
                <a:lnTo>
                  <a:pt x="1913" y="386"/>
                </a:lnTo>
                <a:lnTo>
                  <a:pt x="1908" y="363"/>
                </a:lnTo>
                <a:lnTo>
                  <a:pt x="1900" y="341"/>
                </a:lnTo>
                <a:lnTo>
                  <a:pt x="1892" y="317"/>
                </a:lnTo>
                <a:lnTo>
                  <a:pt x="1881" y="295"/>
                </a:lnTo>
                <a:lnTo>
                  <a:pt x="1871" y="275"/>
                </a:lnTo>
                <a:lnTo>
                  <a:pt x="1859" y="253"/>
                </a:lnTo>
                <a:lnTo>
                  <a:pt x="1848" y="234"/>
                </a:lnTo>
                <a:lnTo>
                  <a:pt x="1833" y="213"/>
                </a:lnTo>
                <a:lnTo>
                  <a:pt x="1818" y="194"/>
                </a:lnTo>
                <a:lnTo>
                  <a:pt x="1804" y="177"/>
                </a:lnTo>
                <a:lnTo>
                  <a:pt x="1788" y="159"/>
                </a:lnTo>
                <a:lnTo>
                  <a:pt x="1770" y="143"/>
                </a:lnTo>
                <a:lnTo>
                  <a:pt x="1753" y="127"/>
                </a:lnTo>
                <a:lnTo>
                  <a:pt x="1735" y="113"/>
                </a:lnTo>
                <a:lnTo>
                  <a:pt x="1715" y="98"/>
                </a:lnTo>
                <a:lnTo>
                  <a:pt x="1696" y="86"/>
                </a:lnTo>
                <a:lnTo>
                  <a:pt x="1675" y="73"/>
                </a:lnTo>
                <a:lnTo>
                  <a:pt x="1653" y="63"/>
                </a:lnTo>
                <a:lnTo>
                  <a:pt x="1633" y="53"/>
                </a:lnTo>
                <a:lnTo>
                  <a:pt x="1609" y="42"/>
                </a:lnTo>
                <a:lnTo>
                  <a:pt x="1587" y="35"/>
                </a:lnTo>
                <a:lnTo>
                  <a:pt x="1564" y="28"/>
                </a:lnTo>
                <a:lnTo>
                  <a:pt x="1539" y="22"/>
                </a:lnTo>
                <a:lnTo>
                  <a:pt x="1516" y="17"/>
                </a:lnTo>
                <a:lnTo>
                  <a:pt x="1491" y="15"/>
                </a:lnTo>
                <a:lnTo>
                  <a:pt x="1466" y="12"/>
                </a:lnTo>
                <a:lnTo>
                  <a:pt x="1441" y="12"/>
                </a:lnTo>
                <a:lnTo>
                  <a:pt x="1441" y="12"/>
                </a:lnTo>
                <a:close/>
              </a:path>
            </a:pathLst>
          </a:custGeom>
          <a:solidFill>
            <a:srgbClr val="fdb602">
              <a:alpha val="50000"/>
            </a:srgbClr>
          </a:solidFill>
          <a:ln w="101520">
            <a:solidFill>
              <a:srgbClr val="f7b6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6152"/>
          <p:cNvGrpSpPr/>
          <p:nvPr/>
        </p:nvGrpSpPr>
        <p:grpSpPr>
          <a:xfrm>
            <a:off x="1486080" y="3868560"/>
            <a:ext cx="396720" cy="396720"/>
            <a:chOff x="1486080" y="3868560"/>
            <a:chExt cx="396720" cy="396720"/>
          </a:xfrm>
        </p:grpSpPr>
        <p:sp>
          <p:nvSpPr>
            <p:cNvPr id="154" name="椭圆 6153"/>
            <p:cNvSpPr/>
            <p:nvPr/>
          </p:nvSpPr>
          <p:spPr>
            <a:xfrm>
              <a:off x="1486080" y="3868560"/>
              <a:ext cx="396720" cy="39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6154"/>
            <p:cNvSpPr/>
            <p:nvPr/>
          </p:nvSpPr>
          <p:spPr>
            <a:xfrm>
              <a:off x="1594080" y="3976560"/>
              <a:ext cx="181080" cy="18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未知"/>
          <p:cNvSpPr/>
          <p:nvPr/>
        </p:nvSpPr>
        <p:spPr>
          <a:xfrm rot="13500000">
            <a:off x="6070320" y="4477680"/>
            <a:ext cx="2413080" cy="1247760"/>
          </a:xfrm>
          <a:custGeom>
            <a:avLst/>
            <a:gdLst/>
            <a:ahLst/>
            <a:rect l="l" t="t" r="r" b="b"/>
            <a:pathLst>
              <a:path w="1928" h="997">
                <a:moveTo>
                  <a:pt x="1441" y="12"/>
                </a:moveTo>
                <a:lnTo>
                  <a:pt x="1441" y="12"/>
                </a:lnTo>
                <a:lnTo>
                  <a:pt x="1400" y="12"/>
                </a:lnTo>
                <a:lnTo>
                  <a:pt x="1362" y="16"/>
                </a:lnTo>
                <a:lnTo>
                  <a:pt x="1324" y="23"/>
                </a:lnTo>
                <a:lnTo>
                  <a:pt x="1288" y="34"/>
                </a:lnTo>
                <a:lnTo>
                  <a:pt x="1126" y="32"/>
                </a:lnTo>
                <a:lnTo>
                  <a:pt x="1126" y="32"/>
                </a:lnTo>
                <a:lnTo>
                  <a:pt x="1089" y="20"/>
                </a:lnTo>
                <a:lnTo>
                  <a:pt x="1051" y="13"/>
                </a:lnTo>
                <a:lnTo>
                  <a:pt x="1012" y="7"/>
                </a:lnTo>
                <a:lnTo>
                  <a:pt x="972" y="6"/>
                </a:lnTo>
                <a:lnTo>
                  <a:pt x="972" y="6"/>
                </a:lnTo>
                <a:lnTo>
                  <a:pt x="933" y="7"/>
                </a:lnTo>
                <a:lnTo>
                  <a:pt x="893" y="12"/>
                </a:lnTo>
                <a:lnTo>
                  <a:pt x="857" y="19"/>
                </a:lnTo>
                <a:lnTo>
                  <a:pt x="819" y="28"/>
                </a:lnTo>
                <a:lnTo>
                  <a:pt x="652" y="26"/>
                </a:lnTo>
                <a:lnTo>
                  <a:pt x="652" y="26"/>
                </a:lnTo>
                <a:lnTo>
                  <a:pt x="615" y="16"/>
                </a:lnTo>
                <a:lnTo>
                  <a:pt x="577" y="7"/>
                </a:lnTo>
                <a:lnTo>
                  <a:pt x="538" y="3"/>
                </a:lnTo>
                <a:lnTo>
                  <a:pt x="498" y="0"/>
                </a:lnTo>
                <a:lnTo>
                  <a:pt x="498" y="0"/>
                </a:lnTo>
                <a:lnTo>
                  <a:pt x="474" y="0"/>
                </a:lnTo>
                <a:lnTo>
                  <a:pt x="449" y="3"/>
                </a:lnTo>
                <a:lnTo>
                  <a:pt x="424" y="6"/>
                </a:lnTo>
                <a:lnTo>
                  <a:pt x="399" y="9"/>
                </a:lnTo>
                <a:lnTo>
                  <a:pt x="376" y="15"/>
                </a:lnTo>
                <a:lnTo>
                  <a:pt x="352" y="20"/>
                </a:lnTo>
                <a:lnTo>
                  <a:pt x="329" y="28"/>
                </a:lnTo>
                <a:lnTo>
                  <a:pt x="307" y="36"/>
                </a:lnTo>
                <a:lnTo>
                  <a:pt x="285" y="47"/>
                </a:lnTo>
                <a:lnTo>
                  <a:pt x="263" y="57"/>
                </a:lnTo>
                <a:lnTo>
                  <a:pt x="243" y="69"/>
                </a:lnTo>
                <a:lnTo>
                  <a:pt x="222" y="82"/>
                </a:lnTo>
                <a:lnTo>
                  <a:pt x="203" y="95"/>
                </a:lnTo>
                <a:lnTo>
                  <a:pt x="184" y="110"/>
                </a:lnTo>
                <a:lnTo>
                  <a:pt x="165" y="124"/>
                </a:lnTo>
                <a:lnTo>
                  <a:pt x="149" y="140"/>
                </a:lnTo>
                <a:lnTo>
                  <a:pt x="131" y="158"/>
                </a:lnTo>
                <a:lnTo>
                  <a:pt x="115" y="175"/>
                </a:lnTo>
                <a:lnTo>
                  <a:pt x="101" y="194"/>
                </a:lnTo>
                <a:lnTo>
                  <a:pt x="88" y="213"/>
                </a:lnTo>
                <a:lnTo>
                  <a:pt x="74" y="232"/>
                </a:lnTo>
                <a:lnTo>
                  <a:pt x="63" y="253"/>
                </a:lnTo>
                <a:lnTo>
                  <a:pt x="51" y="275"/>
                </a:lnTo>
                <a:lnTo>
                  <a:pt x="41" y="297"/>
                </a:lnTo>
                <a:lnTo>
                  <a:pt x="32" y="319"/>
                </a:lnTo>
                <a:lnTo>
                  <a:pt x="23" y="342"/>
                </a:lnTo>
                <a:lnTo>
                  <a:pt x="17" y="364"/>
                </a:lnTo>
                <a:lnTo>
                  <a:pt x="12" y="389"/>
                </a:lnTo>
                <a:lnTo>
                  <a:pt x="6" y="412"/>
                </a:lnTo>
                <a:lnTo>
                  <a:pt x="3" y="437"/>
                </a:lnTo>
                <a:lnTo>
                  <a:pt x="1" y="462"/>
                </a:lnTo>
                <a:lnTo>
                  <a:pt x="0" y="488"/>
                </a:lnTo>
                <a:lnTo>
                  <a:pt x="0" y="488"/>
                </a:lnTo>
                <a:lnTo>
                  <a:pt x="0" y="513"/>
                </a:lnTo>
                <a:lnTo>
                  <a:pt x="1" y="538"/>
                </a:lnTo>
                <a:lnTo>
                  <a:pt x="4" y="563"/>
                </a:lnTo>
                <a:lnTo>
                  <a:pt x="9" y="588"/>
                </a:lnTo>
                <a:lnTo>
                  <a:pt x="15" y="611"/>
                </a:lnTo>
                <a:lnTo>
                  <a:pt x="20" y="634"/>
                </a:lnTo>
                <a:lnTo>
                  <a:pt x="28" y="658"/>
                </a:lnTo>
                <a:lnTo>
                  <a:pt x="36" y="680"/>
                </a:lnTo>
                <a:lnTo>
                  <a:pt x="47" y="702"/>
                </a:lnTo>
                <a:lnTo>
                  <a:pt x="57" y="724"/>
                </a:lnTo>
                <a:lnTo>
                  <a:pt x="69" y="744"/>
                </a:lnTo>
                <a:lnTo>
                  <a:pt x="80" y="765"/>
                </a:lnTo>
                <a:lnTo>
                  <a:pt x="95" y="784"/>
                </a:lnTo>
                <a:lnTo>
                  <a:pt x="110" y="803"/>
                </a:lnTo>
                <a:lnTo>
                  <a:pt x="124" y="820"/>
                </a:lnTo>
                <a:lnTo>
                  <a:pt x="140" y="838"/>
                </a:lnTo>
                <a:lnTo>
                  <a:pt x="158" y="855"/>
                </a:lnTo>
                <a:lnTo>
                  <a:pt x="175" y="870"/>
                </a:lnTo>
                <a:lnTo>
                  <a:pt x="193" y="886"/>
                </a:lnTo>
                <a:lnTo>
                  <a:pt x="212" y="899"/>
                </a:lnTo>
                <a:lnTo>
                  <a:pt x="232" y="912"/>
                </a:lnTo>
                <a:lnTo>
                  <a:pt x="253" y="924"/>
                </a:lnTo>
                <a:lnTo>
                  <a:pt x="275" y="936"/>
                </a:lnTo>
                <a:lnTo>
                  <a:pt x="295" y="946"/>
                </a:lnTo>
                <a:lnTo>
                  <a:pt x="319" y="955"/>
                </a:lnTo>
                <a:lnTo>
                  <a:pt x="341" y="963"/>
                </a:lnTo>
                <a:lnTo>
                  <a:pt x="364" y="969"/>
                </a:lnTo>
                <a:lnTo>
                  <a:pt x="387" y="975"/>
                </a:lnTo>
                <a:lnTo>
                  <a:pt x="412" y="980"/>
                </a:lnTo>
                <a:lnTo>
                  <a:pt x="437" y="984"/>
                </a:lnTo>
                <a:lnTo>
                  <a:pt x="462" y="985"/>
                </a:lnTo>
                <a:lnTo>
                  <a:pt x="487" y="987"/>
                </a:lnTo>
                <a:lnTo>
                  <a:pt x="487" y="987"/>
                </a:lnTo>
                <a:lnTo>
                  <a:pt x="509" y="987"/>
                </a:lnTo>
                <a:lnTo>
                  <a:pt x="531" y="985"/>
                </a:lnTo>
                <a:lnTo>
                  <a:pt x="551" y="984"/>
                </a:lnTo>
                <a:lnTo>
                  <a:pt x="572" y="981"/>
                </a:lnTo>
                <a:lnTo>
                  <a:pt x="592" y="977"/>
                </a:lnTo>
                <a:lnTo>
                  <a:pt x="612" y="972"/>
                </a:lnTo>
                <a:lnTo>
                  <a:pt x="652" y="961"/>
                </a:lnTo>
                <a:lnTo>
                  <a:pt x="797" y="962"/>
                </a:lnTo>
                <a:lnTo>
                  <a:pt x="797" y="962"/>
                </a:lnTo>
                <a:lnTo>
                  <a:pt x="836" y="975"/>
                </a:lnTo>
                <a:lnTo>
                  <a:pt x="857" y="980"/>
                </a:lnTo>
                <a:lnTo>
                  <a:pt x="877" y="984"/>
                </a:lnTo>
                <a:lnTo>
                  <a:pt x="897" y="987"/>
                </a:lnTo>
                <a:lnTo>
                  <a:pt x="918" y="990"/>
                </a:lnTo>
                <a:lnTo>
                  <a:pt x="940" y="991"/>
                </a:lnTo>
                <a:lnTo>
                  <a:pt x="960" y="993"/>
                </a:lnTo>
                <a:lnTo>
                  <a:pt x="960" y="993"/>
                </a:lnTo>
                <a:lnTo>
                  <a:pt x="982" y="991"/>
                </a:lnTo>
                <a:lnTo>
                  <a:pt x="1004" y="991"/>
                </a:lnTo>
                <a:lnTo>
                  <a:pt x="1025" y="988"/>
                </a:lnTo>
                <a:lnTo>
                  <a:pt x="1045" y="985"/>
                </a:lnTo>
                <a:lnTo>
                  <a:pt x="1066" y="982"/>
                </a:lnTo>
                <a:lnTo>
                  <a:pt x="1086" y="978"/>
                </a:lnTo>
                <a:lnTo>
                  <a:pt x="1126" y="966"/>
                </a:lnTo>
                <a:lnTo>
                  <a:pt x="1266" y="968"/>
                </a:lnTo>
                <a:lnTo>
                  <a:pt x="1266" y="968"/>
                </a:lnTo>
                <a:lnTo>
                  <a:pt x="1304" y="980"/>
                </a:lnTo>
                <a:lnTo>
                  <a:pt x="1324" y="985"/>
                </a:lnTo>
                <a:lnTo>
                  <a:pt x="1345" y="990"/>
                </a:lnTo>
                <a:lnTo>
                  <a:pt x="1365" y="993"/>
                </a:lnTo>
                <a:lnTo>
                  <a:pt x="1387" y="996"/>
                </a:lnTo>
                <a:lnTo>
                  <a:pt x="1408" y="997"/>
                </a:lnTo>
                <a:lnTo>
                  <a:pt x="1430" y="997"/>
                </a:lnTo>
                <a:lnTo>
                  <a:pt x="1430" y="997"/>
                </a:lnTo>
                <a:lnTo>
                  <a:pt x="1454" y="997"/>
                </a:lnTo>
                <a:lnTo>
                  <a:pt x="1479" y="996"/>
                </a:lnTo>
                <a:lnTo>
                  <a:pt x="1504" y="993"/>
                </a:lnTo>
                <a:lnTo>
                  <a:pt x="1529" y="988"/>
                </a:lnTo>
                <a:lnTo>
                  <a:pt x="1552" y="984"/>
                </a:lnTo>
                <a:lnTo>
                  <a:pt x="1576" y="977"/>
                </a:lnTo>
                <a:lnTo>
                  <a:pt x="1599" y="969"/>
                </a:lnTo>
                <a:lnTo>
                  <a:pt x="1621" y="961"/>
                </a:lnTo>
                <a:lnTo>
                  <a:pt x="1643" y="952"/>
                </a:lnTo>
                <a:lnTo>
                  <a:pt x="1665" y="940"/>
                </a:lnTo>
                <a:lnTo>
                  <a:pt x="1685" y="928"/>
                </a:lnTo>
                <a:lnTo>
                  <a:pt x="1706" y="917"/>
                </a:lnTo>
                <a:lnTo>
                  <a:pt x="1725" y="903"/>
                </a:lnTo>
                <a:lnTo>
                  <a:pt x="1744" y="889"/>
                </a:lnTo>
                <a:lnTo>
                  <a:pt x="1763" y="873"/>
                </a:lnTo>
                <a:lnTo>
                  <a:pt x="1779" y="857"/>
                </a:lnTo>
                <a:lnTo>
                  <a:pt x="1797" y="841"/>
                </a:lnTo>
                <a:lnTo>
                  <a:pt x="1811" y="823"/>
                </a:lnTo>
                <a:lnTo>
                  <a:pt x="1827" y="804"/>
                </a:lnTo>
                <a:lnTo>
                  <a:pt x="1840" y="785"/>
                </a:lnTo>
                <a:lnTo>
                  <a:pt x="1854" y="765"/>
                </a:lnTo>
                <a:lnTo>
                  <a:pt x="1865" y="744"/>
                </a:lnTo>
                <a:lnTo>
                  <a:pt x="1877" y="724"/>
                </a:lnTo>
                <a:lnTo>
                  <a:pt x="1887" y="702"/>
                </a:lnTo>
                <a:lnTo>
                  <a:pt x="1896" y="680"/>
                </a:lnTo>
                <a:lnTo>
                  <a:pt x="1905" y="656"/>
                </a:lnTo>
                <a:lnTo>
                  <a:pt x="1911" y="633"/>
                </a:lnTo>
                <a:lnTo>
                  <a:pt x="1916" y="610"/>
                </a:lnTo>
                <a:lnTo>
                  <a:pt x="1921" y="585"/>
                </a:lnTo>
                <a:lnTo>
                  <a:pt x="1925" y="560"/>
                </a:lnTo>
                <a:lnTo>
                  <a:pt x="1927" y="535"/>
                </a:lnTo>
                <a:lnTo>
                  <a:pt x="1928" y="510"/>
                </a:lnTo>
                <a:lnTo>
                  <a:pt x="1928" y="510"/>
                </a:lnTo>
                <a:lnTo>
                  <a:pt x="1928" y="485"/>
                </a:lnTo>
                <a:lnTo>
                  <a:pt x="1927" y="459"/>
                </a:lnTo>
                <a:lnTo>
                  <a:pt x="1924" y="434"/>
                </a:lnTo>
                <a:lnTo>
                  <a:pt x="1919" y="411"/>
                </a:lnTo>
                <a:lnTo>
                  <a:pt x="1913" y="386"/>
                </a:lnTo>
                <a:lnTo>
                  <a:pt x="1908" y="363"/>
                </a:lnTo>
                <a:lnTo>
                  <a:pt x="1900" y="341"/>
                </a:lnTo>
                <a:lnTo>
                  <a:pt x="1892" y="317"/>
                </a:lnTo>
                <a:lnTo>
                  <a:pt x="1881" y="295"/>
                </a:lnTo>
                <a:lnTo>
                  <a:pt x="1871" y="275"/>
                </a:lnTo>
                <a:lnTo>
                  <a:pt x="1859" y="253"/>
                </a:lnTo>
                <a:lnTo>
                  <a:pt x="1848" y="234"/>
                </a:lnTo>
                <a:lnTo>
                  <a:pt x="1833" y="213"/>
                </a:lnTo>
                <a:lnTo>
                  <a:pt x="1818" y="194"/>
                </a:lnTo>
                <a:lnTo>
                  <a:pt x="1804" y="177"/>
                </a:lnTo>
                <a:lnTo>
                  <a:pt x="1788" y="159"/>
                </a:lnTo>
                <a:lnTo>
                  <a:pt x="1770" y="143"/>
                </a:lnTo>
                <a:lnTo>
                  <a:pt x="1753" y="127"/>
                </a:lnTo>
                <a:lnTo>
                  <a:pt x="1735" y="113"/>
                </a:lnTo>
                <a:lnTo>
                  <a:pt x="1715" y="98"/>
                </a:lnTo>
                <a:lnTo>
                  <a:pt x="1696" y="86"/>
                </a:lnTo>
                <a:lnTo>
                  <a:pt x="1675" y="73"/>
                </a:lnTo>
                <a:lnTo>
                  <a:pt x="1653" y="63"/>
                </a:lnTo>
                <a:lnTo>
                  <a:pt x="1633" y="53"/>
                </a:lnTo>
                <a:lnTo>
                  <a:pt x="1609" y="42"/>
                </a:lnTo>
                <a:lnTo>
                  <a:pt x="1587" y="35"/>
                </a:lnTo>
                <a:lnTo>
                  <a:pt x="1564" y="28"/>
                </a:lnTo>
                <a:lnTo>
                  <a:pt x="1539" y="22"/>
                </a:lnTo>
                <a:lnTo>
                  <a:pt x="1516" y="17"/>
                </a:lnTo>
                <a:lnTo>
                  <a:pt x="1491" y="15"/>
                </a:lnTo>
                <a:lnTo>
                  <a:pt x="1466" y="12"/>
                </a:lnTo>
                <a:lnTo>
                  <a:pt x="1441" y="12"/>
                </a:lnTo>
                <a:lnTo>
                  <a:pt x="1441" y="12"/>
                </a:lnTo>
                <a:close/>
              </a:path>
            </a:pathLst>
          </a:custGeom>
          <a:solidFill>
            <a:srgbClr val="139aff">
              <a:alpha val="50000"/>
            </a:srgbClr>
          </a:solidFill>
          <a:ln w="101520">
            <a:solidFill>
              <a:srgbClr val="139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298680" y="2004840"/>
            <a:ext cx="360" cy="757440"/>
            <a:chOff x="3298680" y="2004840"/>
            <a:chExt cx="360" cy="757440"/>
          </a:xfrm>
        </p:grpSpPr>
        <p:sp>
          <p:nvSpPr>
            <p:cNvPr id="158" name="直接连接符 6156"/>
            <p:cNvSpPr/>
            <p:nvPr/>
          </p:nvSpPr>
          <p:spPr>
            <a:xfrm>
              <a:off x="3298680" y="2004840"/>
              <a:ext cx="0" cy="7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298680" y="2004840"/>
              <a:ext cx="360" cy="75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782960" y="2004840"/>
            <a:ext cx="360" cy="757440"/>
            <a:chOff x="4782960" y="2004840"/>
            <a:chExt cx="360" cy="757440"/>
          </a:xfrm>
        </p:grpSpPr>
        <p:sp>
          <p:nvSpPr>
            <p:cNvPr id="161" name="直接连接符 6157"/>
            <p:cNvSpPr/>
            <p:nvPr/>
          </p:nvSpPr>
          <p:spPr>
            <a:xfrm>
              <a:off x="4782960" y="2004840"/>
              <a:ext cx="0" cy="7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782960" y="2004840"/>
              <a:ext cx="360" cy="75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98680" y="4280040"/>
            <a:ext cx="360" cy="757080"/>
            <a:chOff x="3298680" y="4280040"/>
            <a:chExt cx="360" cy="757080"/>
          </a:xfrm>
        </p:grpSpPr>
        <p:sp>
          <p:nvSpPr>
            <p:cNvPr id="164" name="直接连接符 6158"/>
            <p:cNvSpPr/>
            <p:nvPr/>
          </p:nvSpPr>
          <p:spPr>
            <a:xfrm>
              <a:off x="3298680" y="4280040"/>
              <a:ext cx="0" cy="75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298680" y="4280040"/>
              <a:ext cx="360" cy="75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782960" y="4280040"/>
            <a:ext cx="360" cy="757080"/>
            <a:chOff x="4782960" y="4280040"/>
            <a:chExt cx="360" cy="757080"/>
          </a:xfrm>
        </p:grpSpPr>
        <p:sp>
          <p:nvSpPr>
            <p:cNvPr id="167" name="直接连接符 6159"/>
            <p:cNvSpPr/>
            <p:nvPr/>
          </p:nvSpPr>
          <p:spPr>
            <a:xfrm>
              <a:off x="4782960" y="4280040"/>
              <a:ext cx="0" cy="75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782960" y="4280040"/>
              <a:ext cx="360" cy="75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6160"/>
          <p:cNvSpPr/>
          <p:nvPr/>
        </p:nvSpPr>
        <p:spPr>
          <a:xfrm>
            <a:off x="6254640" y="4060800"/>
            <a:ext cx="1228680" cy="1228680"/>
          </a:xfrm>
          <a:prstGeom prst="ellipse">
            <a:avLst/>
          </a:prstGeom>
          <a:solidFill>
            <a:srgbClr val="139aff">
              <a:alpha val="30000"/>
            </a:srgbClr>
          </a:solidFill>
          <a:ln w="101520">
            <a:solidFill>
              <a:srgbClr val="139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6161"/>
          <p:cNvSpPr/>
          <p:nvPr/>
        </p:nvSpPr>
        <p:spPr>
          <a:xfrm>
            <a:off x="6264360" y="1773360"/>
            <a:ext cx="1228680" cy="1228680"/>
          </a:xfrm>
          <a:prstGeom prst="ellipse">
            <a:avLst/>
          </a:prstGeom>
          <a:solidFill>
            <a:srgbClr val="fdb602">
              <a:alpha val="30000"/>
            </a:srgbClr>
          </a:solidFill>
          <a:ln w="101520">
            <a:solidFill>
              <a:srgbClr val="f7b6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72" name="组合 7170"/>
          <p:cNvGrpSpPr/>
          <p:nvPr/>
        </p:nvGrpSpPr>
        <p:grpSpPr>
          <a:xfrm>
            <a:off x="900000" y="1339920"/>
            <a:ext cx="7848720" cy="4465440"/>
            <a:chOff x="900000" y="1339920"/>
            <a:chExt cx="7848720" cy="4465440"/>
          </a:xfrm>
        </p:grpSpPr>
        <p:sp>
          <p:nvSpPr>
            <p:cNvPr id="173" name="AutoShape 3"/>
            <p:cNvSpPr/>
            <p:nvPr/>
          </p:nvSpPr>
          <p:spPr>
            <a:xfrm>
              <a:off x="900000" y="1339920"/>
              <a:ext cx="7848720" cy="446544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"/>
            <p:cNvSpPr/>
            <p:nvPr/>
          </p:nvSpPr>
          <p:spPr>
            <a:xfrm>
              <a:off x="902880" y="1488600"/>
              <a:ext cx="7842600" cy="415152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30240" y="4843440"/>
            <a:ext cx="2814480" cy="1927080"/>
          </a:xfrm>
          <a:prstGeom prst="rect">
            <a:avLst/>
          </a:prstGeom>
          <a:ln w="0">
            <a:noFill/>
          </a:ln>
        </p:spPr>
      </p:pic>
      <p:pic>
        <p:nvPicPr>
          <p:cNvPr id="176" name="内容占位符 7174" descr="2008518225320775"/>
          <p:cNvPicPr/>
          <p:nvPr/>
        </p:nvPicPr>
        <p:blipFill>
          <a:blip r:embed="rId2"/>
          <a:stretch/>
        </p:blipFill>
        <p:spPr>
          <a:xfrm>
            <a:off x="7453440" y="436572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7175"/>
          <p:cNvSpPr/>
          <p:nvPr/>
        </p:nvSpPr>
        <p:spPr>
          <a:xfrm>
            <a:off x="1187280" y="170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07"/>
          <p:cNvSpPr/>
          <p:nvPr/>
        </p:nvSpPr>
        <p:spPr>
          <a:xfrm>
            <a:off x="682560" y="1630440"/>
            <a:ext cx="7702560" cy="3792600"/>
          </a:xfrm>
          <a:prstGeom prst="roundRect">
            <a:avLst>
              <a:gd name="adj" fmla="val 4019"/>
            </a:avLst>
          </a:prstGeom>
          <a:solidFill>
            <a:srgbClr val="ffffff">
              <a:alpha val="44000"/>
            </a:srgbClr>
          </a:solidFill>
          <a:ln w="255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96"/>
          <p:cNvSpPr/>
          <p:nvPr/>
        </p:nvSpPr>
        <p:spPr>
          <a:xfrm>
            <a:off x="977760" y="3014640"/>
            <a:ext cx="2121120" cy="2195640"/>
          </a:xfrm>
          <a:custGeom>
            <a:avLst/>
            <a:gdLst>
              <a:gd name="textAreaLeft" fmla="*/ 23040 w 2121120"/>
              <a:gd name="textAreaRight" fmla="*/ 2098080 w 212112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59">
                <a:moveTo>
                  <a:pt x="805" y="0"/>
                </a:moveTo>
                <a:arcTo wR="805" hR="805" stAng="16200000" swAng="-5400000"/>
                <a:lnTo>
                  <a:pt x="0" y="21554"/>
                </a:lnTo>
                <a:arcTo wR="805" hR="805" stAng="10800000" swAng="-5400000"/>
                <a:lnTo>
                  <a:pt x="20795" y="2235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8"/>
          <p:cNvSpPr/>
          <p:nvPr/>
        </p:nvSpPr>
        <p:spPr>
          <a:xfrm>
            <a:off x="1254240" y="36082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9"/>
          <p:cNvSpPr/>
          <p:nvPr/>
        </p:nvSpPr>
        <p:spPr>
          <a:xfrm>
            <a:off x="1254240" y="406872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8197"/>
          <p:cNvGrpSpPr/>
          <p:nvPr/>
        </p:nvGrpSpPr>
        <p:grpSpPr>
          <a:xfrm>
            <a:off x="2178000" y="1268280"/>
            <a:ext cx="4749840" cy="719280"/>
            <a:chOff x="2178000" y="1268280"/>
            <a:chExt cx="4749840" cy="719280"/>
          </a:xfrm>
        </p:grpSpPr>
        <p:grpSp>
          <p:nvGrpSpPr>
            <p:cNvPr id="183" name="组合 8198"/>
            <p:cNvGrpSpPr/>
            <p:nvPr/>
          </p:nvGrpSpPr>
          <p:grpSpPr>
            <a:xfrm>
              <a:off x="2178000" y="1268280"/>
              <a:ext cx="4749840" cy="719280"/>
              <a:chOff x="2178000" y="1268280"/>
              <a:chExt cx="4749840" cy="719280"/>
            </a:xfrm>
          </p:grpSpPr>
          <p:sp>
            <p:nvSpPr>
              <p:cNvPr id="184" name="AutoShape 3"/>
              <p:cNvSpPr/>
              <p:nvPr/>
            </p:nvSpPr>
            <p:spPr>
              <a:xfrm>
                <a:off x="2178000" y="1268280"/>
                <a:ext cx="474984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3"/>
              <p:cNvSpPr/>
              <p:nvPr/>
            </p:nvSpPr>
            <p:spPr>
              <a:xfrm>
                <a:off x="2178000" y="1357200"/>
                <a:ext cx="47498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Rectangle 13"/>
            <p:cNvSpPr/>
            <p:nvPr/>
          </p:nvSpPr>
          <p:spPr>
            <a:xfrm>
              <a:off x="4010400" y="14277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8202"/>
          <p:cNvGrpSpPr/>
          <p:nvPr/>
        </p:nvGrpSpPr>
        <p:grpSpPr>
          <a:xfrm>
            <a:off x="885960" y="2247840"/>
            <a:ext cx="2305080" cy="776520"/>
            <a:chOff x="885960" y="2247840"/>
            <a:chExt cx="2305080" cy="776520"/>
          </a:xfrm>
        </p:grpSpPr>
        <p:grpSp>
          <p:nvGrpSpPr>
            <p:cNvPr id="188" name="组合 8203"/>
            <p:cNvGrpSpPr/>
            <p:nvPr/>
          </p:nvGrpSpPr>
          <p:grpSpPr>
            <a:xfrm>
              <a:off x="885960" y="2247840"/>
              <a:ext cx="2305080" cy="721080"/>
              <a:chOff x="885960" y="2247840"/>
              <a:chExt cx="2305080" cy="721080"/>
            </a:xfrm>
          </p:grpSpPr>
          <p:grpSp>
            <p:nvGrpSpPr>
              <p:cNvPr id="189" name="组合 8204"/>
              <p:cNvGrpSpPr/>
              <p:nvPr/>
            </p:nvGrpSpPr>
            <p:grpSpPr>
              <a:xfrm>
                <a:off x="885960" y="2247840"/>
                <a:ext cx="2305080" cy="721080"/>
                <a:chOff x="885960" y="2247840"/>
                <a:chExt cx="2305080" cy="721080"/>
              </a:xfrm>
            </p:grpSpPr>
            <p:sp>
              <p:nvSpPr>
                <p:cNvPr id="190" name="AutoShape 3"/>
                <p:cNvSpPr/>
                <p:nvPr/>
              </p:nvSpPr>
              <p:spPr>
                <a:xfrm>
                  <a:off x="885960" y="2247840"/>
                  <a:ext cx="230508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AutoShape 3"/>
                <p:cNvSpPr/>
                <p:nvPr/>
              </p:nvSpPr>
              <p:spPr>
                <a:xfrm>
                  <a:off x="885960" y="2337840"/>
                  <a:ext cx="23050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229"/>
              <p:cNvSpPr/>
              <p:nvPr/>
            </p:nvSpPr>
            <p:spPr>
              <a:xfrm>
                <a:off x="1626480" y="24696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222"/>
            <p:cNvSpPr/>
            <p:nvPr/>
          </p:nvSpPr>
          <p:spPr>
            <a:xfrm>
              <a:off x="957240" y="2949840"/>
              <a:ext cx="216216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196"/>
          <p:cNvSpPr/>
          <p:nvPr/>
        </p:nvSpPr>
        <p:spPr>
          <a:xfrm>
            <a:off x="3463920" y="3014640"/>
            <a:ext cx="2117880" cy="219564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93">
                <a:moveTo>
                  <a:pt x="805" y="0"/>
                </a:moveTo>
                <a:arcTo wR="805" hR="805" stAng="16200000" swAng="-5400000"/>
                <a:lnTo>
                  <a:pt x="0" y="21588"/>
                </a:lnTo>
                <a:arcTo wR="805" hR="805" stAng="10800000" swAng="-5400000"/>
                <a:lnTo>
                  <a:pt x="20795" y="2239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8"/>
          <p:cNvSpPr/>
          <p:nvPr/>
        </p:nvSpPr>
        <p:spPr>
          <a:xfrm>
            <a:off x="3736800" y="36082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29"/>
          <p:cNvSpPr/>
          <p:nvPr/>
        </p:nvSpPr>
        <p:spPr>
          <a:xfrm>
            <a:off x="3736800" y="406872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8212"/>
          <p:cNvGrpSpPr/>
          <p:nvPr/>
        </p:nvGrpSpPr>
        <p:grpSpPr>
          <a:xfrm>
            <a:off x="3368520" y="2247840"/>
            <a:ext cx="2305080" cy="776520"/>
            <a:chOff x="3368520" y="2247840"/>
            <a:chExt cx="2305080" cy="776520"/>
          </a:xfrm>
        </p:grpSpPr>
        <p:grpSp>
          <p:nvGrpSpPr>
            <p:cNvPr id="198" name="组合 8213"/>
            <p:cNvGrpSpPr/>
            <p:nvPr/>
          </p:nvGrpSpPr>
          <p:grpSpPr>
            <a:xfrm>
              <a:off x="3368520" y="2247840"/>
              <a:ext cx="2305080" cy="721080"/>
              <a:chOff x="3368520" y="2247840"/>
              <a:chExt cx="2305080" cy="721080"/>
            </a:xfrm>
          </p:grpSpPr>
          <p:grpSp>
            <p:nvGrpSpPr>
              <p:cNvPr id="199" name="组合 8214"/>
              <p:cNvGrpSpPr/>
              <p:nvPr/>
            </p:nvGrpSpPr>
            <p:grpSpPr>
              <a:xfrm>
                <a:off x="3368520" y="2247840"/>
                <a:ext cx="2305080" cy="721080"/>
                <a:chOff x="3368520" y="2247840"/>
                <a:chExt cx="2305080" cy="721080"/>
              </a:xfrm>
            </p:grpSpPr>
            <p:sp>
              <p:nvSpPr>
                <p:cNvPr id="200" name="AutoShape 3"/>
                <p:cNvSpPr/>
                <p:nvPr/>
              </p:nvSpPr>
              <p:spPr>
                <a:xfrm>
                  <a:off x="3368520" y="2247840"/>
                  <a:ext cx="230508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3"/>
                <p:cNvSpPr/>
                <p:nvPr/>
              </p:nvSpPr>
              <p:spPr>
                <a:xfrm>
                  <a:off x="3368520" y="2337840"/>
                  <a:ext cx="23050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229"/>
              <p:cNvSpPr/>
              <p:nvPr/>
            </p:nvSpPr>
            <p:spPr>
              <a:xfrm>
                <a:off x="4109040" y="24696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222"/>
            <p:cNvSpPr/>
            <p:nvPr/>
          </p:nvSpPr>
          <p:spPr>
            <a:xfrm>
              <a:off x="3439800" y="2949840"/>
              <a:ext cx="216252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196"/>
          <p:cNvSpPr/>
          <p:nvPr/>
        </p:nvSpPr>
        <p:spPr>
          <a:xfrm>
            <a:off x="5972040" y="3014640"/>
            <a:ext cx="2117880" cy="219564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93">
                <a:moveTo>
                  <a:pt x="805" y="0"/>
                </a:moveTo>
                <a:arcTo wR="805" hR="805" stAng="16200000" swAng="-5400000"/>
                <a:lnTo>
                  <a:pt x="0" y="21588"/>
                </a:lnTo>
                <a:arcTo wR="805" hR="805" stAng="10800000" swAng="-5400000"/>
                <a:lnTo>
                  <a:pt x="20795" y="2239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8"/>
          <p:cNvSpPr/>
          <p:nvPr/>
        </p:nvSpPr>
        <p:spPr>
          <a:xfrm>
            <a:off x="6245280" y="36082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9"/>
          <p:cNvSpPr/>
          <p:nvPr/>
        </p:nvSpPr>
        <p:spPr>
          <a:xfrm>
            <a:off x="6245280" y="406872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8222"/>
          <p:cNvGrpSpPr/>
          <p:nvPr/>
        </p:nvGrpSpPr>
        <p:grpSpPr>
          <a:xfrm>
            <a:off x="5880240" y="2247840"/>
            <a:ext cx="2301840" cy="776520"/>
            <a:chOff x="5880240" y="2247840"/>
            <a:chExt cx="2301840" cy="776520"/>
          </a:xfrm>
        </p:grpSpPr>
        <p:grpSp>
          <p:nvGrpSpPr>
            <p:cNvPr id="208" name="组合 8223"/>
            <p:cNvGrpSpPr/>
            <p:nvPr/>
          </p:nvGrpSpPr>
          <p:grpSpPr>
            <a:xfrm>
              <a:off x="5880240" y="2247840"/>
              <a:ext cx="2301840" cy="721080"/>
              <a:chOff x="5880240" y="2247840"/>
              <a:chExt cx="2301840" cy="721080"/>
            </a:xfrm>
          </p:grpSpPr>
          <p:grpSp>
            <p:nvGrpSpPr>
              <p:cNvPr id="209" name="组合 8224"/>
              <p:cNvGrpSpPr/>
              <p:nvPr/>
            </p:nvGrpSpPr>
            <p:grpSpPr>
              <a:xfrm>
                <a:off x="5880240" y="2247840"/>
                <a:ext cx="2301840" cy="721080"/>
                <a:chOff x="5880240" y="2247840"/>
                <a:chExt cx="2301840" cy="721080"/>
              </a:xfrm>
            </p:grpSpPr>
            <p:sp>
              <p:nvSpPr>
                <p:cNvPr id="210" name="AutoShape 3"/>
                <p:cNvSpPr/>
                <p:nvPr/>
              </p:nvSpPr>
              <p:spPr>
                <a:xfrm>
                  <a:off x="5880240" y="2247840"/>
                  <a:ext cx="230184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3"/>
                <p:cNvSpPr/>
                <p:nvPr/>
              </p:nvSpPr>
              <p:spPr>
                <a:xfrm>
                  <a:off x="5880240" y="2337840"/>
                  <a:ext cx="23018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 Box 229"/>
              <p:cNvSpPr/>
              <p:nvPr/>
            </p:nvSpPr>
            <p:spPr>
              <a:xfrm>
                <a:off x="6619320" y="24696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222"/>
            <p:cNvSpPr/>
            <p:nvPr/>
          </p:nvSpPr>
          <p:spPr>
            <a:xfrm>
              <a:off x="5951520" y="2949840"/>
              <a:ext cx="215928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2562-A6A3-4579-9406-8355B06254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内容占位符 9217" descr="2008518225322544"/>
          <p:cNvPicPr/>
          <p:nvPr/>
        </p:nvPicPr>
        <p:blipFill>
          <a:blip r:embed="rId1"/>
          <a:stretch/>
        </p:blipFill>
        <p:spPr>
          <a:xfrm>
            <a:off x="468360" y="515772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9218"/>
          <p:cNvSpPr/>
          <p:nvPr/>
        </p:nvSpPr>
        <p:spPr>
          <a:xfrm>
            <a:off x="2158920" y="2060640"/>
            <a:ext cx="6985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00"/>
                </a:solidFill>
                <a:latin typeface="Arial"/>
                <a:ea typeface="华文隶书"/>
              </a:rPr>
              <a:t>谢谢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9219"/>
          <p:cNvSpPr/>
          <p:nvPr/>
        </p:nvSpPr>
        <p:spPr>
          <a:xfrm>
            <a:off x="3276720" y="4365720"/>
            <a:ext cx="5543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8:22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00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