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8149-0491-42D0-94E6-6BD2D1AF9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B01B-77FC-4DFA-9CDF-273B2DB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C10E-0E4F-4547-9235-1ECB8BF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317B-8C07-42E0-A258-F2BAFB406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38371-9B7E-4083-90FC-50D156C9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CEE3-2954-4490-B285-3EFD0C64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EDF0C-1E68-448F-9213-6D1254B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E2AE-2BE4-4F26-9E99-C0D9C3A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3854-25EC-4023-A010-6341A13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ED6D2-1CC0-488D-BF5F-3ADCCF4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94E09-153D-4816-98F5-E31965D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3422-E551-45F7-A6AC-EE47D54D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64E57-9768-48E3-874F-577B948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5965-49EF-4116-83DE-32DDC8B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B4C8-4A92-4AF2-815C-22A6EAE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BD591-DC62-4048-B932-1FF00C8D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09445-523D-489F-8040-9E9E9219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B4DA3-2B7D-4C27-A494-4A76E1C1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DB87B-E983-4030-A049-FFCF14A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E9D26-8AD6-4219-8129-2CA13B9D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07D2B-C6FB-4214-89AC-A6FE5091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FAB40-E2AB-47EA-A4C8-05A5398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0589-1BC4-4C63-AEE3-31FD17DE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53918-5A5F-4F87-A0C6-27B2A40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C66CE-0122-488E-AE80-BB5FA9B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D4532-3E23-42C9-AEA2-7C4E7BF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1D877-CF06-4A56-920C-9093E03B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FF95C-FA89-4FE4-93AD-0554DF3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316E0-E46C-46B0-BE0B-4E9B7348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F0A04-6C6A-4EDC-8BAF-6EBA519B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ED05-2354-4177-861F-988FD5C5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0C7C-79F1-450F-8EBE-AECD8AB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D09A-CB46-407A-AE1A-72D284D0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268E-0069-4EE5-8041-8289013D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641F-DD1A-43C4-902D-4EA24075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05CD-EF64-4C62-8339-91228ADD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E55-C22E-4749-8965-E4EEFC969C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" name="组合 1029"/>
          <p:cNvGrpSpPr/>
          <p:nvPr/>
        </p:nvGrpSpPr>
        <p:grpSpPr>
          <a:xfrm>
            <a:off x="-4680" y="934920"/>
            <a:ext cx="9149760" cy="95760"/>
            <a:chOff x="-4680" y="934920"/>
            <a:chExt cx="9149760" cy="95760"/>
          </a:xfrm>
        </p:grpSpPr>
        <p:grpSp>
          <p:nvGrpSpPr>
            <p:cNvPr id="5" name=""/>
            <p:cNvGrpSpPr/>
            <p:nvPr/>
          </p:nvGrpSpPr>
          <p:grpSpPr>
            <a:xfrm>
              <a:off x="0" y="934920"/>
              <a:ext cx="9143640" cy="360"/>
              <a:chOff x="0" y="934920"/>
              <a:chExt cx="9143640" cy="360"/>
            </a:xfrm>
          </p:grpSpPr>
          <p:sp>
            <p:nvSpPr>
              <p:cNvPr id="6" name="直接连接符 1030"/>
              <p:cNvSpPr/>
              <p:nvPr/>
            </p:nvSpPr>
            <p:spPr>
              <a:xfrm>
                <a:off x="0" y="93492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 txBox="1"/>
              <p:nvPr/>
            </p:nvSpPr>
            <p:spPr>
              <a:xfrm>
                <a:off x="0" y="9349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1440" y="963360"/>
              <a:ext cx="9143640" cy="360"/>
              <a:chOff x="1440" y="963360"/>
              <a:chExt cx="9143640" cy="360"/>
            </a:xfrm>
          </p:grpSpPr>
          <p:sp>
            <p:nvSpPr>
              <p:cNvPr id="9" name="直接连接符 1031"/>
              <p:cNvSpPr/>
              <p:nvPr/>
            </p:nvSpPr>
            <p:spPr>
              <a:xfrm>
                <a:off x="1440" y="96336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 txBox="1"/>
              <p:nvPr/>
            </p:nvSpPr>
            <p:spPr>
              <a:xfrm>
                <a:off x="1440" y="96336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4680" y="995400"/>
              <a:ext cx="9143640" cy="360"/>
              <a:chOff x="-4680" y="995400"/>
              <a:chExt cx="9143640" cy="360"/>
            </a:xfrm>
          </p:grpSpPr>
          <p:sp>
            <p:nvSpPr>
              <p:cNvPr id="12" name="直接连接符 1032"/>
              <p:cNvSpPr/>
              <p:nvPr/>
            </p:nvSpPr>
            <p:spPr>
              <a:xfrm>
                <a:off x="-4680" y="99540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 txBox="1"/>
              <p:nvPr/>
            </p:nvSpPr>
            <p:spPr>
              <a:xfrm>
                <a:off x="-4680" y="99540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-3240" y="1030320"/>
              <a:ext cx="9143640" cy="360"/>
              <a:chOff x="-3240" y="1030320"/>
              <a:chExt cx="9143640" cy="360"/>
            </a:xfrm>
          </p:grpSpPr>
          <p:sp>
            <p:nvSpPr>
              <p:cNvPr id="15" name="直接连接符 1033"/>
              <p:cNvSpPr/>
              <p:nvPr/>
            </p:nvSpPr>
            <p:spPr>
              <a:xfrm>
                <a:off x="-3240" y="103032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 txBox="1"/>
              <p:nvPr/>
            </p:nvSpPr>
            <p:spPr>
              <a:xfrm>
                <a:off x="-3240" y="10303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466-B885-4AC8-9C28-04E180FB43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B08-13E0-4CB5-9408-13FEE46149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2054"/>
          <p:cNvSpPr/>
          <p:nvPr/>
        </p:nvSpPr>
        <p:spPr>
          <a:xfrm>
            <a:off x="301680" y="3808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200"/>
                </a:solidFill>
                <a:latin typeface="Arial Black"/>
                <a:ea typeface="Arial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7200" y="6400440"/>
            <a:ext cx="2362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317-2F70-4009-8D01-A48497F5D953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200"/>
                </a:solidFill>
                <a:latin typeface="Arial"/>
              </a:rPr>
              <a:t>欧美风格商务</a:t>
            </a:r>
            <a:r>
              <a:rPr b="1" lang="zh-CN" sz="4000" spc="-1" strike="noStrike">
                <a:solidFill>
                  <a:srgbClr val="333200"/>
                </a:solidFill>
                <a:latin typeface="Arial"/>
                <a:ea typeface="宋体"/>
              </a:rPr>
              <a:t>幻灯片打包下载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37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319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20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7ab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ab15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7ab15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2602c"/>
                </a:gs>
                <a:gs pos="50000">
                  <a:srgbClr val="7ab151"/>
                </a:gs>
                <a:gs pos="100000">
                  <a:srgbClr val="4260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e7033"/>
                </a:gs>
                <a:gs pos="100000">
                  <a:srgbClr val="7ab15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299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299b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55361"/>
                </a:gs>
                <a:gs pos="50000">
                  <a:srgbClr val="6299b4"/>
                </a:gs>
                <a:gs pos="100000">
                  <a:srgbClr val="3553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e6172"/>
                </a:gs>
                <a:gs pos="100000">
                  <a:srgbClr val="6299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6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2771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27710">
                    <a:alpha val="32156"/>
                  </a:srgbClr>
                </a:gs>
                <a:gs pos="100000">
                  <a:srgbClr val="3c3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64009"/>
                </a:gs>
                <a:gs pos="50000">
                  <a:srgbClr val="827710"/>
                </a:gs>
                <a:gs pos="100000">
                  <a:srgbClr val="46400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34c0a"/>
                </a:gs>
                <a:gs pos="100000">
                  <a:srgbClr val="82771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46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51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4337"/>
          <p:cNvGrpSpPr/>
          <p:nvPr/>
        </p:nvGrpSpPr>
        <p:grpSpPr>
          <a:xfrm>
            <a:off x="1371600" y="1143000"/>
            <a:ext cx="5715000" cy="4842000"/>
            <a:chOff x="1371600" y="1143000"/>
            <a:chExt cx="5715000" cy="4842000"/>
          </a:xfrm>
        </p:grpSpPr>
        <p:sp>
          <p:nvSpPr>
            <p:cNvPr id="359" name="矩形 14338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cfccb6"/>
                </a:gs>
                <a:gs pos="100000">
                  <a:srgbClr val="a19c71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4339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d1cfba"/>
                </a:gs>
                <a:gs pos="100000">
                  <a:srgbClr val="a19c71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4340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e3e1d4"/>
                </a:gs>
                <a:gs pos="100000">
                  <a:srgbClr val="a19c71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4341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63" name="组合 14342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64" name="椭圆 14343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99b4"/>
                    </a:gs>
                    <a:gs pos="100000">
                      <a:srgbClr val="1825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14344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299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4345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14346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68" name="组合 14347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69" name="椭圆 14348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7710"/>
                    </a:gs>
                    <a:gs pos="100000">
                      <a:srgbClr val="201d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任意多边形 14349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277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14350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4351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73" name="组合 14352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74" name="椭圆 14353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任意多边形 14354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文本框 14355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14356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78" name="组合 14357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79" name="椭圆 14358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f5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任意多边形 14359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ab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14360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384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85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a19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299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1538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299b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55361"/>
                </a:gs>
                <a:gs pos="50000">
                  <a:srgbClr val="6299b4"/>
                </a:gs>
                <a:gs pos="100000">
                  <a:srgbClr val="3553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1538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e6172"/>
                </a:gs>
                <a:gs pos="100000">
                  <a:srgbClr val="6299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0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16" name="组合 16386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17" name="圆角矩形 16387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16388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16389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16390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16391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22" name="椭圆 16392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16393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椭圆 16394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16395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16396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文本框 16397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16398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16399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30" name="圆角矩形 16400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16401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16402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16403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组合 16404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35" name="椭圆 16405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16406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16407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16408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椭圆 16409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文本框 16410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16411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6412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43" name="圆角矩形 16413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16414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16415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16416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16417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6418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6419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420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6421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文本框 16422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16423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55" name="组合 1741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56" name="组合 17411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57" name="矩形 17412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矩形 17413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17414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60" name="组合 17415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61" name="组合 17416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62" name="任意多边形 17417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任意多边形 1741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组合 17419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65" name="任意多边形 17420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任意多边形 17421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组合 1742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68" name="椭圆 1742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椭圆 1742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椭圆 17425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17426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27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组合 17428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74" name="椭圆 17429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椭圆 17430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椭圆 17431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17432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文本框 1743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文本框 17434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81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82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83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86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8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89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95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9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02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03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04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07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0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5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16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0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23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24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25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28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0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36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43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7" name="直接箭头连接符 17502"/>
              <p:cNvCxnSpPr>
                <a:stCxn id="543" idx="3"/>
                <a:endCxn id="544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  <p:cxnSp>
            <p:nvCxnSpPr>
              <p:cNvPr id="548" name="直接箭头连接符 17503"/>
              <p:cNvCxnSpPr>
                <a:stCxn id="544" idx="3"/>
                <a:endCxn id="545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  <p:cxnSp>
            <p:nvCxnSpPr>
              <p:cNvPr id="549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551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2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54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27710"/>
                  </a:gs>
                  <a:gs pos="100000">
                    <a:srgbClr val="5b530b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b57d"/>
                  </a:gs>
                  <a:gs pos="50000">
                    <a:srgbClr val="827710">
                      <a:alpha val="0"/>
                    </a:srgbClr>
                  </a:gs>
                  <a:gs pos="100000">
                    <a:srgbClr val="bbb5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59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61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c681"/>
                  </a:gs>
                  <a:gs pos="100000">
                    <a:srgbClr val="7ab151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eb5"/>
                  </a:gs>
                  <a:gs pos="100000">
                    <a:srgbClr val="7ab15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66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68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bbecf"/>
                  </a:gs>
                  <a:gs pos="100000">
                    <a:srgbClr val="6299b4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ddb"/>
                  </a:gs>
                  <a:gs pos="100000">
                    <a:srgbClr val="6299b4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573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8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385225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80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6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385225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2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835200" y="2316240"/>
          <a:ext cx="7397640" cy="30589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771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608" name="组合 21506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609" name="椭圆 21507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f3d2c"/>
                </a:gs>
                <a:gs pos="50000">
                  <a:srgbClr val="a19c71"/>
                </a:gs>
                <a:gs pos="100000">
                  <a:srgbClr val="3f3d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21508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21509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b151"/>
                </a:gs>
                <a:gs pos="100000">
                  <a:srgbClr val="a6cb8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21510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827710"/>
                </a:gs>
                <a:gs pos="100000">
                  <a:srgbClr val="4f480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21511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1512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 21513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e8e7dc"/>
                </a:gs>
                <a:gs pos="100000">
                  <a:srgbClr val="a19c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21514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21515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21516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21517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620" name="任意多边形 21518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c5d6d"/>
                  </a:gs>
                  <a:gs pos="100000">
                    <a:srgbClr val="6299b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 21519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99b4"/>
                  </a:gs>
                  <a:gs pos="100000">
                    <a:srgbClr val="2d4753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 21520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99b4"/>
                  </a:gs>
                  <a:gs pos="100000">
                    <a:srgbClr val="2d475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文本框 21521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文本框 21522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21523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21524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21525"/>
          <p:cNvSpPr/>
          <p:nvPr/>
        </p:nvSpPr>
        <p:spPr>
          <a:xfrm>
            <a:off x="1143000" y="13716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15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629" name="组合 22530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630" name="上箭头 22531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7ab151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22532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27710"/>
                </a:gs>
                <a:gs pos="50000">
                  <a:srgbClr val="e1dec5"/>
                </a:gs>
                <a:gs pos="100000">
                  <a:srgbClr val="82771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22533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22534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634" name="组合 22535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635" name="椭圆 22536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任意多边形 22537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文本框 22538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组合 22539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639" name="组合 22540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640" name="椭圆 22541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99b4"/>
                    </a:gs>
                    <a:gs pos="100000">
                      <a:srgbClr val="1825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任意多边形 22542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299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文本框 22543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2544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644" name="组合 22545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645" name="椭圆 22546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f5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22547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ab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文本框 22548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组合 22549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649" name="组合 22550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650" name="椭圆 22551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7710"/>
                    </a:gs>
                    <a:gs pos="100000">
                      <a:srgbClr val="433d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 22552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277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文本框 22553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40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2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e9c9"/>
                </a:gs>
                <a:gs pos="100000">
                  <a:srgbClr val="cc990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7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2cc"/>
                </a:gs>
                <a:gs pos="100000">
                  <a:srgbClr val="82771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27710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2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d4c9"/>
                </a:gs>
                <a:gs pos="100000">
                  <a:srgbClr val="33320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ab151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7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e9ef"/>
                </a:gs>
                <a:gs pos="100000">
                  <a:srgbClr val="6299b4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299b4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0A88-8F1E-4EF6-A6C1-B08311E6C1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23553"/>
          <p:cNvSpPr txBox="1"/>
          <p:nvPr/>
        </p:nvSpPr>
        <p:spPr>
          <a:xfrm>
            <a:off x="2133720" y="2362320"/>
            <a:ext cx="5340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eedd9e"/>
                  </a:solidFill>
                  <a:round/>
                </a:ln>
                <a:gradFill rotWithShape="0">
                  <a:gsLst>
                    <a:gs pos="0">
                      <a:srgbClr val="7ab151"/>
                    </a:gs>
                    <a:gs pos="100000">
                      <a:srgbClr val="827710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eedd9e"/>
                </a:solidFill>
                <a:round/>
              </a:ln>
              <a:gradFill rotWithShape="0">
                <a:gsLst>
                  <a:gs pos="0">
                    <a:srgbClr val="7ab151"/>
                  </a:gs>
                  <a:gs pos="100000">
                    <a:srgbClr val="827710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8200" y="1592280"/>
            <a:ext cx="799128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332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2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164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5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d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0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1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2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b562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4dcb2"/>
                    </a:gs>
                    <a:gs pos="100000">
                      <a:srgbClr val="7ab15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c3707"/>
                  </a:gs>
                  <a:gs pos="100000">
                    <a:srgbClr val="82771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827710">
                      <a:alpha val="0"/>
                    </a:srgbClr>
                  </a:gs>
                  <a:gs pos="100000">
                    <a:srgbClr val="d3d0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75e0d"/>
                  </a:gs>
                  <a:gs pos="100000">
                    <a:srgbClr val="82771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771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0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ab151"/>
              </a:gs>
              <a:gs pos="100000">
                <a:srgbClr val="d5e6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184" name="组合 819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5" name="圆柱形 8195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柱形 8196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柱形 8197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8198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8199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8200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左箭头 8201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a19c71"/>
                </a:gs>
                <a:gs pos="100000">
                  <a:srgbClr val="4b4834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8202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8203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8204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8205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右箭头 8206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4b4834">
                    <a:alpha val="12156"/>
                  </a:srgbClr>
                </a:gs>
                <a:gs pos="100000">
                  <a:srgbClr val="a19c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圆柱形 8207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上箭头 8208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a19c71"/>
                </a:gs>
                <a:gs pos="100000">
                  <a:srgbClr val="c3c0a5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209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柱形 8210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85225"/>
                </a:gs>
                <a:gs pos="50000">
                  <a:srgbClr val="7ab151"/>
                </a:gs>
                <a:gs pos="100000">
                  <a:srgbClr val="3852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211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下箭头 8212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c3c0a5">
                    <a:alpha val="12156"/>
                  </a:srgbClr>
                </a:gs>
                <a:gs pos="100000">
                  <a:srgbClr val="a19c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04" name="组合 9218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05" name="任意多边形 9219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3e1d4">
                    <a:alpha val="36078"/>
                  </a:srgbClr>
                </a:gs>
                <a:gs pos="100000">
                  <a:srgbClr val="a19c71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922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2a3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922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27710"/>
                </a:gs>
                <a:gs pos="100000">
                  <a:srgbClr val="2925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922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9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922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a19c71"/>
                </a:gs>
                <a:gs pos="100000">
                  <a:srgbClr val="3938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922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299b4"/>
                </a:gs>
                <a:gs pos="100000">
                  <a:srgbClr val="22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9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923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8" name="直接连接符 923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0" name="直接箭头连接符 923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1" name="文本框 923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23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4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25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ab15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2602c"/>
                  </a:gs>
                  <a:gs pos="50000">
                    <a:srgbClr val="7ab151"/>
                  </a:gs>
                  <a:gs pos="100000">
                    <a:srgbClr val="4260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eedd9e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49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0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1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54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57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0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63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66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69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72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75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82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85225"/>
                  </a:gs>
                  <a:gs pos="50000">
                    <a:srgbClr val="7ab151"/>
                  </a:gs>
                  <a:gs pos="100000">
                    <a:srgbClr val="3852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ab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d4753"/>
                  </a:gs>
                  <a:gs pos="50000">
                    <a:srgbClr val="6299b4"/>
                  </a:gs>
                  <a:gs pos="100000">
                    <a:srgbClr val="2d47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707"/>
                  </a:gs>
                  <a:gs pos="50000">
                    <a:srgbClr val="827710"/>
                  </a:gs>
                  <a:gs pos="100000">
                    <a:srgbClr val="3c370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277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46f00"/>
                  </a:gs>
                  <a:gs pos="50000">
                    <a:srgbClr val="cc9900"/>
                  </a:gs>
                  <a:gs pos="100000">
                    <a:srgbClr val="94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9803b"/>
                  </a:gs>
                  <a:gs pos="50000">
                    <a:srgbClr val="7ab151"/>
                  </a:gs>
                  <a:gs pos="100000">
                    <a:srgbClr val="5980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29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76f83"/>
                  </a:gs>
                  <a:gs pos="50000">
                    <a:srgbClr val="6299b4"/>
                  </a:gs>
                  <a:gs pos="100000">
                    <a:srgbClr val="476f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e560c"/>
                  </a:gs>
                  <a:gs pos="50000">
                    <a:srgbClr val="827710"/>
                  </a:gs>
                  <a:gs pos="100000">
                    <a:srgbClr val="5e56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96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97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6b861">
                    <a:alpha val="32156"/>
                  </a:srgbClr>
                </a:gs>
                <a:gs pos="100000">
                  <a:srgbClr val="7ab1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ab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5225"/>
                </a:gs>
                <a:gs pos="50000">
                  <a:srgbClr val="7ab151"/>
                </a:gs>
                <a:gs pos="100000">
                  <a:srgbClr val="3852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4c4d4">
                    <a:alpha val="32156"/>
                  </a:srgbClr>
                </a:gs>
                <a:gs pos="100000">
                  <a:srgbClr val="6299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dd9e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0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299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63b46"/>
                  </a:gs>
                  <a:gs pos="50000">
                    <a:srgbClr val="6299b4"/>
                  </a:gs>
                  <a:gs pos="100000">
                    <a:srgbClr val="263b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eed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eed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19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