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276E-94CF-4B77-9E3A-A6DC51044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C05E-7209-4383-BB96-CFECBB9D8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B4CB-2E96-4DFB-829F-B362200C0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E483-92A6-4614-BF72-E8B6D4056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168B2-1FB4-4B58-8F78-DF908134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B2EAF-49AD-472C-BC78-5621C84E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79F8-23BE-42AE-AA02-EA8A421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255A6-40B7-43D9-91BA-3126F9C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B2DF-C59D-41C5-B69C-95F50AC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E05BC-E3B1-4BD9-A5F1-D6D30738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C2D04-8DF9-4A0C-8DFF-A07097F3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EB13-3463-4AC9-B0D3-90D98299C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628CB-BF5D-4678-BC16-457AF93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2946-23A0-499F-AD17-1DC4339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A0A7-FA49-46C5-8035-E7622DD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3B6D-3A7A-47D9-9F61-CE863A74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DC27C-8608-486C-A57F-FDFC42AC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1154E-863D-4F4C-AF09-CF38A792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397A0-954C-4CE0-8A3F-DEBC8C7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A3582-A11A-4D12-A590-23647EC5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80B46-657D-4C9A-B7B5-CF6820A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DF291-E5F0-44BC-AFA6-74AB087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ACAD-129D-478A-B672-2378807135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5E276-FB3E-4313-B188-77F1427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98929-B312-49BA-AC37-EE50682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5B463-217E-44F3-88EE-DD7CFAB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0B60F-9952-4956-B8F4-9C1BB76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DF778-E826-435A-B146-FFC9D0C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0995B-8A75-4938-BBD1-E1BD9193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3FBE0-683D-4CE9-95F2-212FD21F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8DA1-910E-4311-8B06-ACC1ED82F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47E1-5908-4250-9564-091EE2416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2FBE-B47D-4199-B14F-ED32B5903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1061-1DB5-4394-8664-26F0F634A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D7EE-2929-4A88-9EFE-E8B3E3BD2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7168-F33D-448C-A577-F628A656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对象 1027" descr=""/>
          <p:cNvPicPr/>
          <p:nvPr/>
        </p:nvPicPr>
        <p:blipFill>
          <a:blip r:embed="rId2"/>
          <a:stretch/>
        </p:blipFill>
        <p:spPr>
          <a:xfrm>
            <a:off x="0" y="0"/>
            <a:ext cx="90914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28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B70-8B2C-41BB-AABD-51A89A5B65D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圆角矩形 1031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任意多边形 1032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任意多边形 1033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任意多边形 1034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任意多边形 1035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椭圆 1036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椭圆 1037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椭圆 1038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5EB-CF0F-49E9-A73E-D79824544D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750-8B78-455D-828C-52150C6825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049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图片 2050" descr="AA053737"/>
          <p:cNvPicPr/>
          <p:nvPr/>
        </p:nvPicPr>
        <p:blipFill>
          <a:blip r:embed="rId2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对象 205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2017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2056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98" name="圆角矩形 2057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任意多边形 2058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任意多边形 2059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任意多边形 2060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任意多边形 2061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" name="椭圆 2062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椭圆 2063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椭圆 2064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6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7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8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A0A-72C2-4F60-9C14-99E5D621B8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31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欧美风格商务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组合 13314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362" name="燕尾形 13315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燕尾形 13316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椭圆 13317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椭圆 13318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椭圆 13319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椭圆 13320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椭圆 13321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椭圆 1332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椭圆 13323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66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椭圆 13324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50000">
                  <a:srgbClr val="666699"/>
                </a:gs>
                <a:gs pos="100000">
                  <a:srgbClr val="37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椭圆 13325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椭圆 13326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4" name="组合 13327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375" name="椭圆 13328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6" name="椭圆 13329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7" name="椭圆 13330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椭圆 13331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9" name="椭圆 13332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4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椭圆 13333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6a4d0">
                    <a:alpha val="32156"/>
                  </a:srgbClr>
                </a:gs>
                <a:gs pos="100000">
                  <a:srgbClr val="194c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椭圆 13334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d5971"/>
                </a:gs>
                <a:gs pos="50000">
                  <a:srgbClr val="36a4d0"/>
                </a:gs>
                <a:gs pos="100000">
                  <a:srgbClr val="1d59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椭圆 13335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226884"/>
                </a:gs>
                <a:gs pos="100000">
                  <a:srgbClr val="36a4d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椭圆 13336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组合 13337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85" name="椭圆 13338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椭圆 13339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7" name="椭圆 13340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8" name="椭圆 13341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13342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90" name="椭圆 13343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椭圆 13344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椭圆 13345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椭圆 13346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4" name="圆角矩形 13347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圆角矩形 13348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圆角矩形 13349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文本框 13350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文本框 13351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文本框 13352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00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组合 14338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403" name="任意多边形 14339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36a4d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文本框 14340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椭圆 14341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椭圆 14342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椭圆 14343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椭圆 14344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椭圆 14345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文本框 14346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椭圆 14347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12" name="组合 14348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413" name="椭圆 14349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椭圆 14350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椭圆 14351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椭圆 14352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文本框 14353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18" name="椭圆 14354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椭圆 14355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椭圆 14356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椭圆 14357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椭圆 14358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文本框 14359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椭圆 14360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椭圆 14361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椭圆 14362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椭圆 14363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椭圆 14364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文本框 14365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0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33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椭圆 1538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椭圆 1538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7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8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62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3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组合 16386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466" name="圆角矩形 16387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f3ec"/>
                </a:gs>
              </a:gsLst>
              <a:lin ang="5400000"/>
            </a:gradFill>
            <a:ln w="2556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467" name="对象 16388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圆角矩形 16389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八边形 16390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八边形 16391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圆角矩形 16392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c8e6f2"/>
                </a:gs>
              </a:gsLst>
              <a:lin ang="5400000"/>
            </a:gradFill>
            <a:ln w="25560">
              <a:solidFill>
                <a:srgbClr val="36a4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472" name="对象 16393" descr=""/>
            <p:cNvPicPr/>
            <p:nvPr/>
          </p:nvPicPr>
          <p:blipFill>
            <a:blip r:embed="rId2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圆角矩形 16394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八边形 16395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八边形 16396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76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组合 17410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79" name="圆角矩形 17411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圆角矩形 17412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圆角矩形 17413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圆角矩形 17414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圆角矩形 17415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圆角矩形 17416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5" name="组合 17417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86" name="椭圆 17418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椭圆 17419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椭圆 17420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9" name="椭圆 17421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椭圆 17422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91" name="文本框 17423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文本框 17424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93" name="组合 17425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94" name="圆角矩形 17426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圆角矩形 17427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圆角矩形 17428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圆角矩形 17429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椭圆 17430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椭圆 17431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椭圆 17432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椭圆 17433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椭圆 17434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文本框 17435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文本框 17436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圆角矩形 17437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圆角矩形 17438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07" name="组合 17439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508" name="圆角矩形 17440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圆角矩形 17441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圆角矩形 17442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圆角矩形 17443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2" name="组合 17444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13" name="椭圆 17445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椭圆 17446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椭圆 17447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椭圆 17448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椭圆 17449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8" name="文本框 17450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文本框 17451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圆角矩形 17452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圆角矩形 17453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2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组合 18434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525" name="组合 18435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526" name="矩形 18436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矩形 18437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18438"/>
            <p:cNvGrpSpPr/>
            <p:nvPr/>
          </p:nvGrpSpPr>
          <p:grpSpPr>
            <a:xfrm>
              <a:off x="1379520" y="2609640"/>
              <a:ext cx="1931760" cy="3265200"/>
              <a:chOff x="1379520" y="2609640"/>
              <a:chExt cx="1931760" cy="3265200"/>
            </a:xfrm>
          </p:grpSpPr>
          <p:grpSp>
            <p:nvGrpSpPr>
              <p:cNvPr id="529" name="组合 18439"/>
              <p:cNvGrpSpPr/>
              <p:nvPr/>
            </p:nvGrpSpPr>
            <p:grpSpPr>
              <a:xfrm>
                <a:off x="1785240" y="3450240"/>
                <a:ext cx="1526040" cy="2424600"/>
                <a:chOff x="1785240" y="3450240"/>
                <a:chExt cx="1526040" cy="2424600"/>
              </a:xfrm>
            </p:grpSpPr>
            <p:grpSp>
              <p:nvGrpSpPr>
                <p:cNvPr id="530" name="组合 18440"/>
                <p:cNvGrpSpPr/>
                <p:nvPr/>
              </p:nvGrpSpPr>
              <p:grpSpPr>
                <a:xfrm>
                  <a:off x="1785240" y="3607920"/>
                  <a:ext cx="1420200" cy="2266920"/>
                  <a:chOff x="1785240" y="3607920"/>
                  <a:chExt cx="1420200" cy="2266920"/>
                </a:xfrm>
              </p:grpSpPr>
              <p:sp>
                <p:nvSpPr>
                  <p:cNvPr id="531" name="任意多边形 18441"/>
                  <p:cNvSpPr/>
                  <p:nvPr/>
                </p:nvSpPr>
                <p:spPr>
                  <a:xfrm rot="3876600">
                    <a:off x="13575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18442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18443"/>
                <p:cNvGrpSpPr/>
                <p:nvPr/>
              </p:nvGrpSpPr>
              <p:grpSpPr>
                <a:xfrm>
                  <a:off x="2221560" y="3450240"/>
                  <a:ext cx="1089720" cy="1739520"/>
                  <a:chOff x="2221560" y="3450240"/>
                  <a:chExt cx="1089720" cy="1739520"/>
                </a:xfrm>
              </p:grpSpPr>
              <p:sp>
                <p:nvSpPr>
                  <p:cNvPr id="534" name="任意多边形 18444"/>
                  <p:cNvSpPr/>
                  <p:nvPr/>
                </p:nvSpPr>
                <p:spPr>
                  <a:xfrm flipV="1" rot="3876600">
                    <a:off x="18928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18445"/>
                  <p:cNvSpPr/>
                  <p:nvPr/>
                </p:nvSpPr>
                <p:spPr>
                  <a:xfrm flipV="1" rot="3876600">
                    <a:off x="29268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组合 18446"/>
              <p:cNvGrpSpPr/>
              <p:nvPr/>
            </p:nvGrpSpPr>
            <p:grpSpPr>
              <a:xfrm>
                <a:off x="1379520" y="2609640"/>
                <a:ext cx="1270440" cy="1309320"/>
                <a:chOff x="1379520" y="2609640"/>
                <a:chExt cx="1270440" cy="1309320"/>
              </a:xfrm>
            </p:grpSpPr>
            <p:sp>
              <p:nvSpPr>
                <p:cNvPr id="537" name="椭圆 18447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8448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8449"/>
                <p:cNvSpPr/>
                <p:nvPr/>
              </p:nvSpPr>
              <p:spPr>
                <a:xfrm>
                  <a:off x="14634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8450"/>
                <p:cNvSpPr/>
                <p:nvPr/>
              </p:nvSpPr>
              <p:spPr>
                <a:xfrm>
                  <a:off x="14634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18451"/>
                <p:cNvSpPr/>
                <p:nvPr/>
              </p:nvSpPr>
              <p:spPr>
                <a:xfrm>
                  <a:off x="15181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组合 18452"/>
                <p:cNvGrpSpPr/>
                <p:nvPr/>
              </p:nvGrpSpPr>
              <p:grpSpPr>
                <a:xfrm>
                  <a:off x="1533240" y="2768040"/>
                  <a:ext cx="962280" cy="992880"/>
                  <a:chOff x="1533240" y="2768040"/>
                  <a:chExt cx="962280" cy="992880"/>
                </a:xfrm>
              </p:grpSpPr>
              <p:sp>
                <p:nvSpPr>
                  <p:cNvPr id="543" name="椭圆 18453"/>
                  <p:cNvSpPr/>
                  <p:nvPr/>
                </p:nvSpPr>
                <p:spPr>
                  <a:xfrm>
                    <a:off x="15332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8454"/>
                  <p:cNvSpPr/>
                  <p:nvPr/>
                </p:nvSpPr>
                <p:spPr>
                  <a:xfrm>
                    <a:off x="15454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18455"/>
                  <p:cNvSpPr/>
                  <p:nvPr/>
                </p:nvSpPr>
                <p:spPr>
                  <a:xfrm>
                    <a:off x="15552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18456"/>
                  <p:cNvSpPr/>
                  <p:nvPr/>
                </p:nvSpPr>
                <p:spPr>
                  <a:xfrm>
                    <a:off x="16077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文本框 18457"/>
              <p:cNvSpPr/>
              <p:nvPr/>
            </p:nvSpPr>
            <p:spPr>
              <a:xfrm rot="3925800">
                <a:off x="174636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文本框 18458"/>
              <p:cNvSpPr/>
              <p:nvPr/>
            </p:nvSpPr>
            <p:spPr>
              <a:xfrm rot="3925800">
                <a:off x="2207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18459"/>
            <p:cNvGrpSpPr/>
            <p:nvPr/>
          </p:nvGrpSpPr>
          <p:grpSpPr>
            <a:xfrm>
              <a:off x="3127320" y="2609640"/>
              <a:ext cx="1931040" cy="3265200"/>
              <a:chOff x="3127320" y="2609640"/>
              <a:chExt cx="1931040" cy="3265200"/>
            </a:xfrm>
          </p:grpSpPr>
          <p:grpSp>
            <p:nvGrpSpPr>
              <p:cNvPr id="550" name="组合 18460"/>
              <p:cNvGrpSpPr/>
              <p:nvPr/>
            </p:nvGrpSpPr>
            <p:grpSpPr>
              <a:xfrm>
                <a:off x="3531960" y="3450240"/>
                <a:ext cx="1526400" cy="2424600"/>
                <a:chOff x="3531960" y="3450240"/>
                <a:chExt cx="1526400" cy="2424600"/>
              </a:xfrm>
            </p:grpSpPr>
            <p:grpSp>
              <p:nvGrpSpPr>
                <p:cNvPr id="551" name="组合 18461"/>
                <p:cNvGrpSpPr/>
                <p:nvPr/>
              </p:nvGrpSpPr>
              <p:grpSpPr>
                <a:xfrm>
                  <a:off x="3531960" y="3607920"/>
                  <a:ext cx="1420200" cy="2266920"/>
                  <a:chOff x="3531960" y="3607920"/>
                  <a:chExt cx="1420200" cy="2266920"/>
                </a:xfrm>
              </p:grpSpPr>
              <p:sp>
                <p:nvSpPr>
                  <p:cNvPr id="552" name="任意多边形 18462"/>
                  <p:cNvSpPr/>
                  <p:nvPr/>
                </p:nvSpPr>
                <p:spPr>
                  <a:xfrm rot="3876600">
                    <a:off x="310428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18463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组合 18464"/>
                <p:cNvGrpSpPr/>
                <p:nvPr/>
              </p:nvGrpSpPr>
              <p:grpSpPr>
                <a:xfrm>
                  <a:off x="3968280" y="3450240"/>
                  <a:ext cx="1090080" cy="1739520"/>
                  <a:chOff x="3968280" y="3450240"/>
                  <a:chExt cx="1090080" cy="1739520"/>
                </a:xfrm>
              </p:grpSpPr>
              <p:sp>
                <p:nvSpPr>
                  <p:cNvPr id="555" name="任意多边形 18465"/>
                  <p:cNvSpPr/>
                  <p:nvPr/>
                </p:nvSpPr>
                <p:spPr>
                  <a:xfrm flipV="1" rot="3876600">
                    <a:off x="3639960" y="413100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18466"/>
                  <p:cNvSpPr/>
                  <p:nvPr/>
                </p:nvSpPr>
                <p:spPr>
                  <a:xfrm flipV="1" rot="3876600">
                    <a:off x="4673880" y="48121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7" name="组合 18467"/>
              <p:cNvGrpSpPr/>
              <p:nvPr/>
            </p:nvGrpSpPr>
            <p:grpSpPr>
              <a:xfrm>
                <a:off x="3127320" y="2609640"/>
                <a:ext cx="1270440" cy="1309320"/>
                <a:chOff x="3127320" y="2609640"/>
                <a:chExt cx="1270440" cy="1309320"/>
              </a:xfrm>
            </p:grpSpPr>
            <p:sp>
              <p:nvSpPr>
                <p:cNvPr id="558" name="椭圆 18468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59" name="椭圆 18469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18470"/>
                <p:cNvSpPr/>
                <p:nvPr/>
              </p:nvSpPr>
              <p:spPr>
                <a:xfrm>
                  <a:off x="32112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18471"/>
                <p:cNvSpPr/>
                <p:nvPr/>
              </p:nvSpPr>
              <p:spPr>
                <a:xfrm>
                  <a:off x="32112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8472"/>
                <p:cNvSpPr/>
                <p:nvPr/>
              </p:nvSpPr>
              <p:spPr>
                <a:xfrm>
                  <a:off x="32659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组合 18473"/>
                <p:cNvGrpSpPr/>
                <p:nvPr/>
              </p:nvGrpSpPr>
              <p:grpSpPr>
                <a:xfrm>
                  <a:off x="3281040" y="2768040"/>
                  <a:ext cx="962280" cy="992880"/>
                  <a:chOff x="3281040" y="2768040"/>
                  <a:chExt cx="962280" cy="992880"/>
                </a:xfrm>
              </p:grpSpPr>
              <p:sp>
                <p:nvSpPr>
                  <p:cNvPr id="564" name="椭圆 18474"/>
                  <p:cNvSpPr/>
                  <p:nvPr/>
                </p:nvSpPr>
                <p:spPr>
                  <a:xfrm>
                    <a:off x="32810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椭圆 18475"/>
                  <p:cNvSpPr/>
                  <p:nvPr/>
                </p:nvSpPr>
                <p:spPr>
                  <a:xfrm>
                    <a:off x="32932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椭圆 18476"/>
                  <p:cNvSpPr/>
                  <p:nvPr/>
                </p:nvSpPr>
                <p:spPr>
                  <a:xfrm>
                    <a:off x="33030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椭圆 18477"/>
                  <p:cNvSpPr/>
                  <p:nvPr/>
                </p:nvSpPr>
                <p:spPr>
                  <a:xfrm>
                    <a:off x="33555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8" name="文本框 18478"/>
              <p:cNvSpPr/>
              <p:nvPr/>
            </p:nvSpPr>
            <p:spPr>
              <a:xfrm rot="3925800">
                <a:off x="348768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9" name="文本框 18479"/>
              <p:cNvSpPr/>
              <p:nvPr/>
            </p:nvSpPr>
            <p:spPr>
              <a:xfrm rot="3925800">
                <a:off x="394992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0" name="组合 18480"/>
            <p:cNvGrpSpPr/>
            <p:nvPr/>
          </p:nvGrpSpPr>
          <p:grpSpPr>
            <a:xfrm>
              <a:off x="4930920" y="2609640"/>
              <a:ext cx="1931760" cy="3265200"/>
              <a:chOff x="4930920" y="2609640"/>
              <a:chExt cx="1931760" cy="3265200"/>
            </a:xfrm>
          </p:grpSpPr>
          <p:grpSp>
            <p:nvGrpSpPr>
              <p:cNvPr id="571" name="组合 18481"/>
              <p:cNvGrpSpPr/>
              <p:nvPr/>
            </p:nvGrpSpPr>
            <p:grpSpPr>
              <a:xfrm>
                <a:off x="5336640" y="3450240"/>
                <a:ext cx="1526040" cy="2424600"/>
                <a:chOff x="5336640" y="3450240"/>
                <a:chExt cx="1526040" cy="2424600"/>
              </a:xfrm>
            </p:grpSpPr>
            <p:grpSp>
              <p:nvGrpSpPr>
                <p:cNvPr id="572" name="组合 18482"/>
                <p:cNvGrpSpPr/>
                <p:nvPr/>
              </p:nvGrpSpPr>
              <p:grpSpPr>
                <a:xfrm>
                  <a:off x="5336640" y="3607920"/>
                  <a:ext cx="1420200" cy="2266920"/>
                  <a:chOff x="5336640" y="3607920"/>
                  <a:chExt cx="1420200" cy="2266920"/>
                </a:xfrm>
              </p:grpSpPr>
              <p:sp>
                <p:nvSpPr>
                  <p:cNvPr id="573" name="任意多边形 18483"/>
                  <p:cNvSpPr/>
                  <p:nvPr/>
                </p:nvSpPr>
                <p:spPr>
                  <a:xfrm rot="3876600">
                    <a:off x="49089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任意多边形 18484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组合 18485"/>
                <p:cNvGrpSpPr/>
                <p:nvPr/>
              </p:nvGrpSpPr>
              <p:grpSpPr>
                <a:xfrm>
                  <a:off x="5772960" y="3450240"/>
                  <a:ext cx="1089720" cy="1739520"/>
                  <a:chOff x="5772960" y="3450240"/>
                  <a:chExt cx="1089720" cy="1739520"/>
                </a:xfrm>
              </p:grpSpPr>
              <p:sp>
                <p:nvSpPr>
                  <p:cNvPr id="576" name="任意多边形 18486"/>
                  <p:cNvSpPr/>
                  <p:nvPr/>
                </p:nvSpPr>
                <p:spPr>
                  <a:xfrm flipV="1" rot="3876600">
                    <a:off x="54442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任意多边形 18487"/>
                  <p:cNvSpPr/>
                  <p:nvPr/>
                </p:nvSpPr>
                <p:spPr>
                  <a:xfrm flipV="1" rot="3876600">
                    <a:off x="64782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8" name="组合 18488"/>
              <p:cNvGrpSpPr/>
              <p:nvPr/>
            </p:nvGrpSpPr>
            <p:grpSpPr>
              <a:xfrm>
                <a:off x="4930920" y="2609640"/>
                <a:ext cx="1272240" cy="1309320"/>
                <a:chOff x="4930920" y="2609640"/>
                <a:chExt cx="1272240" cy="1309320"/>
              </a:xfrm>
            </p:grpSpPr>
            <p:sp>
              <p:nvSpPr>
                <p:cNvPr id="579" name="椭圆 18489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0" name="椭圆 18490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18491"/>
                <p:cNvSpPr/>
                <p:nvPr/>
              </p:nvSpPr>
              <p:spPr>
                <a:xfrm>
                  <a:off x="5015160" y="26946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18492"/>
                <p:cNvSpPr/>
                <p:nvPr/>
              </p:nvSpPr>
              <p:spPr>
                <a:xfrm>
                  <a:off x="5015160" y="269748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3" name="椭圆 18493"/>
                <p:cNvSpPr/>
                <p:nvPr/>
              </p:nvSpPr>
              <p:spPr>
                <a:xfrm>
                  <a:off x="5069880" y="275256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84" name="组合 18494"/>
                <p:cNvGrpSpPr/>
                <p:nvPr/>
              </p:nvGrpSpPr>
              <p:grpSpPr>
                <a:xfrm>
                  <a:off x="5085000" y="2768040"/>
                  <a:ext cx="963720" cy="992880"/>
                  <a:chOff x="5085000" y="2768040"/>
                  <a:chExt cx="963720" cy="992880"/>
                </a:xfrm>
              </p:grpSpPr>
              <p:sp>
                <p:nvSpPr>
                  <p:cNvPr id="585" name="椭圆 18495"/>
                  <p:cNvSpPr/>
                  <p:nvPr/>
                </p:nvSpPr>
                <p:spPr>
                  <a:xfrm>
                    <a:off x="5085000" y="276804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椭圆 18496"/>
                  <p:cNvSpPr/>
                  <p:nvPr/>
                </p:nvSpPr>
                <p:spPr>
                  <a:xfrm>
                    <a:off x="5097240" y="277344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椭圆 18497"/>
                  <p:cNvSpPr/>
                  <p:nvPr/>
                </p:nvSpPr>
                <p:spPr>
                  <a:xfrm>
                    <a:off x="5107320" y="278280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椭圆 18498"/>
                  <p:cNvSpPr/>
                  <p:nvPr/>
                </p:nvSpPr>
                <p:spPr>
                  <a:xfrm>
                    <a:off x="5159520" y="280836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9" name="文本框 18499"/>
              <p:cNvSpPr/>
              <p:nvPr/>
            </p:nvSpPr>
            <p:spPr>
              <a:xfrm rot="3925800">
                <a:off x="530100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0" name="文本框 18500"/>
              <p:cNvSpPr/>
              <p:nvPr/>
            </p:nvSpPr>
            <p:spPr>
              <a:xfrm rot="3925800">
                <a:off x="5762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91" name="组合 18501"/>
            <p:cNvGrpSpPr/>
            <p:nvPr/>
          </p:nvGrpSpPr>
          <p:grpSpPr>
            <a:xfrm>
              <a:off x="6707160" y="2465280"/>
              <a:ext cx="2122200" cy="3476160"/>
              <a:chOff x="6707160" y="2465280"/>
              <a:chExt cx="2122200" cy="3476160"/>
            </a:xfrm>
          </p:grpSpPr>
          <p:grpSp>
            <p:nvGrpSpPr>
              <p:cNvPr id="592" name="组合 18502"/>
              <p:cNvGrpSpPr/>
              <p:nvPr/>
            </p:nvGrpSpPr>
            <p:grpSpPr>
              <a:xfrm>
                <a:off x="7303320" y="3516840"/>
                <a:ext cx="1526040" cy="2424600"/>
                <a:chOff x="7303320" y="3516840"/>
                <a:chExt cx="1526040" cy="2424600"/>
              </a:xfrm>
            </p:grpSpPr>
            <p:grpSp>
              <p:nvGrpSpPr>
                <p:cNvPr id="593" name="组合 18503"/>
                <p:cNvGrpSpPr/>
                <p:nvPr/>
              </p:nvGrpSpPr>
              <p:grpSpPr>
                <a:xfrm>
                  <a:off x="7303320" y="3674520"/>
                  <a:ext cx="1420200" cy="2266920"/>
                  <a:chOff x="7303320" y="3674520"/>
                  <a:chExt cx="1420200" cy="2266920"/>
                </a:xfrm>
              </p:grpSpPr>
              <p:sp>
                <p:nvSpPr>
                  <p:cNvPr id="594" name="任意多边形 18504"/>
                  <p:cNvSpPr/>
                  <p:nvPr/>
                </p:nvSpPr>
                <p:spPr>
                  <a:xfrm rot="3876600">
                    <a:off x="6875640" y="45615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任意多边形 18505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组合 18506"/>
                <p:cNvGrpSpPr/>
                <p:nvPr/>
              </p:nvGrpSpPr>
              <p:grpSpPr>
                <a:xfrm>
                  <a:off x="7739640" y="3516840"/>
                  <a:ext cx="1089720" cy="1739520"/>
                  <a:chOff x="7739640" y="3516840"/>
                  <a:chExt cx="1089720" cy="1739520"/>
                </a:xfrm>
              </p:grpSpPr>
              <p:sp>
                <p:nvSpPr>
                  <p:cNvPr id="597" name="任意多边形 18507"/>
                  <p:cNvSpPr/>
                  <p:nvPr/>
                </p:nvSpPr>
                <p:spPr>
                  <a:xfrm flipV="1" rot="3876600">
                    <a:off x="7410960" y="41976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任意多边形 18508"/>
                  <p:cNvSpPr/>
                  <p:nvPr/>
                </p:nvSpPr>
                <p:spPr>
                  <a:xfrm flipV="1" rot="3876600">
                    <a:off x="8444880" y="48798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椭圆 18509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0" name="椭圆 18510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椭圆 18511"/>
              <p:cNvSpPr/>
              <p:nvPr/>
            </p:nvSpPr>
            <p:spPr>
              <a:xfrm>
                <a:off x="6808680" y="256860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2" name="椭圆 18512"/>
              <p:cNvSpPr/>
              <p:nvPr/>
            </p:nvSpPr>
            <p:spPr>
              <a:xfrm>
                <a:off x="6810480" y="257148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3" name="椭圆 18513"/>
              <p:cNvSpPr/>
              <p:nvPr/>
            </p:nvSpPr>
            <p:spPr>
              <a:xfrm>
                <a:off x="6873840" y="263664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04" name="组合 18514"/>
              <p:cNvGrpSpPr/>
              <p:nvPr/>
            </p:nvGrpSpPr>
            <p:grpSpPr>
              <a:xfrm>
                <a:off x="6892920" y="2655720"/>
                <a:ext cx="1157400" cy="1190160"/>
                <a:chOff x="6892920" y="2655720"/>
                <a:chExt cx="1157400" cy="1190160"/>
              </a:xfrm>
            </p:grpSpPr>
            <p:sp>
              <p:nvSpPr>
                <p:cNvPr id="605" name="椭圆 18515"/>
                <p:cNvSpPr/>
                <p:nvPr/>
              </p:nvSpPr>
              <p:spPr>
                <a:xfrm>
                  <a:off x="6892920" y="265572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8516"/>
                <p:cNvSpPr/>
                <p:nvPr/>
              </p:nvSpPr>
              <p:spPr>
                <a:xfrm>
                  <a:off x="6907680" y="266220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18517"/>
                <p:cNvSpPr/>
                <p:nvPr/>
              </p:nvSpPr>
              <p:spPr>
                <a:xfrm>
                  <a:off x="6919560" y="267372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18518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文本框 18519"/>
              <p:cNvSpPr/>
              <p:nvPr/>
            </p:nvSpPr>
            <p:spPr>
              <a:xfrm rot="3925800">
                <a:off x="7253280" y="4569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0" name="文本框 18520"/>
              <p:cNvSpPr/>
              <p:nvPr/>
            </p:nvSpPr>
            <p:spPr>
              <a:xfrm rot="3925800">
                <a:off x="7713720" y="4290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18521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612" name="文本框 18522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3" name="文本框 18523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4" name="文本框 18524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5" name="文本框 18525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616" name="直接箭头连接符 18526"/>
              <p:cNvCxnSpPr>
                <a:stCxn id="612" idx="3"/>
                <a:endCxn id="613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617" name="直接箭头连接符 18527"/>
              <p:cNvCxnSpPr>
                <a:stCxn id="613" idx="3"/>
                <a:endCxn id="614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618" name="直接箭头连接符 18528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61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组合 19458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622" name="燕尾形 19459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4" y="0"/>
                  </a:lnTo>
                  <a:lnTo>
                    <a:pt x="21600" y="10800"/>
                  </a:lnTo>
                  <a:lnTo>
                    <a:pt x="18044" y="21600"/>
                  </a:lnTo>
                  <a:lnTo>
                    <a:pt x="0" y="21600"/>
                  </a:lnTo>
                  <a:lnTo>
                    <a:pt x="3556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燕尾形 19460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燕尾形 19461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圆角矩形 19462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6" name="圆角矩形 19463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圆角矩形 19464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8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圆角矩形 20482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圆角矩形 20483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圆角矩形 20484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圆角矩形 20485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组合 20486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635" name="矩形 20487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36" name="组合 20488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637" name="椭圆 20489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8" name="矩形 20490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9" name="椭圆 20491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0" name="椭圆 20492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41" name="矩形 20493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2" name="组合 20494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643" name="椭圆 20495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4" name="矩形 20496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5" name="椭圆 20497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6" name="椭圆 20498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47" name="矩形 20499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8" name="组合 20500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649" name="椭圆 20501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0" name="矩形 20502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1" name="椭圆 20503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2" name="椭圆 20504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53" name="矩形 20505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4" name="矩形 20506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矩形 20507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矩形 20508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矩形 20509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矩形 20510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矩形 20511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矩形 20512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矩形 20513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组合 21506"/>
          <p:cNvGrpSpPr/>
          <p:nvPr/>
        </p:nvGrpSpPr>
        <p:grpSpPr>
          <a:xfrm>
            <a:off x="1195560" y="1210680"/>
            <a:ext cx="6729120" cy="4675320"/>
            <a:chOff x="1195560" y="1210680"/>
            <a:chExt cx="6729120" cy="4675320"/>
          </a:xfrm>
        </p:grpSpPr>
        <p:sp>
          <p:nvSpPr>
            <p:cNvPr id="665" name="椭圆 21507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椭圆 21508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椭圆 21509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任意多边形 21510"/>
            <p:cNvSpPr/>
            <p:nvPr/>
          </p:nvSpPr>
          <p:spPr>
            <a:xfrm rot="20601600">
              <a:off x="4211280" y="20235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任意多边形 21511"/>
            <p:cNvSpPr/>
            <p:nvPr/>
          </p:nvSpPr>
          <p:spPr>
            <a:xfrm flipH="1" rot="20602200">
              <a:off x="1617480" y="33364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任意多边形 21512"/>
            <p:cNvSpPr/>
            <p:nvPr/>
          </p:nvSpPr>
          <p:spPr>
            <a:xfrm rot="20601600">
              <a:off x="3456000" y="17521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任意多边形 21513"/>
            <p:cNvSpPr/>
            <p:nvPr/>
          </p:nvSpPr>
          <p:spPr>
            <a:xfrm flipH="1" rot="20602200">
              <a:off x="1417320" y="24044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椭圆 21514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文本框 21515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文本框 21516"/>
            <p:cNvSpPr/>
            <p:nvPr/>
          </p:nvSpPr>
          <p:spPr>
            <a:xfrm>
              <a:off x="424476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文本框 21517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任意多边形 21518"/>
            <p:cNvSpPr/>
            <p:nvPr/>
          </p:nvSpPr>
          <p:spPr>
            <a:xfrm>
              <a:off x="6346800" y="29588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任意多边形 21519"/>
            <p:cNvSpPr/>
            <p:nvPr/>
          </p:nvSpPr>
          <p:spPr>
            <a:xfrm rot="20539200">
              <a:off x="4744800" y="296496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任意多边形 21520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文本框 21521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文本框 21522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文本框 21523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椭圆 21524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任意多边形 21525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4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组合 22530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687" name="椭圆 22531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椭圆 22532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椭圆 22533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椭圆 22534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矩形 22535"/>
            <p:cNvSpPr/>
            <p:nvPr/>
          </p:nvSpPr>
          <p:spPr>
            <a:xfrm rot="13770000">
              <a:off x="4833360" y="3775320"/>
              <a:ext cx="899280" cy="179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矩形 22536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93" name="组合 22537"/>
            <p:cNvGrpSpPr/>
            <p:nvPr/>
          </p:nvGrpSpPr>
          <p:grpSpPr>
            <a:xfrm>
              <a:off x="3852000" y="2131560"/>
              <a:ext cx="1594800" cy="1719360"/>
              <a:chOff x="3852000" y="2131560"/>
              <a:chExt cx="1594800" cy="1719360"/>
            </a:xfrm>
          </p:grpSpPr>
          <p:sp>
            <p:nvSpPr>
              <p:cNvPr id="694" name="矩形 22538"/>
              <p:cNvSpPr/>
              <p:nvPr/>
            </p:nvSpPr>
            <p:spPr>
              <a:xfrm rot="18394200">
                <a:off x="4952160" y="2330280"/>
                <a:ext cx="55764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95" name="组合 22539"/>
              <p:cNvGrpSpPr/>
              <p:nvPr/>
            </p:nvGrpSpPr>
            <p:grpSpPr>
              <a:xfrm>
                <a:off x="3852000" y="2364120"/>
                <a:ext cx="1507680" cy="1486800"/>
                <a:chOff x="3852000" y="2364120"/>
                <a:chExt cx="1507680" cy="1486800"/>
              </a:xfrm>
            </p:grpSpPr>
            <p:sp>
              <p:nvSpPr>
                <p:cNvPr id="696" name="椭圆 22540"/>
                <p:cNvSpPr/>
                <p:nvPr/>
              </p:nvSpPr>
              <p:spPr>
                <a:xfrm>
                  <a:off x="3852000" y="2364120"/>
                  <a:ext cx="1507680" cy="148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1919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 22541"/>
                <p:cNvSpPr/>
                <p:nvPr/>
              </p:nvSpPr>
              <p:spPr>
                <a:xfrm>
                  <a:off x="4024080" y="2388600"/>
                  <a:ext cx="1163160" cy="56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文本框 22542"/>
              <p:cNvSpPr/>
              <p:nvPr/>
            </p:nvSpPr>
            <p:spPr>
              <a:xfrm>
                <a:off x="3890160" y="3011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99" name="组合 22543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700" name="组合 22544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701" name="椭圆 22545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4d0"/>
                    </a:gs>
                    <a:gs pos="100000">
                      <a:srgbClr val="194b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02" name="任意多边形 22546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4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文本框 22547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04" name="组合 22548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705" name="组合 22549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706" name="椭圆 22550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b96f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07" name="任意多边形 22551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文本框 22552"/>
              <p:cNvSpPr/>
              <p:nvPr/>
            </p:nvSpPr>
            <p:spPr>
              <a:xfrm>
                <a:off x="1629000" y="347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22553"/>
            <p:cNvGrpSpPr/>
            <p:nvPr/>
          </p:nvGrpSpPr>
          <p:grpSpPr>
            <a:xfrm>
              <a:off x="5108400" y="3913920"/>
              <a:ext cx="1885320" cy="1863000"/>
              <a:chOff x="5108400" y="3913920"/>
              <a:chExt cx="1885320" cy="1863000"/>
            </a:xfrm>
          </p:grpSpPr>
          <p:grpSp>
            <p:nvGrpSpPr>
              <p:cNvPr id="710" name="组合 22554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711" name="椭圆 22555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2031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2" name="任意多边形 22556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5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文本框 22557"/>
              <p:cNvSpPr/>
              <p:nvPr/>
            </p:nvSpPr>
            <p:spPr>
              <a:xfrm>
                <a:off x="5327640" y="4721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14" name="文本框 22558"/>
          <p:cNvSpPr/>
          <p:nvPr/>
        </p:nvSpPr>
        <p:spPr>
          <a:xfrm>
            <a:off x="762120" y="12193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组合 5122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53" name="组合 5123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54" name="六边形 5124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六边形 5125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六边形 5126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590560" y="2785680"/>
              <a:ext cx="4800600" cy="360"/>
              <a:chOff x="2590560" y="2785680"/>
              <a:chExt cx="4800600" cy="360"/>
            </a:xfrm>
          </p:grpSpPr>
          <p:sp>
            <p:nvSpPr>
              <p:cNvPr id="158" name="直接连接符 5127"/>
              <p:cNvSpPr/>
              <p:nvPr/>
            </p:nvSpPr>
            <p:spPr>
              <a:xfrm>
                <a:off x="2590560" y="278568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2590560" y="27856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0" name="文本框 5128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文本框 5129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组合 5130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63" name="组合 5131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64" name="六边形 5132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" name="六边形 5133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六边形 5134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90560" y="3700080"/>
              <a:ext cx="4800600" cy="360"/>
              <a:chOff x="2590560" y="3700080"/>
              <a:chExt cx="4800600" cy="360"/>
            </a:xfrm>
          </p:grpSpPr>
          <p:sp>
            <p:nvSpPr>
              <p:cNvPr id="168" name="直接连接符 5135"/>
              <p:cNvSpPr/>
              <p:nvPr/>
            </p:nvSpPr>
            <p:spPr>
              <a:xfrm>
                <a:off x="2590560" y="370008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590560" y="37000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0" name="文本框 5136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文本框 5137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2" name="组合 5138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73" name="组合 5139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74" name="六边形 5140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六边形 5141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六边形 5142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590560" y="4592520"/>
              <a:ext cx="4800600" cy="360"/>
              <a:chOff x="2590560" y="4592520"/>
              <a:chExt cx="4800600" cy="360"/>
            </a:xfrm>
          </p:grpSpPr>
          <p:sp>
            <p:nvSpPr>
              <p:cNvPr id="178" name="直接连接符 5143"/>
              <p:cNvSpPr/>
              <p:nvPr/>
            </p:nvSpPr>
            <p:spPr>
              <a:xfrm>
                <a:off x="2590560" y="459252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2590560" y="45925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0" name="文本框 5144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文本框 5145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2" name="组合 5146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83" name="组合 5147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84" name="六边形 5148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六边形 5149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六边形 5150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590560" y="5506920"/>
              <a:ext cx="4800600" cy="360"/>
              <a:chOff x="2590560" y="5506920"/>
              <a:chExt cx="4800600" cy="360"/>
            </a:xfrm>
          </p:grpSpPr>
          <p:sp>
            <p:nvSpPr>
              <p:cNvPr id="188" name="直接连接符 5151"/>
              <p:cNvSpPr/>
              <p:nvPr/>
            </p:nvSpPr>
            <p:spPr>
              <a:xfrm>
                <a:off x="2590560" y="550692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2590560" y="5506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0" name="文本框 5152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文本框 5153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0FF-565B-4556-921D-F498293D0799}" type="slidenum">
              <a:rPr b="0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3553"/>
          <p:cNvSpPr txBox="1"/>
          <p:nvPr/>
        </p:nvSpPr>
        <p:spPr>
          <a:xfrm>
            <a:off x="2133720" y="14479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6a4d0"/>
                    </a:gs>
                    <a:gs pos="100000">
                      <a:srgbClr val="194c6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6a4d0"/>
                  </a:gs>
                  <a:gs pos="100000">
                    <a:srgbClr val="194c6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721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6932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a4d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36a4d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9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7170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98" name="圆角矩形 7171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99" name="组合 7172"/>
            <p:cNvGrpSpPr/>
            <p:nvPr/>
          </p:nvGrpSpPr>
          <p:grpSpPr>
            <a:xfrm>
              <a:off x="2033280" y="1719720"/>
              <a:ext cx="1130760" cy="1064520"/>
              <a:chOff x="2033280" y="1719720"/>
              <a:chExt cx="1130760" cy="1064520"/>
            </a:xfrm>
          </p:grpSpPr>
          <p:sp>
            <p:nvSpPr>
              <p:cNvPr id="200" name="圆角矩形 7173"/>
              <p:cNvSpPr/>
              <p:nvPr/>
            </p:nvSpPr>
            <p:spPr>
              <a:xfrm>
                <a:off x="2033280" y="17197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6a4d0"/>
                  </a:gs>
                  <a:gs pos="100000">
                    <a:srgbClr val="26729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1" name="任意多边形 7174"/>
              <p:cNvSpPr/>
              <p:nvPr/>
            </p:nvSpPr>
            <p:spPr>
              <a:xfrm>
                <a:off x="2103840" y="17881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de5"/>
                  </a:gs>
                  <a:gs pos="50000">
                    <a:srgbClr val="36a4d0">
                      <a:alpha val="0"/>
                    </a:srgbClr>
                  </a:gs>
                  <a:gs pos="100000">
                    <a:srgbClr val="91cde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2" name="文本框 7175"/>
              <p:cNvSpPr/>
              <p:nvPr/>
            </p:nvSpPr>
            <p:spPr>
              <a:xfrm>
                <a:off x="2159280" y="20091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3" name="文本框 7176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4" name="组合 7177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205" name="圆角矩形 7178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6" name="组合 7179"/>
            <p:cNvGrpSpPr/>
            <p:nvPr/>
          </p:nvGrpSpPr>
          <p:grpSpPr>
            <a:xfrm>
              <a:off x="2033280" y="3250080"/>
              <a:ext cx="1130760" cy="1064520"/>
              <a:chOff x="2033280" y="3250080"/>
              <a:chExt cx="1130760" cy="1064520"/>
            </a:xfrm>
          </p:grpSpPr>
          <p:sp>
            <p:nvSpPr>
              <p:cNvPr id="207" name="圆角矩形 7180"/>
              <p:cNvSpPr/>
              <p:nvPr/>
            </p:nvSpPr>
            <p:spPr>
              <a:xfrm>
                <a:off x="2033280" y="32500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187c6"/>
                  </a:gs>
                  <a:gs pos="100000">
                    <a:srgbClr val="3b5a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任意多边形 7181"/>
              <p:cNvSpPr/>
              <p:nvPr/>
            </p:nvSpPr>
            <p:spPr>
              <a:xfrm>
                <a:off x="2103840" y="33184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9de"/>
                  </a:gs>
                  <a:gs pos="100000">
                    <a:srgbClr val="3b5ab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文本框 7182"/>
              <p:cNvSpPr/>
              <p:nvPr/>
            </p:nvSpPr>
            <p:spPr>
              <a:xfrm>
                <a:off x="215928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0" name="文本框 7183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1" name="组合 7184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212" name="圆角矩形 7185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3" name="组合 7186"/>
            <p:cNvGrpSpPr/>
            <p:nvPr/>
          </p:nvGrpSpPr>
          <p:grpSpPr>
            <a:xfrm>
              <a:off x="2033280" y="4789800"/>
              <a:ext cx="1130760" cy="1064520"/>
              <a:chOff x="2033280" y="4789800"/>
              <a:chExt cx="1130760" cy="1064520"/>
            </a:xfrm>
          </p:grpSpPr>
          <p:sp>
            <p:nvSpPr>
              <p:cNvPr id="214" name="圆角矩形 7187"/>
              <p:cNvSpPr/>
              <p:nvPr/>
            </p:nvSpPr>
            <p:spPr>
              <a:xfrm>
                <a:off x="2033280" y="47898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be"/>
                  </a:gs>
                  <a:gs pos="100000">
                    <a:srgbClr val="6666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任意多边形 7188"/>
              <p:cNvSpPr/>
              <p:nvPr/>
            </p:nvSpPr>
            <p:spPr>
              <a:xfrm>
                <a:off x="2103840" y="48582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cd"/>
                  </a:gs>
                  <a:gs pos="100000">
                    <a:srgbClr val="66669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文本框 7189"/>
              <p:cNvSpPr/>
              <p:nvPr/>
            </p:nvSpPr>
            <p:spPr>
              <a:xfrm>
                <a:off x="215928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7" name="文本框 7190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8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组合 8194"/>
          <p:cNvGrpSpPr/>
          <p:nvPr/>
        </p:nvGrpSpPr>
        <p:grpSpPr>
          <a:xfrm>
            <a:off x="1219320" y="3303720"/>
            <a:ext cx="2982960" cy="2763720"/>
            <a:chOff x="1219320" y="3303720"/>
            <a:chExt cx="2982960" cy="2763720"/>
          </a:xfrm>
        </p:grpSpPr>
        <p:sp>
          <p:nvSpPr>
            <p:cNvPr id="221" name="圆角矩形 8195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文本框 8196"/>
            <p:cNvSpPr/>
            <p:nvPr/>
          </p:nvSpPr>
          <p:spPr>
            <a:xfrm>
              <a:off x="1314720" y="3600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任意多边形 8197"/>
            <p:cNvSpPr/>
            <p:nvPr/>
          </p:nvSpPr>
          <p:spPr>
            <a:xfrm>
              <a:off x="3299040" y="330372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e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矩形 8198"/>
          <p:cNvSpPr/>
          <p:nvPr/>
        </p:nvSpPr>
        <p:spPr>
          <a:xfrm flipH="1">
            <a:off x="4944240" y="33004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组合 8199"/>
          <p:cNvGrpSpPr/>
          <p:nvPr/>
        </p:nvGrpSpPr>
        <p:grpSpPr>
          <a:xfrm>
            <a:off x="3124080" y="1676520"/>
            <a:ext cx="2998440" cy="1601280"/>
            <a:chOff x="3124080" y="1676520"/>
            <a:chExt cx="2998440" cy="1601280"/>
          </a:xfrm>
        </p:grpSpPr>
        <p:grpSp>
          <p:nvGrpSpPr>
            <p:cNvPr id="226" name="组合 8200"/>
            <p:cNvGrpSpPr/>
            <p:nvPr/>
          </p:nvGrpSpPr>
          <p:grpSpPr>
            <a:xfrm>
              <a:off x="3124080" y="1676520"/>
              <a:ext cx="2998440" cy="1601280"/>
              <a:chOff x="3124080" y="1676520"/>
              <a:chExt cx="2998440" cy="1601280"/>
            </a:xfrm>
          </p:grpSpPr>
          <p:grpSp>
            <p:nvGrpSpPr>
              <p:cNvPr id="227" name="组合 8201"/>
              <p:cNvGrpSpPr/>
              <p:nvPr/>
            </p:nvGrpSpPr>
            <p:grpSpPr>
              <a:xfrm>
                <a:off x="3124080" y="1819440"/>
                <a:ext cx="2998440" cy="1458360"/>
                <a:chOff x="3124080" y="1819440"/>
                <a:chExt cx="2998440" cy="1458360"/>
              </a:xfrm>
            </p:grpSpPr>
            <p:sp>
              <p:nvSpPr>
                <p:cNvPr id="228" name="椭圆 8202"/>
                <p:cNvSpPr/>
                <p:nvPr/>
              </p:nvSpPr>
              <p:spPr>
                <a:xfrm>
                  <a:off x="3156840" y="18658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1d2c5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9" name="椭圆 8203"/>
                <p:cNvSpPr/>
                <p:nvPr/>
              </p:nvSpPr>
              <p:spPr>
                <a:xfrm>
                  <a:off x="3124080" y="18194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6dc"/>
                    </a:gs>
                    <a:gs pos="100000">
                      <a:srgbClr val="3b5ab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椭圆 8204"/>
              <p:cNvSpPr/>
              <p:nvPr/>
            </p:nvSpPr>
            <p:spPr>
              <a:xfrm>
                <a:off x="326520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椭圆 8205"/>
              <p:cNvSpPr/>
              <p:nvPr/>
            </p:nvSpPr>
            <p:spPr>
              <a:xfrm>
                <a:off x="3300120" y="16844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36a4d0">
                      <a:alpha val="0"/>
                    </a:srgbClr>
                  </a:gs>
                  <a:gs pos="100000">
                    <a:srgbClr val="b9dfe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椭圆 8206"/>
              <p:cNvSpPr/>
              <p:nvPr/>
            </p:nvSpPr>
            <p:spPr>
              <a:xfrm>
                <a:off x="3327120" y="16970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b82a5"/>
                  </a:gs>
                  <a:gs pos="100000">
                    <a:srgbClr val="36a4d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椭圆 8207"/>
              <p:cNvSpPr/>
              <p:nvPr/>
            </p:nvSpPr>
            <p:spPr>
              <a:xfrm>
                <a:off x="3458880" y="17240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6a4d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4" name="文本框 8208"/>
            <p:cNvSpPr/>
            <p:nvPr/>
          </p:nvSpPr>
          <p:spPr>
            <a:xfrm>
              <a:off x="3958920" y="1876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组合 8209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236" name="圆角矩形 8210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文本框 8211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8" name="任意多边形 8212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b5ab1"/>
              </a:gs>
              <a:gs pos="100000">
                <a:srgbClr val="c1cb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组合 9218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242" name="任意多边形 9219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椭圆 9220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椭圆 9221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椭圆 9222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椭圆 9223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椭圆 9224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椭圆 9225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41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椭圆 9226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6a4d0"/>
                </a:gs>
                <a:gs pos="100000">
                  <a:srgbClr val="11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椭圆 9227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b37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椭圆 9228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椭圆 9229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323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文本框 9230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文本框 9231"/>
            <p:cNvSpPr/>
            <p:nvPr/>
          </p:nvSpPr>
          <p:spPr>
            <a:xfrm>
              <a:off x="405396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文本框 9232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文本框 9233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文本框 9234"/>
            <p:cNvSpPr/>
            <p:nvPr/>
          </p:nvSpPr>
          <p:spPr>
            <a:xfrm>
              <a:off x="260604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文本框 9235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602080" y="2376360"/>
              <a:ext cx="1627200" cy="1251000"/>
              <a:chOff x="2602080" y="2376360"/>
              <a:chExt cx="1627200" cy="1251000"/>
            </a:xfrm>
          </p:grpSpPr>
          <p:sp>
            <p:nvSpPr>
              <p:cNvPr id="260" name="直接连接符 9236"/>
              <p:cNvSpPr/>
              <p:nvPr/>
            </p:nvSpPr>
            <p:spPr>
              <a:xfrm>
                <a:off x="2602080" y="2376360"/>
                <a:ext cx="1627200" cy="125100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602080" y="237636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cxnSp>
          <p:nvCxnSpPr>
            <p:cNvPr id="262" name="直接箭头连接符 9237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round/>
            </a:ln>
          </p:spPr>
        </p:cxnSp>
        <p:sp>
          <p:nvSpPr>
            <p:cNvPr id="263" name="文本框 9238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4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1024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7" name="圆柱形 10243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圆柱形 1024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圆柱形 10245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文本框 10246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文本框 10247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文本框 10248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左箭头 1024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圆角矩形 10250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文本框 10251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圆角矩形 10252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文本框 10253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右箭头 1025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圆柱形 10255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上箭头 10256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文本框 10257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圆柱形 1025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文本框 10259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下箭头 10260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组合 11266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288" name="上箭头 11267"/>
            <p:cNvSpPr/>
            <p:nvPr/>
          </p:nvSpPr>
          <p:spPr>
            <a:xfrm flipH="1" rot="16200000">
              <a:off x="3000600" y="325656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上箭头 11268"/>
            <p:cNvSpPr/>
            <p:nvPr/>
          </p:nvSpPr>
          <p:spPr>
            <a:xfrm flipH="1" rot="5400000">
              <a:off x="5604840" y="320616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上箭头 11269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椭圆 11270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椭圆 11271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椭圆 11272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椭圆 11273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椭圆 11274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椭圆 11275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圆柱形 11276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圆柱形 11277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圆柱形 11278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圆柱形 11279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圆柱形 11280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圆柱形 11281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文本框 11282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圆角矩形 11283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文本框 11284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文本框 11285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文本框 11286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文本框 11287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文本框 11288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文本框 11289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1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组合 12290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314" name="任意多边形 12291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任意多边形 12292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任意多边形 12293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任意多边形 12294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任意多边形 12295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任意多边形 12296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任意多边形 12297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307880" y="4869000"/>
              <a:ext cx="2022480" cy="360"/>
              <a:chOff x="1307880" y="4869000"/>
              <a:chExt cx="2022480" cy="360"/>
            </a:xfrm>
          </p:grpSpPr>
          <p:sp>
            <p:nvSpPr>
              <p:cNvPr id="322" name="直接连接符 12298"/>
              <p:cNvSpPr/>
              <p:nvPr/>
            </p:nvSpPr>
            <p:spPr>
              <a:xfrm flipH="1">
                <a:off x="1307880" y="4869000"/>
                <a:ext cx="20224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1307880" y="4869000"/>
                <a:ext cx="202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294920" y="4038840"/>
              <a:ext cx="2856240" cy="360"/>
              <a:chOff x="1294920" y="4038840"/>
              <a:chExt cx="2856240" cy="360"/>
            </a:xfrm>
          </p:grpSpPr>
          <p:sp>
            <p:nvSpPr>
              <p:cNvPr id="325" name="直接连接符 12299"/>
              <p:cNvSpPr/>
              <p:nvPr/>
            </p:nvSpPr>
            <p:spPr>
              <a:xfrm flipH="1">
                <a:off x="1294920" y="4038840"/>
                <a:ext cx="28558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1295280" y="4038840"/>
                <a:ext cx="285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295280" y="3210120"/>
              <a:ext cx="3687840" cy="360"/>
              <a:chOff x="1295280" y="3210120"/>
              <a:chExt cx="3687840" cy="360"/>
            </a:xfrm>
          </p:grpSpPr>
          <p:sp>
            <p:nvSpPr>
              <p:cNvPr id="328" name="直接连接符 12300"/>
              <p:cNvSpPr/>
              <p:nvPr/>
            </p:nvSpPr>
            <p:spPr>
              <a:xfrm flipH="1">
                <a:off x="1295280" y="3210120"/>
                <a:ext cx="36878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1295280" y="3210120"/>
                <a:ext cx="368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295280" y="2368800"/>
              <a:ext cx="4519440" cy="360"/>
              <a:chOff x="1295280" y="2368800"/>
              <a:chExt cx="4519440" cy="360"/>
            </a:xfrm>
          </p:grpSpPr>
          <p:sp>
            <p:nvSpPr>
              <p:cNvPr id="331" name="直接连接符 12301"/>
              <p:cNvSpPr/>
              <p:nvPr/>
            </p:nvSpPr>
            <p:spPr>
              <a:xfrm flipH="1">
                <a:off x="1295280" y="2368800"/>
                <a:ext cx="4519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1295280" y="2368800"/>
                <a:ext cx="4519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457280" y="2362320"/>
              <a:ext cx="360" cy="871560"/>
              <a:chOff x="1457280" y="2362320"/>
              <a:chExt cx="360" cy="871560"/>
            </a:xfrm>
          </p:grpSpPr>
          <p:sp>
            <p:nvSpPr>
              <p:cNvPr id="334" name="直接连接符 12302"/>
              <p:cNvSpPr/>
              <p:nvPr/>
            </p:nvSpPr>
            <p:spPr>
              <a:xfrm>
                <a:off x="1457280" y="2362320"/>
                <a:ext cx="0" cy="87156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457280" y="236232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457280" y="3233880"/>
              <a:ext cx="360" cy="817560"/>
              <a:chOff x="1457280" y="3233880"/>
              <a:chExt cx="360" cy="817560"/>
            </a:xfrm>
          </p:grpSpPr>
          <p:sp>
            <p:nvSpPr>
              <p:cNvPr id="337" name="直接连接符 12303"/>
              <p:cNvSpPr/>
              <p:nvPr/>
            </p:nvSpPr>
            <p:spPr>
              <a:xfrm>
                <a:off x="1457280" y="3233880"/>
                <a:ext cx="0" cy="81756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1457280" y="323388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457280" y="4051440"/>
              <a:ext cx="360" cy="816120"/>
              <a:chOff x="1457280" y="4051440"/>
              <a:chExt cx="360" cy="816120"/>
            </a:xfrm>
          </p:grpSpPr>
          <p:sp>
            <p:nvSpPr>
              <p:cNvPr id="340" name="直接连接符 12304"/>
              <p:cNvSpPr/>
              <p:nvPr/>
            </p:nvSpPr>
            <p:spPr>
              <a:xfrm>
                <a:off x="1457280" y="405144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1457280" y="405144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457280" y="4869000"/>
              <a:ext cx="360" cy="816120"/>
              <a:chOff x="1457280" y="4869000"/>
              <a:chExt cx="360" cy="816120"/>
            </a:xfrm>
          </p:grpSpPr>
          <p:sp>
            <p:nvSpPr>
              <p:cNvPr id="343" name="直接连接符 12305"/>
              <p:cNvSpPr/>
              <p:nvPr/>
            </p:nvSpPr>
            <p:spPr>
              <a:xfrm>
                <a:off x="1457280" y="486900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1457280" y="48690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5" name="任意多边形 12306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矩形 12307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矩形 12308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任意多边形 12309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矩形 12310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矩形 12311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文本框 12312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文本框 12313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文本框 12314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文本框 12315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294920" y="5703840"/>
              <a:ext cx="1462320" cy="360"/>
              <a:chOff x="1294920" y="5703840"/>
              <a:chExt cx="1462320" cy="360"/>
            </a:xfrm>
          </p:grpSpPr>
          <p:sp>
            <p:nvSpPr>
              <p:cNvPr id="356" name="直接连接符 12316"/>
              <p:cNvSpPr/>
              <p:nvPr/>
            </p:nvSpPr>
            <p:spPr>
              <a:xfrm flipH="1">
                <a:off x="1294920" y="5703840"/>
                <a:ext cx="14619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 txBox="1"/>
              <p:nvPr/>
            </p:nvSpPr>
            <p:spPr>
              <a:xfrm>
                <a:off x="1295280" y="5703840"/>
                <a:ext cx="146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文本框 12317"/>
          <p:cNvSpPr/>
          <p:nvPr/>
        </p:nvSpPr>
        <p:spPr>
          <a:xfrm>
            <a:off x="685800" y="14479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1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