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948-D02F-4A7E-8AE0-95B211B7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E5D-1556-4D95-A96A-9581F89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3C5-05E0-40D1-96A4-B43D7BA0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B92-5BB2-4217-80B7-0AE1F33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0BC-0B7A-4476-A597-F39C803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5F4-10CE-45C5-AE70-9CBEE5B8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002-4DC9-4383-AE4A-C5FE5A2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0D7-E314-445C-AA93-6B71DDF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A54-CC6C-4F38-A18E-23ED612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5CE-ACAA-4DA1-B420-2EAFB399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8D2-4589-43A9-9DF9-11C5CF2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5EF-1C94-4E03-BF4D-B505AB4D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4A2-2560-4739-8FD6-B319F3743C5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FE16-64CD-454E-80E5-A655043147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056" descr="Z:\newtek\_backgrounds_1.02\Ryan\PP Template 4\apple_rotating.gif"/>
          <p:cNvPicPr/>
          <p:nvPr/>
        </p:nvPicPr>
        <p:blipFill>
          <a:blip r:embed="rId3"/>
          <a:stretch/>
        </p:blipFill>
        <p:spPr>
          <a:xfrm>
            <a:off x="7086600" y="6858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ead Bold"/>
              </a:rPr>
              <a:t>School Presenta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80880" y="2819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Add subtopic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332000" y="3519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美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Title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ubtopic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7169" descr="Z:\newtek\_backgrounds_1.02\Ryan\Power Point Templates2\School Presentation_not_done\Elements\apple_rotating.gif"/>
          <p:cNvPicPr/>
          <p:nvPr/>
        </p:nvPicPr>
        <p:blipFill>
          <a:blip r:embed="rId2"/>
          <a:stretch/>
        </p:blipFill>
        <p:spPr>
          <a:xfrm>
            <a:off x="304920" y="762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BFB4-ACF8-47BA-869C-14893CF8AE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6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