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A59-BA63-48FA-A2C7-FFA77758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D3F-6E2E-4DEA-BD45-17105C9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A36-6F56-4DE1-BA1C-E167056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256-69F3-4F29-8C0B-2B53938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77C-28AB-4AD3-89F1-BC9482C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8A1-A3D4-448E-9B0D-B309A03B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B94-588B-41BC-90E8-0C103E2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598-BD59-4768-B3DC-7B035EE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DDC-69DE-4612-9EA2-C82A0CB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C58-2DEA-4C04-B718-77E8818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891-0D45-44D2-8BF3-1736BEB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923-9A67-4D4E-ADB8-BB5457B4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859-16A5-42D1-AAC2-0DC5A1DEBB5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0BFD-9AA7-45AE-985F-5F128BFB96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52640" y="761760"/>
            <a:ext cx="4190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terrain Mas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2286000"/>
            <a:ext cx="3809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M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100"/>
          <p:cNvSpPr/>
          <p:nvPr/>
        </p:nvSpPr>
        <p:spPr>
          <a:xfrm>
            <a:off x="1301400" y="3505320"/>
            <a:ext cx="43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欧美公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146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5715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3F8D-F5E6-47A4-9C17-69C7A1DCCB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内容占位符 8194" descr="subterrain_mask_qx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内容占位符 8195" descr="subterrain_mask_trs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内容占位符 8196" descr="subterrain_mask_sld"/>
          <p:cNvPicPr/>
          <p:nvPr/>
        </p:nvPicPr>
        <p:blipFill>
          <a:blip r:embed="rId3"/>
          <a:stretch/>
        </p:blipFill>
        <p:spPr>
          <a:xfrm>
            <a:off x="4114800" y="3962520"/>
            <a:ext cx="291636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内容占位符 8197" descr="subterrain_mask_prt"/>
          <p:cNvPicPr/>
          <p:nvPr/>
        </p:nvPicPr>
        <p:blipFill>
          <a:blip r:embed="rId4"/>
          <a:stretch/>
        </p:blipFill>
        <p:spPr>
          <a:xfrm>
            <a:off x="4114800" y="1600200"/>
            <a:ext cx="29145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20:5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