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0FEB4-0C63-4CFB-885F-D9F170871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9120" y="1428480"/>
            <a:ext cx="849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249120" y="2152440"/>
            <a:ext cx="849960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49120" y="4385520"/>
            <a:ext cx="849960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99E1D-631A-4007-A790-83FDFFDE2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9120" y="1428480"/>
            <a:ext cx="849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249120" y="2152440"/>
            <a:ext cx="414756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04400" y="2152440"/>
            <a:ext cx="414756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49120" y="4385520"/>
            <a:ext cx="414756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04400" y="4385520"/>
            <a:ext cx="414756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ED8A0-A1B1-41A3-8C19-B0BE15450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9120" y="1428480"/>
            <a:ext cx="849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249120" y="2152440"/>
            <a:ext cx="273672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23000" y="2152440"/>
            <a:ext cx="273672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96880" y="2152440"/>
            <a:ext cx="273672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49120" y="4385520"/>
            <a:ext cx="273672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23000" y="4385520"/>
            <a:ext cx="273672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96880" y="4385520"/>
            <a:ext cx="273672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180F1-AF2F-4E9C-942A-2ED3BD1A8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21C87F-9503-476D-AF01-A4AD3F77FF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49120" y="1428480"/>
            <a:ext cx="849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249120" y="2152440"/>
            <a:ext cx="8499600" cy="4275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4A1DA-8790-4940-8B50-DF71CE36D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49120" y="1428480"/>
            <a:ext cx="849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249120" y="2152440"/>
            <a:ext cx="8499600" cy="427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C01758-FAB0-46B6-99D2-BEA70224F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9120" y="1428480"/>
            <a:ext cx="849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249120" y="2152440"/>
            <a:ext cx="4147560" cy="427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04400" y="2152440"/>
            <a:ext cx="4147560" cy="427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CA415-7C49-460A-A38D-43628741A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49120" y="1428480"/>
            <a:ext cx="849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4259B-AE8B-47EB-B53C-1DA162291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49120" y="1428480"/>
            <a:ext cx="8499600" cy="33570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905CD-5337-4D9C-BEB7-8B242C30E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49120" y="1428480"/>
            <a:ext cx="849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249120" y="2152440"/>
            <a:ext cx="414756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04400" y="2152440"/>
            <a:ext cx="4147560" cy="427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49120" y="4385520"/>
            <a:ext cx="414756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C5FC0-F64B-4AEB-9221-ABCC5E705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9120" y="1428480"/>
            <a:ext cx="849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249120" y="2152440"/>
            <a:ext cx="8499600" cy="4275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78EBD-BA13-48AF-89D9-F02ED1C57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9120" y="1428480"/>
            <a:ext cx="849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249120" y="2152440"/>
            <a:ext cx="4147560" cy="427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04400" y="2152440"/>
            <a:ext cx="414756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04400" y="4385520"/>
            <a:ext cx="414756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8D088-1161-4D44-BD7F-500829D2F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9120" y="1428480"/>
            <a:ext cx="849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249120" y="2152440"/>
            <a:ext cx="414756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04400" y="2152440"/>
            <a:ext cx="414756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49120" y="4385520"/>
            <a:ext cx="849960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43B6F-C908-4D94-B695-6ABF092C2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9120" y="1428480"/>
            <a:ext cx="849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249120" y="2152440"/>
            <a:ext cx="849960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49120" y="4385520"/>
            <a:ext cx="849960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B0A74-5EA0-47EC-B1B5-092F4838A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9120" y="1428480"/>
            <a:ext cx="849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249120" y="2152440"/>
            <a:ext cx="414756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04400" y="2152440"/>
            <a:ext cx="414756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49120" y="4385520"/>
            <a:ext cx="414756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04400" y="4385520"/>
            <a:ext cx="414756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A7671A-1DD3-4BE7-AA5C-F607583B22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49120" y="1428480"/>
            <a:ext cx="849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249120" y="2152440"/>
            <a:ext cx="273672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23000" y="2152440"/>
            <a:ext cx="273672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96880" y="2152440"/>
            <a:ext cx="273672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49120" y="4385520"/>
            <a:ext cx="273672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23000" y="4385520"/>
            <a:ext cx="273672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96880" y="4385520"/>
            <a:ext cx="273672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C15292-B18D-4BA1-AF91-9A7C0625D7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9120" y="1428480"/>
            <a:ext cx="849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249120" y="2152440"/>
            <a:ext cx="8499600" cy="427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83E1F-F350-4054-806B-BCF686433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9120" y="1428480"/>
            <a:ext cx="849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249120" y="2152440"/>
            <a:ext cx="4147560" cy="427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04400" y="2152440"/>
            <a:ext cx="4147560" cy="427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0B949-25BB-4D10-883C-5B67DD239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9120" y="1428480"/>
            <a:ext cx="849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2BBCD-1F2D-4041-8ABC-39E7D20B3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9120" y="1428480"/>
            <a:ext cx="8499600" cy="33570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E8135-0ACA-4F11-82C3-33D90BB4A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9120" y="1428480"/>
            <a:ext cx="849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249120" y="2152440"/>
            <a:ext cx="414756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04400" y="2152440"/>
            <a:ext cx="4147560" cy="427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49120" y="4385520"/>
            <a:ext cx="414756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B7C4B-B040-4FC4-9E1D-3191C32EB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9120" y="1428480"/>
            <a:ext cx="849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249120" y="2152440"/>
            <a:ext cx="4147560" cy="427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04400" y="2152440"/>
            <a:ext cx="414756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04400" y="4385520"/>
            <a:ext cx="414756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D0DD2-E6CC-461A-B199-4337F06AE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9120" y="1428480"/>
            <a:ext cx="849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249120" y="2152440"/>
            <a:ext cx="414756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04400" y="2152440"/>
            <a:ext cx="414756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49120" y="4385520"/>
            <a:ext cx="8499600" cy="20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59D78-D8E7-4003-AEE3-BCAE3A0CF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9120" y="1428480"/>
            <a:ext cx="849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249120" y="2152440"/>
            <a:ext cx="8499600" cy="4275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6B4A2-B743-4D84-ADC2-F679FCD944C6}" type="datetime">
              <a:rPr b="0" lang="zh-CN" sz="1200" spc="-1" strike="noStrike">
                <a:solidFill>
                  <a:srgbClr val="898989"/>
                </a:solidFill>
                <a:latin typeface="Times New Roman"/>
                <a:ea typeface="宋体"/>
              </a:rPr>
              <a:t>26/7/30</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50DF6-F367-4FAE-99D9-5C9354C598AC}"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49120" y="1428480"/>
            <a:ext cx="849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2" name="PlaceHolder 2"/>
          <p:cNvSpPr>
            <a:spLocks noGrp="1"/>
          </p:cNvSpPr>
          <p:nvPr>
            <p:ph type="body"/>
          </p:nvPr>
        </p:nvSpPr>
        <p:spPr>
          <a:xfrm>
            <a:off x="249120" y="2152440"/>
            <a:ext cx="8499600" cy="4275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078FA-1546-4257-856E-C361E6AD3804}" type="datetime">
              <a:rPr b="0" lang="zh-CN" sz="1200" spc="-1" strike="noStrike">
                <a:solidFill>
                  <a:srgbClr val="898989"/>
                </a:solidFill>
                <a:latin typeface="Calibri"/>
                <a:ea typeface="宋体"/>
              </a:rPr>
              <a:t>26/7/30</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2E959-5B98-49D4-81C7-95F97B0446E8}"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270320" y="5686200"/>
            <a:ext cx="548640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Presentation Title</a:t>
            </a:r>
            <a:endParaRPr b="1" lang="en-US" sz="3200" spc="-1" strike="noStrike">
              <a:solidFill>
                <a:srgbClr val="000000"/>
              </a:solidFill>
              <a:latin typeface="Arial"/>
            </a:endParaRPr>
          </a:p>
        </p:txBody>
      </p:sp>
      <p:sp>
        <p:nvSpPr>
          <p:cNvPr id="83" name="PlaceHolder 2"/>
          <p:cNvSpPr>
            <a:spLocks noGrp="1"/>
          </p:cNvSpPr>
          <p:nvPr>
            <p:ph type="subTitle"/>
          </p:nvPr>
        </p:nvSpPr>
        <p:spPr>
          <a:xfrm>
            <a:off x="4390920" y="6217920"/>
            <a:ext cx="5029200" cy="8110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Arial"/>
                <a:ea typeface="宋体"/>
              </a:rPr>
              <a:t>Presentation Subtitle</a:t>
            </a:r>
            <a:endParaRPr b="0" lang="en-US" sz="3600" spc="-1" strike="noStrike">
              <a:solidFill>
                <a:srgbClr val="000000"/>
              </a:solidFill>
              <a:latin typeface="Arial"/>
            </a:endParaRPr>
          </a:p>
        </p:txBody>
      </p:sp>
      <p:sp>
        <p:nvSpPr>
          <p:cNvPr id="84" name="文本框 4099"/>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85" name="文本框 4100"/>
          <p:cNvSpPr/>
          <p:nvPr/>
        </p:nvSpPr>
        <p:spPr>
          <a:xfrm>
            <a:off x="3013920" y="404640"/>
            <a:ext cx="4143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欧美医疗人员幻灯片免费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Slide Master</a:t>
            </a:r>
            <a:endParaRPr b="1" lang="en-US" sz="3200" spc="-1" strike="noStrike">
              <a:solidFill>
                <a:srgbClr val="000000"/>
              </a:solidFill>
              <a:latin typeface="Arial"/>
            </a:endParaRPr>
          </a:p>
        </p:txBody>
      </p:sp>
      <p:sp>
        <p:nvSpPr>
          <p:cNvPr id="87" name=""/>
          <p:cNvSpPr txBox="1"/>
          <p:nvPr/>
        </p:nvSpPr>
        <p:spPr>
          <a:xfrm>
            <a:off x="457200" y="2895120"/>
            <a:ext cx="8229600" cy="39625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Your Text her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使用规范说明</a:t>
            </a:r>
            <a:endParaRPr b="1" lang="en-US" sz="3200" spc="-1" strike="noStrike">
              <a:solidFill>
                <a:srgbClr val="000000"/>
              </a:solidFill>
              <a:latin typeface="Arial"/>
            </a:endParaRPr>
          </a:p>
        </p:txBody>
      </p:sp>
      <p:sp>
        <p:nvSpPr>
          <p:cNvPr id="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b24321"/>
                </a:solidFill>
                <a:uFillTx/>
                <a:latin typeface="Calibri"/>
                <a:ea typeface="宋体"/>
                <a:hlinkClick r:id="rId2"/>
              </a:rPr>
              <a:t>http://</a:t>
            </a:r>
            <a:r>
              <a:rPr b="0" lang="en-US" sz="1400" spc="-1" strike="noStrike" u="sng">
                <a:solidFill>
                  <a:srgbClr val="b2432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24321"/>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b24321"/>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24321"/>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b24321"/>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24321"/>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b24321"/>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24321"/>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b24321"/>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24321"/>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b24321"/>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24321"/>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b24321"/>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24321"/>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b24321"/>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24321"/>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b24321"/>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24321"/>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b24321"/>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24321"/>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b24321"/>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24321"/>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b24321"/>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91" name="灯片编号占位符 1"/>
          <p:cNvSpPr/>
          <p:nvPr/>
        </p:nvSpPr>
        <p:spPr>
          <a:xfrm>
            <a:off x="6553080" y="6356520"/>
            <a:ext cx="2133720" cy="3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F88D7-612A-408A-9911-34E061AC16ED}" type="slidenum">
              <a:rPr b="0" lang="zh-CN" sz="1200" spc="-1" strike="noStrike">
                <a:solidFill>
                  <a:srgbClr val="898989"/>
                </a:solidFill>
                <a:latin typeface="Calibri"/>
                <a:ea typeface="宋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Print Master</a:t>
            </a:r>
            <a:endParaRPr b="1" lang="en-US" sz="3200" spc="-1" strike="noStrike">
              <a:solidFill>
                <a:srgbClr val="000000"/>
              </a:solidFill>
              <a:latin typeface="Arial"/>
            </a:endParaRPr>
          </a:p>
        </p:txBody>
      </p:sp>
      <p:sp>
        <p:nvSpPr>
          <p:cNvPr id="93" name=""/>
          <p:cNvSpPr txBox="1"/>
          <p:nvPr/>
        </p:nvSpPr>
        <p:spPr>
          <a:xfrm>
            <a:off x="1980720" y="1600200"/>
            <a:ext cx="670572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Your Text her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 name="文本框 6147"/>
          <p:cNvSpPr/>
          <p:nvPr/>
        </p:nvSpPr>
        <p:spPr>
          <a:xfrm>
            <a:off x="1908000" y="1197000"/>
            <a:ext cx="504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24321"/>
                </a:solidFill>
                <a:uFillTx/>
                <a:latin typeface="Arial"/>
                <a:hlinkClick r:id="rId2"/>
              </a:rPr>
              <a:t>ppt</a:t>
            </a:r>
            <a:r>
              <a:rPr b="0" lang="zh-CN" sz="1600" spc="-1" strike="noStrike" u="sng">
                <a:solidFill>
                  <a:srgbClr val="b24321"/>
                </a:solidFill>
                <a:uFillTx/>
                <a:latin typeface="Arial"/>
                <a:hlinkClick r:id="rId3"/>
              </a:rPr>
              <a: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5:01:00Z</dcterms:created>
  <dc:creator>幻灯片之家：www.eeppt.com</dc:creator>
  <dc:description>幻灯片之家：www.eeppt.com</dc:description>
  <cp:keywords>幻灯片之家：www.eeppt.com</cp:keywords>
  <dc:language>en-US</dc:language>
  <cp:lastModifiedBy>pc</cp:lastModifiedBy>
  <dcterms:modified xsi:type="dcterms:W3CDTF">2015-11-13T04:36:10Z</dcterms:modified>
  <cp:revision>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