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B5D1-6FAE-446B-ACA4-17EAA14C5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57BA-4F39-4872-9048-6BF2F986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B783-10DA-4B2D-BDBC-B4BFC70E5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30D5-B82D-43CC-A4D5-E40C2C53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B227-A057-4D84-B6D8-0A7BE83F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6BE7-AA4D-4880-8D24-6A564FAE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5656-DD4F-45CB-B76C-A4FC04AE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BD01-97CE-4CE4-98F3-1EE4C544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9913-5307-4815-8BCF-9388234F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5EAF-8117-44A4-A43F-EBCD330C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F4E2-2BFB-438F-BF3D-208F3DBF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FC00-8E06-488E-B8FB-A2FBC5E0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2513-170B-48E9-8430-BE6B0AB3A9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073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3074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075"/>
          <p:cNvSpPr/>
          <p:nvPr/>
        </p:nvSpPr>
        <p:spPr>
          <a:xfrm>
            <a:off x="1752120" y="98100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漂亮的卡通风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3C02-7E33-4A34-A774-D41E3A2DFB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4097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4098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07:09:3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6:42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