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4.jpeg" ContentType="image/jpeg"/>
  <Override PartName="/ppt/media/image11.wmf" ContentType="image/x-wmf"/>
  <Override PartName="/ppt/media/image13.wmf" ContentType="image/x-wmf"/>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907588" cy="6858000"/>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6343A49-360B-475D-A194-B234BFAC2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7" name="PlaceHolder 2"/>
          <p:cNvSpPr>
            <a:spLocks noGrp="1"/>
          </p:cNvSpPr>
          <p:nvPr>
            <p:ph/>
          </p:nvPr>
        </p:nvSpPr>
        <p:spPr>
          <a:xfrm>
            <a:off x="1018800" y="145368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8" name="PlaceHolder 3"/>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B67CB62-9E57-43B0-9D03-1305CA95C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0"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1"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2"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3" name="PlaceHolder 5"/>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DB87447-C9B2-4A59-9A28-FCA60145F2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5" name="PlaceHolder 2"/>
          <p:cNvSpPr>
            <a:spLocks noGrp="1"/>
          </p:cNvSpPr>
          <p:nvPr>
            <p:ph/>
          </p:nvPr>
        </p:nvSpPr>
        <p:spPr>
          <a:xfrm>
            <a:off x="10188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6" name="PlaceHolder 3"/>
          <p:cNvSpPr>
            <a:spLocks noGrp="1"/>
          </p:cNvSpPr>
          <p:nvPr>
            <p:ph/>
          </p:nvPr>
        </p:nvSpPr>
        <p:spPr>
          <a:xfrm>
            <a:off x="37080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7" name="PlaceHolder 4"/>
          <p:cNvSpPr>
            <a:spLocks noGrp="1"/>
          </p:cNvSpPr>
          <p:nvPr>
            <p:ph/>
          </p:nvPr>
        </p:nvSpPr>
        <p:spPr>
          <a:xfrm>
            <a:off x="639684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8" name="PlaceHolder 5"/>
          <p:cNvSpPr>
            <a:spLocks noGrp="1"/>
          </p:cNvSpPr>
          <p:nvPr>
            <p:ph/>
          </p:nvPr>
        </p:nvSpPr>
        <p:spPr>
          <a:xfrm>
            <a:off x="10188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9" name="PlaceHolder 6"/>
          <p:cNvSpPr>
            <a:spLocks noGrp="1"/>
          </p:cNvSpPr>
          <p:nvPr>
            <p:ph/>
          </p:nvPr>
        </p:nvSpPr>
        <p:spPr>
          <a:xfrm>
            <a:off x="37080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0" name="PlaceHolder 7"/>
          <p:cNvSpPr>
            <a:spLocks noGrp="1"/>
          </p:cNvSpPr>
          <p:nvPr>
            <p:ph/>
          </p:nvPr>
        </p:nvSpPr>
        <p:spPr>
          <a:xfrm>
            <a:off x="639684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E02F2AB-327D-4FA1-A031-3CCDBC96624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44" name="PlaceHolder 2"/>
          <p:cNvSpPr>
            <a:spLocks noGrp="1"/>
          </p:cNvSpPr>
          <p:nvPr>
            <p:ph type="subTitle"/>
          </p:nvPr>
        </p:nvSpPr>
        <p:spPr>
          <a:xfrm>
            <a:off x="1018800" y="1453680"/>
            <a:ext cx="7953480" cy="4210200"/>
          </a:xfrm>
          <a:prstGeom prst="rect">
            <a:avLst/>
          </a:prstGeom>
          <a:noFill/>
          <a:ln w="0">
            <a:noFill/>
          </a:ln>
        </p:spPr>
        <p:txBody>
          <a:bodyPr lIns="0" rIns="0" tIns="0" bIns="0" anchor="ctr">
            <a:noAutofit/>
          </a:bodyPr>
          <a:p>
            <a:pPr indent="0" algn="ctr">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46"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48"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9"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18800" y="287280"/>
            <a:ext cx="7953480" cy="4173120"/>
          </a:xfrm>
          <a:prstGeom prst="rect">
            <a:avLst/>
          </a:prstGeom>
          <a:noFill/>
          <a:ln w="0">
            <a:noFill/>
          </a:ln>
        </p:spPr>
        <p:txBody>
          <a:bodyPr lIns="0" rIns="0" tIns="0" bIns="0" anchor="ctr">
            <a:noAutofit/>
          </a:bodyPr>
          <a:p>
            <a:pPr algn="ct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53"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4"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5"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6" name="PlaceHolder 2"/>
          <p:cNvSpPr>
            <a:spLocks noGrp="1"/>
          </p:cNvSpPr>
          <p:nvPr>
            <p:ph type="subTitle"/>
          </p:nvPr>
        </p:nvSpPr>
        <p:spPr>
          <a:xfrm>
            <a:off x="1018800" y="1453680"/>
            <a:ext cx="7953480" cy="4210200"/>
          </a:xfrm>
          <a:prstGeom prst="rect">
            <a:avLst/>
          </a:prstGeom>
          <a:noFill/>
          <a:ln w="0">
            <a:noFill/>
          </a:ln>
        </p:spPr>
        <p:txBody>
          <a:bodyPr lIns="0" rIns="0" tIns="0" bIns="0" anchor="ctr">
            <a:noAutofit/>
          </a:bodyPr>
          <a:p>
            <a:pPr indent="0" algn="ctr">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0531840-1E1B-46DE-98D4-80F3DE93F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57"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8"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9" name="PlaceHolder 4"/>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61"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2"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3" name="PlaceHolder 4"/>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65" name="PlaceHolder 2"/>
          <p:cNvSpPr>
            <a:spLocks noGrp="1"/>
          </p:cNvSpPr>
          <p:nvPr>
            <p:ph/>
          </p:nvPr>
        </p:nvSpPr>
        <p:spPr>
          <a:xfrm>
            <a:off x="1018800" y="145368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6" name="PlaceHolder 3"/>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68"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9"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0"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1" name="PlaceHolder 5"/>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73" name="PlaceHolder 2"/>
          <p:cNvSpPr>
            <a:spLocks noGrp="1"/>
          </p:cNvSpPr>
          <p:nvPr>
            <p:ph/>
          </p:nvPr>
        </p:nvSpPr>
        <p:spPr>
          <a:xfrm>
            <a:off x="10188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4" name="PlaceHolder 3"/>
          <p:cNvSpPr>
            <a:spLocks noGrp="1"/>
          </p:cNvSpPr>
          <p:nvPr>
            <p:ph/>
          </p:nvPr>
        </p:nvSpPr>
        <p:spPr>
          <a:xfrm>
            <a:off x="37080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5" name="PlaceHolder 4"/>
          <p:cNvSpPr>
            <a:spLocks noGrp="1"/>
          </p:cNvSpPr>
          <p:nvPr>
            <p:ph/>
          </p:nvPr>
        </p:nvSpPr>
        <p:spPr>
          <a:xfrm>
            <a:off x="639684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6" name="PlaceHolder 5"/>
          <p:cNvSpPr>
            <a:spLocks noGrp="1"/>
          </p:cNvSpPr>
          <p:nvPr>
            <p:ph/>
          </p:nvPr>
        </p:nvSpPr>
        <p:spPr>
          <a:xfrm>
            <a:off x="10188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7" name="PlaceHolder 6"/>
          <p:cNvSpPr>
            <a:spLocks noGrp="1"/>
          </p:cNvSpPr>
          <p:nvPr>
            <p:ph/>
          </p:nvPr>
        </p:nvSpPr>
        <p:spPr>
          <a:xfrm>
            <a:off x="37080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8" name="PlaceHolder 7"/>
          <p:cNvSpPr>
            <a:spLocks noGrp="1"/>
          </p:cNvSpPr>
          <p:nvPr>
            <p:ph/>
          </p:nvPr>
        </p:nvSpPr>
        <p:spPr>
          <a:xfrm>
            <a:off x="639684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27953-084A-4765-8E81-E9BADDE38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5" name="PlaceHolder 2"/>
          <p:cNvSpPr>
            <a:spLocks noGrp="1"/>
          </p:cNvSpPr>
          <p:nvPr>
            <p:ph type="subTitle"/>
          </p:nvPr>
        </p:nvSpPr>
        <p:spPr>
          <a:xfrm>
            <a:off x="1018800" y="1453680"/>
            <a:ext cx="7953480" cy="4210200"/>
          </a:xfrm>
          <a:prstGeom prst="rect">
            <a:avLst/>
          </a:prstGeom>
          <a:noFill/>
          <a:ln w="0">
            <a:noFill/>
          </a:ln>
        </p:spPr>
        <p:txBody>
          <a:bodyPr lIns="0" rIns="0" tIns="0" bIns="0" anchor="ctr">
            <a:noAutofit/>
          </a:bodyPr>
          <a:p>
            <a:pPr indent="0" algn="ctr">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77D92-1B92-4173-95AB-F69224D26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7"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C2A77-21AA-4929-B55B-292C6EDD0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9"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0"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43A85-F404-4686-9842-18C00D33B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EDB9F-D852-4602-8989-BF212085A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FF44735-FAB1-40C4-9CD8-D98608537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018800" y="287280"/>
            <a:ext cx="7953480" cy="4173120"/>
          </a:xfrm>
          <a:prstGeom prst="rect">
            <a:avLst/>
          </a:prstGeom>
          <a:noFill/>
          <a:ln w="0">
            <a:noFill/>
          </a:ln>
        </p:spPr>
        <p:txBody>
          <a:bodyPr lIns="0" rIns="0" tIns="0" bIns="0" anchor="ctr">
            <a:noAutofit/>
          </a:bodyPr>
          <a:p>
            <a:pPr algn="ct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2BDDA-3058-407B-8AAC-EA62CE0B3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94"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5"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6"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3EE81-E743-4EC2-94D8-DE3BD9685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98"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9"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00" name="PlaceHolder 4"/>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708B0-9061-463E-8CAD-CEDF58EC4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2"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03"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04" name="PlaceHolder 4"/>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F74C6-6FC9-48F5-BC80-963DB3CFC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6" name="PlaceHolder 2"/>
          <p:cNvSpPr>
            <a:spLocks noGrp="1"/>
          </p:cNvSpPr>
          <p:nvPr>
            <p:ph/>
          </p:nvPr>
        </p:nvSpPr>
        <p:spPr>
          <a:xfrm>
            <a:off x="1018800" y="145368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07" name="PlaceHolder 3"/>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B1FE9-A089-4A5E-9872-A1FA334B3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9"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0"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1"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2" name="PlaceHolder 5"/>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E3B26-5C1E-455E-B806-00FA339EE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14" name="PlaceHolder 2"/>
          <p:cNvSpPr>
            <a:spLocks noGrp="1"/>
          </p:cNvSpPr>
          <p:nvPr>
            <p:ph/>
          </p:nvPr>
        </p:nvSpPr>
        <p:spPr>
          <a:xfrm>
            <a:off x="10188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5" name="PlaceHolder 3"/>
          <p:cNvSpPr>
            <a:spLocks noGrp="1"/>
          </p:cNvSpPr>
          <p:nvPr>
            <p:ph/>
          </p:nvPr>
        </p:nvSpPr>
        <p:spPr>
          <a:xfrm>
            <a:off x="37080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6" name="PlaceHolder 4"/>
          <p:cNvSpPr>
            <a:spLocks noGrp="1"/>
          </p:cNvSpPr>
          <p:nvPr>
            <p:ph/>
          </p:nvPr>
        </p:nvSpPr>
        <p:spPr>
          <a:xfrm>
            <a:off x="639684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7" name="PlaceHolder 5"/>
          <p:cNvSpPr>
            <a:spLocks noGrp="1"/>
          </p:cNvSpPr>
          <p:nvPr>
            <p:ph/>
          </p:nvPr>
        </p:nvSpPr>
        <p:spPr>
          <a:xfrm>
            <a:off x="10188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8" name="PlaceHolder 6"/>
          <p:cNvSpPr>
            <a:spLocks noGrp="1"/>
          </p:cNvSpPr>
          <p:nvPr>
            <p:ph/>
          </p:nvPr>
        </p:nvSpPr>
        <p:spPr>
          <a:xfrm>
            <a:off x="37080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9" name="PlaceHolder 7"/>
          <p:cNvSpPr>
            <a:spLocks noGrp="1"/>
          </p:cNvSpPr>
          <p:nvPr>
            <p:ph/>
          </p:nvPr>
        </p:nvSpPr>
        <p:spPr>
          <a:xfrm>
            <a:off x="639684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69154-A91D-47B1-9B91-0A174C03D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90102C8-3692-44DA-A22F-6C91E29CF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DA9E3DB-8B7C-41FF-A8BA-E275E48B6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18800" y="287280"/>
            <a:ext cx="7953480" cy="4173120"/>
          </a:xfrm>
          <a:prstGeom prst="rect">
            <a:avLst/>
          </a:prstGeom>
          <a:noFill/>
          <a:ln w="0">
            <a:noFill/>
          </a:ln>
        </p:spPr>
        <p:txBody>
          <a:bodyPr lIns="0" rIns="0" tIns="0" bIns="0" anchor="ctr">
            <a:noAutofit/>
          </a:bodyPr>
          <a:p>
            <a:pPr algn="ct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9B0848F-CE41-4D56-950B-B6E31DE867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5"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6"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7"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F57CAF6-D7F9-44BF-B834-58AA6C374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9"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0"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1" name="PlaceHolder 4"/>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A03D4E1-5A8F-45D3-9B65-046253302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3"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4"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5" name="PlaceHolder 4"/>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8E63309-02C7-4496-8D9C-BBAA43A1811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edit the title text format</a:t>
            </a:r>
            <a:endParaRPr b="0" lang="en-US" sz="2800" spc="-1" strike="noStrike">
              <a:solidFill>
                <a:srgbClr val="333333"/>
              </a:solidFill>
              <a:latin typeface="Arial"/>
            </a:endParaRPr>
          </a:p>
        </p:txBody>
      </p:sp>
      <p:sp>
        <p:nvSpPr>
          <p:cNvPr id="1" name="PlaceHolder 2"/>
          <p:cNvSpPr>
            <a:spLocks noGrp="1"/>
          </p:cNvSpPr>
          <p:nvPr>
            <p:ph type="body"/>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Click to edit the outline text format</a:t>
            </a:r>
            <a:endParaRPr b="0" lang="en-US" sz="2100" spc="-1" strike="noStrike">
              <a:solidFill>
                <a:srgbClr val="333333"/>
              </a:solidFill>
              <a:latin typeface="Arial"/>
            </a:endParaRPr>
          </a:p>
          <a:p>
            <a:pPr lvl="1"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econd Outline Level</a:t>
            </a:r>
            <a:endParaRPr b="0" lang="en-US" sz="2100" spc="-1" strike="noStrike">
              <a:solidFill>
                <a:srgbClr val="333333"/>
              </a:solidFill>
              <a:latin typeface="Arial"/>
            </a:endParaRPr>
          </a:p>
          <a:p>
            <a:pPr lvl="2"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Third Outline Level</a:t>
            </a:r>
            <a:endParaRPr b="0" lang="en-US" sz="2100" spc="-1" strike="noStrike">
              <a:solidFill>
                <a:srgbClr val="333333"/>
              </a:solidFill>
              <a:latin typeface="Arial"/>
            </a:endParaRPr>
          </a:p>
          <a:p>
            <a:pPr lvl="3"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Fourth Outline Level</a:t>
            </a:r>
            <a:endParaRPr b="0" lang="en-US" sz="2100" spc="-1" strike="noStrike">
              <a:solidFill>
                <a:srgbClr val="333333"/>
              </a:solidFill>
              <a:latin typeface="Arial"/>
            </a:endParaRPr>
          </a:p>
          <a:p>
            <a:pPr lvl="4"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Fifth Outline Level</a:t>
            </a:r>
            <a:endParaRPr b="0" lang="en-US" sz="2100" spc="-1" strike="noStrike">
              <a:solidFill>
                <a:srgbClr val="333333"/>
              </a:solidFill>
              <a:latin typeface="Arial"/>
            </a:endParaRPr>
          </a:p>
          <a:p>
            <a:pPr lvl="5"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ixth Outline Level</a:t>
            </a:r>
            <a:endParaRPr b="0" lang="en-US" sz="2100" spc="-1" strike="noStrike">
              <a:solidFill>
                <a:srgbClr val="333333"/>
              </a:solidFill>
              <a:latin typeface="Arial"/>
            </a:endParaRPr>
          </a:p>
          <a:p>
            <a:pPr lvl="6"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eventh Outline Level</a:t>
            </a:r>
            <a:endParaRPr b="0" lang="en-US" sz="2100" spc="-1" strike="noStrike">
              <a:solidFill>
                <a:srgbClr val="333333"/>
              </a:solidFill>
              <a:latin typeface="Arial"/>
            </a:endParaRPr>
          </a:p>
        </p:txBody>
      </p:sp>
      <p:sp>
        <p:nvSpPr>
          <p:cNvPr id="2" name="PlaceHolder 3"/>
          <p:cNvSpPr>
            <a:spLocks noGrp="1"/>
          </p:cNvSpPr>
          <p:nvPr>
            <p:ph type="ftr" idx="1"/>
          </p:nvPr>
        </p:nvSpPr>
        <p:spPr>
          <a:xfrm>
            <a:off x="4063680" y="6498720"/>
            <a:ext cx="4444920" cy="282600"/>
          </a:xfrm>
          <a:prstGeom prst="rect">
            <a:avLst/>
          </a:prstGeom>
          <a:noFill/>
          <a:ln w="0">
            <a:noFill/>
          </a:ln>
        </p:spPr>
        <p:txBody>
          <a:bodyPr lIns="0" rIns="0" tIns="0" bIns="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3" name="PlaceHolder 4"/>
          <p:cNvSpPr>
            <a:spLocks noGrp="1"/>
          </p:cNvSpPr>
          <p:nvPr>
            <p:ph type="dt" idx="2"/>
          </p:nvPr>
        </p:nvSpPr>
        <p:spPr>
          <a:xfrm>
            <a:off x="1955880" y="6499080"/>
            <a:ext cx="1611360" cy="28440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4677-1B60-4DED-830B-49861D4126D4}"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027080" y="6499080"/>
            <a:ext cx="900000" cy="28440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ge </a:t>
            </a:r>
            <a:fld id="{CBA7DEBC-8B02-448E-9E10-02A1CF61B705}" type="slidenum">
              <a:rPr b="0" lang="de-DE"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edit the title text format</a:t>
            </a:r>
            <a:endParaRPr b="0" lang="en-US" sz="2800" spc="-1" strike="noStrike">
              <a:solidFill>
                <a:srgbClr val="333333"/>
              </a:solidFill>
              <a:latin typeface="Arial"/>
            </a:endParaRPr>
          </a:p>
        </p:txBody>
      </p:sp>
      <p:sp>
        <p:nvSpPr>
          <p:cNvPr id="42" name="PlaceHolder 2"/>
          <p:cNvSpPr>
            <a:spLocks noGrp="1"/>
          </p:cNvSpPr>
          <p:nvPr>
            <p:ph type="body"/>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Click to edit the outline text format</a:t>
            </a:r>
            <a:endParaRPr b="0" lang="en-US" sz="2100" spc="-1" strike="noStrike">
              <a:solidFill>
                <a:srgbClr val="333333"/>
              </a:solidFill>
              <a:latin typeface="Arial"/>
            </a:endParaRPr>
          </a:p>
          <a:p>
            <a:pPr lvl="1"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econd Outline Level</a:t>
            </a:r>
            <a:endParaRPr b="0" lang="en-US" sz="2100" spc="-1" strike="noStrike">
              <a:solidFill>
                <a:srgbClr val="333333"/>
              </a:solidFill>
              <a:latin typeface="Arial"/>
            </a:endParaRPr>
          </a:p>
          <a:p>
            <a:pPr lvl="2"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Third Outline Level</a:t>
            </a:r>
            <a:endParaRPr b="0" lang="en-US" sz="2100" spc="-1" strike="noStrike">
              <a:solidFill>
                <a:srgbClr val="333333"/>
              </a:solidFill>
              <a:latin typeface="Arial"/>
            </a:endParaRPr>
          </a:p>
          <a:p>
            <a:pPr lvl="3"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Fourth Outline Level</a:t>
            </a:r>
            <a:endParaRPr b="0" lang="en-US" sz="2100" spc="-1" strike="noStrike">
              <a:solidFill>
                <a:srgbClr val="333333"/>
              </a:solidFill>
              <a:latin typeface="Arial"/>
            </a:endParaRPr>
          </a:p>
          <a:p>
            <a:pPr lvl="4"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Fifth Outline Level</a:t>
            </a:r>
            <a:endParaRPr b="0" lang="en-US" sz="2100" spc="-1" strike="noStrike">
              <a:solidFill>
                <a:srgbClr val="333333"/>
              </a:solidFill>
              <a:latin typeface="Arial"/>
            </a:endParaRPr>
          </a:p>
          <a:p>
            <a:pPr lvl="5"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ixth Outline Level</a:t>
            </a:r>
            <a:endParaRPr b="0" lang="en-US" sz="2100" spc="-1" strike="noStrike">
              <a:solidFill>
                <a:srgbClr val="333333"/>
              </a:solidFill>
              <a:latin typeface="Arial"/>
            </a:endParaRPr>
          </a:p>
          <a:p>
            <a:pPr lvl="6"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eventh Outline Level</a:t>
            </a:r>
            <a:endParaRPr b="0" lang="en-US" sz="21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559C-309E-45C2-87CE-05A491557E86}"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E460-37B6-44D4-B85F-9C2FD021E98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V_ </a:t>
            </a:r>
            <a:r>
              <a:rPr b="0" lang="en-US" sz="2800" spc="-1" strike="noStrike">
                <a:solidFill>
                  <a:srgbClr val="e63110"/>
                </a:solidFill>
                <a:latin typeface="Arial"/>
                <a:ea typeface="宋体"/>
              </a:rPr>
              <a:t>Internal Discussion</a:t>
            </a:r>
            <a:endParaRPr b="0" lang="en-US" sz="2800" spc="-1" strike="noStrike">
              <a:solidFill>
                <a:srgbClr val="333333"/>
              </a:solidFill>
              <a:latin typeface="Arial"/>
            </a:endParaRPr>
          </a:p>
        </p:txBody>
      </p:sp>
      <p:sp>
        <p:nvSpPr>
          <p:cNvPr id="121"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April 04, 2014</a:t>
            </a:r>
            <a:endParaRPr b="0" lang="en-US" sz="2800" spc="-1" strike="noStrike">
              <a:solidFill>
                <a:srgbClr val="333333"/>
              </a:solidFill>
              <a:latin typeface="Arial"/>
            </a:endParaRPr>
          </a:p>
        </p:txBody>
      </p:sp>
      <p:pic>
        <p:nvPicPr>
          <p:cNvPr id="122" name="Picture 21" descr="301007"/>
          <p:cNvPicPr/>
          <p:nvPr/>
        </p:nvPicPr>
        <p:blipFill>
          <a:blip r:embed="rId1"/>
          <a:srcRect l="2351" t="32500" r="2380" b="17340"/>
          <a:stretch/>
        </p:blipFill>
        <p:spPr>
          <a:xfrm>
            <a:off x="233280" y="231840"/>
            <a:ext cx="9445680" cy="3827520"/>
          </a:xfrm>
          <a:prstGeom prst="rect">
            <a:avLst/>
          </a:prstGeom>
          <a:ln w="0">
            <a:noFill/>
          </a:ln>
        </p:spPr>
      </p:pic>
      <p:sp>
        <p:nvSpPr>
          <p:cNvPr id="123" name="文本框 4100"/>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宋体"/>
                <a:ea typeface="宋体"/>
              </a:rPr>
              <a:t>幻灯片之家 </a:t>
            </a:r>
            <a:r>
              <a:rPr b="0" lang="en-US" sz="1600" spc="-1" strike="noStrike">
                <a:solidFill>
                  <a:srgbClr val="333333"/>
                </a:solidFill>
                <a:latin typeface="宋体"/>
                <a:ea typeface="宋体"/>
              </a:rPr>
              <a:t>http://www.eeppt.com</a:t>
            </a:r>
            <a:endParaRPr b="0" lang="en-US" sz="1600" spc="-1" strike="noStrike">
              <a:solidFill>
                <a:srgbClr val="333333"/>
              </a:solidFill>
              <a:latin typeface="VW Headline OT-Book"/>
            </a:endParaRPr>
          </a:p>
        </p:txBody>
      </p:sp>
      <p:sp>
        <p:nvSpPr>
          <p:cNvPr id="124" name="文本框 4101"/>
          <p:cNvSpPr/>
          <p:nvPr/>
        </p:nvSpPr>
        <p:spPr>
          <a:xfrm>
            <a:off x="3947400" y="30168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VW Headline OT-Book"/>
                <a:ea typeface="宋体"/>
              </a:rPr>
              <a:t>汽车</a:t>
            </a:r>
            <a:r>
              <a:rPr b="0" lang="zh-CN" sz="4000" spc="-1" strike="noStrike">
                <a:solidFill>
                  <a:srgbClr val="333333"/>
                </a:solidFill>
                <a:latin typeface="VW Headline OT-Book"/>
                <a:ea typeface="VW Headline OT-Book"/>
              </a:rPr>
              <a:t>企业</a:t>
            </a:r>
            <a:r>
              <a:rPr b="0" lang="zh-CN" sz="4000" spc="-1" strike="noStrike">
                <a:solidFill>
                  <a:srgbClr val="333333"/>
                </a:solidFill>
                <a:latin typeface="VW Headline OT-Book"/>
                <a:ea typeface="宋体"/>
              </a:rPr>
              <a:t>幻灯片免费下载</a:t>
            </a:r>
            <a:endParaRPr b="0" lang="en-US" sz="4000" spc="-1" strike="noStrike">
              <a:solidFill>
                <a:srgbClr val="333333"/>
              </a:solidFill>
              <a:latin typeface="VW Headline OT-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0388-DB60-4C62-9018-491DB965B541}"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46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1AFECA54-8B4C-4E50-800F-61232DE8F13D}"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6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7. Graphics and charts</a:t>
            </a:r>
            <a:endParaRPr b="0" lang="en-US" sz="2800" spc="-1" strike="noStrike">
              <a:solidFill>
                <a:srgbClr val="333333"/>
              </a:solidFill>
              <a:latin typeface="Arial"/>
            </a:endParaRPr>
          </a:p>
        </p:txBody>
      </p:sp>
      <p:sp>
        <p:nvSpPr>
          <p:cNvPr id="470"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Graphics and charts are best understood when they are clearly and simply designed.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All elements should always appear in the designated colours. 3D effects may not be used.</a:t>
            </a:r>
            <a:endParaRPr b="0" lang="en-US" sz="1700" spc="-1" strike="noStrike">
              <a:solidFill>
                <a:srgbClr val="333333"/>
              </a:solidFill>
              <a:latin typeface="Arial"/>
            </a:endParaRPr>
          </a:p>
        </p:txBody>
      </p:sp>
      <p:sp>
        <p:nvSpPr>
          <p:cNvPr id="471" name="Rectangle 4"/>
          <p:cNvSpPr/>
          <p:nvPr/>
        </p:nvSpPr>
        <p:spPr>
          <a:xfrm>
            <a:off x="304920" y="194616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9C14-CBFD-49C5-B681-33EE8450C334}"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473"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9060BCD-505B-4232-AC34-B77204D83393}"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7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8. Illustrations </a:t>
            </a:r>
            <a:endParaRPr b="0" lang="en-US" sz="2800" spc="-1" strike="noStrike">
              <a:solidFill>
                <a:srgbClr val="333333"/>
              </a:solidFill>
              <a:latin typeface="Arial"/>
            </a:endParaRPr>
          </a:p>
        </p:txBody>
      </p:sp>
      <p:sp>
        <p:nvSpPr>
          <p:cNvPr id="475"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Illustrations may be useful when complex contents are to be communicated clearly.</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All elements should always appear in the designated colours. 3D effects may not be used.</a:t>
            </a:r>
            <a:endParaRPr b="0" lang="en-US" sz="1700" spc="-1" strike="noStrike">
              <a:solidFill>
                <a:srgbClr val="333333"/>
              </a:solidFill>
              <a:latin typeface="Arial"/>
            </a:endParaRPr>
          </a:p>
        </p:txBody>
      </p:sp>
      <p:sp>
        <p:nvSpPr>
          <p:cNvPr id="476" name="Rectangle 4"/>
          <p:cNvSpPr/>
          <p:nvPr/>
        </p:nvSpPr>
        <p:spPr>
          <a:xfrm>
            <a:off x="304920" y="194616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9C08-B922-4AA0-BF9E-99C65E80AB26}"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47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9CA8C480-0631-420F-9C9A-0F8EFABDAA22}"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7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9. Animations</a:t>
            </a:r>
            <a:endParaRPr b="0" lang="en-US" sz="2800" spc="-1" strike="noStrike">
              <a:solidFill>
                <a:srgbClr val="333333"/>
              </a:solidFill>
              <a:latin typeface="Arial"/>
            </a:endParaRPr>
          </a:p>
        </p:txBody>
      </p:sp>
      <p:sp>
        <p:nvSpPr>
          <p:cNvPr id="480"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use of animations can enhance the status of the presentation and draw attention. Nonetheless, animations should be used economically and sensibly so as not to detract from the contents.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following animation effects can be used: </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Appearing” of texts and graphics </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a:t>
            </a:r>
            <a:r>
              <a:rPr b="0" lang="en-GB" sz="1700" spc="-1" strike="noStrike">
                <a:solidFill>
                  <a:srgbClr val="333333"/>
                </a:solidFill>
                <a:latin typeface="Arial"/>
                <a:ea typeface="宋体"/>
              </a:rPr>
              <a:t>Wipe from left” or “Wipe from below” for graphics and charts</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Effects such as “Swivel” or “Spiral” come across as being unprofessional and may not be used.</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p:txBody>
      </p:sp>
      <p:sp>
        <p:nvSpPr>
          <p:cNvPr id="481" name="Rectangle 4"/>
          <p:cNvSpPr/>
          <p:nvPr/>
        </p:nvSpPr>
        <p:spPr>
          <a:xfrm>
            <a:off x="304920" y="399420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Welcome.</a:t>
            </a:r>
            <a:endParaRPr b="0" lang="en-US" sz="2800" spc="-1" strike="noStrike">
              <a:solidFill>
                <a:srgbClr val="333333"/>
              </a:solidFill>
              <a:latin typeface="Arial"/>
            </a:endParaRPr>
          </a:p>
        </p:txBody>
      </p:sp>
      <p:sp>
        <p:nvSpPr>
          <p:cNvPr id="483"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ub-headline Headline-Book 28 pt</a:t>
            </a:r>
            <a:endParaRPr b="0" lang="en-US" sz="28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Welcome.</a:t>
            </a:r>
            <a:endParaRPr b="0" lang="en-US" sz="2800" spc="-1" strike="noStrike">
              <a:solidFill>
                <a:srgbClr val="333333"/>
              </a:solidFill>
              <a:latin typeface="Arial"/>
            </a:endParaRPr>
          </a:p>
        </p:txBody>
      </p:sp>
      <p:sp>
        <p:nvSpPr>
          <p:cNvPr id="485"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ub-headline Headline-Book 28 pt</a:t>
            </a:r>
            <a:endParaRPr b="0" lang="en-US" sz="2800" spc="-1" strike="noStrike">
              <a:solidFill>
                <a:srgbClr val="333333"/>
              </a:solidFill>
              <a:latin typeface="Arial"/>
            </a:endParaRPr>
          </a:p>
        </p:txBody>
      </p:sp>
      <p:pic>
        <p:nvPicPr>
          <p:cNvPr id="486" name="Picture 4" descr="globus"/>
          <p:cNvPicPr/>
          <p:nvPr/>
        </p:nvPicPr>
        <p:blipFill>
          <a:blip r:embed="rId1"/>
          <a:srcRect l="0" t="11908" r="0" b="1363"/>
          <a:stretch/>
        </p:blipFill>
        <p:spPr>
          <a:xfrm>
            <a:off x="233280" y="233280"/>
            <a:ext cx="9445680" cy="3827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 LS 34 pt </a:t>
            </a:r>
            <a:br>
              <a:rPr sz="2800"/>
            </a:br>
            <a:r>
              <a:rPr b="0" lang="en-GB" sz="2800" spc="-1" strike="noStrike">
                <a:solidFill>
                  <a:srgbClr val="333333"/>
                </a:solidFill>
                <a:latin typeface="Arial"/>
                <a:ea typeface="宋体"/>
              </a:rPr>
              <a:t>Two-line headline</a:t>
            </a:r>
            <a:endParaRPr b="0" lang="en-US" sz="2800" spc="-1" strike="noStrike">
              <a:solidFill>
                <a:srgbClr val="333333"/>
              </a:solidFill>
              <a:latin typeface="Arial"/>
            </a:endParaRPr>
          </a:p>
        </p:txBody>
      </p:sp>
      <p:sp>
        <p:nvSpPr>
          <p:cNvPr id="488"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ub-headline Headline-Book 28 pt</a:t>
            </a:r>
            <a:endParaRPr b="0" lang="en-US" sz="2800" spc="-1" strike="noStrike">
              <a:solidFill>
                <a:srgbClr val="333333"/>
              </a:solidFill>
              <a:latin typeface="Arial"/>
            </a:endParaRPr>
          </a:p>
        </p:txBody>
      </p:sp>
      <p:pic>
        <p:nvPicPr>
          <p:cNvPr id="489" name="Picture 4" descr="301007"/>
          <p:cNvPicPr/>
          <p:nvPr/>
        </p:nvPicPr>
        <p:blipFill>
          <a:blip r:embed="rId1"/>
          <a:srcRect l="2351" t="32500" r="2380" b="17340"/>
          <a:stretch/>
        </p:blipFill>
        <p:spPr>
          <a:xfrm>
            <a:off x="233280" y="231840"/>
            <a:ext cx="9445680" cy="3827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hank you for your attention </a:t>
            </a:r>
            <a:endParaRPr b="0" lang="en-US" sz="2800" spc="-1" strike="noStrike">
              <a:solidFill>
                <a:srgbClr val="333333"/>
              </a:solidFill>
              <a:latin typeface="Arial"/>
            </a:endParaRPr>
          </a:p>
        </p:txBody>
      </p:sp>
      <p:sp>
        <p:nvSpPr>
          <p:cNvPr id="491"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ub-headline Headline-Book 28 pt</a:t>
            </a:r>
            <a:endParaRPr b="0" lang="en-US" sz="28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F17F-1CB4-482D-9D56-848873C2A155}"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493"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8D3DA0D-2804-4AF1-8D2D-D7E14FE72E35}"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9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Agenda</a:t>
            </a:r>
            <a:endParaRPr b="0" lang="en-US" sz="2800" spc="-1" strike="noStrike">
              <a:solidFill>
                <a:srgbClr val="333333"/>
              </a:solidFill>
              <a:latin typeface="Arial"/>
            </a:endParaRPr>
          </a:p>
        </p:txBody>
      </p:sp>
      <p:sp>
        <p:nvSpPr>
          <p:cNvPr id="495"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1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Agenda Headline-Book 21 pt, line spacing 26 pt, </a:t>
            </a:r>
            <a:br>
              <a:rPr sz="2100"/>
            </a:br>
            <a:r>
              <a:rPr b="0" lang="en-GB" sz="2100" spc="-1" strike="noStrike">
                <a:solidFill>
                  <a:srgbClr val="333333"/>
                </a:solidFill>
                <a:latin typeface="Arial"/>
                <a:ea typeface="宋体"/>
              </a:rPr>
              <a:t>spacing after 0.5 lines.</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2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adipscing elitr, sed diam nonumy</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3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Tempor invidunt ut labore et dolore magna</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4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Accusam et justo duo dolores</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5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tet clita kasd gubergren, no sea</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6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anctus est Lorem ipsum dolor sit amet</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7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Ipsum dolor sit amet, consetetur </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9DB1-FD83-4D73-A23E-508F09864636}"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497"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AAC75FFB-B6CA-49F8-A609-0703C580BE4C}"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9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Agenda</a:t>
            </a:r>
            <a:endParaRPr b="0" lang="en-US" sz="2800" spc="-1" strike="noStrike">
              <a:solidFill>
                <a:srgbClr val="333333"/>
              </a:solidFill>
              <a:latin typeface="Arial"/>
            </a:endParaRPr>
          </a:p>
        </p:txBody>
      </p:sp>
      <p:sp>
        <p:nvSpPr>
          <p:cNvPr id="499"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lack"/>
                <a:ea typeface="宋体"/>
              </a:rPr>
              <a:t>1 </a:t>
            </a:r>
            <a:r>
              <a:rPr b="0" lang="en-GB" sz="2100" spc="-1" strike="noStrike">
                <a:solidFill>
                  <a:srgbClr val="333333"/>
                </a:solidFill>
                <a:latin typeface="VW Headline OT-Black"/>
                <a:ea typeface="宋体"/>
              </a:rPr>
              <a:t>	</a:t>
            </a:r>
            <a:r>
              <a:rPr b="0" lang="en-GB" sz="2100" spc="-1" strike="noStrike">
                <a:solidFill>
                  <a:srgbClr val="333333"/>
                </a:solidFill>
                <a:latin typeface="VW Headline OT-Black"/>
                <a:ea typeface="宋体"/>
              </a:rPr>
              <a:t>Highlighted agenda Headline-Black 21 pt, </a:t>
            </a:r>
            <a:br>
              <a:rPr sz="2100"/>
            </a:br>
            <a:r>
              <a:rPr b="0" lang="en-GB" sz="2100" spc="-1" strike="noStrike">
                <a:solidFill>
                  <a:srgbClr val="333333"/>
                </a:solidFill>
                <a:latin typeface="VW Headline OT-Black"/>
                <a:ea typeface="宋体"/>
              </a:rPr>
              <a:t>line spacing 26 pt, spacing after 0.5 lines.</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2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adipscing elitr, sed diam nonumy</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3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Tempor invidunt ut labore et dolore magna</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4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Accusam et justo duo dolores</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5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tet clita kasd gubergren, no sea</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6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anctus est Lorem ipsum dolor sit amet</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7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Ipsum dolor sit amet, consetetur </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4500-BDB0-4842-A0D4-171A845B75C9}"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01"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64857E96-2028-46AC-AFEA-7F26FAC40D1A}"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0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 LS 34 pt </a:t>
            </a:r>
            <a:br>
              <a:rPr sz="2800"/>
            </a:br>
            <a:r>
              <a:rPr b="0" lang="en-GB" sz="2800" spc="-1" strike="noStrike">
                <a:solidFill>
                  <a:srgbClr val="333333"/>
                </a:solidFill>
                <a:latin typeface="Arial"/>
                <a:ea typeface="宋体"/>
              </a:rPr>
              <a:t>Two-line headline</a:t>
            </a:r>
            <a:endParaRPr b="0" lang="en-US" sz="2800" spc="-1" strike="noStrike">
              <a:solidFill>
                <a:srgbClr val="333333"/>
              </a:solidFill>
              <a:latin typeface="Arial"/>
            </a:endParaRPr>
          </a:p>
        </p:txBody>
      </p:sp>
      <p:sp>
        <p:nvSpPr>
          <p:cNvPr id="503"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adipscing elitr, sede diam onumy eirmod tempor invidunt ut labore et dolore es magna selsa aliquyam erat, sed diam volu ptua. At vero eos et acus cusam etosa justo duo dolores et ea rebu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8359-0A24-4069-AAB8-84C3B6D4D555}"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126"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9697142E-C2B8-40ED-BFBF-9DEA74D6ADAE}"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2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presentation templates</a:t>
            </a:r>
            <a:r>
              <a:rPr b="0" lang="en-US" sz="2500" spc="-1" strike="noStrike">
                <a:solidFill>
                  <a:srgbClr val="333333"/>
                </a:solidFill>
                <a:latin typeface="Arial"/>
                <a:ea typeface="宋体"/>
              </a:rPr>
              <a:t> </a:t>
            </a:r>
            <a:endParaRPr b="0" lang="en-US" sz="2500" spc="-1" strike="noStrike">
              <a:solidFill>
                <a:srgbClr val="333333"/>
              </a:solidFill>
              <a:latin typeface="Arial"/>
            </a:endParaRPr>
          </a:p>
        </p:txBody>
      </p:sp>
      <p:sp>
        <p:nvSpPr>
          <p:cNvPr id="128"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The presentation templates available help to create a successful presentation typical of quickly and effortlessly. In addition, the consistent use of presentation templates also offers additional advantages:</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Slides from other presentations with completely different contents can be inserted easily.</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The slides’ legibility is guaranteed.</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The uniform layout of the presentation contributes towards the consistent use of corporate design and leaves the audience with a clear overall impression of the Brand.</a:t>
            </a:r>
            <a:endParaRPr b="0" lang="en-US" sz="1700" spc="-1" strike="noStrike">
              <a:solidFill>
                <a:srgbClr val="3333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41B8-6713-4A11-8E05-3360E5FF1C77}"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0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ACA1BF32-D9D8-4133-AC2E-C1219CDD5CC9}"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0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accentuation </a:t>
            </a:r>
            <a:endParaRPr b="0" lang="en-US" sz="2800" spc="-1" strike="noStrike">
              <a:solidFill>
                <a:srgbClr val="333333"/>
              </a:solidFill>
              <a:latin typeface="Arial"/>
            </a:endParaRPr>
          </a:p>
        </p:txBody>
      </p:sp>
      <p:sp>
        <p:nvSpPr>
          <p:cNvPr id="507" name="PlaceHolder 2"/>
          <p:cNvSpPr>
            <a:spLocks noGrp="1"/>
          </p:cNvSpPr>
          <p:nvPr>
            <p:ph/>
          </p:nvPr>
        </p:nvSpPr>
        <p:spPr>
          <a:xfrm>
            <a:off x="1018800" y="1453680"/>
            <a:ext cx="7953480" cy="4210200"/>
          </a:xfrm>
          <a:prstGeom prst="rect">
            <a:avLst/>
          </a:prstGeom>
          <a:noFill/>
          <a:ln w="0">
            <a:noFill/>
          </a:ln>
        </p:spPr>
        <p:txBody>
          <a:bodyPr lIns="0" rIns="0" tIns="0" bIns="0" anchor="t">
            <a:normAutofit fontScale="98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333333"/>
                </a:solidFill>
                <a:latin typeface="VW Headline OT-Black"/>
                <a:ea typeface="宋体"/>
              </a:rPr>
              <a:t>Accentuation Headline-Black 21 pt, line spacing 26 pt, spacing after 0.5 lines. selsa aliquyam erat, sed diam volu ptua. At vero eos et acus cusam etosa justo duo dolores et ea rebum.</a:t>
            </a:r>
            <a:r>
              <a:rPr b="1" lang="en-GB" sz="2100" spc="-1" strike="noStrike">
                <a:solidFill>
                  <a:srgbClr val="333333"/>
                </a:solidFill>
                <a:latin typeface="Arial"/>
                <a:ea typeface="宋体"/>
              </a:rPr>
              <a:t>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
        <p:nvSpPr>
          <p:cNvPr id="508" name="文本框 23557"/>
          <p:cNvSpPr/>
          <p:nvPr/>
        </p:nvSpPr>
        <p:spPr>
          <a:xfrm>
            <a:off x="890640" y="113364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1"/>
              </a:rPr>
              <a:t>ppt</a:t>
            </a:r>
            <a:r>
              <a:rPr b="0" lang="zh-CN" sz="1600" spc="-1" strike="noStrike" u="sng">
                <a:solidFill>
                  <a:srgbClr val="8994a0"/>
                </a:solidFill>
                <a:uFillTx/>
                <a:latin typeface="VW Headline OT-Book"/>
                <a:ea typeface="VW Headline OT-Book"/>
                <a:hlinkClick r:id="rId2"/>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B29C-F57F-4FB0-9A81-A2B44EAE98C2}"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10"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DE851752-9856-4C01-806F-21545EC4CCE3}"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1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wo-column copytext with listing</a:t>
            </a:r>
            <a:endParaRPr b="0" lang="en-US" sz="2800" spc="-1" strike="noStrike">
              <a:solidFill>
                <a:srgbClr val="333333"/>
              </a:solidFill>
              <a:latin typeface="Arial"/>
            </a:endParaRPr>
          </a:p>
        </p:txBody>
      </p:sp>
      <p:sp>
        <p:nvSpPr>
          <p:cNvPr id="512" name="PlaceHolder 2"/>
          <p:cNvSpPr>
            <a:spLocks noGrp="1"/>
          </p:cNvSpPr>
          <p:nvPr>
            <p:ph/>
          </p:nvPr>
        </p:nvSpPr>
        <p:spPr>
          <a:xfrm>
            <a:off x="1019160" y="1453680"/>
            <a:ext cx="389880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 sed</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diam nonummy nibh euismod tincidunt ut laoreet dolore </a:t>
            </a:r>
            <a:br>
              <a:rPr sz="2100"/>
            </a:br>
            <a:r>
              <a:rPr b="0" lang="en-GB" sz="2100" spc="-1" strike="noStrike">
                <a:solidFill>
                  <a:srgbClr val="333333"/>
                </a:solidFill>
                <a:latin typeface="Arial"/>
                <a:ea typeface="宋体"/>
              </a:rPr>
              <a:t>magna aliquam erat volutpat.</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a:t>
            </a:r>
            <a:endParaRPr b="0" lang="en-US" sz="2100" spc="-1" strike="noStrike">
              <a:solidFill>
                <a:srgbClr val="333333"/>
              </a:solidFill>
              <a:latin typeface="Arial"/>
            </a:endParaRPr>
          </a:p>
        </p:txBody>
      </p:sp>
      <p:sp>
        <p:nvSpPr>
          <p:cNvPr id="513" name="PlaceHolder 3"/>
          <p:cNvSpPr>
            <a:spLocks noGrp="1"/>
          </p:cNvSpPr>
          <p:nvPr>
            <p:ph/>
          </p:nvPr>
        </p:nvSpPr>
        <p:spPr>
          <a:xfrm>
            <a:off x="5071680" y="1453680"/>
            <a:ext cx="390060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 sed</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diam nonummy nibh euismod tincidunt ut laoreet dolore </a:t>
            </a:r>
            <a:br>
              <a:rPr sz="2100"/>
            </a:br>
            <a:r>
              <a:rPr b="0" lang="en-GB" sz="2100" spc="-1" strike="noStrike">
                <a:solidFill>
                  <a:srgbClr val="333333"/>
                </a:solidFill>
                <a:latin typeface="Arial"/>
                <a:ea typeface="宋体"/>
              </a:rPr>
              <a:t>magna aliquam erat volutpat.</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a:t>
            </a:r>
            <a:endParaRPr b="0" lang="en-US" sz="2100" spc="-1" strike="noStrike">
              <a:solidFill>
                <a:srgbClr val="3333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BC34-3BE6-471A-96A7-85816BE4310D}"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1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6E017685-A8E6-42CE-A705-51D3287C54C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1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listing levels</a:t>
            </a:r>
            <a:endParaRPr b="0" lang="en-US" sz="2800" spc="-1" strike="noStrike">
              <a:solidFill>
                <a:srgbClr val="333333"/>
              </a:solidFill>
              <a:latin typeface="Arial"/>
            </a:endParaRPr>
          </a:p>
        </p:txBody>
      </p:sp>
      <p:sp>
        <p:nvSpPr>
          <p:cNvPr id="517"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First listing level with leading dash</a:t>
            </a:r>
            <a:endParaRPr b="0" lang="en-US" sz="2100" spc="-1" strike="noStrike">
              <a:solidFill>
                <a:srgbClr val="333333"/>
              </a:solidFill>
              <a:latin typeface="Arial"/>
            </a:endParaRPr>
          </a:p>
          <a:p>
            <a:pPr lvl="2" marL="53352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econd listing level with leading dash</a:t>
            </a:r>
            <a:endParaRPr b="0" lang="en-US" sz="2100" spc="-1" strike="noStrike">
              <a:solidFill>
                <a:srgbClr val="333333"/>
              </a:solidFill>
              <a:latin typeface="Arial"/>
            </a:endParaRPr>
          </a:p>
          <a:p>
            <a:pPr lvl="3" marL="712800" indent="-17784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Third listing level with bullet point</a:t>
            </a:r>
            <a:endParaRPr b="0" lang="en-US" sz="2100" spc="-1" strike="noStrike">
              <a:solidFill>
                <a:srgbClr val="333333"/>
              </a:solidFill>
              <a:latin typeface="Arial"/>
            </a:endParaRPr>
          </a:p>
          <a:p>
            <a:pPr lvl="4" marL="901800" indent="-18756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Fourth listing level with bullet point</a:t>
            </a:r>
            <a:endParaRPr b="0" lang="en-US" sz="2100" spc="-1" strike="noStrike">
              <a:solidFill>
                <a:srgbClr val="3333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94B8-95D4-4132-A41C-9EDF74903FD2}"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19"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B89DE358-A752-4958-8884-EA3AFFDF88B6}"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2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picture</a:t>
            </a:r>
            <a:endParaRPr b="0" lang="en-US" sz="2800" spc="-1" strike="noStrike">
              <a:solidFill>
                <a:srgbClr val="333333"/>
              </a:solidFill>
              <a:latin typeface="Arial"/>
            </a:endParaRPr>
          </a:p>
        </p:txBody>
      </p:sp>
      <p:sp>
        <p:nvSpPr>
          <p:cNvPr id="521" name="PlaceHolder 2"/>
          <p:cNvSpPr>
            <a:spLocks noGrp="1"/>
          </p:cNvSpPr>
          <p:nvPr>
            <p:ph/>
          </p:nvPr>
        </p:nvSpPr>
        <p:spPr>
          <a:xfrm>
            <a:off x="4751280" y="1453680"/>
            <a:ext cx="4151520" cy="4210200"/>
          </a:xfrm>
          <a:prstGeom prst="rect">
            <a:avLst/>
          </a:prstGeom>
          <a:noFill/>
          <a:ln w="0">
            <a:noFill/>
          </a:ln>
        </p:spPr>
        <p:txBody>
          <a:bodyPr lIns="0" rIns="0" tIns="0" bIns="0" anchor="t">
            <a:normAutofit fontScale="98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a:t>
            </a:r>
            <a:br>
              <a:rPr sz="2100"/>
            </a:br>
            <a:r>
              <a:rPr b="0" lang="en-GB" sz="2100" spc="-1" strike="noStrike">
                <a:solidFill>
                  <a:srgbClr val="333333"/>
                </a:solidFill>
                <a:latin typeface="Arial"/>
                <a:ea typeface="宋体"/>
              </a:rPr>
              <a:t>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aras, conset etur sadipscing elitr, hel sede dia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re sean takimata sanctus estelar. Lorem ipsum dolor sit ametolas, consetetur sadipscing elitr, sed diam numy eirmod temporare aliquyam erat, sed diam lu ptua </a:t>
            </a:r>
            <a:endParaRPr b="0" lang="en-US" sz="2100" spc="-1" strike="noStrike">
              <a:solidFill>
                <a:srgbClr val="333333"/>
              </a:solidFill>
              <a:latin typeface="Arial"/>
            </a:endParaRPr>
          </a:p>
        </p:txBody>
      </p:sp>
      <p:pic>
        <p:nvPicPr>
          <p:cNvPr id="522" name="Picture 4" descr="264982"/>
          <p:cNvPicPr/>
          <p:nvPr/>
        </p:nvPicPr>
        <p:blipFill>
          <a:blip r:embed="rId1"/>
          <a:srcRect l="4403" t="5633" r="26540" b="9881"/>
          <a:stretch/>
        </p:blipFill>
        <p:spPr>
          <a:xfrm>
            <a:off x="233280" y="1484280"/>
            <a:ext cx="4287960" cy="4206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9896-549A-43DA-9D90-4809B2177176}"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24"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5AAAD625-CA8F-4F8A-9E87-C99710F33DD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2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picture</a:t>
            </a:r>
            <a:endParaRPr b="0" lang="en-US" sz="2800" spc="-1" strike="noStrike">
              <a:solidFill>
                <a:srgbClr val="333333"/>
              </a:solidFill>
              <a:latin typeface="Arial"/>
            </a:endParaRPr>
          </a:p>
        </p:txBody>
      </p:sp>
      <p:sp>
        <p:nvSpPr>
          <p:cNvPr id="526" name="PlaceHolder 2"/>
          <p:cNvSpPr>
            <a:spLocks noGrp="1"/>
          </p:cNvSpPr>
          <p:nvPr>
            <p:ph/>
          </p:nvPr>
        </p:nvSpPr>
        <p:spPr>
          <a:xfrm>
            <a:off x="1018800" y="3790800"/>
            <a:ext cx="7953480" cy="1873440"/>
          </a:xfrm>
          <a:prstGeom prst="rect">
            <a:avLst/>
          </a:prstGeom>
          <a:noFill/>
          <a:ln w="0">
            <a:noFill/>
          </a:ln>
        </p:spPr>
        <p:txBody>
          <a:bodyPr lIns="0" rIns="0" tIns="0" bIns="0" anchor="t">
            <a:normAutofit fontScale="91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 sed diam nonummy nibh euismod tincidunt ut laoreet dolore magna aliquam erat volutpat. Duis autem vel eum iriure dolor in hendrerit in verde blandit praesent lu ptatum zril delenite augue duis dolore te feugait.</a:t>
            </a:r>
            <a:endParaRPr b="0" lang="en-US" sz="2100" spc="-1" strike="noStrike">
              <a:solidFill>
                <a:srgbClr val="333333"/>
              </a:solidFill>
              <a:latin typeface="Arial"/>
            </a:endParaRPr>
          </a:p>
        </p:txBody>
      </p:sp>
      <p:pic>
        <p:nvPicPr>
          <p:cNvPr id="527" name="Picture 4" descr="264982"/>
          <p:cNvPicPr/>
          <p:nvPr/>
        </p:nvPicPr>
        <p:blipFill>
          <a:blip r:embed="rId1"/>
          <a:srcRect l="2356" t="48759" r="2292" b="24503"/>
          <a:stretch/>
        </p:blipFill>
        <p:spPr>
          <a:xfrm>
            <a:off x="233280" y="1484280"/>
            <a:ext cx="9445680" cy="2097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BC5C-712B-4D76-BA62-F74DB7058135}"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2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5B5FC0F2-3334-4889-9FED-19433880FB67}"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pic>
        <p:nvPicPr>
          <p:cNvPr id="530" name="Picture 4" descr="127208"/>
          <p:cNvPicPr/>
          <p:nvPr/>
        </p:nvPicPr>
        <p:blipFill>
          <a:blip r:embed="rId1"/>
          <a:srcRect l="22021" t="1272" r="19881" b="29719"/>
          <a:stretch/>
        </p:blipFill>
        <p:spPr>
          <a:xfrm>
            <a:off x="233280" y="1486080"/>
            <a:ext cx="3119400" cy="4211280"/>
          </a:xfrm>
          <a:prstGeom prst="rect">
            <a:avLst/>
          </a:prstGeom>
          <a:ln w="0">
            <a:noFill/>
          </a:ln>
        </p:spPr>
      </p:pic>
      <p:pic>
        <p:nvPicPr>
          <p:cNvPr id="531" name="Picture 6" descr="206386"/>
          <p:cNvPicPr/>
          <p:nvPr/>
        </p:nvPicPr>
        <p:blipFill>
          <a:blip r:embed="rId2"/>
          <a:srcRect l="15958" t="18148" r="22341" b="43413"/>
          <a:stretch/>
        </p:blipFill>
        <p:spPr>
          <a:xfrm>
            <a:off x="6400800" y="1487520"/>
            <a:ext cx="3274920" cy="2054160"/>
          </a:xfrm>
          <a:prstGeom prst="rect">
            <a:avLst/>
          </a:prstGeom>
          <a:ln w="0">
            <a:noFill/>
          </a:ln>
        </p:spPr>
      </p:pic>
      <p:pic>
        <p:nvPicPr>
          <p:cNvPr id="532" name="Picture 7" descr="15502"/>
          <p:cNvPicPr/>
          <p:nvPr/>
        </p:nvPicPr>
        <p:blipFill>
          <a:blip r:embed="rId3"/>
          <a:srcRect l="10168" t="0" r="9507" b="49346"/>
          <a:stretch/>
        </p:blipFill>
        <p:spPr>
          <a:xfrm>
            <a:off x="6400800" y="3578400"/>
            <a:ext cx="3278160" cy="2116080"/>
          </a:xfrm>
          <a:prstGeom prst="rect">
            <a:avLst/>
          </a:prstGeom>
          <a:ln w="0">
            <a:noFill/>
          </a:ln>
        </p:spPr>
      </p:pic>
      <p:sp>
        <p:nvSpPr>
          <p:cNvPr id="53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everal pictures</a:t>
            </a:r>
            <a:endParaRPr b="0" lang="en-US" sz="2800" spc="-1" strike="noStrike">
              <a:solidFill>
                <a:srgbClr val="333333"/>
              </a:solidFill>
              <a:latin typeface="Arial"/>
            </a:endParaRPr>
          </a:p>
        </p:txBody>
      </p:sp>
      <p:pic>
        <p:nvPicPr>
          <p:cNvPr id="534" name="Picture 5" descr="259826"/>
          <p:cNvPicPr/>
          <p:nvPr/>
        </p:nvPicPr>
        <p:blipFill>
          <a:blip r:embed="rId4"/>
          <a:srcRect l="29846" t="13311" r="22396" b="6746"/>
          <a:stretch/>
        </p:blipFill>
        <p:spPr>
          <a:xfrm>
            <a:off x="3343320" y="1486080"/>
            <a:ext cx="3236760" cy="4209840"/>
          </a:xfrm>
          <a:prstGeom prst="rect">
            <a:avLst/>
          </a:prstGeom>
          <a:ln w="0">
            <a:noFill/>
          </a:ln>
        </p:spPr>
      </p:pic>
      <p:grpSp>
        <p:nvGrpSpPr>
          <p:cNvPr id="535" name=""/>
          <p:cNvGrpSpPr/>
          <p:nvPr/>
        </p:nvGrpSpPr>
        <p:grpSpPr>
          <a:xfrm>
            <a:off x="3352680" y="1440000"/>
            <a:ext cx="360" cy="4365360"/>
            <a:chOff x="3352680" y="1440000"/>
            <a:chExt cx="360" cy="4365360"/>
          </a:xfrm>
        </p:grpSpPr>
        <p:sp>
          <p:nvSpPr>
            <p:cNvPr id="536" name="Line 8"/>
            <p:cNvSpPr/>
            <p:nvPr/>
          </p:nvSpPr>
          <p:spPr>
            <a:xfrm>
              <a:off x="3352680" y="1440000"/>
              <a:ext cx="0" cy="43653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37" name=""/>
            <p:cNvSpPr txBox="1"/>
            <p:nvPr/>
          </p:nvSpPr>
          <p:spPr>
            <a:xfrm>
              <a:off x="3352680" y="1440000"/>
              <a:ext cx="360" cy="43653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38" name=""/>
          <p:cNvGrpSpPr/>
          <p:nvPr/>
        </p:nvGrpSpPr>
        <p:grpSpPr>
          <a:xfrm>
            <a:off x="6546600" y="1341360"/>
            <a:ext cx="43200" cy="4464000"/>
            <a:chOff x="6546600" y="1341360"/>
            <a:chExt cx="43200" cy="4464000"/>
          </a:xfrm>
        </p:grpSpPr>
        <p:sp>
          <p:nvSpPr>
            <p:cNvPr id="539" name="Line 9"/>
            <p:cNvSpPr/>
            <p:nvPr/>
          </p:nvSpPr>
          <p:spPr>
            <a:xfrm flipH="1">
              <a:off x="6546600" y="1341360"/>
              <a:ext cx="42840" cy="44640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40" name=""/>
            <p:cNvSpPr txBox="1"/>
            <p:nvPr/>
          </p:nvSpPr>
          <p:spPr>
            <a:xfrm>
              <a:off x="6546960" y="1341360"/>
              <a:ext cx="42840" cy="4464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B804-352D-4029-B9CA-F1CD2FD37239}"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42"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687D9F46-8BE2-4EC0-AF9F-685DDC5A4274}"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pic>
        <p:nvPicPr>
          <p:cNvPr id="543" name="Picture 2" descr="265077"/>
          <p:cNvPicPr/>
          <p:nvPr/>
        </p:nvPicPr>
        <p:blipFill>
          <a:blip r:embed="rId1"/>
          <a:srcRect l="0" t="10284" r="0" b="2274"/>
          <a:stretch/>
        </p:blipFill>
        <p:spPr>
          <a:xfrm>
            <a:off x="0" y="0"/>
            <a:ext cx="9910800" cy="6858000"/>
          </a:xfrm>
          <a:prstGeom prst="rect">
            <a:avLst/>
          </a:prstGeom>
          <a:ln w="0">
            <a:noFill/>
          </a:ln>
        </p:spPr>
      </p:pic>
      <p:sp>
        <p:nvSpPr>
          <p:cNvPr id="54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宋体"/>
              </a:rPr>
              <a:t>Full-area picture</a:t>
            </a:r>
            <a:endParaRPr b="0" lang="en-US" sz="2800" spc="-1" strike="noStrike">
              <a:solidFill>
                <a:srgbClr val="33333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D7E6-8D0B-41E7-98CF-1FED7517D4BD}"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46"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5A012E0-B8BB-461E-BD1F-37B4DB41B770}"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47" name="Rectangle 2"/>
          <p:cNvSpPr/>
          <p:nvPr/>
        </p:nvSpPr>
        <p:spPr>
          <a:xfrm>
            <a:off x="233280" y="1482840"/>
            <a:ext cx="9445680" cy="4211640"/>
          </a:xfrm>
          <a:prstGeom prst="rect">
            <a:avLst/>
          </a:prstGeom>
          <a:solidFill>
            <a:srgbClr val="62c5e2"/>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54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on coloured area</a:t>
            </a:r>
            <a:endParaRPr b="0" lang="en-US" sz="2800" spc="-1" strike="noStrike">
              <a:solidFill>
                <a:srgbClr val="333333"/>
              </a:solidFill>
              <a:latin typeface="Arial"/>
            </a:endParaRPr>
          </a:p>
        </p:txBody>
      </p:sp>
      <p:sp>
        <p:nvSpPr>
          <p:cNvPr id="549" name="PlaceHolder 2"/>
          <p:cNvSpPr>
            <a:spLocks noGrp="1"/>
          </p:cNvSpPr>
          <p:nvPr>
            <p:ph/>
          </p:nvPr>
        </p:nvSpPr>
        <p:spPr>
          <a:xfrm>
            <a:off x="1018800" y="1781280"/>
            <a:ext cx="7953480" cy="3882960"/>
          </a:xfrm>
          <a:prstGeom prst="rect">
            <a:avLst/>
          </a:prstGeom>
          <a:noFill/>
          <a:ln w="0">
            <a:noFill/>
          </a:ln>
        </p:spPr>
        <p:txBody>
          <a:bodyPr lIns="0" rIns="0" tIns="0" bIns="0" anchor="t">
            <a:normAutofit fontScale="98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tetur sadipscing elitr, sede diam onumy eirmod tempor invidunt ut labore et dolore es magnalam mos aliquyam erat, sed diam volu ptua.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a:t>
            </a:r>
            <a:r>
              <a:rPr b="0" lang="en-GB" sz="2100" spc="-1" strike="noStrike">
                <a:solidFill>
                  <a:srgbClr val="333333"/>
                </a:solidFill>
                <a:latin typeface="VW Headline OT-Black"/>
                <a:ea typeface="宋体"/>
              </a:rPr>
              <a:t>accentuation </a:t>
            </a:r>
            <a:r>
              <a:rPr b="0" lang="en-GB" sz="2100" spc="-1" strike="noStrike">
                <a:solidFill>
                  <a:srgbClr val="333333"/>
                </a:solidFill>
                <a:latin typeface="Arial"/>
                <a:ea typeface="宋体"/>
              </a:rPr>
              <a:t>sanctus est lorem ipsum dolor sit amet. Lorem ipsum dolor sit amet, consetetur sadipscing elitr, sed diam nonumy eirmod tempor invidunt ut labore et dolore magna aliquyam erat, sed diam volu ptuas. At vero eos et accusam et justo duo dolores et ea rebum. Stet clita kasd gubergren.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6678-80D8-47D2-97AE-F9CC2457CB19}"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51"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A03FEFB3-0239-4792-933C-0960C481CFB3}"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pic>
        <p:nvPicPr>
          <p:cNvPr id="552" name="Picture 4" descr="263885"/>
          <p:cNvPicPr/>
          <p:nvPr/>
        </p:nvPicPr>
        <p:blipFill>
          <a:blip r:embed="rId1"/>
          <a:srcRect l="18805" t="0" r="13281" b="1174"/>
          <a:stretch/>
        </p:blipFill>
        <p:spPr>
          <a:xfrm>
            <a:off x="233280" y="1476360"/>
            <a:ext cx="3915000" cy="4214880"/>
          </a:xfrm>
          <a:prstGeom prst="rect">
            <a:avLst/>
          </a:prstGeom>
          <a:ln w="0">
            <a:noFill/>
          </a:ln>
        </p:spPr>
      </p:pic>
      <p:sp>
        <p:nvSpPr>
          <p:cNvPr id="55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and picture on coloured area</a:t>
            </a:r>
            <a:endParaRPr b="0" lang="en-US" sz="2800" spc="-1" strike="noStrike">
              <a:solidFill>
                <a:srgbClr val="333333"/>
              </a:solidFill>
              <a:latin typeface="Arial"/>
            </a:endParaRPr>
          </a:p>
        </p:txBody>
      </p:sp>
      <p:sp>
        <p:nvSpPr>
          <p:cNvPr id="554" name="Rectangle 3"/>
          <p:cNvSpPr/>
          <p:nvPr/>
        </p:nvSpPr>
        <p:spPr>
          <a:xfrm>
            <a:off x="4049640" y="1482840"/>
            <a:ext cx="5629320" cy="4211640"/>
          </a:xfrm>
          <a:prstGeom prst="rect">
            <a:avLst/>
          </a:prstGeom>
          <a:solidFill>
            <a:srgbClr val="62c5e2"/>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555" name="Rectangle 5"/>
          <p:cNvSpPr/>
          <p:nvPr/>
        </p:nvSpPr>
        <p:spPr>
          <a:xfrm>
            <a:off x="4524480" y="1781280"/>
            <a:ext cx="4448160" cy="3882960"/>
          </a:xfrm>
          <a:prstGeom prst="rect">
            <a:avLst/>
          </a:prstGeom>
          <a:noFill/>
          <a:ln w="0">
            <a:noFill/>
          </a:ln>
        </p:spPr>
        <p:style>
          <a:lnRef idx="0"/>
          <a:fillRef idx="0"/>
          <a:effectRef idx="0"/>
          <a:fontRef idx="minor"/>
        </p:style>
        <p:txBody>
          <a:bodyPr lIns="0" rIns="0" tIns="0" bIns="0" anchor="t">
            <a:noAutofit/>
          </a:bodyPr>
          <a:p>
            <a:pP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ook"/>
                <a:ea typeface="宋体"/>
              </a:rPr>
              <a:t>Copytext Headline-Book 21 pt, </a:t>
            </a:r>
            <a:br>
              <a:rPr sz="2100"/>
            </a:br>
            <a:r>
              <a:rPr b="0" lang="en-GB" sz="2100" spc="-1" strike="noStrike">
                <a:solidFill>
                  <a:srgbClr val="333333"/>
                </a:solidFill>
                <a:latin typeface="VW Headline OT-Book"/>
                <a:ea typeface="宋体"/>
              </a:rPr>
              <a:t>line spacing 26 pt, spacing after 0.5 lines. </a:t>
            </a:r>
            <a:endParaRPr b="0" lang="en-US" sz="2100" spc="-1" strike="noStrike">
              <a:solidFill>
                <a:srgbClr val="333333"/>
              </a:solidFill>
              <a:latin typeface="VW Headline OT-Book"/>
            </a:endParaRPr>
          </a:p>
          <a:p>
            <a:pP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lack"/>
                <a:ea typeface="宋体"/>
              </a:rPr>
              <a:t>Accentuation Headline-Black 21 pt, line spacing 26 pt, spacing after 0.5 lines. </a:t>
            </a:r>
            <a:endParaRPr b="0" lang="en-US" sz="2100" spc="-1" strike="noStrike">
              <a:solidFill>
                <a:srgbClr val="333333"/>
              </a:solidFill>
              <a:latin typeface="VW Headline OT-Book"/>
            </a:endParaRPr>
          </a:p>
          <a:p>
            <a:pP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ook"/>
                <a:ea typeface="宋体"/>
              </a:rPr>
              <a:t>Stet clita kasd gubergren, no rasesean takimata sanctus est lorem ipsum dolor sit amet. Dolor siter amet, consetetur sadipscing elitr, sed diam numy eirmod invidunt ut labore et dolore magna. </a:t>
            </a:r>
            <a:endParaRPr b="0" lang="en-US" sz="2100" spc="-1" strike="noStrike">
              <a:solidFill>
                <a:srgbClr val="333333"/>
              </a:solidFill>
              <a:latin typeface="VW Headline OT-Book"/>
            </a:endParaRPr>
          </a:p>
        </p:txBody>
      </p:sp>
      <p:grpSp>
        <p:nvGrpSpPr>
          <p:cNvPr id="556" name=""/>
          <p:cNvGrpSpPr/>
          <p:nvPr/>
        </p:nvGrpSpPr>
        <p:grpSpPr>
          <a:xfrm>
            <a:off x="4054320" y="1420920"/>
            <a:ext cx="360" cy="4365360"/>
            <a:chOff x="4054320" y="1420920"/>
            <a:chExt cx="360" cy="4365360"/>
          </a:xfrm>
        </p:grpSpPr>
        <p:sp>
          <p:nvSpPr>
            <p:cNvPr id="557" name="Line 6"/>
            <p:cNvSpPr/>
            <p:nvPr/>
          </p:nvSpPr>
          <p:spPr>
            <a:xfrm>
              <a:off x="4054320" y="1420920"/>
              <a:ext cx="0" cy="43653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58" name=""/>
            <p:cNvSpPr txBox="1"/>
            <p:nvPr/>
          </p:nvSpPr>
          <p:spPr>
            <a:xfrm>
              <a:off x="4054320" y="1420920"/>
              <a:ext cx="360" cy="43653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8C68-06EA-4361-8BD8-0BBAB6FDE1AA}"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60"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BB2EA65F-F96E-4245-A3A8-C48CEE80A4D3}"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6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Accentuated statements</a:t>
            </a:r>
            <a:endParaRPr b="0" lang="en-US" sz="2800" spc="-1" strike="noStrike">
              <a:solidFill>
                <a:srgbClr val="333333"/>
              </a:solidFill>
              <a:latin typeface="Arial"/>
            </a:endParaRPr>
          </a:p>
        </p:txBody>
      </p:sp>
      <p:sp>
        <p:nvSpPr>
          <p:cNvPr id="562"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VW Headline OT-Black"/>
                <a:ea typeface="宋体"/>
              </a:rPr>
              <a:t>„</a:t>
            </a:r>
            <a:r>
              <a:rPr b="1" lang="en-GB" sz="3200" spc="-1" strike="noStrike">
                <a:solidFill>
                  <a:srgbClr val="333333"/>
                </a:solidFill>
                <a:latin typeface="VW Headline OT-Black"/>
                <a:ea typeface="宋体"/>
              </a:rPr>
              <a:t>Headline-Black 32 pt, LS 34 pt.“</a:t>
            </a:r>
            <a:endParaRPr b="0" lang="en-US" sz="32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Source/Author Headline-Book 16 pt</a:t>
            </a:r>
            <a:endParaRPr b="0" lang="en-US" sz="17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94a0"/>
                </a:solidFill>
                <a:latin typeface="VW Headline OT-Black"/>
                <a:ea typeface="宋体"/>
              </a:rPr>
              <a:t>„</a:t>
            </a:r>
            <a:r>
              <a:rPr b="1" lang="en-GB" sz="3200" spc="-1" strike="noStrike">
                <a:solidFill>
                  <a:srgbClr val="8994a0"/>
                </a:solidFill>
                <a:latin typeface="VW Headline OT-Black"/>
                <a:ea typeface="宋体"/>
              </a:rPr>
              <a:t>Headline-Black 32 pt, LS 34 pt.“</a:t>
            </a:r>
            <a:endParaRPr b="0" lang="en-US" sz="32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8994a0"/>
                </a:solidFill>
                <a:latin typeface="Arial"/>
                <a:ea typeface="宋体"/>
              </a:rPr>
              <a:t>Source/Author Headline-Book 16 pt</a:t>
            </a:r>
            <a:endParaRPr b="0" lang="en-US" sz="17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35a"/>
                </a:solidFill>
                <a:latin typeface="VW Headline OT-Black"/>
                <a:ea typeface="宋体"/>
              </a:rPr>
              <a:t>„</a:t>
            </a:r>
            <a:r>
              <a:rPr b="1" lang="en-GB" sz="3200" spc="-1" strike="noStrike">
                <a:solidFill>
                  <a:srgbClr val="00235a"/>
                </a:solidFill>
                <a:latin typeface="VW Headline OT-Black"/>
                <a:ea typeface="宋体"/>
              </a:rPr>
              <a:t>Headline-Black 32 pt, LS 34 pt.“</a:t>
            </a:r>
            <a:endParaRPr b="0" lang="en-US" sz="32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35a"/>
                </a:solidFill>
                <a:latin typeface="Arial"/>
                <a:ea typeface="宋体"/>
              </a:rPr>
              <a:t>Source/Author Headline-Book 16 pt</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8C6B-66DB-43DE-964C-6D7F44F5799F}"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130"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EEC730B5-A4B6-4A3D-A80F-359FBEE1FBA5}"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3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1. Creating a new presentation</a:t>
            </a:r>
            <a:endParaRPr b="0" lang="en-US" sz="2800" spc="-1" strike="noStrike">
              <a:solidFill>
                <a:srgbClr val="333333"/>
              </a:solidFill>
              <a:latin typeface="Arial"/>
            </a:endParaRPr>
          </a:p>
        </p:txBody>
      </p:sp>
      <p:sp>
        <p:nvSpPr>
          <p:cNvPr id="132" name="Rectangle 7"/>
          <p:cNvSpPr/>
          <p:nvPr/>
        </p:nvSpPr>
        <p:spPr>
          <a:xfrm>
            <a:off x="304920" y="530856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
        <p:nvSpPr>
          <p:cNvPr id="133"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It is very easy to create a new presentation using the presentation templates which are available for downloading:</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Numerous text slides, picture slides and slides for various diagrams and charts, organisation charts and tables are available as sample slides for individual contents to be inserted into them. Additional slides are created by duplicating the corresponding sample slide. </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Several start slides (“Welcome”), an agenda and a final slide (“Thank you for your attention”) are available to give the presentation a structure and can be used if required.</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Sample slides that are not required are deleted from the presentation.</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Changes may not be made to the slide master and title master.</a:t>
            </a:r>
            <a:endParaRPr b="0" lang="en-US" sz="1700" spc="-1" strike="noStrike">
              <a:solidFill>
                <a:srgbClr val="3333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AC93-8C0F-4806-ADA7-58E40000BDB2}"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64"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11F9D7E9-AC93-4508-A99D-DBF76AC8FB0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6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column chart on right </a:t>
            </a:r>
            <a:endParaRPr b="0" lang="en-US" sz="2800" spc="-1" strike="noStrike">
              <a:solidFill>
                <a:srgbClr val="333333"/>
              </a:solidFill>
              <a:latin typeface="Arial"/>
            </a:endParaRPr>
          </a:p>
        </p:txBody>
      </p:sp>
      <p:sp>
        <p:nvSpPr>
          <p:cNvPr id="566" name="PlaceHolder 2"/>
          <p:cNvSpPr>
            <a:spLocks noGrp="1"/>
          </p:cNvSpPr>
          <p:nvPr>
            <p:ph/>
          </p:nvPr>
        </p:nvSpPr>
        <p:spPr>
          <a:xfrm>
            <a:off x="1018800" y="1453680"/>
            <a:ext cx="3908520" cy="4210200"/>
          </a:xfrm>
          <a:prstGeom prst="rect">
            <a:avLst/>
          </a:prstGeom>
          <a:noFill/>
          <a:ln w="0">
            <a:noFill/>
          </a:ln>
        </p:spPr>
        <p:txBody>
          <a:bodyPr lIns="0" rIns="0" tIns="0" bIns="0" anchor="t">
            <a:normAutofit fontScale="97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aras, conset etur sadipscing elitr, hel sede dia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re sean takimata sanctus estelar. Lorem ipsum dolor sit ametolas, consetetur sadip scing elitr, sed diam numy eirmod temporare aliquyam erat, sed diam lu ptuas. </a:t>
            </a:r>
            <a:endParaRPr b="0" lang="en-US" sz="2100" spc="-1" strike="noStrike">
              <a:solidFill>
                <a:srgbClr val="333333"/>
              </a:solidFill>
              <a:latin typeface="Arial"/>
            </a:endParaRPr>
          </a:p>
        </p:txBody>
      </p:sp>
      <p:pic>
        <p:nvPicPr>
          <p:cNvPr id="567" name="Object 4" descr=""/>
          <p:cNvPicPr/>
          <p:nvPr/>
        </p:nvPicPr>
        <p:blipFill>
          <a:blip r:embed="rId1"/>
          <a:stretch/>
        </p:blipFill>
        <p:spPr>
          <a:xfrm>
            <a:off x="5334120" y="1419120"/>
            <a:ext cx="3609720" cy="4353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E5BB-280B-4208-A944-77A5A6F08137}"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6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9369D2B9-C194-42C0-80AE-2F8E0DD6804D}"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7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Line chart</a:t>
            </a:r>
            <a:endParaRPr b="0" lang="en-US" sz="2800" spc="-1" strike="noStrike">
              <a:solidFill>
                <a:srgbClr val="333333"/>
              </a:solidFill>
              <a:latin typeface="Arial"/>
            </a:endParaRPr>
          </a:p>
        </p:txBody>
      </p:sp>
      <p:pic>
        <p:nvPicPr>
          <p:cNvPr id="571" name="Object 3" descr=""/>
          <p:cNvPicPr/>
          <p:nvPr/>
        </p:nvPicPr>
        <p:blipFill>
          <a:blip r:embed="rId1"/>
          <a:stretch/>
        </p:blipFill>
        <p:spPr>
          <a:xfrm>
            <a:off x="996840" y="1411200"/>
            <a:ext cx="7888320" cy="4419720"/>
          </a:xfrm>
          <a:prstGeom prst="rect">
            <a:avLst/>
          </a:prstGeom>
          <a:ln w="0">
            <a:noFill/>
          </a:ln>
        </p:spPr>
      </p:pic>
      <p:sp>
        <p:nvSpPr>
          <p:cNvPr id="572" name="文本框 34821"/>
          <p:cNvSpPr/>
          <p:nvPr/>
        </p:nvSpPr>
        <p:spPr>
          <a:xfrm>
            <a:off x="1147680" y="90000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2"/>
              </a:rPr>
              <a:t>ppt</a:t>
            </a:r>
            <a:r>
              <a:rPr b="0" lang="zh-CN" sz="1600" spc="-1" strike="noStrike" u="sng">
                <a:solidFill>
                  <a:srgbClr val="8994a0"/>
                </a:solidFill>
                <a:uFillTx/>
                <a:latin typeface="VW Headline OT-Book"/>
                <a:ea typeface="VW Headline OT-Book"/>
                <a:hlinkClick r:id="rId3"/>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0A77-D80D-438C-AFD4-1D4EC6852ADE}"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74"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568B768A-8B25-4B2E-AF91-E526E01F5D91}"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7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Column chart</a:t>
            </a:r>
            <a:endParaRPr b="0" lang="en-US" sz="2800" spc="-1" strike="noStrike">
              <a:solidFill>
                <a:srgbClr val="333333"/>
              </a:solidFill>
              <a:latin typeface="Arial"/>
            </a:endParaRPr>
          </a:p>
        </p:txBody>
      </p:sp>
      <p:pic>
        <p:nvPicPr>
          <p:cNvPr id="576" name="Object 3" descr=""/>
          <p:cNvPicPr/>
          <p:nvPr/>
        </p:nvPicPr>
        <p:blipFill>
          <a:blip r:embed="rId1"/>
          <a:stretch/>
        </p:blipFill>
        <p:spPr>
          <a:xfrm>
            <a:off x="958680" y="1380960"/>
            <a:ext cx="7958160" cy="4415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2837-1715-4822-8CD0-4BB1D5B56880}"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7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5F2F8068-C8CF-4B3B-A620-56C4587F2E5F}"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7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Pie chart</a:t>
            </a:r>
            <a:br>
              <a:rPr sz="2800"/>
            </a:br>
            <a:endParaRPr b="0" lang="en-US" sz="2800" spc="-1" strike="noStrike">
              <a:solidFill>
                <a:srgbClr val="333333"/>
              </a:solidFill>
              <a:latin typeface="Arial"/>
            </a:endParaRPr>
          </a:p>
        </p:txBody>
      </p:sp>
      <p:pic>
        <p:nvPicPr>
          <p:cNvPr id="580" name="Object 3" descr=""/>
          <p:cNvPicPr/>
          <p:nvPr/>
        </p:nvPicPr>
        <p:blipFill>
          <a:blip r:embed="rId1"/>
          <a:stretch/>
        </p:blipFill>
        <p:spPr>
          <a:xfrm>
            <a:off x="560520" y="1373040"/>
            <a:ext cx="8075520" cy="4446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854D-ACE4-4A38-AA44-1F85D5D17B98}"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582"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569EAAC-83C7-43AC-8F2A-1BD34B4FD58E}"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8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Organisation chart</a:t>
            </a:r>
            <a:endParaRPr b="0" lang="en-US" sz="2800" spc="-1" strike="noStrike">
              <a:solidFill>
                <a:srgbClr val="333333"/>
              </a:solidFill>
              <a:latin typeface="Arial"/>
            </a:endParaRPr>
          </a:p>
        </p:txBody>
      </p:sp>
      <p:grpSp>
        <p:nvGrpSpPr>
          <p:cNvPr id="584" name=""/>
          <p:cNvGrpSpPr/>
          <p:nvPr/>
        </p:nvGrpSpPr>
        <p:grpSpPr>
          <a:xfrm>
            <a:off x="3416040" y="1531800"/>
            <a:ext cx="360" cy="184320"/>
            <a:chOff x="3416040" y="1531800"/>
            <a:chExt cx="360" cy="184320"/>
          </a:xfrm>
        </p:grpSpPr>
        <p:sp>
          <p:nvSpPr>
            <p:cNvPr id="585" name="Line 3"/>
            <p:cNvSpPr/>
            <p:nvPr/>
          </p:nvSpPr>
          <p:spPr>
            <a:xfrm flipV="1">
              <a:off x="3416400" y="1531800"/>
              <a:ext cx="0" cy="18432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86" name=""/>
            <p:cNvSpPr txBox="1"/>
            <p:nvPr/>
          </p:nvSpPr>
          <p:spPr>
            <a:xfrm rot="10800000">
              <a:off x="3416040" y="1531800"/>
              <a:ext cx="360" cy="1843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87" name=""/>
          <p:cNvGrpSpPr/>
          <p:nvPr/>
        </p:nvGrpSpPr>
        <p:grpSpPr>
          <a:xfrm>
            <a:off x="3416400" y="1527120"/>
            <a:ext cx="1495440" cy="360"/>
            <a:chOff x="3416400" y="1527120"/>
            <a:chExt cx="1495440" cy="360"/>
          </a:xfrm>
        </p:grpSpPr>
        <p:sp>
          <p:nvSpPr>
            <p:cNvPr id="588" name="Line 4"/>
            <p:cNvSpPr/>
            <p:nvPr/>
          </p:nvSpPr>
          <p:spPr>
            <a:xfrm>
              <a:off x="3416400" y="1527120"/>
              <a:ext cx="1495440" cy="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89" name=""/>
            <p:cNvSpPr txBox="1"/>
            <p:nvPr/>
          </p:nvSpPr>
          <p:spPr>
            <a:xfrm>
              <a:off x="3416400" y="1527120"/>
              <a:ext cx="14954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90" name=""/>
          <p:cNvGrpSpPr/>
          <p:nvPr/>
        </p:nvGrpSpPr>
        <p:grpSpPr>
          <a:xfrm>
            <a:off x="6392520" y="1531800"/>
            <a:ext cx="360" cy="184320"/>
            <a:chOff x="6392520" y="1531800"/>
            <a:chExt cx="360" cy="184320"/>
          </a:xfrm>
        </p:grpSpPr>
        <p:sp>
          <p:nvSpPr>
            <p:cNvPr id="591" name="Line 5"/>
            <p:cNvSpPr/>
            <p:nvPr/>
          </p:nvSpPr>
          <p:spPr>
            <a:xfrm flipV="1">
              <a:off x="6392880" y="1531800"/>
              <a:ext cx="0" cy="18432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92" name=""/>
            <p:cNvSpPr txBox="1"/>
            <p:nvPr/>
          </p:nvSpPr>
          <p:spPr>
            <a:xfrm rot="10800000">
              <a:off x="6392520" y="1531800"/>
              <a:ext cx="360" cy="1843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93" name=""/>
          <p:cNvGrpSpPr/>
          <p:nvPr/>
        </p:nvGrpSpPr>
        <p:grpSpPr>
          <a:xfrm>
            <a:off x="4897440" y="1527120"/>
            <a:ext cx="1495440" cy="360"/>
            <a:chOff x="4897440" y="1527120"/>
            <a:chExt cx="1495440" cy="360"/>
          </a:xfrm>
        </p:grpSpPr>
        <p:sp>
          <p:nvSpPr>
            <p:cNvPr id="594" name="Line 6"/>
            <p:cNvSpPr/>
            <p:nvPr/>
          </p:nvSpPr>
          <p:spPr>
            <a:xfrm>
              <a:off x="4897440" y="1527120"/>
              <a:ext cx="1495440" cy="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95" name=""/>
            <p:cNvSpPr txBox="1"/>
            <p:nvPr/>
          </p:nvSpPr>
          <p:spPr>
            <a:xfrm>
              <a:off x="4897440" y="1527120"/>
              <a:ext cx="14954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96" name="组合 37896"/>
          <p:cNvGrpSpPr/>
          <p:nvPr/>
        </p:nvGrpSpPr>
        <p:grpSpPr>
          <a:xfrm>
            <a:off x="1019160" y="1479600"/>
            <a:ext cx="7953120" cy="4220640"/>
            <a:chOff x="1019160" y="1479600"/>
            <a:chExt cx="7953120" cy="4220640"/>
          </a:xfrm>
        </p:grpSpPr>
        <p:grpSp>
          <p:nvGrpSpPr>
            <p:cNvPr id="597" name=""/>
            <p:cNvGrpSpPr/>
            <p:nvPr/>
          </p:nvGrpSpPr>
          <p:grpSpPr>
            <a:xfrm>
              <a:off x="4975560" y="1818360"/>
              <a:ext cx="5040" cy="1403280"/>
              <a:chOff x="4975560" y="1818360"/>
              <a:chExt cx="5040" cy="1403280"/>
            </a:xfrm>
          </p:grpSpPr>
          <p:sp>
            <p:nvSpPr>
              <p:cNvPr id="598" name="Line 8"/>
              <p:cNvSpPr/>
              <p:nvPr/>
            </p:nvSpPr>
            <p:spPr>
              <a:xfrm flipV="1">
                <a:off x="4975920" y="1818360"/>
                <a:ext cx="4680" cy="14032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99" name=""/>
              <p:cNvSpPr txBox="1"/>
              <p:nvPr/>
            </p:nvSpPr>
            <p:spPr>
              <a:xfrm rot="10800000">
                <a:off x="4975560" y="1818360"/>
                <a:ext cx="4680" cy="14032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00" name=""/>
            <p:cNvGrpSpPr/>
            <p:nvPr/>
          </p:nvGrpSpPr>
          <p:grpSpPr>
            <a:xfrm>
              <a:off x="2536920" y="2884320"/>
              <a:ext cx="360" cy="2222280"/>
              <a:chOff x="2536920" y="2884320"/>
              <a:chExt cx="360" cy="2222280"/>
            </a:xfrm>
          </p:grpSpPr>
          <p:sp>
            <p:nvSpPr>
              <p:cNvPr id="601" name="Line 9"/>
              <p:cNvSpPr/>
              <p:nvPr/>
            </p:nvSpPr>
            <p:spPr>
              <a:xfrm>
                <a:off x="2536920" y="2884320"/>
                <a:ext cx="0" cy="2222280"/>
              </a:xfrm>
              <a:prstGeom prst="line">
                <a:avLst/>
              </a:prstGeom>
              <a:ln w="936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02" name=""/>
              <p:cNvSpPr txBox="1"/>
              <p:nvPr/>
            </p:nvSpPr>
            <p:spPr>
              <a:xfrm>
                <a:off x="2536920" y="2884320"/>
                <a:ext cx="360" cy="22222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03" name=""/>
            <p:cNvGrpSpPr/>
            <p:nvPr/>
          </p:nvGrpSpPr>
          <p:grpSpPr>
            <a:xfrm>
              <a:off x="4181760" y="2884320"/>
              <a:ext cx="360" cy="2222280"/>
              <a:chOff x="4181760" y="2884320"/>
              <a:chExt cx="360" cy="2222280"/>
            </a:xfrm>
          </p:grpSpPr>
          <p:sp>
            <p:nvSpPr>
              <p:cNvPr id="604" name="Line 10"/>
              <p:cNvSpPr/>
              <p:nvPr/>
            </p:nvSpPr>
            <p:spPr>
              <a:xfrm>
                <a:off x="4181760" y="2884320"/>
                <a:ext cx="0" cy="2222280"/>
              </a:xfrm>
              <a:prstGeom prst="line">
                <a:avLst/>
              </a:prstGeom>
              <a:ln w="936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05" name=""/>
              <p:cNvSpPr txBox="1"/>
              <p:nvPr/>
            </p:nvSpPr>
            <p:spPr>
              <a:xfrm>
                <a:off x="4181760" y="2884320"/>
                <a:ext cx="360" cy="22222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06" name=""/>
            <p:cNvGrpSpPr/>
            <p:nvPr/>
          </p:nvGrpSpPr>
          <p:grpSpPr>
            <a:xfrm>
              <a:off x="5808240" y="2893680"/>
              <a:ext cx="4680" cy="2217600"/>
              <a:chOff x="5808240" y="2893680"/>
              <a:chExt cx="4680" cy="2217600"/>
            </a:xfrm>
          </p:grpSpPr>
          <p:sp>
            <p:nvSpPr>
              <p:cNvPr id="607" name="Line 11"/>
              <p:cNvSpPr/>
              <p:nvPr/>
            </p:nvSpPr>
            <p:spPr>
              <a:xfrm>
                <a:off x="5808240" y="2893680"/>
                <a:ext cx="4680" cy="2217600"/>
              </a:xfrm>
              <a:prstGeom prst="line">
                <a:avLst/>
              </a:prstGeom>
              <a:ln w="936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08" name=""/>
              <p:cNvSpPr txBox="1"/>
              <p:nvPr/>
            </p:nvSpPr>
            <p:spPr>
              <a:xfrm>
                <a:off x="5808240" y="2893680"/>
                <a:ext cx="4680" cy="22176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09" name=""/>
            <p:cNvGrpSpPr/>
            <p:nvPr/>
          </p:nvGrpSpPr>
          <p:grpSpPr>
            <a:xfrm>
              <a:off x="7426080" y="2893680"/>
              <a:ext cx="360" cy="2217600"/>
              <a:chOff x="7426080" y="2893680"/>
              <a:chExt cx="360" cy="2217600"/>
            </a:xfrm>
          </p:grpSpPr>
          <p:sp>
            <p:nvSpPr>
              <p:cNvPr id="610" name="Line 12"/>
              <p:cNvSpPr/>
              <p:nvPr/>
            </p:nvSpPr>
            <p:spPr>
              <a:xfrm>
                <a:off x="7426080" y="2893680"/>
                <a:ext cx="0" cy="2217600"/>
              </a:xfrm>
              <a:prstGeom prst="line">
                <a:avLst/>
              </a:prstGeom>
              <a:ln w="936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11" name=""/>
              <p:cNvSpPr txBox="1"/>
              <p:nvPr/>
            </p:nvSpPr>
            <p:spPr>
              <a:xfrm>
                <a:off x="7426080" y="2893680"/>
                <a:ext cx="360" cy="22176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12" name=""/>
            <p:cNvGrpSpPr/>
            <p:nvPr/>
          </p:nvGrpSpPr>
          <p:grpSpPr>
            <a:xfrm>
              <a:off x="1716120" y="2885760"/>
              <a:ext cx="6545160" cy="360"/>
              <a:chOff x="1716120" y="2885760"/>
              <a:chExt cx="6545160" cy="360"/>
            </a:xfrm>
          </p:grpSpPr>
          <p:sp>
            <p:nvSpPr>
              <p:cNvPr id="613" name="Line 13"/>
              <p:cNvSpPr/>
              <p:nvPr/>
            </p:nvSpPr>
            <p:spPr>
              <a:xfrm>
                <a:off x="1716120" y="2885760"/>
                <a:ext cx="6545160" cy="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14" name=""/>
              <p:cNvSpPr txBox="1"/>
              <p:nvPr/>
            </p:nvSpPr>
            <p:spPr>
              <a:xfrm>
                <a:off x="1716120" y="2885760"/>
                <a:ext cx="65451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15" name=""/>
            <p:cNvGrpSpPr/>
            <p:nvPr/>
          </p:nvGrpSpPr>
          <p:grpSpPr>
            <a:xfrm>
              <a:off x="1719000" y="2883960"/>
              <a:ext cx="360" cy="362520"/>
              <a:chOff x="1719000" y="2883960"/>
              <a:chExt cx="360" cy="362520"/>
            </a:xfrm>
          </p:grpSpPr>
          <p:sp>
            <p:nvSpPr>
              <p:cNvPr id="616" name="Line 14"/>
              <p:cNvSpPr/>
              <p:nvPr/>
            </p:nvSpPr>
            <p:spPr>
              <a:xfrm flipV="1">
                <a:off x="1719360" y="288396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17" name=""/>
              <p:cNvSpPr txBox="1"/>
              <p:nvPr/>
            </p:nvSpPr>
            <p:spPr>
              <a:xfrm rot="10800000">
                <a:off x="1719000" y="288396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18" name=""/>
            <p:cNvGrpSpPr/>
            <p:nvPr/>
          </p:nvGrpSpPr>
          <p:grpSpPr>
            <a:xfrm>
              <a:off x="3360600" y="2882520"/>
              <a:ext cx="360" cy="362880"/>
              <a:chOff x="3360600" y="2882520"/>
              <a:chExt cx="360" cy="362880"/>
            </a:xfrm>
          </p:grpSpPr>
          <p:sp>
            <p:nvSpPr>
              <p:cNvPr id="619" name="Line 15"/>
              <p:cNvSpPr/>
              <p:nvPr/>
            </p:nvSpPr>
            <p:spPr>
              <a:xfrm flipV="1">
                <a:off x="3360960" y="288252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20" name=""/>
              <p:cNvSpPr txBox="1"/>
              <p:nvPr/>
            </p:nvSpPr>
            <p:spPr>
              <a:xfrm rot="10800000">
                <a:off x="3360600" y="288252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21" name=""/>
            <p:cNvGrpSpPr/>
            <p:nvPr/>
          </p:nvGrpSpPr>
          <p:grpSpPr>
            <a:xfrm>
              <a:off x="6628680" y="2891880"/>
              <a:ext cx="360" cy="362520"/>
              <a:chOff x="6628680" y="2891880"/>
              <a:chExt cx="360" cy="362520"/>
            </a:xfrm>
          </p:grpSpPr>
          <p:sp>
            <p:nvSpPr>
              <p:cNvPr id="622" name="Line 16"/>
              <p:cNvSpPr/>
              <p:nvPr/>
            </p:nvSpPr>
            <p:spPr>
              <a:xfrm flipV="1">
                <a:off x="6629040" y="289188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23" name=""/>
              <p:cNvSpPr txBox="1"/>
              <p:nvPr/>
            </p:nvSpPr>
            <p:spPr>
              <a:xfrm rot="10800000">
                <a:off x="6628680" y="289188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24" name=""/>
            <p:cNvGrpSpPr/>
            <p:nvPr/>
          </p:nvGrpSpPr>
          <p:grpSpPr>
            <a:xfrm>
              <a:off x="8267040" y="2882520"/>
              <a:ext cx="360" cy="362880"/>
              <a:chOff x="8267040" y="2882520"/>
              <a:chExt cx="360" cy="362880"/>
            </a:xfrm>
          </p:grpSpPr>
          <p:sp>
            <p:nvSpPr>
              <p:cNvPr id="625" name="Line 17"/>
              <p:cNvSpPr/>
              <p:nvPr/>
            </p:nvSpPr>
            <p:spPr>
              <a:xfrm flipV="1">
                <a:off x="8267400" y="288252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26" name=""/>
              <p:cNvSpPr txBox="1"/>
              <p:nvPr/>
            </p:nvSpPr>
            <p:spPr>
              <a:xfrm rot="10800000">
                <a:off x="8267040" y="288252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27" name=""/>
            <p:cNvGrpSpPr/>
            <p:nvPr/>
          </p:nvGrpSpPr>
          <p:grpSpPr>
            <a:xfrm>
              <a:off x="1719360" y="4397040"/>
              <a:ext cx="6545160" cy="360"/>
              <a:chOff x="1719360" y="4397040"/>
              <a:chExt cx="6545160" cy="360"/>
            </a:xfrm>
          </p:grpSpPr>
          <p:sp>
            <p:nvSpPr>
              <p:cNvPr id="628" name="Line 18"/>
              <p:cNvSpPr/>
              <p:nvPr/>
            </p:nvSpPr>
            <p:spPr>
              <a:xfrm>
                <a:off x="1719360" y="4397040"/>
                <a:ext cx="6545160" cy="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29" name=""/>
              <p:cNvSpPr txBox="1"/>
              <p:nvPr/>
            </p:nvSpPr>
            <p:spPr>
              <a:xfrm>
                <a:off x="1719360" y="4397040"/>
                <a:ext cx="65451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30" name=""/>
            <p:cNvGrpSpPr/>
            <p:nvPr/>
          </p:nvGrpSpPr>
          <p:grpSpPr>
            <a:xfrm>
              <a:off x="1722240" y="4395240"/>
              <a:ext cx="360" cy="362520"/>
              <a:chOff x="1722240" y="4395240"/>
              <a:chExt cx="360" cy="362520"/>
            </a:xfrm>
          </p:grpSpPr>
          <p:sp>
            <p:nvSpPr>
              <p:cNvPr id="631" name="Line 19"/>
              <p:cNvSpPr/>
              <p:nvPr/>
            </p:nvSpPr>
            <p:spPr>
              <a:xfrm flipV="1">
                <a:off x="1722600" y="439524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32" name=""/>
              <p:cNvSpPr txBox="1"/>
              <p:nvPr/>
            </p:nvSpPr>
            <p:spPr>
              <a:xfrm rot="10800000">
                <a:off x="1722240" y="439524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33" name=""/>
            <p:cNvGrpSpPr/>
            <p:nvPr/>
          </p:nvGrpSpPr>
          <p:grpSpPr>
            <a:xfrm>
              <a:off x="3363840" y="4393800"/>
              <a:ext cx="360" cy="362520"/>
              <a:chOff x="3363840" y="4393800"/>
              <a:chExt cx="360" cy="362520"/>
            </a:xfrm>
          </p:grpSpPr>
          <p:sp>
            <p:nvSpPr>
              <p:cNvPr id="634" name="Line 20"/>
              <p:cNvSpPr/>
              <p:nvPr/>
            </p:nvSpPr>
            <p:spPr>
              <a:xfrm flipV="1">
                <a:off x="3364200" y="439380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35" name=""/>
              <p:cNvSpPr txBox="1"/>
              <p:nvPr/>
            </p:nvSpPr>
            <p:spPr>
              <a:xfrm rot="10800000">
                <a:off x="3363840" y="439380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36" name=""/>
            <p:cNvGrpSpPr/>
            <p:nvPr/>
          </p:nvGrpSpPr>
          <p:grpSpPr>
            <a:xfrm>
              <a:off x="4993200" y="4403520"/>
              <a:ext cx="360" cy="362520"/>
              <a:chOff x="4993200" y="4403520"/>
              <a:chExt cx="360" cy="362520"/>
            </a:xfrm>
          </p:grpSpPr>
          <p:sp>
            <p:nvSpPr>
              <p:cNvPr id="637" name="Line 21"/>
              <p:cNvSpPr/>
              <p:nvPr/>
            </p:nvSpPr>
            <p:spPr>
              <a:xfrm flipV="1">
                <a:off x="4993560" y="440352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38" name=""/>
              <p:cNvSpPr txBox="1"/>
              <p:nvPr/>
            </p:nvSpPr>
            <p:spPr>
              <a:xfrm rot="10800000">
                <a:off x="4993200" y="440352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39" name=""/>
            <p:cNvGrpSpPr/>
            <p:nvPr/>
          </p:nvGrpSpPr>
          <p:grpSpPr>
            <a:xfrm>
              <a:off x="6631560" y="4403520"/>
              <a:ext cx="360" cy="362520"/>
              <a:chOff x="6631560" y="4403520"/>
              <a:chExt cx="360" cy="362520"/>
            </a:xfrm>
          </p:grpSpPr>
          <p:sp>
            <p:nvSpPr>
              <p:cNvPr id="640" name="Line 22"/>
              <p:cNvSpPr/>
              <p:nvPr/>
            </p:nvSpPr>
            <p:spPr>
              <a:xfrm flipV="1">
                <a:off x="6631920" y="440352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41" name=""/>
              <p:cNvSpPr txBox="1"/>
              <p:nvPr/>
            </p:nvSpPr>
            <p:spPr>
              <a:xfrm rot="10800000">
                <a:off x="6631560" y="440352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42" name=""/>
            <p:cNvGrpSpPr/>
            <p:nvPr/>
          </p:nvGrpSpPr>
          <p:grpSpPr>
            <a:xfrm>
              <a:off x="8270280" y="4393800"/>
              <a:ext cx="360" cy="362520"/>
              <a:chOff x="8270280" y="4393800"/>
              <a:chExt cx="360" cy="362520"/>
            </a:xfrm>
          </p:grpSpPr>
          <p:sp>
            <p:nvSpPr>
              <p:cNvPr id="643" name="Line 23"/>
              <p:cNvSpPr/>
              <p:nvPr/>
            </p:nvSpPr>
            <p:spPr>
              <a:xfrm flipV="1">
                <a:off x="8270640" y="439380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44" name=""/>
              <p:cNvSpPr txBox="1"/>
              <p:nvPr/>
            </p:nvSpPr>
            <p:spPr>
              <a:xfrm rot="10800000">
                <a:off x="8270280" y="439380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45" name=""/>
            <p:cNvGrpSpPr/>
            <p:nvPr/>
          </p:nvGrpSpPr>
          <p:grpSpPr>
            <a:xfrm>
              <a:off x="1709640" y="3709800"/>
              <a:ext cx="6545160" cy="360"/>
              <a:chOff x="1709640" y="3709800"/>
              <a:chExt cx="6545160" cy="360"/>
            </a:xfrm>
          </p:grpSpPr>
          <p:sp>
            <p:nvSpPr>
              <p:cNvPr id="646" name="Line 24"/>
              <p:cNvSpPr/>
              <p:nvPr/>
            </p:nvSpPr>
            <p:spPr>
              <a:xfrm>
                <a:off x="1709640" y="3709800"/>
                <a:ext cx="6545160" cy="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47" name=""/>
              <p:cNvSpPr txBox="1"/>
              <p:nvPr/>
            </p:nvSpPr>
            <p:spPr>
              <a:xfrm>
                <a:off x="1709640" y="3709800"/>
                <a:ext cx="65451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48" name=""/>
            <p:cNvGrpSpPr/>
            <p:nvPr/>
          </p:nvGrpSpPr>
          <p:grpSpPr>
            <a:xfrm>
              <a:off x="1712520" y="3708000"/>
              <a:ext cx="360" cy="362520"/>
              <a:chOff x="1712520" y="3708000"/>
              <a:chExt cx="360" cy="362520"/>
            </a:xfrm>
          </p:grpSpPr>
          <p:sp>
            <p:nvSpPr>
              <p:cNvPr id="649" name="Line 25"/>
              <p:cNvSpPr/>
              <p:nvPr/>
            </p:nvSpPr>
            <p:spPr>
              <a:xfrm flipV="1">
                <a:off x="1712880" y="370800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50" name=""/>
              <p:cNvSpPr txBox="1"/>
              <p:nvPr/>
            </p:nvSpPr>
            <p:spPr>
              <a:xfrm rot="10800000">
                <a:off x="1712520" y="370800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51" name=""/>
            <p:cNvGrpSpPr/>
            <p:nvPr/>
          </p:nvGrpSpPr>
          <p:grpSpPr>
            <a:xfrm>
              <a:off x="3354480" y="3706560"/>
              <a:ext cx="360" cy="362520"/>
              <a:chOff x="3354480" y="3706560"/>
              <a:chExt cx="360" cy="362520"/>
            </a:xfrm>
          </p:grpSpPr>
          <p:sp>
            <p:nvSpPr>
              <p:cNvPr id="652" name="Line 26"/>
              <p:cNvSpPr/>
              <p:nvPr/>
            </p:nvSpPr>
            <p:spPr>
              <a:xfrm flipV="1">
                <a:off x="3354840" y="370656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53" name=""/>
              <p:cNvSpPr txBox="1"/>
              <p:nvPr/>
            </p:nvSpPr>
            <p:spPr>
              <a:xfrm rot="10800000">
                <a:off x="3354480" y="370656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54" name=""/>
            <p:cNvGrpSpPr/>
            <p:nvPr/>
          </p:nvGrpSpPr>
          <p:grpSpPr>
            <a:xfrm>
              <a:off x="4983480" y="3715920"/>
              <a:ext cx="360" cy="362520"/>
              <a:chOff x="4983480" y="3715920"/>
              <a:chExt cx="360" cy="362520"/>
            </a:xfrm>
          </p:grpSpPr>
          <p:sp>
            <p:nvSpPr>
              <p:cNvPr id="655" name="Line 27"/>
              <p:cNvSpPr/>
              <p:nvPr/>
            </p:nvSpPr>
            <p:spPr>
              <a:xfrm flipV="1">
                <a:off x="4983840" y="371592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56" name=""/>
              <p:cNvSpPr txBox="1"/>
              <p:nvPr/>
            </p:nvSpPr>
            <p:spPr>
              <a:xfrm rot="10800000">
                <a:off x="4983480" y="371592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57" name=""/>
            <p:cNvGrpSpPr/>
            <p:nvPr/>
          </p:nvGrpSpPr>
          <p:grpSpPr>
            <a:xfrm>
              <a:off x="6622200" y="3715920"/>
              <a:ext cx="360" cy="362520"/>
              <a:chOff x="6622200" y="3715920"/>
              <a:chExt cx="360" cy="362520"/>
            </a:xfrm>
          </p:grpSpPr>
          <p:sp>
            <p:nvSpPr>
              <p:cNvPr id="658" name="Line 28"/>
              <p:cNvSpPr/>
              <p:nvPr/>
            </p:nvSpPr>
            <p:spPr>
              <a:xfrm flipV="1">
                <a:off x="6622560" y="371592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59" name=""/>
              <p:cNvSpPr txBox="1"/>
              <p:nvPr/>
            </p:nvSpPr>
            <p:spPr>
              <a:xfrm rot="10800000">
                <a:off x="6622200" y="371592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60" name=""/>
            <p:cNvGrpSpPr/>
            <p:nvPr/>
          </p:nvGrpSpPr>
          <p:grpSpPr>
            <a:xfrm>
              <a:off x="8260920" y="3706560"/>
              <a:ext cx="360" cy="362520"/>
              <a:chOff x="8260920" y="3706560"/>
              <a:chExt cx="360" cy="362520"/>
            </a:xfrm>
          </p:grpSpPr>
          <p:sp>
            <p:nvSpPr>
              <p:cNvPr id="661" name="Line 29"/>
              <p:cNvSpPr/>
              <p:nvPr/>
            </p:nvSpPr>
            <p:spPr>
              <a:xfrm flipV="1">
                <a:off x="8261280" y="370656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62" name=""/>
              <p:cNvSpPr txBox="1"/>
              <p:nvPr/>
            </p:nvSpPr>
            <p:spPr>
              <a:xfrm rot="10800000">
                <a:off x="8260920" y="370656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63" name=""/>
            <p:cNvGrpSpPr/>
            <p:nvPr/>
          </p:nvGrpSpPr>
          <p:grpSpPr>
            <a:xfrm>
              <a:off x="1709640" y="5113440"/>
              <a:ext cx="6545160" cy="360"/>
              <a:chOff x="1709640" y="5113440"/>
              <a:chExt cx="6545160" cy="360"/>
            </a:xfrm>
          </p:grpSpPr>
          <p:sp>
            <p:nvSpPr>
              <p:cNvPr id="664" name="Line 30"/>
              <p:cNvSpPr/>
              <p:nvPr/>
            </p:nvSpPr>
            <p:spPr>
              <a:xfrm>
                <a:off x="1709640" y="5113440"/>
                <a:ext cx="6545160" cy="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65" name=""/>
              <p:cNvSpPr txBox="1"/>
              <p:nvPr/>
            </p:nvSpPr>
            <p:spPr>
              <a:xfrm>
                <a:off x="1709640" y="5113440"/>
                <a:ext cx="65451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66" name=""/>
            <p:cNvGrpSpPr/>
            <p:nvPr/>
          </p:nvGrpSpPr>
          <p:grpSpPr>
            <a:xfrm>
              <a:off x="1712520" y="5106960"/>
              <a:ext cx="360" cy="362880"/>
              <a:chOff x="1712520" y="5106960"/>
              <a:chExt cx="360" cy="362880"/>
            </a:xfrm>
          </p:grpSpPr>
          <p:sp>
            <p:nvSpPr>
              <p:cNvPr id="667" name="Line 31"/>
              <p:cNvSpPr/>
              <p:nvPr/>
            </p:nvSpPr>
            <p:spPr>
              <a:xfrm flipV="1">
                <a:off x="1712880" y="510696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68" name=""/>
              <p:cNvSpPr txBox="1"/>
              <p:nvPr/>
            </p:nvSpPr>
            <p:spPr>
              <a:xfrm rot="10800000">
                <a:off x="1712520" y="510696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69" name=""/>
            <p:cNvGrpSpPr/>
            <p:nvPr/>
          </p:nvGrpSpPr>
          <p:grpSpPr>
            <a:xfrm>
              <a:off x="3354480" y="5109840"/>
              <a:ext cx="360" cy="362520"/>
              <a:chOff x="3354480" y="5109840"/>
              <a:chExt cx="360" cy="362520"/>
            </a:xfrm>
          </p:grpSpPr>
          <p:sp>
            <p:nvSpPr>
              <p:cNvPr id="670" name="Line 32"/>
              <p:cNvSpPr/>
              <p:nvPr/>
            </p:nvSpPr>
            <p:spPr>
              <a:xfrm flipV="1">
                <a:off x="3354840" y="510984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71" name=""/>
              <p:cNvSpPr txBox="1"/>
              <p:nvPr/>
            </p:nvSpPr>
            <p:spPr>
              <a:xfrm rot="10800000">
                <a:off x="3354480" y="510984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72" name=""/>
            <p:cNvGrpSpPr/>
            <p:nvPr/>
          </p:nvGrpSpPr>
          <p:grpSpPr>
            <a:xfrm>
              <a:off x="4983480" y="5119560"/>
              <a:ext cx="360" cy="362880"/>
              <a:chOff x="4983480" y="5119560"/>
              <a:chExt cx="360" cy="362880"/>
            </a:xfrm>
          </p:grpSpPr>
          <p:sp>
            <p:nvSpPr>
              <p:cNvPr id="673" name="Line 33"/>
              <p:cNvSpPr/>
              <p:nvPr/>
            </p:nvSpPr>
            <p:spPr>
              <a:xfrm flipV="1">
                <a:off x="4983840" y="511956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74" name=""/>
              <p:cNvSpPr txBox="1"/>
              <p:nvPr/>
            </p:nvSpPr>
            <p:spPr>
              <a:xfrm rot="10800000">
                <a:off x="4983480" y="511956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75" name=""/>
            <p:cNvGrpSpPr/>
            <p:nvPr/>
          </p:nvGrpSpPr>
          <p:grpSpPr>
            <a:xfrm>
              <a:off x="6622200" y="5119560"/>
              <a:ext cx="360" cy="362880"/>
              <a:chOff x="6622200" y="5119560"/>
              <a:chExt cx="360" cy="362880"/>
            </a:xfrm>
          </p:grpSpPr>
          <p:sp>
            <p:nvSpPr>
              <p:cNvPr id="676" name="Line 34"/>
              <p:cNvSpPr/>
              <p:nvPr/>
            </p:nvSpPr>
            <p:spPr>
              <a:xfrm flipV="1">
                <a:off x="6622560" y="511956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77" name=""/>
              <p:cNvSpPr txBox="1"/>
              <p:nvPr/>
            </p:nvSpPr>
            <p:spPr>
              <a:xfrm rot="10800000">
                <a:off x="6622200" y="511956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78" name=""/>
            <p:cNvGrpSpPr/>
            <p:nvPr/>
          </p:nvGrpSpPr>
          <p:grpSpPr>
            <a:xfrm>
              <a:off x="8260920" y="5109840"/>
              <a:ext cx="360" cy="362520"/>
              <a:chOff x="8260920" y="5109840"/>
              <a:chExt cx="360" cy="362520"/>
            </a:xfrm>
          </p:grpSpPr>
          <p:sp>
            <p:nvSpPr>
              <p:cNvPr id="679" name="Line 35"/>
              <p:cNvSpPr/>
              <p:nvPr/>
            </p:nvSpPr>
            <p:spPr>
              <a:xfrm flipV="1">
                <a:off x="8261280" y="510984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80" name=""/>
              <p:cNvSpPr txBox="1"/>
              <p:nvPr/>
            </p:nvSpPr>
            <p:spPr>
              <a:xfrm rot="10800000">
                <a:off x="8260920" y="510984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681" name="Rectangle 36"/>
            <p:cNvSpPr/>
            <p:nvPr/>
          </p:nvSpPr>
          <p:spPr>
            <a:xfrm>
              <a:off x="4294800" y="1479600"/>
              <a:ext cx="1397160" cy="461160"/>
            </a:xfrm>
            <a:prstGeom prst="rect">
              <a:avLst/>
            </a:prstGeom>
            <a:solidFill>
              <a:srgbClr val="00235a"/>
            </a:solidFill>
            <a:ln w="0">
              <a:noFill/>
            </a:ln>
          </p:spPr>
          <p:style>
            <a:lnRef idx="0"/>
            <a:fillRef idx="0"/>
            <a:effectRef idx="0"/>
            <a:fontRef idx="minor"/>
          </p:style>
          <p:txBody>
            <a:bodyPr lIns="0" rIns="0" tIns="0" bIns="0" anchor="ctr">
              <a:noAutofit/>
            </a:bodyPr>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Department / Sector</a:t>
              </a:r>
              <a:endParaRPr b="0" lang="en-US" sz="800" spc="-1" strike="noStrike">
                <a:solidFill>
                  <a:srgbClr val="333333"/>
                </a:solidFill>
                <a:latin typeface="VW Headline OT-Book"/>
              </a:endParaRPr>
            </a:p>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2" name="Rectangle 37"/>
            <p:cNvSpPr/>
            <p:nvPr/>
          </p:nvSpPr>
          <p:spPr>
            <a:xfrm>
              <a:off x="4293360" y="2181240"/>
              <a:ext cx="1392120" cy="464040"/>
            </a:xfrm>
            <a:prstGeom prst="rect">
              <a:avLst/>
            </a:prstGeom>
            <a:solidFill>
              <a:srgbClr val="aed4f8"/>
            </a:solidFill>
            <a:ln w="0">
              <a:noFill/>
            </a:ln>
          </p:spPr>
          <p:style>
            <a:lnRef idx="0"/>
            <a:fillRef idx="0"/>
            <a:effectRef idx="0"/>
            <a:fontRef idx="minor"/>
          </p:style>
          <p:txBody>
            <a:bodyPr lIns="0" rIns="0" tIns="0" bIns="0" anchor="ctr">
              <a:noAutofit/>
            </a:bodyPr>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Assistant</a:t>
              </a:r>
              <a:endParaRPr b="0" lang="en-US" sz="800" spc="-1" strike="noStrike">
                <a:solidFill>
                  <a:srgbClr val="333333"/>
                </a:solidFill>
                <a:latin typeface="VW Headline OT-Book"/>
              </a:endParaRPr>
            </a:p>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83" name="Rectangle 38"/>
            <p:cNvSpPr/>
            <p:nvPr/>
          </p:nvSpPr>
          <p:spPr>
            <a:xfrm>
              <a:off x="2657880" y="3118320"/>
              <a:ext cx="1396800" cy="46908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4" name="Rectangle 39"/>
            <p:cNvSpPr/>
            <p:nvPr/>
          </p:nvSpPr>
          <p:spPr>
            <a:xfrm>
              <a:off x="4293360" y="3119760"/>
              <a:ext cx="1392120" cy="46116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5" name="Rectangle 40"/>
            <p:cNvSpPr/>
            <p:nvPr/>
          </p:nvSpPr>
          <p:spPr>
            <a:xfrm>
              <a:off x="5930280" y="3124800"/>
              <a:ext cx="1403280" cy="46080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6" name="Rectangle 41"/>
            <p:cNvSpPr/>
            <p:nvPr/>
          </p:nvSpPr>
          <p:spPr>
            <a:xfrm>
              <a:off x="7575480" y="3116880"/>
              <a:ext cx="1396800" cy="46872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7" name="Rectangle 42"/>
            <p:cNvSpPr/>
            <p:nvPr/>
          </p:nvSpPr>
          <p:spPr>
            <a:xfrm>
              <a:off x="2654640" y="3823200"/>
              <a:ext cx="1403280" cy="46872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88" name="Rectangle 43"/>
            <p:cNvSpPr/>
            <p:nvPr/>
          </p:nvSpPr>
          <p:spPr>
            <a:xfrm>
              <a:off x="5936760" y="3827880"/>
              <a:ext cx="139680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89" name="Rectangle 44"/>
            <p:cNvSpPr/>
            <p:nvPr/>
          </p:nvSpPr>
          <p:spPr>
            <a:xfrm>
              <a:off x="7573680" y="3826080"/>
              <a:ext cx="139716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0" name="Rectangle 45"/>
            <p:cNvSpPr/>
            <p:nvPr/>
          </p:nvSpPr>
          <p:spPr>
            <a:xfrm>
              <a:off x="4293360" y="3827880"/>
              <a:ext cx="139212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1" name="Rectangle 46"/>
            <p:cNvSpPr/>
            <p:nvPr/>
          </p:nvSpPr>
          <p:spPr>
            <a:xfrm>
              <a:off x="2654640" y="5231160"/>
              <a:ext cx="1403280" cy="46908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2" name="Rectangle 47"/>
            <p:cNvSpPr/>
            <p:nvPr/>
          </p:nvSpPr>
          <p:spPr>
            <a:xfrm>
              <a:off x="5936760" y="5234400"/>
              <a:ext cx="139680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3" name="Rectangle 48"/>
            <p:cNvSpPr/>
            <p:nvPr/>
          </p:nvSpPr>
          <p:spPr>
            <a:xfrm>
              <a:off x="1019160" y="5235840"/>
              <a:ext cx="1392120" cy="45792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4" name="Rectangle 49"/>
            <p:cNvSpPr/>
            <p:nvPr/>
          </p:nvSpPr>
          <p:spPr>
            <a:xfrm>
              <a:off x="7573680" y="5234400"/>
              <a:ext cx="139716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5" name="Rectangle 50"/>
            <p:cNvSpPr/>
            <p:nvPr/>
          </p:nvSpPr>
          <p:spPr>
            <a:xfrm>
              <a:off x="2654640" y="4527720"/>
              <a:ext cx="1403280" cy="46908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6" name="Rectangle 51"/>
            <p:cNvSpPr/>
            <p:nvPr/>
          </p:nvSpPr>
          <p:spPr>
            <a:xfrm>
              <a:off x="5936760" y="4532400"/>
              <a:ext cx="139680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7" name="Rectangle 52"/>
            <p:cNvSpPr/>
            <p:nvPr/>
          </p:nvSpPr>
          <p:spPr>
            <a:xfrm>
              <a:off x="7573680" y="4526280"/>
              <a:ext cx="1397160" cy="46404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8" name="Rectangle 53"/>
            <p:cNvSpPr/>
            <p:nvPr/>
          </p:nvSpPr>
          <p:spPr>
            <a:xfrm>
              <a:off x="4293360" y="4527720"/>
              <a:ext cx="1392120" cy="46908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9" name="Rectangle 54"/>
            <p:cNvSpPr/>
            <p:nvPr/>
          </p:nvSpPr>
          <p:spPr>
            <a:xfrm>
              <a:off x="4293360" y="5232960"/>
              <a:ext cx="1392120" cy="45792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700" name="Rectangle 55"/>
            <p:cNvSpPr/>
            <p:nvPr/>
          </p:nvSpPr>
          <p:spPr>
            <a:xfrm>
              <a:off x="1022400" y="3826080"/>
              <a:ext cx="138888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701" name="Rectangle 56"/>
            <p:cNvSpPr/>
            <p:nvPr/>
          </p:nvSpPr>
          <p:spPr>
            <a:xfrm>
              <a:off x="1022400" y="4532400"/>
              <a:ext cx="1388880" cy="45792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702" name="Rectangle 57"/>
            <p:cNvSpPr/>
            <p:nvPr/>
          </p:nvSpPr>
          <p:spPr>
            <a:xfrm>
              <a:off x="1022400" y="3119760"/>
              <a:ext cx="1388880" cy="46116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grpSp>
      <p:sp>
        <p:nvSpPr>
          <p:cNvPr id="703" name="TextBox 59"/>
          <p:cNvSpPr/>
          <p:nvPr/>
        </p:nvSpPr>
        <p:spPr>
          <a:xfrm>
            <a:off x="1038600" y="947880"/>
            <a:ext cx="3353400" cy="4050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994a0"/>
                </a:solidFill>
                <a:uFillTx/>
                <a:latin typeface="VW Headline OT-Book"/>
                <a:ea typeface="VW Headline OT-Book"/>
                <a:hlinkClick r:id="rId1"/>
              </a:rPr>
              <a:t>www.51pptmoban.com</a:t>
            </a:r>
            <a:r>
              <a:rPr b="0" lang="en-US" sz="1800" spc="-1" strike="noStrike">
                <a:solidFill>
                  <a:srgbClr val="333333"/>
                </a:solidFill>
                <a:latin typeface="VW Headline OT-Book"/>
                <a:ea typeface="VW Headline OT-Book"/>
              </a:rPr>
              <a:t> </a:t>
            </a:r>
            <a:r>
              <a:rPr b="0" lang="zh-CN" sz="1800" spc="-1" strike="noStrike">
                <a:solidFill>
                  <a:srgbClr val="333333"/>
                </a:solidFill>
                <a:latin typeface="VW Headline OT-Book"/>
                <a:ea typeface="VW Headline OT-Book"/>
              </a:rPr>
              <a:t>搜集整理</a:t>
            </a:r>
            <a:endParaRPr b="0" lang="en-US" sz="1800" spc="-1" strike="noStrike">
              <a:solidFill>
                <a:srgbClr val="333333"/>
              </a:solidFill>
              <a:latin typeface="VW Headline OT-Boo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E615-C5B4-4F34-8B9F-A7993FAB0E91}"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0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80B245B-10A7-4CB6-9291-38E42F7027FA}"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0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Table</a:t>
            </a:r>
            <a:endParaRPr b="0" lang="en-US" sz="2800" spc="-1" strike="noStrike">
              <a:solidFill>
                <a:srgbClr val="333333"/>
              </a:solidFill>
              <a:latin typeface="Arial"/>
            </a:endParaRPr>
          </a:p>
        </p:txBody>
      </p:sp>
      <p:graphicFrame>
        <p:nvGraphicFramePr>
          <p:cNvPr id="707" name=""/>
          <p:cNvGraphicFramePr/>
          <p:nvPr/>
        </p:nvGraphicFramePr>
        <p:xfrm>
          <a:off x="1019160" y="1482840"/>
          <a:ext cx="7953480" cy="4255920"/>
        </p:xfrm>
        <a:graphic>
          <a:graphicData uri="http://schemas.openxmlformats.org/drawingml/2006/table">
            <a:tbl>
              <a:tblPr/>
              <a:tblGrid>
                <a:gridCol w="1989000"/>
                <a:gridCol w="1989360"/>
                <a:gridCol w="1985760"/>
                <a:gridCol w="1989360"/>
              </a:tblGrid>
              <a:tr h="479520">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00235a"/>
                    </a:solidFill>
                  </a:tcPr>
                </a:tc>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w="18720">
                      <a:solidFill>
                        <a:srgbClr val="ffffff"/>
                      </a:solidFill>
                    </a:lnR>
                    <a:lnT>
                      <a:noFill/>
                    </a:lnT>
                    <a:lnB w="18720">
                      <a:solidFill>
                        <a:srgbClr val="ffffff"/>
                      </a:solidFill>
                    </a:lnB>
                    <a:solidFill>
                      <a:srgbClr val="00235a"/>
                    </a:solidFill>
                  </a:tcPr>
                </a:tc>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w="18720">
                      <a:solidFill>
                        <a:srgbClr val="ffffff"/>
                      </a:solidFill>
                    </a:lnR>
                    <a:lnT>
                      <a:noFill/>
                    </a:lnT>
                    <a:lnB w="18720">
                      <a:solidFill>
                        <a:srgbClr val="ffffff"/>
                      </a:solidFill>
                    </a:lnB>
                    <a:solidFill>
                      <a:srgbClr val="00235a"/>
                    </a:solidFill>
                  </a:tcPr>
                </a:tc>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a:noFill/>
                    </a:lnR>
                    <a:lnT>
                      <a:noFill/>
                    </a:lnT>
                    <a:lnB w="18720">
                      <a:solidFill>
                        <a:srgbClr val="ffffff"/>
                      </a:solidFill>
                    </a:lnB>
                    <a:solidFill>
                      <a:srgbClr val="00235a"/>
                    </a:solidFill>
                  </a:tcPr>
                </a:tc>
              </a:tr>
              <a:tr h="377640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w="18720">
                      <a:solidFill>
                        <a:srgbClr val="ffffff"/>
                      </a:solid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w="18720">
                      <a:solidFill>
                        <a:srgbClr val="ffffff"/>
                      </a:solid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A957-E368-4716-B161-81996BA40C8D}"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0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3BF2CB0D-3F2F-44CF-8DBB-4ADEA3ED72F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1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able (variation)</a:t>
            </a:r>
            <a:endParaRPr b="0" lang="en-US" sz="2800" spc="-1" strike="noStrike">
              <a:solidFill>
                <a:srgbClr val="333333"/>
              </a:solidFill>
              <a:latin typeface="Arial"/>
            </a:endParaRPr>
          </a:p>
        </p:txBody>
      </p:sp>
      <p:graphicFrame>
        <p:nvGraphicFramePr>
          <p:cNvPr id="711" name=""/>
          <p:cNvGraphicFramePr/>
          <p:nvPr/>
        </p:nvGraphicFramePr>
        <p:xfrm>
          <a:off x="1019160" y="1482840"/>
          <a:ext cx="7953480" cy="4209840"/>
        </p:xfrm>
        <a:graphic>
          <a:graphicData uri="http://schemas.openxmlformats.org/drawingml/2006/table">
            <a:tbl>
              <a:tblPr/>
              <a:tblGrid>
                <a:gridCol w="2765520"/>
                <a:gridCol w="1730160"/>
                <a:gridCol w="1729080"/>
                <a:gridCol w="1728720"/>
              </a:tblGrid>
              <a:tr h="3679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rPr>
                        <a:t>Title</a:t>
                      </a:r>
                      <a:endParaRPr b="0" lang="en-US" sz="1200" spc="-1" strike="noStrike">
                        <a:solidFill>
                          <a:srgbClr val="333333"/>
                        </a:solidFill>
                        <a:latin typeface="VW Headline OT-Book"/>
                      </a:endParaRPr>
                    </a:p>
                  </a:txBody>
                  <a:tcPr anchor="ctr" marL="90000" marR="90000">
                    <a:lnL>
                      <a:noFill/>
                    </a:lnL>
                    <a:lnR w="5760">
                      <a:solidFill>
                        <a:srgbClr val="ffffff"/>
                      </a:solidFill>
                    </a:lnR>
                    <a:lnT>
                      <a:noFill/>
                    </a:lnT>
                    <a:lnB w="5760">
                      <a:solidFill>
                        <a:srgbClr val="ffffff"/>
                      </a:solidFill>
                    </a:lnB>
                    <a:solidFill>
                      <a:srgbClr val="00235a"/>
                    </a:solid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rPr>
                        <a:t>Title</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a:noFill/>
                    </a:lnT>
                    <a:lnB w="5760">
                      <a:solidFill>
                        <a:srgbClr val="ffffff"/>
                      </a:solidFill>
                    </a:lnB>
                    <a:solidFill>
                      <a:srgbClr val="00235a"/>
                    </a:solid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rPr>
                        <a:t>Title</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a:noFill/>
                    </a:lnT>
                    <a:lnB w="5760">
                      <a:solidFill>
                        <a:srgbClr val="ffffff"/>
                      </a:solidFill>
                    </a:lnB>
                    <a:solidFill>
                      <a:srgbClr val="00235a"/>
                    </a:solid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rPr>
                        <a:t>Title</a:t>
                      </a:r>
                      <a:endParaRPr b="0" lang="en-US" sz="1200" spc="-1" strike="noStrike">
                        <a:solidFill>
                          <a:srgbClr val="333333"/>
                        </a:solidFill>
                        <a:latin typeface="VW Headline OT-Book"/>
                      </a:endParaRPr>
                    </a:p>
                  </a:txBody>
                  <a:tcPr anchor="ctr" marL="90000" marR="90000">
                    <a:lnL w="5760">
                      <a:solidFill>
                        <a:srgbClr val="ffffff"/>
                      </a:solidFill>
                    </a:lnL>
                    <a:lnR>
                      <a:noFill/>
                    </a:lnR>
                    <a:lnT>
                      <a:noFill/>
                    </a:lnT>
                    <a:lnB w="5760">
                      <a:solidFill>
                        <a:srgbClr val="ffffff"/>
                      </a:solidFill>
                    </a:lnB>
                    <a:solidFill>
                      <a:srgbClr val="00235a"/>
                    </a:solidFill>
                  </a:tcPr>
                </a:tc>
              </a:tr>
              <a:tr h="34776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Ipsum</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5 %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538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Dolor sit amet</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5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6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589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Consetetur</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7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740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Sadipscing elitr</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5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6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63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Sed diam numy</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7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571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Eirmod</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7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596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Tempor</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5 %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63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Magnum</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5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6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45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Conseteturs</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7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740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Invidunt ut labore</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5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6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63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lack"/>
                        </a:rPr>
                        <a:t>Lorem</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a:noFill/>
                    </a:lnB>
                    <a:solidFill>
                      <a:srgbClr val="99ccff"/>
                    </a:solidFill>
                  </a:tcPr>
                </a:tc>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lack"/>
                        </a:rPr>
                        <a:t>+26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99ccff"/>
                    </a:solidFill>
                  </a:tcPr>
                </a:tc>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lack"/>
                        </a:rPr>
                        <a:t>+1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99ccff"/>
                    </a:solidFill>
                  </a:tcPr>
                </a:tc>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lack"/>
                        </a:rPr>
                        <a:t>+3%</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a:noFill/>
                    </a:lnB>
                    <a:solidFill>
                      <a:srgbClr val="99ccf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3174-F69B-4059-8219-340B8716FEBD}"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13"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617C4FFD-741F-40DB-A7C3-D7F357768DCE}"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1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orizontal table</a:t>
            </a:r>
            <a:endParaRPr b="0" lang="en-US" sz="2800" spc="-1" strike="noStrike">
              <a:solidFill>
                <a:srgbClr val="333333"/>
              </a:solidFill>
              <a:latin typeface="Arial"/>
            </a:endParaRPr>
          </a:p>
        </p:txBody>
      </p:sp>
      <p:graphicFrame>
        <p:nvGraphicFramePr>
          <p:cNvPr id="715" name=""/>
          <p:cNvGraphicFramePr/>
          <p:nvPr/>
        </p:nvGraphicFramePr>
        <p:xfrm>
          <a:off x="1019160" y="1482840"/>
          <a:ext cx="7953480" cy="4205160"/>
        </p:xfrm>
        <a:graphic>
          <a:graphicData uri="http://schemas.openxmlformats.org/drawingml/2006/table">
            <a:tbl>
              <a:tblPr/>
              <a:tblGrid>
                <a:gridCol w="1373040"/>
                <a:gridCol w="6580440"/>
              </a:tblGrid>
              <a:tr h="1401840">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rPr>
                        <a:t>Title</a:t>
                      </a:r>
                      <a:endParaRPr b="0" lang="en-US" sz="1400" spc="-1" strike="noStrike">
                        <a:solidFill>
                          <a:srgbClr val="333333"/>
                        </a:solidFill>
                        <a:latin typeface="VW Headline OT-Book"/>
                      </a:endParaRPr>
                    </a:p>
                  </a:txBody>
                  <a:tcPr anchor="t" marL="90000" marR="90000">
                    <a:lnL>
                      <a:noFill/>
                    </a:lnL>
                    <a:lnR w="18720">
                      <a:solidFill>
                        <a:srgbClr val="ffffff"/>
                      </a:solidFill>
                    </a:lnR>
                    <a:lnT>
                      <a:noFill/>
                    </a:lnT>
                    <a:lnB w="5760">
                      <a:solidFill>
                        <a:srgbClr val="ffffff"/>
                      </a:solidFill>
                    </a:lnB>
                    <a:solidFill>
                      <a:srgbClr val="00235a"/>
                    </a:solidFill>
                  </a:tcPr>
                </a:tc>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rPr>
                        <a:t>Text</a:t>
                      </a:r>
                      <a:endParaRPr b="0" lang="en-US" sz="1400" spc="-1" strike="noStrike">
                        <a:solidFill>
                          <a:srgbClr val="333333"/>
                        </a:solidFill>
                        <a:latin typeface="VW Headline OT-Book"/>
                      </a:endParaRPr>
                    </a:p>
                  </a:txBody>
                  <a:tcPr anchor="t" marL="90000" marR="90000">
                    <a:lnL w="18720">
                      <a:solidFill>
                        <a:srgbClr val="ffffff"/>
                      </a:solidFill>
                    </a:lnL>
                    <a:lnR>
                      <a:noFill/>
                    </a:lnR>
                    <a:lnT>
                      <a:noFill/>
                    </a:lnT>
                    <a:lnB w="5760">
                      <a:solidFill>
                        <a:srgbClr val="ffffff"/>
                      </a:solidFill>
                    </a:lnB>
                    <a:solidFill>
                      <a:srgbClr val="bbc2c5"/>
                    </a:solidFill>
                  </a:tcPr>
                </a:tc>
              </a:tr>
              <a:tr h="1401840">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rPr>
                        <a:t>Title</a:t>
                      </a:r>
                      <a:endParaRPr b="0" lang="en-US" sz="1400" spc="-1" strike="noStrike">
                        <a:solidFill>
                          <a:srgbClr val="333333"/>
                        </a:solidFill>
                        <a:latin typeface="VW Headline OT-Book"/>
                      </a:endParaRPr>
                    </a:p>
                  </a:txBody>
                  <a:tcPr anchor="t" marL="90000" marR="90000">
                    <a:lnL>
                      <a:noFill/>
                    </a:lnL>
                    <a:lnR w="18720">
                      <a:solidFill>
                        <a:srgbClr val="ffffff"/>
                      </a:solidFill>
                    </a:lnR>
                    <a:lnT w="5760">
                      <a:solidFill>
                        <a:srgbClr val="ffffff"/>
                      </a:solidFill>
                    </a:lnT>
                    <a:lnB w="5760">
                      <a:solidFill>
                        <a:srgbClr val="ffffff"/>
                      </a:solidFill>
                    </a:lnB>
                    <a:solidFill>
                      <a:srgbClr val="00235a"/>
                    </a:solidFill>
                  </a:tcPr>
                </a:tc>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rPr>
                        <a:t>Text</a:t>
                      </a:r>
                      <a:endParaRPr b="0" lang="en-US" sz="1400" spc="-1" strike="noStrike">
                        <a:solidFill>
                          <a:srgbClr val="333333"/>
                        </a:solidFill>
                        <a:latin typeface="VW Headline OT-Book"/>
                      </a:endParaRPr>
                    </a:p>
                  </a:txBody>
                  <a:tcPr anchor="t" marL="90000" marR="90000">
                    <a:lnL w="18720">
                      <a:solidFill>
                        <a:srgbClr val="ffffff"/>
                      </a:solidFill>
                    </a:lnL>
                    <a:lnR>
                      <a:noFill/>
                    </a:lnR>
                    <a:lnT w="5760">
                      <a:solidFill>
                        <a:srgbClr val="ffffff"/>
                      </a:solidFill>
                    </a:lnT>
                    <a:lnB w="5760">
                      <a:solidFill>
                        <a:srgbClr val="ffffff"/>
                      </a:solidFill>
                    </a:lnB>
                    <a:solidFill>
                      <a:srgbClr val="bbc2c5"/>
                    </a:solidFill>
                  </a:tcPr>
                </a:tc>
              </a:tr>
              <a:tr h="1401480">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rPr>
                        <a:t>Title</a:t>
                      </a:r>
                      <a:endParaRPr b="0" lang="en-US" sz="1400" spc="-1" strike="noStrike">
                        <a:solidFill>
                          <a:srgbClr val="333333"/>
                        </a:solidFill>
                        <a:latin typeface="VW Headline OT-Book"/>
                      </a:endParaRPr>
                    </a:p>
                  </a:txBody>
                  <a:tcPr anchor="t" marL="90000" marR="90000">
                    <a:lnL>
                      <a:noFill/>
                    </a:lnL>
                    <a:lnR w="18720">
                      <a:solidFill>
                        <a:srgbClr val="ffffff"/>
                      </a:solidFill>
                    </a:lnR>
                    <a:lnT w="5760">
                      <a:solidFill>
                        <a:srgbClr val="ffffff"/>
                      </a:solidFill>
                    </a:lnT>
                    <a:lnB>
                      <a:noFill/>
                    </a:lnB>
                    <a:solidFill>
                      <a:srgbClr val="00235a"/>
                    </a:solidFill>
                  </a:tcPr>
                </a:tc>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rPr>
                        <a:t>Text</a:t>
                      </a:r>
                      <a:endParaRPr b="0" lang="en-US" sz="1400" spc="-1" strike="noStrike">
                        <a:solidFill>
                          <a:srgbClr val="333333"/>
                        </a:solidFill>
                        <a:latin typeface="VW Headline OT-Book"/>
                      </a:endParaRPr>
                    </a:p>
                  </a:txBody>
                  <a:tcPr anchor="t" marL="90000" marR="90000">
                    <a:lnL w="18720">
                      <a:solidFill>
                        <a:srgbClr val="ffffff"/>
                      </a:solidFill>
                    </a:lnL>
                    <a:lnR>
                      <a:noFill/>
                    </a:lnR>
                    <a:lnT w="5760">
                      <a:solidFill>
                        <a:srgbClr val="ffffff"/>
                      </a:solidFill>
                    </a:lnT>
                    <a:lnB>
                      <a:noFill/>
                    </a:lnB>
                    <a:solidFill>
                      <a:srgbClr val="bbc2c5"/>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1653-1216-4B2E-9B65-B43C066EA6EF}"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17"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CF5C09A-2C80-43DC-B74B-E1C6B88624D5}"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1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able elements</a:t>
            </a:r>
            <a:endParaRPr b="0" lang="en-US" sz="2800" spc="-1" strike="noStrike">
              <a:solidFill>
                <a:srgbClr val="333333"/>
              </a:solidFill>
              <a:latin typeface="Arial"/>
            </a:endParaRPr>
          </a:p>
        </p:txBody>
      </p:sp>
      <p:graphicFrame>
        <p:nvGraphicFramePr>
          <p:cNvPr id="719" name=""/>
          <p:cNvGraphicFramePr/>
          <p:nvPr/>
        </p:nvGraphicFramePr>
        <p:xfrm>
          <a:off x="1028880" y="1482840"/>
          <a:ext cx="7943760" cy="4286160"/>
        </p:xfrm>
        <a:graphic>
          <a:graphicData uri="http://schemas.openxmlformats.org/drawingml/2006/table">
            <a:tbl>
              <a:tblPr/>
              <a:tblGrid>
                <a:gridCol w="3973680"/>
                <a:gridCol w="3970080"/>
              </a:tblGrid>
              <a:tr h="369720">
                <a:tc gridSpan="2">
                  <a:txBody>
                    <a:bodyPr lIns="90000" rIns="90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ea typeface="宋体"/>
                        </a:rPr>
                        <a:t>Title</a:t>
                      </a:r>
                      <a:endParaRPr b="0" lang="en-US" sz="1400" spc="-1" strike="noStrike">
                        <a:solidFill>
                          <a:srgbClr val="333333"/>
                        </a:solidFill>
                        <a:latin typeface="VW Headline OT-Book"/>
                      </a:endParaRPr>
                    </a:p>
                  </a:txBody>
                  <a:tcPr anchor="t" marL="90000" marR="90000">
                    <a:lnL>
                      <a:noFill/>
                    </a:lnL>
                    <a:lnR>
                      <a:no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r>
              <a:tr h="1775160">
                <a:tc gridSpan="2">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ea typeface="宋体"/>
                        </a:rPr>
                        <a:t>Text</a:t>
                      </a:r>
                      <a:endParaRPr b="0" lang="en-US" sz="1400" spc="-1" strike="noStrike">
                        <a:solidFill>
                          <a:srgbClr val="333333"/>
                        </a:solidFill>
                        <a:latin typeface="VW Headline OT-Book"/>
                      </a:endParaRPr>
                    </a:p>
                  </a:txBody>
                  <a:tcPr anchor="t" marL="90000" marR="90000">
                    <a:lnL>
                      <a:noFill/>
                    </a:lnL>
                    <a:lnR>
                      <a:noFill/>
                    </a:lnR>
                    <a:lnT w="18720">
                      <a:solidFill>
                        <a:srgbClr val="ffffff"/>
                      </a:solidFill>
                    </a:lnT>
                    <a:lnB w="18720">
                      <a:solidFill>
                        <a:srgbClr val="ffffff"/>
                      </a:solidFill>
                    </a:lnB>
                    <a:solidFill>
                      <a:srgbClr val="bbc2c5"/>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r>
              <a:tr h="369720">
                <a:tc>
                  <a:txBody>
                    <a:bodyPr lIns="90000" rIns="90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ea typeface="宋体"/>
                        </a:rPr>
                        <a:t>Title</a:t>
                      </a:r>
                      <a:endParaRPr b="0" lang="en-US" sz="14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00235a"/>
                    </a:solidFill>
                  </a:tcPr>
                </a:tc>
                <a:tc>
                  <a:txBody>
                    <a:bodyPr lIns="90000" rIns="90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ea typeface="宋体"/>
                        </a:rPr>
                        <a:t>Title</a:t>
                      </a:r>
                      <a:endParaRPr b="0" lang="en-US" sz="14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00235a"/>
                    </a:solidFill>
                  </a:tcPr>
                </a:tc>
              </a:tr>
              <a:tr h="1771560">
                <a:tc>
                  <a:txBody>
                    <a:bodyPr lIns="90000" rIns="90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ea typeface="宋体"/>
                        </a:rPr>
                        <a:t>Text</a:t>
                      </a:r>
                      <a:endParaRPr b="0" lang="en-US" sz="14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ea typeface="宋体"/>
                        </a:rPr>
                        <a:t>Text</a:t>
                      </a:r>
                      <a:endParaRPr b="0" lang="en-US" sz="14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AD55-B5E4-4F25-B908-A91448CAA187}"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21"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ABAB94A-776A-4786-9914-DE543B703989}"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2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Inter-monthly schedule</a:t>
            </a:r>
            <a:endParaRPr b="0" lang="en-US" sz="2800" spc="-1" strike="noStrike">
              <a:solidFill>
                <a:srgbClr val="333333"/>
              </a:solidFill>
              <a:latin typeface="Arial"/>
            </a:endParaRPr>
          </a:p>
        </p:txBody>
      </p:sp>
      <p:graphicFrame>
        <p:nvGraphicFramePr>
          <p:cNvPr id="723" name=""/>
          <p:cNvGraphicFramePr/>
          <p:nvPr/>
        </p:nvGraphicFramePr>
        <p:xfrm>
          <a:off x="1028880" y="1482840"/>
          <a:ext cx="7943760" cy="4203720"/>
        </p:xfrm>
        <a:graphic>
          <a:graphicData uri="http://schemas.openxmlformats.org/drawingml/2006/table">
            <a:tbl>
              <a:tblPr/>
              <a:tblGrid>
                <a:gridCol w="1208160"/>
                <a:gridCol w="1211040"/>
                <a:gridCol w="390600"/>
                <a:gridCol w="339840"/>
                <a:gridCol w="341280"/>
                <a:gridCol w="371520"/>
                <a:gridCol w="314280"/>
                <a:gridCol w="309600"/>
                <a:gridCol w="376200"/>
                <a:gridCol w="339840"/>
                <a:gridCol w="341280"/>
                <a:gridCol w="345960"/>
                <a:gridCol w="341280"/>
                <a:gridCol w="345960"/>
                <a:gridCol w="339840"/>
                <a:gridCol w="341280"/>
                <a:gridCol w="343080"/>
                <a:gridCol w="342720"/>
              </a:tblGrid>
              <a:tr h="428760">
                <a:tc>
                  <a:txBody>
                    <a:bodyPr lIns="90000" rIns="9000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noFill/>
                  </a:tcPr>
                </a:tc>
                <a:tc>
                  <a:txBody>
                    <a:bodyPr lIns="90000" rIns="9000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w="18720">
                      <a:solidFill>
                        <a:srgbClr val="ffffff"/>
                      </a:solidFill>
                    </a:lnL>
                    <a:lnR w="18720">
                      <a:solidFill>
                        <a:srgbClr val="ffffff"/>
                      </a:solidFill>
                    </a:lnR>
                    <a:lnT>
                      <a:noFill/>
                    </a:lnT>
                    <a:lnB w="18720">
                      <a:solidFill>
                        <a:srgbClr val="ffffff"/>
                      </a:solidFill>
                    </a:lnB>
                    <a:noFill/>
                  </a:tcPr>
                </a:tc>
                <a:tc gridSpan="4">
                  <a:txBody>
                    <a:bodyPr lIns="90000" rIns="90000" tIns="0" bIns="0" anchor="ctr" anchorCtr="1">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July</a:t>
                      </a:r>
                      <a:endParaRPr b="0" lang="en-US" sz="1200" spc="-1" strike="noStrike">
                        <a:solidFill>
                          <a:srgbClr val="333333"/>
                        </a:solidFill>
                        <a:latin typeface="VW Headline OT-Book"/>
                      </a:endParaRPr>
                    </a:p>
                  </a:txBody>
                  <a:tcPr anchor="ctr" marL="90000" marR="90000">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90000" rIns="90000" tIns="0" bIns="0" anchor="ctr" anchorCtr="1">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August</a:t>
                      </a:r>
                      <a:endParaRPr b="0" lang="en-US" sz="1200" spc="-1" strike="noStrike">
                        <a:solidFill>
                          <a:srgbClr val="333333"/>
                        </a:solidFill>
                        <a:latin typeface="VW Headline OT-Book"/>
                      </a:endParaRPr>
                    </a:p>
                  </a:txBody>
                  <a:tcPr anchor="ctr" marL="90000" marR="90000">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90000" rIns="90000" tIns="0" bIns="0" anchor="ctr" anchorCtr="1">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September</a:t>
                      </a:r>
                      <a:endParaRPr b="0" lang="en-US" sz="1200" spc="-1" strike="noStrike">
                        <a:solidFill>
                          <a:srgbClr val="333333"/>
                        </a:solidFill>
                        <a:latin typeface="VW Headline OT-Book"/>
                      </a:endParaRPr>
                    </a:p>
                  </a:txBody>
                  <a:tcPr anchor="ctr" marL="90000" marR="90000">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90000" rIns="90000" tIns="0" bIns="0" anchor="ctr" anchorCtr="1">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October</a:t>
                      </a:r>
                      <a:endParaRPr b="0" lang="en-US" sz="1200" spc="-1" strike="noStrike">
                        <a:solidFill>
                          <a:srgbClr val="333333"/>
                        </a:solidFill>
                        <a:latin typeface="VW Headline OT-Book"/>
                      </a:endParaRPr>
                    </a:p>
                  </a:txBody>
                  <a:tcPr anchor="ctr" marL="90000" marR="90000">
                    <a:lnL w="18720">
                      <a:solidFill>
                        <a:srgbClr val="ffffff"/>
                      </a:solidFill>
                    </a:lnL>
                    <a:lnR>
                      <a:no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r>
              <a:tr h="385560">
                <a:tc>
                  <a:txBody>
                    <a:bodyPr lIns="90000" rIns="9000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5760">
                      <a:solidFill>
                        <a:srgbClr val="ffffff"/>
                      </a:solidFill>
                    </a:lnB>
                    <a:no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18720">
                      <a:solidFill>
                        <a:srgbClr val="ffffff"/>
                      </a:solidFill>
                    </a:lnR>
                    <a:lnT w="18720">
                      <a:solidFill>
                        <a:srgbClr val="ffffff"/>
                      </a:solidFill>
                    </a:lnT>
                    <a:lnB w="5760">
                      <a:solidFill>
                        <a:srgbClr val="ffffff"/>
                      </a:solidFill>
                    </a:lnB>
                    <a:no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marL="90000" marR="90000">
                    <a:lnL w="5760">
                      <a:solidFill>
                        <a:srgbClr val="ffffff"/>
                      </a:solidFill>
                    </a:lnL>
                    <a:lnR>
                      <a:noFill/>
                    </a:lnR>
                    <a:lnT w="18720">
                      <a:solidFill>
                        <a:srgbClr val="ffffff"/>
                      </a:solidFill>
                    </a:lnT>
                    <a:lnB w="5760">
                      <a:solidFill>
                        <a:srgbClr val="ffffff"/>
                      </a:solidFill>
                    </a:lnB>
                    <a:solidFill>
                      <a:srgbClr val="8994a0"/>
                    </a:solidFill>
                  </a:tcPr>
                </a:tc>
              </a:tr>
              <a:tr h="4222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Sector</a:t>
                      </a:r>
                      <a:endParaRPr b="0" lang="en-US" sz="1200" spc="-1" strike="noStrike">
                        <a:solidFill>
                          <a:srgbClr val="333333"/>
                        </a:solidFill>
                        <a:latin typeface="VW Headline OT-Book"/>
                      </a:endParaRPr>
                    </a:p>
                  </a:txBody>
                  <a:tcPr anchor="t" marL="90000" marR="90000">
                    <a:lnL>
                      <a:noFill/>
                    </a:lnL>
                    <a:lnR w="18720">
                      <a:solidFill>
                        <a:srgbClr val="ffffff"/>
                      </a:solidFill>
                    </a:lnR>
                    <a:lnT w="5760">
                      <a:solidFill>
                        <a:srgbClr val="ffffff"/>
                      </a:solid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1</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2084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2</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348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3</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222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4</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1872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18720">
                      <a:solidFill>
                        <a:srgbClr val="ffffff"/>
                      </a:solidFill>
                    </a:lnB>
                    <a:solidFill>
                      <a:srgbClr val="bbc2c5"/>
                    </a:solidFill>
                  </a:tcPr>
                </a:tc>
              </a:tr>
              <a:tr h="42084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Sector</a:t>
                      </a:r>
                      <a:endParaRPr b="0" lang="en-US" sz="12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5</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1872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18720">
                      <a:solidFill>
                        <a:srgbClr val="ffffff"/>
                      </a:solidFill>
                    </a:lnT>
                    <a:lnB w="5760">
                      <a:solidFill>
                        <a:srgbClr val="ffffff"/>
                      </a:solidFill>
                    </a:lnB>
                    <a:solidFill>
                      <a:srgbClr val="bbc2c5"/>
                    </a:solidFill>
                  </a:tcPr>
                </a:tc>
              </a:tr>
              <a:tr h="4222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6</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2372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7</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222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8</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a:no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a:noFill/>
                    </a:lnB>
                    <a:solidFill>
                      <a:srgbClr val="bbc2c5"/>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EE22-40F6-4B31-A288-9B2F81E2B8F9}"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13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94892212-A2BD-4C40-9516-8450DA61E373}"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3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2. Types of presentation templates </a:t>
            </a:r>
            <a:endParaRPr b="0" lang="en-US" sz="2800" spc="-1" strike="noStrike">
              <a:solidFill>
                <a:srgbClr val="333333"/>
              </a:solidFill>
              <a:latin typeface="Arial"/>
            </a:endParaRPr>
          </a:p>
        </p:txBody>
      </p:sp>
      <p:graphicFrame>
        <p:nvGraphicFramePr>
          <p:cNvPr id="137" name=""/>
          <p:cNvGraphicFramePr/>
          <p:nvPr/>
        </p:nvGraphicFramePr>
        <p:xfrm>
          <a:off x="1012680" y="1473120"/>
          <a:ext cx="7964640" cy="4299120"/>
        </p:xfrm>
        <a:graphic>
          <a:graphicData uri="http://schemas.openxmlformats.org/drawingml/2006/table">
            <a:tbl>
              <a:tblPr/>
              <a:tblGrid>
                <a:gridCol w="3981600"/>
                <a:gridCol w="3983040"/>
              </a:tblGrid>
              <a:tr h="479520">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00235a"/>
                    </a:solidFill>
                  </a:tcPr>
                </a:tc>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Contents</a:t>
                      </a:r>
                      <a:endParaRPr b="0" lang="en-US" sz="1600" spc="-1" strike="noStrike">
                        <a:solidFill>
                          <a:srgbClr val="333333"/>
                        </a:solidFill>
                        <a:latin typeface="VW Headline OT-Book"/>
                      </a:endParaRPr>
                    </a:p>
                  </a:txBody>
                  <a:tcPr anchor="t" marL="90000" marR="90000">
                    <a:lnL w="18720">
                      <a:solidFill>
                        <a:srgbClr val="ffffff"/>
                      </a:solidFill>
                    </a:lnL>
                    <a:lnR>
                      <a:noFill/>
                    </a:lnR>
                    <a:lnT>
                      <a:noFill/>
                    </a:lnT>
                    <a:lnB w="18720">
                      <a:solidFill>
                        <a:srgbClr val="ffffff"/>
                      </a:solidFill>
                    </a:lnB>
                    <a:solidFill>
                      <a:srgbClr val="00235a"/>
                    </a:solidFill>
                  </a:tcPr>
                </a:tc>
              </a:tr>
              <a:tr h="175572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Basic template </a:t>
                      </a:r>
                      <a:br>
                        <a:rPr sz="1600"/>
                      </a:br>
                      <a:r>
                        <a:rPr b="0" lang="en-GB" sz="1600" spc="-1" strike="noStrike">
                          <a:solidFill>
                            <a:srgbClr val="333333"/>
                          </a:solidFill>
                          <a:latin typeface="VW Headline OT-Book"/>
                          <a:ea typeface="宋体"/>
                        </a:rPr>
                        <a:t>(Presentation_Basic_Template_en.po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Start slide and final slide</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Grid and colours</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Agenda</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 and picture slides</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Information charts and tables</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Security information</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bbc2c5"/>
                    </a:solidFill>
                  </a:tcPr>
                </a:tc>
              </a:tr>
              <a:tr h="96660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Supplementary slides</a:t>
                      </a:r>
                      <a:br>
                        <a:rPr sz="1600"/>
                      </a:br>
                      <a:r>
                        <a:rPr b="0" lang="en-GB" sz="1600" spc="-1" strike="noStrike">
                          <a:solidFill>
                            <a:srgbClr val="333333"/>
                          </a:solidFill>
                          <a:latin typeface="VW Headline OT-Book"/>
                          <a:ea typeface="宋体"/>
                        </a:rPr>
                        <a:t>(Presentation_Complementary_Charts_en.pot)</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Further content slides</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Supplementary charts</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bbc2c5"/>
                    </a:solidFill>
                  </a:tcPr>
                </a:tc>
              </a:tr>
              <a:tr h="109728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World maps and elements</a:t>
                      </a:r>
                      <a:br>
                        <a:rPr sz="1600"/>
                      </a:br>
                      <a:r>
                        <a:rPr b="0" lang="en-GB" sz="1600" spc="-1" strike="noStrike">
                          <a:solidFill>
                            <a:srgbClr val="333333"/>
                          </a:solidFill>
                          <a:latin typeface="VW Headline OT-Book"/>
                          <a:ea typeface="宋体"/>
                        </a:rPr>
                        <a:t>(Presentation_Elements_Maps_en.pot)</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Optional illustrations (ovals, circles, arrows, people, maps etc.)</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D319-6C2A-4552-B70E-ED36A49954C6}"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2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8EDD9790-D6F6-4768-A498-0757248DE59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2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Project schedule</a:t>
            </a:r>
            <a:endParaRPr b="0" lang="en-US" sz="2800" spc="-1" strike="noStrike">
              <a:solidFill>
                <a:srgbClr val="333333"/>
              </a:solidFill>
              <a:latin typeface="Arial"/>
            </a:endParaRPr>
          </a:p>
        </p:txBody>
      </p:sp>
      <p:graphicFrame>
        <p:nvGraphicFramePr>
          <p:cNvPr id="727" name=""/>
          <p:cNvGraphicFramePr/>
          <p:nvPr/>
        </p:nvGraphicFramePr>
        <p:xfrm>
          <a:off x="1028880" y="1482840"/>
          <a:ext cx="7943760" cy="4203720"/>
        </p:xfrm>
        <a:graphic>
          <a:graphicData uri="http://schemas.openxmlformats.org/drawingml/2006/table">
            <a:tbl>
              <a:tblPr/>
              <a:tblGrid>
                <a:gridCol w="1011240"/>
                <a:gridCol w="1009800"/>
                <a:gridCol w="1012680"/>
                <a:gridCol w="406440"/>
                <a:gridCol w="411120"/>
                <a:gridCol w="406440"/>
                <a:gridCol w="412560"/>
                <a:gridCol w="389160"/>
                <a:gridCol w="428400"/>
                <a:gridCol w="409680"/>
                <a:gridCol w="412920"/>
                <a:gridCol w="406440"/>
                <a:gridCol w="407880"/>
                <a:gridCol w="409680"/>
                <a:gridCol w="409320"/>
              </a:tblGrid>
              <a:tr h="38592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Activity</a:t>
                      </a:r>
                      <a:endParaRPr b="0" lang="en-US" sz="1200" spc="-1" strike="noStrike">
                        <a:solidFill>
                          <a:srgbClr val="333333"/>
                        </a:solidFill>
                        <a:latin typeface="VW Headline OT-Book"/>
                      </a:endParaRPr>
                    </a:p>
                  </a:txBody>
                  <a:tcPr anchor="ctr">
                    <a:lnL>
                      <a:noFill/>
                    </a:lnL>
                    <a:lnR w="18720">
                      <a:solidFill>
                        <a:srgbClr val="ffffff"/>
                      </a:solidFill>
                    </a:lnR>
                    <a:lnT>
                      <a:noFill/>
                    </a:lnT>
                    <a:lnB w="1872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Volume</a:t>
                      </a:r>
                      <a:endParaRPr b="0" lang="en-US" sz="1200" spc="-1" strike="noStrike">
                        <a:solidFill>
                          <a:srgbClr val="333333"/>
                        </a:solidFill>
                        <a:latin typeface="VW Headline OT-Book"/>
                      </a:endParaRPr>
                    </a:p>
                  </a:txBody>
                  <a:tcPr anchor="ctr">
                    <a:lnL w="18720">
                      <a:solidFill>
                        <a:srgbClr val="ffffff"/>
                      </a:solidFill>
                    </a:lnL>
                    <a:lnR w="18720">
                      <a:solidFill>
                        <a:srgbClr val="ffffff"/>
                      </a:solidFill>
                    </a:lnR>
                    <a:lnT>
                      <a:noFill/>
                    </a:lnT>
                    <a:lnB w="1872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Costs</a:t>
                      </a:r>
                      <a:endParaRPr b="0" lang="en-US" sz="1200" spc="-1" strike="noStrike">
                        <a:solidFill>
                          <a:srgbClr val="333333"/>
                        </a:solidFill>
                        <a:latin typeface="VW Headline OT-Book"/>
                      </a:endParaRPr>
                    </a:p>
                  </a:txBody>
                  <a:tcPr anchor="ctr">
                    <a:lnL w="18720">
                      <a:solidFill>
                        <a:srgbClr val="ffffff"/>
                      </a:solidFill>
                    </a:lnL>
                    <a:lnR w="18720">
                      <a:solidFill>
                        <a:srgbClr val="ffffff"/>
                      </a:solidFill>
                    </a:lnR>
                    <a:lnT>
                      <a:noFill/>
                    </a:lnT>
                    <a:lnB w="18720">
                      <a:solidFill>
                        <a:srgbClr val="ffffff"/>
                      </a:solidFill>
                    </a:lnB>
                    <a:solidFill>
                      <a:srgbClr val="00235a"/>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January</a:t>
                      </a:r>
                      <a:endParaRPr b="0" lang="en-US" sz="1200" spc="-1" strike="noStrike">
                        <a:solidFill>
                          <a:srgbClr val="333333"/>
                        </a:solidFill>
                        <a:latin typeface="VW Headline OT-Book"/>
                      </a:endParaRPr>
                    </a:p>
                  </a:txBody>
                  <a:tcPr anchor="ctr">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February</a:t>
                      </a:r>
                      <a:endParaRPr b="0" lang="en-US" sz="1200" spc="-1" strike="noStrike">
                        <a:solidFill>
                          <a:srgbClr val="333333"/>
                        </a:solidFill>
                        <a:latin typeface="VW Headline OT-Book"/>
                      </a:endParaRPr>
                    </a:p>
                  </a:txBody>
                  <a:tcPr anchor="ctr">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March</a:t>
                      </a:r>
                      <a:endParaRPr b="0" lang="en-US" sz="1200" spc="-1" strike="noStrike">
                        <a:solidFill>
                          <a:srgbClr val="333333"/>
                        </a:solidFill>
                        <a:latin typeface="VW Headline OT-Book"/>
                      </a:endParaRPr>
                    </a:p>
                  </a:txBody>
                  <a:tcPr anchor="ctr">
                    <a:lnL w="18720">
                      <a:solidFill>
                        <a:srgbClr val="ffffff"/>
                      </a:solidFill>
                    </a:lnL>
                    <a:lnR>
                      <a:no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r>
              <a:tr h="299880">
                <a:tc grid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Calendar week </a:t>
                      </a:r>
                      <a:endParaRPr b="0" lang="en-US" sz="1200" spc="-1" strike="noStrike">
                        <a:solidFill>
                          <a:srgbClr val="333333"/>
                        </a:solidFill>
                        <a:latin typeface="VW Headline OT-Book"/>
                      </a:endParaRPr>
                    </a:p>
                  </a:txBody>
                  <a:tcPr anchor="ctr">
                    <a:lnL>
                      <a:noFill/>
                    </a:lnL>
                    <a:lnR w="18720">
                      <a:solidFill>
                        <a:srgbClr val="ffffff"/>
                      </a:solidFill>
                    </a:lnR>
                    <a:lnT w="18720">
                      <a:solidFill>
                        <a:srgbClr val="ffffff"/>
                      </a:solidFill>
                    </a:lnT>
                    <a:lnB w="5760">
                      <a:solidFill>
                        <a:srgbClr val="ffffff"/>
                      </a:solidFill>
                    </a:lnB>
                    <a:solidFill>
                      <a:srgbClr val="8994a0"/>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5</a:t>
                      </a:r>
                      <a:endParaRPr b="0" lang="en-US" sz="1200" spc="-1" strike="noStrike">
                        <a:solidFill>
                          <a:srgbClr val="333333"/>
                        </a:solidFill>
                        <a:latin typeface="VW Headline OT-Book"/>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6</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7</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8</a:t>
                      </a:r>
                      <a:endParaRPr b="0" lang="en-US" sz="1200" spc="-1" strike="noStrike">
                        <a:solidFill>
                          <a:srgbClr val="333333"/>
                        </a:solidFill>
                        <a:latin typeface="VW Headline OT-Book"/>
                      </a:endParaRPr>
                    </a:p>
                  </a:txBody>
                  <a:tcPr anchor="ctr">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9</a:t>
                      </a:r>
                      <a:endParaRPr b="0" lang="en-US" sz="1200" spc="-1" strike="noStrike">
                        <a:solidFill>
                          <a:srgbClr val="333333"/>
                        </a:solidFill>
                        <a:latin typeface="VW Headline OT-Book"/>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10</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11</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12</a:t>
                      </a:r>
                      <a:endParaRPr b="0" lang="en-US" sz="1200" spc="-1" strike="noStrike">
                        <a:solidFill>
                          <a:srgbClr val="333333"/>
                        </a:solidFill>
                        <a:latin typeface="VW Headline OT-Book"/>
                      </a:endParaRPr>
                    </a:p>
                  </a:txBody>
                  <a:tcPr anchor="ctr">
                    <a:lnL w="5760">
                      <a:solidFill>
                        <a:srgbClr val="ffffff"/>
                      </a:solidFill>
                    </a:lnL>
                    <a:lnR>
                      <a:noFill/>
                    </a:lnR>
                    <a:lnT w="18720">
                      <a:solidFill>
                        <a:srgbClr val="ffffff"/>
                      </a:solidFill>
                    </a:lnT>
                    <a:lnB w="5760">
                      <a:solidFill>
                        <a:srgbClr val="ffffff"/>
                      </a:solidFill>
                    </a:lnB>
                    <a:solidFill>
                      <a:srgbClr val="8994a0"/>
                    </a:solidFill>
                  </a:tcPr>
                </a:tc>
              </a:tr>
              <a:tr h="3207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189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189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207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1932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2040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1752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207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2220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1752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207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a:noFill/>
                    </a:lnB>
                    <a:solidFill>
                      <a:srgbClr val="aed4f8"/>
                    </a:solidFill>
                  </a:tcPr>
                </a:tc>
              </a:tr>
            </a:tbl>
          </a:graphicData>
        </a:graphic>
      </p:graphicFrame>
      <p:sp>
        <p:nvSpPr>
          <p:cNvPr id="728" name="文本框 44249"/>
          <p:cNvSpPr/>
          <p:nvPr/>
        </p:nvSpPr>
        <p:spPr>
          <a:xfrm>
            <a:off x="1038240" y="94932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1"/>
              </a:rPr>
              <a:t>ppt</a:t>
            </a:r>
            <a:r>
              <a:rPr b="0" lang="zh-CN" sz="1600" spc="-1" strike="noStrike" u="sng">
                <a:solidFill>
                  <a:srgbClr val="8994a0"/>
                </a:solidFill>
                <a:uFillTx/>
                <a:latin typeface="VW Headline OT-Book"/>
                <a:ea typeface="VW Headline OT-Book"/>
                <a:hlinkClick r:id="rId2"/>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4516-AD6A-46A8-B38A-8A73CAF10035}"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30"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7FBC9875-0EC6-4A00-9DDC-ACE32D69B5B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3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Influencing factors</a:t>
            </a:r>
            <a:endParaRPr b="0" lang="en-US" sz="2800" spc="-1" strike="noStrike">
              <a:solidFill>
                <a:srgbClr val="333333"/>
              </a:solidFill>
              <a:latin typeface="Arial"/>
            </a:endParaRPr>
          </a:p>
        </p:txBody>
      </p:sp>
      <p:grpSp>
        <p:nvGrpSpPr>
          <p:cNvPr id="732" name="组合 45060"/>
          <p:cNvGrpSpPr/>
          <p:nvPr/>
        </p:nvGrpSpPr>
        <p:grpSpPr>
          <a:xfrm>
            <a:off x="1027080" y="1792440"/>
            <a:ext cx="7944840" cy="3587040"/>
            <a:chOff x="1027080" y="1792440"/>
            <a:chExt cx="7944840" cy="3587040"/>
          </a:xfrm>
        </p:grpSpPr>
        <p:grpSp>
          <p:nvGrpSpPr>
            <p:cNvPr id="733" name="组合 45061"/>
            <p:cNvGrpSpPr/>
            <p:nvPr/>
          </p:nvGrpSpPr>
          <p:grpSpPr>
            <a:xfrm>
              <a:off x="6619680" y="3160800"/>
              <a:ext cx="2349360" cy="846360"/>
              <a:chOff x="6619680" y="3160800"/>
              <a:chExt cx="2349360" cy="846360"/>
            </a:xfrm>
          </p:grpSpPr>
          <p:sp>
            <p:nvSpPr>
              <p:cNvPr id="734" name="AutoShape 5"/>
              <p:cNvSpPr/>
              <p:nvPr/>
            </p:nvSpPr>
            <p:spPr>
              <a:xfrm>
                <a:off x="6619680" y="3160800"/>
                <a:ext cx="802080" cy="84636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35" name="Rectangle 6"/>
              <p:cNvSpPr/>
              <p:nvPr/>
            </p:nvSpPr>
            <p:spPr>
              <a:xfrm>
                <a:off x="6991920" y="3362760"/>
                <a:ext cx="1977120" cy="451440"/>
              </a:xfrm>
              <a:prstGeom prst="rect">
                <a:avLst/>
              </a:prstGeom>
              <a:solidFill>
                <a:srgbClr val="bbc2c5"/>
              </a:solid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sp>
          <p:nvSpPr>
            <p:cNvPr id="736" name="AutoShape 7"/>
            <p:cNvSpPr/>
            <p:nvPr/>
          </p:nvSpPr>
          <p:spPr>
            <a:xfrm rot="10800000">
              <a:off x="2577600" y="3246480"/>
              <a:ext cx="808200" cy="666720"/>
            </a:xfrm>
            <a:prstGeom prst="leftArrow">
              <a:avLst>
                <a:gd name="adj1" fmla="val 50000"/>
                <a:gd name="adj2" fmla="val 60588"/>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37" name="Rectangle 8"/>
            <p:cNvSpPr/>
            <p:nvPr/>
          </p:nvSpPr>
          <p:spPr>
            <a:xfrm rot="10800000">
              <a:off x="1031760" y="3359160"/>
              <a:ext cx="1990800" cy="455760"/>
            </a:xfrm>
            <a:prstGeom prst="rect">
              <a:avLst/>
            </a:prstGeom>
            <a:solidFill>
              <a:srgbClr val="bbc2c5"/>
            </a:solidFill>
            <a:ln w="0">
              <a:noFill/>
            </a:ln>
          </p:spPr>
          <p:style>
            <a:lnRef idx="0"/>
            <a:fillRef idx="0"/>
            <a:effectRef idx="0"/>
            <a:fontRef idx="minor"/>
          </p:style>
          <p:txBody>
            <a:bodyPr lIns="36000" rIns="36000" tIns="36000" bIns="36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nvGrpSpPr>
            <p:cNvPr id="738" name="组合 45066"/>
            <p:cNvGrpSpPr/>
            <p:nvPr/>
          </p:nvGrpSpPr>
          <p:grpSpPr>
            <a:xfrm>
              <a:off x="1027080" y="4259880"/>
              <a:ext cx="2993040" cy="1119600"/>
              <a:chOff x="1027080" y="4259880"/>
              <a:chExt cx="2993040" cy="1119600"/>
            </a:xfrm>
          </p:grpSpPr>
          <p:sp>
            <p:nvSpPr>
              <p:cNvPr id="739" name="Freeform 10"/>
              <p:cNvSpPr/>
              <p:nvPr/>
            </p:nvSpPr>
            <p:spPr>
              <a:xfrm flipV="1">
                <a:off x="1027080" y="4530960"/>
                <a:ext cx="2734560" cy="690480"/>
              </a:xfrm>
              <a:custGeom>
                <a:avLst/>
                <a:gdLst/>
                <a:ahLst/>
                <a:rect l="l" t="t" r="r" b="b"/>
                <a:pathLst>
                  <a:path w="1814" h="466">
                    <a:moveTo>
                      <a:pt x="0" y="306"/>
                    </a:moveTo>
                    <a:lnTo>
                      <a:pt x="1366" y="306"/>
                    </a:lnTo>
                    <a:lnTo>
                      <a:pt x="1574" y="410"/>
                    </a:lnTo>
                    <a:lnTo>
                      <a:pt x="1534" y="466"/>
                    </a:lnTo>
                    <a:lnTo>
                      <a:pt x="1814" y="378"/>
                    </a:lnTo>
                    <a:lnTo>
                      <a:pt x="1750" y="82"/>
                    </a:lnTo>
                    <a:lnTo>
                      <a:pt x="1726" y="146"/>
                    </a:lnTo>
                    <a:lnTo>
                      <a:pt x="1438" y="2"/>
                    </a:lnTo>
                    <a:lnTo>
                      <a:pt x="0" y="0"/>
                    </a:lnTo>
                    <a:lnTo>
                      <a:pt x="0" y="3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40" name="Rectangle 11"/>
              <p:cNvSpPr/>
              <p:nvPr/>
            </p:nvSpPr>
            <p:spPr>
              <a:xfrm>
                <a:off x="1027080" y="4772160"/>
                <a:ext cx="2037960" cy="4431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sp>
            <p:nvSpPr>
              <p:cNvPr id="741" name="AutoShape 12"/>
              <p:cNvSpPr/>
              <p:nvPr/>
            </p:nvSpPr>
            <p:spPr>
              <a:xfrm rot="9082200">
                <a:off x="3094920" y="4390920"/>
                <a:ext cx="766440" cy="85716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742" name="组合 45070"/>
            <p:cNvGrpSpPr/>
            <p:nvPr/>
          </p:nvGrpSpPr>
          <p:grpSpPr>
            <a:xfrm>
              <a:off x="6069960" y="1792440"/>
              <a:ext cx="2901960" cy="1086120"/>
              <a:chOff x="6069960" y="1792440"/>
              <a:chExt cx="2901960" cy="1086120"/>
            </a:xfrm>
          </p:grpSpPr>
          <p:grpSp>
            <p:nvGrpSpPr>
              <p:cNvPr id="743" name="组合 45071"/>
              <p:cNvGrpSpPr/>
              <p:nvPr/>
            </p:nvGrpSpPr>
            <p:grpSpPr>
              <a:xfrm>
                <a:off x="6291360" y="1951920"/>
                <a:ext cx="2680560" cy="697680"/>
                <a:chOff x="6291360" y="1951920"/>
                <a:chExt cx="2680560" cy="697680"/>
              </a:xfrm>
            </p:grpSpPr>
            <p:sp>
              <p:nvSpPr>
                <p:cNvPr id="744" name="Freeform 15"/>
                <p:cNvSpPr/>
                <p:nvPr/>
              </p:nvSpPr>
              <p:spPr>
                <a:xfrm flipH="1">
                  <a:off x="6291000" y="1951920"/>
                  <a:ext cx="2677320" cy="697680"/>
                </a:xfrm>
                <a:custGeom>
                  <a:avLst/>
                  <a:gdLst/>
                  <a:ahLst/>
                  <a:rect l="l" t="t" r="r" b="b"/>
                  <a:pathLst>
                    <a:path w="1814" h="466">
                      <a:moveTo>
                        <a:pt x="0" y="306"/>
                      </a:moveTo>
                      <a:lnTo>
                        <a:pt x="1366" y="306"/>
                      </a:lnTo>
                      <a:lnTo>
                        <a:pt x="1574" y="410"/>
                      </a:lnTo>
                      <a:lnTo>
                        <a:pt x="1534" y="466"/>
                      </a:lnTo>
                      <a:lnTo>
                        <a:pt x="1814" y="378"/>
                      </a:lnTo>
                      <a:lnTo>
                        <a:pt x="1750" y="82"/>
                      </a:lnTo>
                      <a:lnTo>
                        <a:pt x="1726" y="146"/>
                      </a:lnTo>
                      <a:lnTo>
                        <a:pt x="1438" y="2"/>
                      </a:lnTo>
                      <a:lnTo>
                        <a:pt x="0" y="0"/>
                      </a:lnTo>
                      <a:lnTo>
                        <a:pt x="0" y="3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45" name="Rectangle 16"/>
                <p:cNvSpPr/>
                <p:nvPr/>
              </p:nvSpPr>
              <p:spPr>
                <a:xfrm>
                  <a:off x="6975720" y="1956600"/>
                  <a:ext cx="1996200" cy="45072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sp>
            <p:nvSpPr>
              <p:cNvPr id="746" name="AutoShape 17"/>
              <p:cNvSpPr/>
              <p:nvPr/>
            </p:nvSpPr>
            <p:spPr>
              <a:xfrm rot="19998000">
                <a:off x="6217920" y="1916280"/>
                <a:ext cx="750960" cy="83808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747" name="组合 45075"/>
            <p:cNvGrpSpPr/>
            <p:nvPr/>
          </p:nvGrpSpPr>
          <p:grpSpPr>
            <a:xfrm>
              <a:off x="5979600" y="4260960"/>
              <a:ext cx="2987640" cy="1089360"/>
              <a:chOff x="5979600" y="4260960"/>
              <a:chExt cx="2987640" cy="1089360"/>
            </a:xfrm>
          </p:grpSpPr>
          <p:grpSp>
            <p:nvGrpSpPr>
              <p:cNvPr id="748" name="组合 45076"/>
              <p:cNvGrpSpPr/>
              <p:nvPr/>
            </p:nvGrpSpPr>
            <p:grpSpPr>
              <a:xfrm>
                <a:off x="6259320" y="4533840"/>
                <a:ext cx="2707920" cy="682560"/>
                <a:chOff x="6259320" y="4533840"/>
                <a:chExt cx="2707920" cy="682560"/>
              </a:xfrm>
            </p:grpSpPr>
            <p:sp>
              <p:nvSpPr>
                <p:cNvPr id="749" name="Freeform 20"/>
                <p:cNvSpPr/>
                <p:nvPr/>
              </p:nvSpPr>
              <p:spPr>
                <a:xfrm flipH="1" flipV="1">
                  <a:off x="6259320" y="4533840"/>
                  <a:ext cx="2707920" cy="682560"/>
                </a:xfrm>
                <a:custGeom>
                  <a:avLst/>
                  <a:gdLst/>
                  <a:ahLst/>
                  <a:rect l="l" t="t" r="r" b="b"/>
                  <a:pathLst>
                    <a:path w="1814" h="466">
                      <a:moveTo>
                        <a:pt x="0" y="306"/>
                      </a:moveTo>
                      <a:lnTo>
                        <a:pt x="1366" y="306"/>
                      </a:lnTo>
                      <a:lnTo>
                        <a:pt x="1574" y="410"/>
                      </a:lnTo>
                      <a:lnTo>
                        <a:pt x="1534" y="466"/>
                      </a:lnTo>
                      <a:lnTo>
                        <a:pt x="1814" y="378"/>
                      </a:lnTo>
                      <a:lnTo>
                        <a:pt x="1750" y="82"/>
                      </a:lnTo>
                      <a:lnTo>
                        <a:pt x="1726" y="146"/>
                      </a:lnTo>
                      <a:lnTo>
                        <a:pt x="1438" y="2"/>
                      </a:lnTo>
                      <a:lnTo>
                        <a:pt x="0" y="0"/>
                      </a:lnTo>
                      <a:lnTo>
                        <a:pt x="0" y="3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50" name="Rectangle 21"/>
                <p:cNvSpPr/>
                <p:nvPr/>
              </p:nvSpPr>
              <p:spPr>
                <a:xfrm>
                  <a:off x="6948000" y="4771440"/>
                  <a:ext cx="2018880" cy="43740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sp>
            <p:nvSpPr>
              <p:cNvPr id="751" name="AutoShape 22"/>
              <p:cNvSpPr/>
              <p:nvPr/>
            </p:nvSpPr>
            <p:spPr>
              <a:xfrm rot="1807800">
                <a:off x="6133680" y="4395960"/>
                <a:ext cx="758880" cy="81900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752" name="组合 45080"/>
            <p:cNvGrpSpPr/>
            <p:nvPr/>
          </p:nvGrpSpPr>
          <p:grpSpPr>
            <a:xfrm>
              <a:off x="1027080" y="1816200"/>
              <a:ext cx="2917440" cy="1104120"/>
              <a:chOff x="1027080" y="1816200"/>
              <a:chExt cx="2917440" cy="1104120"/>
            </a:xfrm>
          </p:grpSpPr>
          <p:grpSp>
            <p:nvGrpSpPr>
              <p:cNvPr id="753" name="组合 45081"/>
              <p:cNvGrpSpPr/>
              <p:nvPr/>
            </p:nvGrpSpPr>
            <p:grpSpPr>
              <a:xfrm>
                <a:off x="1027080" y="1956240"/>
                <a:ext cx="2660400" cy="694080"/>
                <a:chOff x="1027080" y="1956240"/>
                <a:chExt cx="2660400" cy="694080"/>
              </a:xfrm>
            </p:grpSpPr>
            <p:sp>
              <p:nvSpPr>
                <p:cNvPr id="754" name="Freeform 25"/>
                <p:cNvSpPr/>
                <p:nvPr/>
              </p:nvSpPr>
              <p:spPr>
                <a:xfrm>
                  <a:off x="1027080" y="1956240"/>
                  <a:ext cx="2660400" cy="694080"/>
                </a:xfrm>
                <a:custGeom>
                  <a:avLst/>
                  <a:gdLst/>
                  <a:ahLst/>
                  <a:rect l="l" t="t" r="r" b="b"/>
                  <a:pathLst>
                    <a:path w="1814" h="466">
                      <a:moveTo>
                        <a:pt x="0" y="306"/>
                      </a:moveTo>
                      <a:lnTo>
                        <a:pt x="1366" y="306"/>
                      </a:lnTo>
                      <a:lnTo>
                        <a:pt x="1574" y="410"/>
                      </a:lnTo>
                      <a:lnTo>
                        <a:pt x="1534" y="466"/>
                      </a:lnTo>
                      <a:lnTo>
                        <a:pt x="1814" y="378"/>
                      </a:lnTo>
                      <a:lnTo>
                        <a:pt x="1750" y="82"/>
                      </a:lnTo>
                      <a:lnTo>
                        <a:pt x="1726" y="146"/>
                      </a:lnTo>
                      <a:lnTo>
                        <a:pt x="1438" y="2"/>
                      </a:lnTo>
                      <a:lnTo>
                        <a:pt x="0" y="0"/>
                      </a:lnTo>
                      <a:lnTo>
                        <a:pt x="0" y="3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55" name="Rectangle 26"/>
                <p:cNvSpPr/>
                <p:nvPr/>
              </p:nvSpPr>
              <p:spPr>
                <a:xfrm>
                  <a:off x="1035720" y="1960920"/>
                  <a:ext cx="1983600" cy="449640"/>
                </a:xfrm>
                <a:prstGeom prst="rect">
                  <a:avLst/>
                </a:prstGeom>
                <a:solidFill>
                  <a:srgbClr val="bbc2c5"/>
                </a:solid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sp>
            <p:nvSpPr>
              <p:cNvPr id="756" name="AutoShape 27"/>
              <p:cNvSpPr/>
              <p:nvPr/>
            </p:nvSpPr>
            <p:spPr>
              <a:xfrm rot="12555600">
                <a:off x="3038760" y="1944000"/>
                <a:ext cx="745920" cy="84780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757" name="Oval 28"/>
            <p:cNvSpPr/>
            <p:nvPr/>
          </p:nvSpPr>
          <p:spPr>
            <a:xfrm>
              <a:off x="3595680" y="2187720"/>
              <a:ext cx="2808360" cy="2806560"/>
            </a:xfrm>
            <a:prstGeom prst="ellipse">
              <a:avLst/>
            </a:prstGeom>
            <a:solidFill>
              <a:srgbClr val="00235a"/>
            </a:solidFill>
            <a:ln w="0">
              <a:noFill/>
            </a:ln>
          </p:spPr>
          <p:style>
            <a:lnRef idx="0"/>
            <a:fillRef idx="0"/>
            <a:effectRef idx="0"/>
            <a:fontRef idx="minor"/>
          </p:style>
          <p:txBody>
            <a:bodyPr wrap="none"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lack"/>
                  <a:ea typeface="宋体"/>
                </a:rPr>
                <a:t>Text</a:t>
              </a:r>
              <a:endParaRPr b="0" lang="en-US" sz="1600" spc="-1" strike="noStrike">
                <a:solidFill>
                  <a:srgbClr val="333333"/>
                </a:solidFill>
                <a:latin typeface="VW Headline OT-Book"/>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B508-449A-4E3A-B97D-EF04A309C632}"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59"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67348167-0DAD-44D6-B4A9-B30BE2A2BCBA}"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6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Process table</a:t>
            </a:r>
            <a:endParaRPr b="0" lang="en-US" sz="2800" spc="-1" strike="noStrike">
              <a:solidFill>
                <a:srgbClr val="333333"/>
              </a:solidFill>
              <a:latin typeface="Arial"/>
            </a:endParaRPr>
          </a:p>
        </p:txBody>
      </p:sp>
      <p:grpSp>
        <p:nvGrpSpPr>
          <p:cNvPr id="761" name="组合 46084"/>
          <p:cNvGrpSpPr/>
          <p:nvPr/>
        </p:nvGrpSpPr>
        <p:grpSpPr>
          <a:xfrm>
            <a:off x="1019160" y="1482840"/>
            <a:ext cx="7953480" cy="4205160"/>
            <a:chOff x="1019160" y="1482840"/>
            <a:chExt cx="7953480" cy="4205160"/>
          </a:xfrm>
        </p:grpSpPr>
        <p:sp>
          <p:nvSpPr>
            <p:cNvPr id="762" name="Rectangle 4"/>
            <p:cNvSpPr/>
            <p:nvPr/>
          </p:nvSpPr>
          <p:spPr>
            <a:xfrm>
              <a:off x="3703680" y="2003400"/>
              <a:ext cx="2587680" cy="3684600"/>
            </a:xfrm>
            <a:prstGeom prst="rect">
              <a:avLst/>
            </a:prstGeom>
            <a:solidFill>
              <a:srgbClr val="bbc2c5"/>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63" name="Rectangle 5"/>
            <p:cNvSpPr/>
            <p:nvPr/>
          </p:nvSpPr>
          <p:spPr>
            <a:xfrm>
              <a:off x="3767040" y="2084400"/>
              <a:ext cx="2414520" cy="3318120"/>
            </a:xfrm>
            <a:prstGeom prst="rect">
              <a:avLst/>
            </a:prstGeom>
            <a:noFill/>
            <a:ln w="0">
              <a:noFill/>
            </a:ln>
          </p:spPr>
          <p:style>
            <a:lnRef idx="0"/>
            <a:fillRef idx="0"/>
            <a:effectRef idx="0"/>
            <a:fontRef idx="minor"/>
          </p:style>
          <p:txBody>
            <a:bodyPr lIns="36000" rIns="36000" tIns="36000" bIns="36000" anchor="t">
              <a:noAutofit/>
            </a:bodyPr>
            <a:p>
              <a:pPr lvl="1" marL="190440" indent="-189000">
                <a:lnSpc>
                  <a:spcPct val="100000"/>
                </a:lnSpc>
                <a:tabLst>
                  <a:tab algn="l" pos="0"/>
                  <a:tab algn="l" pos="385920"/>
                  <a:tab algn="l" pos="758880"/>
                  <a:tab algn="l" pos="1146240"/>
                  <a:tab algn="l" pos="1519200"/>
                  <a:tab algn="l" pos="1905120"/>
                  <a:tab algn="l" pos="2287440"/>
                  <a:tab algn="l" pos="2664000"/>
                  <a:tab algn="l" pos="3051000"/>
                  <a:tab algn="l" pos="3422520"/>
                  <a:tab algn="r" pos="8520120"/>
                  <a:tab algn="l" pos="8585280"/>
                  <a:tab algn="l" pos="8915400"/>
                  <a:tab algn="l" pos="9245520"/>
                  <a:tab algn="l" pos="9575640"/>
                  <a:tab algn="l" pos="9906120"/>
                  <a:tab algn="l" pos="10236240"/>
                  <a:tab algn="l" pos="10566360"/>
                  <a:tab algn="l" pos="10896480"/>
                </a:tabLst>
              </a:pPr>
              <a:r>
                <a:rPr b="0" lang="en-GB" sz="1700" spc="-1" strike="noStrike">
                  <a:solidFill>
                    <a:srgbClr val="333333"/>
                  </a:solidFill>
                  <a:latin typeface="VW Headline OT-Book"/>
                  <a:ea typeface="VW Headline OT-Book"/>
                </a:rPr>
                <a:t>Text</a:t>
              </a:r>
              <a:endParaRPr b="0" lang="en-US" sz="1700" spc="-1" strike="noStrike">
                <a:solidFill>
                  <a:srgbClr val="333333"/>
                </a:solidFill>
                <a:latin typeface="VW Headline OT-Book"/>
              </a:endParaRPr>
            </a:p>
          </p:txBody>
        </p:sp>
        <p:sp>
          <p:nvSpPr>
            <p:cNvPr id="764" name="AutoShape 6"/>
            <p:cNvSpPr/>
            <p:nvPr/>
          </p:nvSpPr>
          <p:spPr>
            <a:xfrm>
              <a:off x="3697200" y="1482840"/>
              <a:ext cx="2649600" cy="519120"/>
            </a:xfrm>
            <a:custGeom>
              <a:avLst/>
              <a:gdLst>
                <a:gd name="textAreaLeft" fmla="*/ 0 w 2649600"/>
                <a:gd name="textAreaRight" fmla="*/ 2649960 w 2649600"/>
                <a:gd name="textAreaTop" fmla="*/ 0 h 519120"/>
                <a:gd name="textAreaBottom" fmla="*/ 519480 h 519120"/>
              </a:gdLst>
              <a:ahLst/>
              <a:rect l="textAreaLeft" t="textAreaTop" r="textAreaRight" b="textAreaBottom"/>
              <a:pathLst>
                <a:path w="21600" h="21600">
                  <a:moveTo>
                    <a:pt x="0" y="0"/>
                  </a:moveTo>
                  <a:lnTo>
                    <a:pt x="21145" y="0"/>
                  </a:lnTo>
                  <a:lnTo>
                    <a:pt x="21600" y="10800"/>
                  </a:lnTo>
                  <a:lnTo>
                    <a:pt x="21145" y="21600"/>
                  </a:lnTo>
                  <a:lnTo>
                    <a:pt x="0" y="21600"/>
                  </a:lnTo>
                  <a:lnTo>
                    <a:pt x="455" y="10800"/>
                  </a:lnTo>
                  <a:close/>
                </a:path>
              </a:pathLst>
            </a:custGeom>
            <a:solidFill>
              <a:srgbClr val="00235a"/>
            </a:solidFill>
            <a:ln w="0">
              <a:noFill/>
            </a:ln>
          </p:spPr>
          <p:style>
            <a:lnRef idx="0"/>
            <a:fillRef idx="0"/>
            <a:effectRef idx="0"/>
            <a:fontRef idx="minor"/>
          </p:style>
          <p:txBody>
            <a:bodyPr lIns="180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p:txBody>
        </p:sp>
        <p:sp>
          <p:nvSpPr>
            <p:cNvPr id="765" name="Rectangle 7"/>
            <p:cNvSpPr/>
            <p:nvPr/>
          </p:nvSpPr>
          <p:spPr>
            <a:xfrm>
              <a:off x="1020600" y="1981440"/>
              <a:ext cx="2640240" cy="3703680"/>
            </a:xfrm>
            <a:prstGeom prst="rect">
              <a:avLst/>
            </a:prstGeom>
            <a:solidFill>
              <a:srgbClr val="bbc2c5"/>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66" name="Rectangle 8"/>
            <p:cNvSpPr/>
            <p:nvPr/>
          </p:nvSpPr>
          <p:spPr>
            <a:xfrm>
              <a:off x="1074600" y="2084400"/>
              <a:ext cx="2605320" cy="3318120"/>
            </a:xfrm>
            <a:prstGeom prst="rect">
              <a:avLst/>
            </a:prstGeom>
            <a:noFill/>
            <a:ln w="0">
              <a:noFill/>
            </a:ln>
          </p:spPr>
          <p:style>
            <a:lnRef idx="0"/>
            <a:fillRef idx="0"/>
            <a:effectRef idx="0"/>
            <a:fontRef idx="minor"/>
          </p:style>
          <p:txBody>
            <a:bodyPr lIns="36000" rIns="36000" tIns="36000" bIns="36000" anchor="t">
              <a:noAutofit/>
            </a:bodyPr>
            <a:p>
              <a:pPr lvl="1" marL="190440" indent="-189000">
                <a:lnSpc>
                  <a:spcPct val="100000"/>
                </a:lnSpc>
                <a:tabLst>
                  <a:tab algn="l" pos="0"/>
                  <a:tab algn="l" pos="385920"/>
                  <a:tab algn="l" pos="758880"/>
                  <a:tab algn="l" pos="1146240"/>
                  <a:tab algn="l" pos="1519200"/>
                  <a:tab algn="l" pos="1905120"/>
                  <a:tab algn="l" pos="2287440"/>
                  <a:tab algn="l" pos="2664000"/>
                  <a:tab algn="l" pos="3051000"/>
                  <a:tab algn="l" pos="3422520"/>
                  <a:tab algn="r" pos="8520120"/>
                  <a:tab algn="l" pos="8585280"/>
                  <a:tab algn="l" pos="8915400"/>
                  <a:tab algn="l" pos="9245520"/>
                  <a:tab algn="l" pos="9575640"/>
                  <a:tab algn="l" pos="9906120"/>
                  <a:tab algn="l" pos="10236240"/>
                  <a:tab algn="l" pos="10566360"/>
                  <a:tab algn="l" pos="10896480"/>
                </a:tabLst>
              </a:pPr>
              <a:r>
                <a:rPr b="0" lang="en-GB" sz="1700" spc="-1" strike="noStrike">
                  <a:solidFill>
                    <a:srgbClr val="333333"/>
                  </a:solidFill>
                  <a:latin typeface="VW Headline OT-Book"/>
                  <a:ea typeface="VW Headline OT-Book"/>
                </a:rPr>
                <a:t>Text</a:t>
              </a:r>
              <a:endParaRPr b="0" lang="en-US" sz="1700" spc="-1" strike="noStrike">
                <a:solidFill>
                  <a:srgbClr val="333333"/>
                </a:solidFill>
                <a:latin typeface="VW Headline OT-Book"/>
              </a:endParaRPr>
            </a:p>
          </p:txBody>
        </p:sp>
        <p:sp>
          <p:nvSpPr>
            <p:cNvPr id="767" name="AutoShape 9"/>
            <p:cNvSpPr/>
            <p:nvPr/>
          </p:nvSpPr>
          <p:spPr>
            <a:xfrm>
              <a:off x="1019160" y="1482840"/>
              <a:ext cx="2695680" cy="519120"/>
            </a:xfrm>
            <a:custGeom>
              <a:avLst/>
              <a:gdLst>
                <a:gd name="textAreaLeft" fmla="*/ 0 w 2695680"/>
                <a:gd name="textAreaRight" fmla="*/ 2696040 w 2695680"/>
                <a:gd name="textAreaTop" fmla="*/ 0 h 519120"/>
                <a:gd name="textAreaBottom" fmla="*/ 519480 h 519120"/>
              </a:gdLst>
              <a:ahLst/>
              <a:rect l="textAreaLeft" t="textAreaTop" r="textAreaRight" b="textAreaBottom"/>
              <a:pathLst>
                <a:path w="21600" h="21600">
                  <a:moveTo>
                    <a:pt x="0" y="0"/>
                  </a:moveTo>
                  <a:lnTo>
                    <a:pt x="21162" y="0"/>
                  </a:lnTo>
                  <a:lnTo>
                    <a:pt x="21600" y="10800"/>
                  </a:lnTo>
                  <a:lnTo>
                    <a:pt x="21162" y="21600"/>
                  </a:lnTo>
                  <a:lnTo>
                    <a:pt x="0" y="21600"/>
                  </a:lnTo>
                  <a:close/>
                </a:path>
              </a:pathLst>
            </a:custGeom>
            <a:solidFill>
              <a:srgbClr val="00235a"/>
            </a:solidFill>
            <a:ln w="0">
              <a:noFill/>
            </a:ln>
          </p:spPr>
          <p:style>
            <a:lnRef idx="0"/>
            <a:fillRef idx="0"/>
            <a:effectRef idx="0"/>
            <a:fontRef idx="minor"/>
          </p:style>
          <p:txBody>
            <a:bodyPr lIns="180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p:txBody>
        </p:sp>
        <p:sp>
          <p:nvSpPr>
            <p:cNvPr id="768" name="Rectangle 10"/>
            <p:cNvSpPr/>
            <p:nvPr/>
          </p:nvSpPr>
          <p:spPr>
            <a:xfrm>
              <a:off x="6329520" y="2003400"/>
              <a:ext cx="2581200" cy="3684600"/>
            </a:xfrm>
            <a:prstGeom prst="rect">
              <a:avLst/>
            </a:prstGeom>
            <a:solidFill>
              <a:srgbClr val="bbc2c5"/>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69" name="Rectangle 11"/>
            <p:cNvSpPr/>
            <p:nvPr/>
          </p:nvSpPr>
          <p:spPr>
            <a:xfrm>
              <a:off x="6386400" y="2084400"/>
              <a:ext cx="2414520" cy="3318120"/>
            </a:xfrm>
            <a:prstGeom prst="rect">
              <a:avLst/>
            </a:prstGeom>
            <a:noFill/>
            <a:ln w="0">
              <a:noFill/>
            </a:ln>
          </p:spPr>
          <p:style>
            <a:lnRef idx="0"/>
            <a:fillRef idx="0"/>
            <a:effectRef idx="0"/>
            <a:fontRef idx="minor"/>
          </p:style>
          <p:txBody>
            <a:bodyPr lIns="36000" rIns="36000" tIns="36000" bIns="36000" anchor="t">
              <a:noAutofit/>
            </a:bodyPr>
            <a:p>
              <a:pPr lvl="1" marL="190440" indent="-189000">
                <a:lnSpc>
                  <a:spcPct val="100000"/>
                </a:lnSpc>
                <a:tabLst>
                  <a:tab algn="l" pos="0"/>
                  <a:tab algn="l" pos="385920"/>
                  <a:tab algn="l" pos="758880"/>
                  <a:tab algn="l" pos="1146240"/>
                  <a:tab algn="l" pos="1519200"/>
                  <a:tab algn="l" pos="1905120"/>
                  <a:tab algn="l" pos="2287440"/>
                  <a:tab algn="l" pos="2664000"/>
                  <a:tab algn="l" pos="3051000"/>
                  <a:tab algn="l" pos="3422520"/>
                  <a:tab algn="r" pos="8520120"/>
                  <a:tab algn="l" pos="8585280"/>
                  <a:tab algn="l" pos="8915400"/>
                  <a:tab algn="l" pos="9245520"/>
                  <a:tab algn="l" pos="9575640"/>
                  <a:tab algn="l" pos="9906120"/>
                  <a:tab algn="l" pos="10236240"/>
                  <a:tab algn="l" pos="10566360"/>
                  <a:tab algn="l" pos="10896480"/>
                </a:tabLst>
              </a:pPr>
              <a:r>
                <a:rPr b="0" lang="en-GB" sz="1700" spc="-1" strike="noStrike">
                  <a:solidFill>
                    <a:srgbClr val="333333"/>
                  </a:solidFill>
                  <a:latin typeface="VW Headline OT-Book"/>
                  <a:ea typeface="VW Headline OT-Book"/>
                </a:rPr>
                <a:t>Text</a:t>
              </a:r>
              <a:endParaRPr b="0" lang="en-US" sz="1700" spc="-1" strike="noStrike">
                <a:solidFill>
                  <a:srgbClr val="333333"/>
                </a:solidFill>
                <a:latin typeface="VW Headline OT-Book"/>
              </a:endParaRPr>
            </a:p>
          </p:txBody>
        </p:sp>
        <p:sp>
          <p:nvSpPr>
            <p:cNvPr id="770" name="AutoShape 12"/>
            <p:cNvSpPr/>
            <p:nvPr/>
          </p:nvSpPr>
          <p:spPr>
            <a:xfrm>
              <a:off x="6323040" y="1482840"/>
              <a:ext cx="2643120" cy="519120"/>
            </a:xfrm>
            <a:custGeom>
              <a:avLst/>
              <a:gdLst>
                <a:gd name="textAreaLeft" fmla="*/ 0 w 2643120"/>
                <a:gd name="textAreaRight" fmla="*/ 2643480 w 2643120"/>
                <a:gd name="textAreaTop" fmla="*/ 0 h 519120"/>
                <a:gd name="textAreaBottom" fmla="*/ 519480 h 519120"/>
              </a:gdLst>
              <a:ahLst/>
              <a:rect l="textAreaLeft" t="textAreaTop" r="textAreaRight" b="textAreaBottom"/>
              <a:pathLst>
                <a:path w="21600" h="21600">
                  <a:moveTo>
                    <a:pt x="0" y="0"/>
                  </a:moveTo>
                  <a:lnTo>
                    <a:pt x="21145" y="0"/>
                  </a:lnTo>
                  <a:lnTo>
                    <a:pt x="21600" y="10800"/>
                  </a:lnTo>
                  <a:lnTo>
                    <a:pt x="21145" y="21600"/>
                  </a:lnTo>
                  <a:lnTo>
                    <a:pt x="0" y="21600"/>
                  </a:lnTo>
                  <a:lnTo>
                    <a:pt x="455" y="10800"/>
                  </a:lnTo>
                  <a:close/>
                </a:path>
              </a:pathLst>
            </a:custGeom>
            <a:solidFill>
              <a:srgbClr val="00235a"/>
            </a:solidFill>
            <a:ln w="0">
              <a:noFill/>
            </a:ln>
          </p:spPr>
          <p:style>
            <a:lnRef idx="0"/>
            <a:fillRef idx="0"/>
            <a:effectRef idx="0"/>
            <a:fontRef idx="minor"/>
          </p:style>
          <p:txBody>
            <a:bodyPr lIns="180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p:txBody>
        </p:sp>
        <p:grpSp>
          <p:nvGrpSpPr>
            <p:cNvPr id="771" name=""/>
            <p:cNvGrpSpPr/>
            <p:nvPr/>
          </p:nvGrpSpPr>
          <p:grpSpPr>
            <a:xfrm>
              <a:off x="1019160" y="2003400"/>
              <a:ext cx="7953480" cy="1800"/>
              <a:chOff x="1019160" y="2003400"/>
              <a:chExt cx="7953480" cy="1800"/>
            </a:xfrm>
          </p:grpSpPr>
          <p:sp>
            <p:nvSpPr>
              <p:cNvPr id="772" name="Line 13"/>
              <p:cNvSpPr/>
              <p:nvPr/>
            </p:nvSpPr>
            <p:spPr>
              <a:xfrm>
                <a:off x="1019160" y="2003400"/>
                <a:ext cx="7953480" cy="1800"/>
              </a:xfrm>
              <a:prstGeom prst="line">
                <a:avLst/>
              </a:prstGeom>
              <a:ln w="3816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333333"/>
                  </a:solidFill>
                  <a:latin typeface="VW Headline OT-Book"/>
                </a:endParaRPr>
              </a:p>
            </p:txBody>
          </p:sp>
          <p:sp>
            <p:nvSpPr>
              <p:cNvPr id="773" name=""/>
              <p:cNvSpPr txBox="1"/>
              <p:nvPr/>
            </p:nvSpPr>
            <p:spPr>
              <a:xfrm>
                <a:off x="1019160" y="2003400"/>
                <a:ext cx="7953480" cy="1800"/>
              </a:xfrm>
              <a:prstGeom prst="rect">
                <a:avLst/>
              </a:prstGeom>
              <a:noFill/>
              <a:ln w="0">
                <a:noFill/>
              </a:ln>
            </p:spPr>
            <p:txBody>
              <a:bodyPr lIns="90000" rIns="90000" tIns="-45000" bIns="-450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68BC-AF46-4B7C-AF87-62034B229111}"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75"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56996565-7BF4-4CB4-810B-37540C7F008D}"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7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Flow/process chart</a:t>
            </a:r>
            <a:endParaRPr b="0" lang="en-US" sz="2800" spc="-1" strike="noStrike">
              <a:solidFill>
                <a:srgbClr val="333333"/>
              </a:solidFill>
              <a:latin typeface="Arial"/>
            </a:endParaRPr>
          </a:p>
        </p:txBody>
      </p:sp>
      <p:sp>
        <p:nvSpPr>
          <p:cNvPr id="777" name="Rectangle 3"/>
          <p:cNvSpPr/>
          <p:nvPr/>
        </p:nvSpPr>
        <p:spPr>
          <a:xfrm>
            <a:off x="1019160" y="1482840"/>
            <a:ext cx="2102040" cy="4203720"/>
          </a:xfrm>
          <a:prstGeom prst="rect">
            <a:avLst/>
          </a:prstGeom>
          <a:solidFill>
            <a:srgbClr val="00235a"/>
          </a:solidFill>
          <a:ln w="0">
            <a:noFill/>
          </a:ln>
        </p:spPr>
        <p:style>
          <a:lnRef idx="0"/>
          <a:fillRef idx="0"/>
          <a:effectRef idx="0"/>
          <a:fontRef idx="minor"/>
        </p:style>
        <p:txBody>
          <a:bodyPr lIns="90000" rIns="90000" tIns="90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VW Headline OT-Book"/>
              </a:rPr>
              <a:t>Text </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p:txBody>
      </p:sp>
      <p:sp>
        <p:nvSpPr>
          <p:cNvPr id="778" name="Rectangle 4"/>
          <p:cNvSpPr/>
          <p:nvPr/>
        </p:nvSpPr>
        <p:spPr>
          <a:xfrm>
            <a:off x="3944880" y="1482840"/>
            <a:ext cx="2102040" cy="4203720"/>
          </a:xfrm>
          <a:prstGeom prst="rect">
            <a:avLst/>
          </a:prstGeom>
          <a:solidFill>
            <a:srgbClr val="aed4f8"/>
          </a:solidFill>
          <a:ln w="0">
            <a:noFill/>
          </a:ln>
        </p:spPr>
        <p:style>
          <a:lnRef idx="0"/>
          <a:fillRef idx="0"/>
          <a:effectRef idx="0"/>
          <a:fontRef idx="minor"/>
        </p:style>
        <p:txBody>
          <a:bodyPr lIns="90000" rIns="90000" tIns="90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33"/>
                </a:solidFill>
                <a:latin typeface="VW Headline OT-Book"/>
                <a:ea typeface="VW Headline OT-Book"/>
              </a:rPr>
              <a:t>Text </a:t>
            </a:r>
            <a:endParaRPr b="0" lang="en-US" sz="15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33"/>
              </a:solidFill>
              <a:latin typeface="VW Headline OT-Book"/>
            </a:endParaRPr>
          </a:p>
        </p:txBody>
      </p:sp>
      <p:sp>
        <p:nvSpPr>
          <p:cNvPr id="779" name="Rectangle 5"/>
          <p:cNvSpPr/>
          <p:nvPr/>
        </p:nvSpPr>
        <p:spPr>
          <a:xfrm>
            <a:off x="6870600" y="1482840"/>
            <a:ext cx="2102040" cy="4203720"/>
          </a:xfrm>
          <a:prstGeom prst="rect">
            <a:avLst/>
          </a:prstGeom>
          <a:solidFill>
            <a:srgbClr val="8994a0"/>
          </a:solidFill>
          <a:ln w="0">
            <a:noFill/>
          </a:ln>
        </p:spPr>
        <p:style>
          <a:lnRef idx="0"/>
          <a:fillRef idx="0"/>
          <a:effectRef idx="0"/>
          <a:fontRef idx="minor"/>
        </p:style>
        <p:txBody>
          <a:bodyPr lIns="90000" rIns="90000" tIns="90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VW Headline OT-Book"/>
                <a:ea typeface="VW Headline OT-Book"/>
              </a:rPr>
              <a:t>Text </a:t>
            </a:r>
            <a:endParaRPr b="0" lang="en-US" sz="15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33"/>
              </a:solidFill>
              <a:latin typeface="VW Headline OT-Book"/>
            </a:endParaRPr>
          </a:p>
        </p:txBody>
      </p:sp>
      <p:sp>
        <p:nvSpPr>
          <p:cNvPr id="780" name="AutoShape 6"/>
          <p:cNvSpPr/>
          <p:nvPr/>
        </p:nvSpPr>
        <p:spPr>
          <a:xfrm rot="5400000">
            <a:off x="3046320" y="3436920"/>
            <a:ext cx="920880" cy="285840"/>
          </a:xfrm>
          <a:prstGeom prst="triangle">
            <a:avLst>
              <a:gd name="adj" fmla="val 50000"/>
            </a:avLst>
          </a:prstGeom>
          <a:solidFill>
            <a:srgbClr val="8994a0"/>
          </a:solidFill>
          <a:ln w="0">
            <a:noFill/>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81" name="AutoShape 7"/>
          <p:cNvSpPr/>
          <p:nvPr/>
        </p:nvSpPr>
        <p:spPr>
          <a:xfrm rot="5400000">
            <a:off x="6015240" y="3439080"/>
            <a:ext cx="920880" cy="287640"/>
          </a:xfrm>
          <a:prstGeom prst="triangle">
            <a:avLst>
              <a:gd name="adj" fmla="val 50000"/>
            </a:avLst>
          </a:prstGeom>
          <a:solidFill>
            <a:srgbClr val="8994a0"/>
          </a:solidFill>
          <a:ln w="0">
            <a:noFill/>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AB82-2C80-477F-94B9-495E81B139C0}"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83"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1B35EB7-FFA1-4292-A97E-9ED287DFA0C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8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Flow/process chart (variation)</a:t>
            </a:r>
            <a:endParaRPr b="0" lang="en-US" sz="2800" spc="-1" strike="noStrike">
              <a:solidFill>
                <a:srgbClr val="333333"/>
              </a:solidFill>
              <a:latin typeface="Arial"/>
            </a:endParaRPr>
          </a:p>
        </p:txBody>
      </p:sp>
      <p:sp>
        <p:nvSpPr>
          <p:cNvPr id="785" name="Rectangle 3"/>
          <p:cNvSpPr/>
          <p:nvPr/>
        </p:nvSpPr>
        <p:spPr>
          <a:xfrm>
            <a:off x="7335720" y="1496880"/>
            <a:ext cx="1619280" cy="21020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786" name="Rectangle 4"/>
          <p:cNvSpPr/>
          <p:nvPr/>
        </p:nvSpPr>
        <p:spPr>
          <a:xfrm>
            <a:off x="1019160" y="3592440"/>
            <a:ext cx="1619280" cy="20732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787" name="Rectangle 5"/>
          <p:cNvSpPr/>
          <p:nvPr/>
        </p:nvSpPr>
        <p:spPr>
          <a:xfrm>
            <a:off x="7334280" y="3592440"/>
            <a:ext cx="1619280" cy="205416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grpSp>
        <p:nvGrpSpPr>
          <p:cNvPr id="788" name="组合 48135"/>
          <p:cNvGrpSpPr/>
          <p:nvPr/>
        </p:nvGrpSpPr>
        <p:grpSpPr>
          <a:xfrm>
            <a:off x="2987280" y="1511280"/>
            <a:ext cx="4287960" cy="3692160"/>
            <a:chOff x="2987280" y="1511280"/>
            <a:chExt cx="4287960" cy="3692160"/>
          </a:xfrm>
        </p:grpSpPr>
        <p:sp>
          <p:nvSpPr>
            <p:cNvPr id="789" name="AutoShape 7"/>
            <p:cNvSpPr/>
            <p:nvPr/>
          </p:nvSpPr>
          <p:spPr>
            <a:xfrm>
              <a:off x="3189600" y="1511280"/>
              <a:ext cx="3648960" cy="3658320"/>
            </a:xfrm>
            <a:custGeom>
              <a:avLst/>
              <a:gdLst/>
              <a:ahLst/>
              <a:rect l="l" t="t" r="r" b="b"/>
              <a:pathLst>
                <a:path w="21600" h="108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235a"/>
            </a:solidFill>
            <a:ln w="38160">
              <a:solidFill>
                <a:srgbClr val="00235a"/>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0" name="AutoShape 8"/>
            <p:cNvSpPr/>
            <p:nvPr/>
          </p:nvSpPr>
          <p:spPr>
            <a:xfrm rot="10800000">
              <a:off x="3138480" y="1524960"/>
              <a:ext cx="3878280" cy="3678480"/>
            </a:xfrm>
            <a:custGeom>
              <a:avLst/>
              <a:gdLst/>
              <a:ahLst/>
              <a:rect l="l" t="t" r="r" b="b"/>
              <a:pathLst>
                <a:path w="24300" h="16200">
                  <a:moveTo>
                    <a:pt x="16200" y="10800"/>
                  </a:moveTo>
                  <a:cubicBezTo>
                    <a:pt x="16200" y="7823"/>
                    <a:pt x="13791" y="5408"/>
                    <a:pt x="10815" y="5400"/>
                  </a:cubicBezTo>
                  <a:lnTo>
                    <a:pt x="10830" y="0"/>
                  </a:lnTo>
                  <a:cubicBezTo>
                    <a:pt x="16783" y="16"/>
                    <a:pt x="21599" y="4847"/>
                    <a:pt x="21600" y="10799"/>
                  </a:cubicBezTo>
                  <a:lnTo>
                    <a:pt x="21600" y="10800"/>
                  </a:lnTo>
                  <a:lnTo>
                    <a:pt x="24300" y="10800"/>
                  </a:lnTo>
                  <a:lnTo>
                    <a:pt x="18900" y="16200"/>
                  </a:lnTo>
                  <a:lnTo>
                    <a:pt x="13500" y="10800"/>
                  </a:lnTo>
                  <a:lnTo>
                    <a:pt x="16200" y="10800"/>
                  </a:lnTo>
                  <a:close/>
                </a:path>
              </a:pathLst>
            </a:custGeom>
            <a:solidFill>
              <a:srgbClr val="8994a0"/>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1" name="AutoShape 9"/>
            <p:cNvSpPr/>
            <p:nvPr/>
          </p:nvSpPr>
          <p:spPr>
            <a:xfrm rot="5400000">
              <a:off x="3086280" y="1424160"/>
              <a:ext cx="3678480" cy="3876840"/>
            </a:xfrm>
            <a:custGeom>
              <a:avLst/>
              <a:gdLst/>
              <a:ahLst/>
              <a:rect l="l" t="t" r="r" b="b"/>
              <a:pathLst>
                <a:path w="24300" h="16200">
                  <a:moveTo>
                    <a:pt x="16200" y="10800"/>
                  </a:moveTo>
                  <a:cubicBezTo>
                    <a:pt x="16200" y="7823"/>
                    <a:pt x="13791" y="5408"/>
                    <a:pt x="10815" y="5400"/>
                  </a:cubicBezTo>
                  <a:lnTo>
                    <a:pt x="10830" y="0"/>
                  </a:lnTo>
                  <a:cubicBezTo>
                    <a:pt x="16783" y="16"/>
                    <a:pt x="21599" y="4847"/>
                    <a:pt x="21600" y="10799"/>
                  </a:cubicBezTo>
                  <a:lnTo>
                    <a:pt x="21600" y="10800"/>
                  </a:lnTo>
                  <a:lnTo>
                    <a:pt x="24300" y="10800"/>
                  </a:lnTo>
                  <a:lnTo>
                    <a:pt x="18900" y="16200"/>
                  </a:lnTo>
                  <a:lnTo>
                    <a:pt x="13500" y="10800"/>
                  </a:lnTo>
                  <a:lnTo>
                    <a:pt x="16200" y="10800"/>
                  </a:lnTo>
                  <a:close/>
                </a:path>
              </a:pathLst>
            </a:custGeom>
            <a:solidFill>
              <a:srgbClr val="aed4f8"/>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2" name="AutoShape 10"/>
            <p:cNvSpPr/>
            <p:nvPr/>
          </p:nvSpPr>
          <p:spPr>
            <a:xfrm rot="10800000">
              <a:off x="5416200" y="3177720"/>
              <a:ext cx="1859040" cy="883440"/>
            </a:xfrm>
            <a:prstGeom prst="triangle">
              <a:avLst>
                <a:gd name="adj" fmla="val 50000"/>
              </a:avLst>
            </a:prstGeom>
            <a:solidFill>
              <a:srgbClr val="00235a"/>
            </a:solidFill>
            <a:ln w="38160">
              <a:solidFill>
                <a:srgbClr val="ffffff"/>
              </a:solidFill>
              <a:miter/>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3" name="Rectangle 11"/>
            <p:cNvSpPr/>
            <p:nvPr/>
          </p:nvSpPr>
          <p:spPr>
            <a:xfrm>
              <a:off x="5893200" y="3154680"/>
              <a:ext cx="959400" cy="68040"/>
            </a:xfrm>
            <a:prstGeom prst="rect">
              <a:avLst/>
            </a:prstGeom>
            <a:solidFill>
              <a:srgbClr val="00235a"/>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4" name="Rectangle 12"/>
            <p:cNvSpPr/>
            <p:nvPr/>
          </p:nvSpPr>
          <p:spPr>
            <a:xfrm>
              <a:off x="4797720" y="186552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sp>
          <p:nvSpPr>
            <p:cNvPr id="795" name="Rectangle 13"/>
            <p:cNvSpPr/>
            <p:nvPr/>
          </p:nvSpPr>
          <p:spPr>
            <a:xfrm>
              <a:off x="4896720" y="459684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333333"/>
                  </a:solidFill>
                  <a:latin typeface="VW Headline OT-Black"/>
                  <a:ea typeface="宋体"/>
                </a:rPr>
                <a:t>Text</a:t>
              </a:r>
              <a:endParaRPr b="0" lang="en-US" sz="1700" spc="-1" strike="noStrike">
                <a:solidFill>
                  <a:srgbClr val="333333"/>
                </a:solidFill>
                <a:latin typeface="VW Headline OT-Book"/>
              </a:endParaRPr>
            </a:p>
          </p:txBody>
        </p:sp>
        <p:sp>
          <p:nvSpPr>
            <p:cNvPr id="796" name="Rectangle 14"/>
            <p:cNvSpPr/>
            <p:nvPr/>
          </p:nvSpPr>
          <p:spPr>
            <a:xfrm>
              <a:off x="3499200" y="363276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grpSp>
      <p:sp>
        <p:nvSpPr>
          <p:cNvPr id="797" name="TextBox 16"/>
          <p:cNvSpPr/>
          <p:nvPr/>
        </p:nvSpPr>
        <p:spPr>
          <a:xfrm>
            <a:off x="1038600" y="947880"/>
            <a:ext cx="3353400" cy="4050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994a0"/>
                </a:solidFill>
                <a:uFillTx/>
                <a:latin typeface="VW Headline OT-Book"/>
                <a:ea typeface="VW Headline OT-Book"/>
                <a:hlinkClick r:id="rId1"/>
              </a:rPr>
              <a:t>www.51pptmoban.com</a:t>
            </a:r>
            <a:r>
              <a:rPr b="0" lang="en-US" sz="1800" spc="-1" strike="noStrike">
                <a:solidFill>
                  <a:srgbClr val="333333"/>
                </a:solidFill>
                <a:latin typeface="VW Headline OT-Book"/>
                <a:ea typeface="VW Headline OT-Book"/>
              </a:rPr>
              <a:t> </a:t>
            </a:r>
            <a:r>
              <a:rPr b="0" lang="zh-CN" sz="1800" spc="-1" strike="noStrike">
                <a:solidFill>
                  <a:srgbClr val="333333"/>
                </a:solidFill>
                <a:latin typeface="VW Headline OT-Book"/>
                <a:ea typeface="VW Headline OT-Book"/>
              </a:rPr>
              <a:t>搜集整理</a:t>
            </a:r>
            <a:endParaRPr b="0" lang="en-US" sz="1800" spc="-1" strike="noStrike">
              <a:solidFill>
                <a:srgbClr val="333333"/>
              </a:solidFill>
              <a:latin typeface="VW Headline OT-Book"/>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6C89-3681-43F2-B9CF-B82584437C55}"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79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7D4CBC9-7D1F-492A-8F5C-7C6AFEDC1BDE}"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0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Flow/process chart (variation)</a:t>
            </a:r>
            <a:endParaRPr b="0" lang="en-US" sz="2800" spc="-1" strike="noStrike">
              <a:solidFill>
                <a:srgbClr val="333333"/>
              </a:solidFill>
              <a:latin typeface="Arial"/>
            </a:endParaRPr>
          </a:p>
        </p:txBody>
      </p:sp>
      <p:sp>
        <p:nvSpPr>
          <p:cNvPr id="801" name="Rectangle 3"/>
          <p:cNvSpPr/>
          <p:nvPr/>
        </p:nvSpPr>
        <p:spPr>
          <a:xfrm>
            <a:off x="4839840" y="4548240"/>
            <a:ext cx="444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02" name="Rectangle 4"/>
          <p:cNvSpPr/>
          <p:nvPr/>
        </p:nvSpPr>
        <p:spPr>
          <a:xfrm>
            <a:off x="3493440" y="3827520"/>
            <a:ext cx="444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03" name="Rectangle 5"/>
          <p:cNvSpPr/>
          <p:nvPr/>
        </p:nvSpPr>
        <p:spPr>
          <a:xfrm>
            <a:off x="4730760" y="1687680"/>
            <a:ext cx="4730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700" spc="-1" strike="noStrike">
                <a:solidFill>
                  <a:srgbClr val="ffffff"/>
                </a:solidFill>
                <a:latin typeface="VW Headline OT-Book"/>
                <a:ea typeface="宋体"/>
              </a:rPr>
              <a:t>Text</a:t>
            </a:r>
            <a:endParaRPr b="0" lang="en-US" sz="1700" spc="-1" strike="noStrike">
              <a:solidFill>
                <a:srgbClr val="333333"/>
              </a:solidFill>
              <a:latin typeface="VW Headline OT-Book"/>
            </a:endParaRPr>
          </a:p>
        </p:txBody>
      </p:sp>
      <p:sp>
        <p:nvSpPr>
          <p:cNvPr id="804" name="Rectangle 6"/>
          <p:cNvSpPr/>
          <p:nvPr/>
        </p:nvSpPr>
        <p:spPr>
          <a:xfrm>
            <a:off x="7335720" y="1496880"/>
            <a:ext cx="1619280" cy="21020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805" name="Rectangle 7"/>
          <p:cNvSpPr/>
          <p:nvPr/>
        </p:nvSpPr>
        <p:spPr>
          <a:xfrm>
            <a:off x="1019160" y="3592440"/>
            <a:ext cx="1619280" cy="20732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806" name="Rectangle 8"/>
          <p:cNvSpPr/>
          <p:nvPr/>
        </p:nvSpPr>
        <p:spPr>
          <a:xfrm>
            <a:off x="7334280" y="3592440"/>
            <a:ext cx="1619280" cy="205416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807" name="Rectangle 9"/>
          <p:cNvSpPr/>
          <p:nvPr/>
        </p:nvSpPr>
        <p:spPr>
          <a:xfrm>
            <a:off x="3601800" y="404964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sp>
        <p:nvSpPr>
          <p:cNvPr id="808" name="Rectangle 10"/>
          <p:cNvSpPr/>
          <p:nvPr/>
        </p:nvSpPr>
        <p:spPr>
          <a:xfrm>
            <a:off x="4984920" y="4735440"/>
            <a:ext cx="399960" cy="266760"/>
          </a:xfrm>
          <a:prstGeom prst="rect">
            <a:avLst/>
          </a:prstGeom>
          <a:noFill/>
          <a:ln w="0">
            <a:noFill/>
          </a:ln>
        </p:spPr>
        <p:style>
          <a:lnRef idx="0"/>
          <a:fillRef idx="0"/>
          <a:effectRef idx="0"/>
          <a:fontRef idx="minor"/>
        </p:style>
        <p:txBody>
          <a:bodyPr wrap="none" lIns="0" rIns="0" tIns="0" bIns="0" anchor="t">
            <a:no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grpSp>
        <p:nvGrpSpPr>
          <p:cNvPr id="809" name="组合 49164"/>
          <p:cNvGrpSpPr/>
          <p:nvPr/>
        </p:nvGrpSpPr>
        <p:grpSpPr>
          <a:xfrm>
            <a:off x="1960560" y="1482840"/>
            <a:ext cx="5524560" cy="3768120"/>
            <a:chOff x="1960560" y="1482840"/>
            <a:chExt cx="5524560" cy="3768120"/>
          </a:xfrm>
        </p:grpSpPr>
        <p:sp>
          <p:nvSpPr>
            <p:cNvPr id="810" name="AutoShape 12"/>
            <p:cNvSpPr/>
            <p:nvPr/>
          </p:nvSpPr>
          <p:spPr>
            <a:xfrm>
              <a:off x="3159000" y="1498320"/>
              <a:ext cx="3864240" cy="3677760"/>
            </a:xfrm>
            <a:custGeom>
              <a:avLst/>
              <a:gdLst/>
              <a:ahLst/>
              <a:rect l="l" t="t" r="r" b="b"/>
              <a:pathLst>
                <a:path w="21600" h="108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235a"/>
            </a:solidFill>
            <a:ln w="38160">
              <a:solidFill>
                <a:srgbClr val="00235a"/>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1" name="Rectangle 13"/>
            <p:cNvSpPr/>
            <p:nvPr/>
          </p:nvSpPr>
          <p:spPr>
            <a:xfrm>
              <a:off x="4897080" y="4554360"/>
              <a:ext cx="444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12" name="Rectangle 14"/>
            <p:cNvSpPr/>
            <p:nvPr/>
          </p:nvSpPr>
          <p:spPr>
            <a:xfrm>
              <a:off x="3550680" y="3846240"/>
              <a:ext cx="444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13" name="Rectangle 15"/>
            <p:cNvSpPr/>
            <p:nvPr/>
          </p:nvSpPr>
          <p:spPr>
            <a:xfrm>
              <a:off x="2698920" y="2435040"/>
              <a:ext cx="2366640" cy="1025280"/>
            </a:xfrm>
            <a:prstGeom prst="rect">
              <a:avLst/>
            </a:prstGeom>
            <a:solidFill>
              <a:srgbClr val="ffffff"/>
            </a:solidFill>
            <a:ln w="0">
              <a:noFill/>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4" name="AutoShape 16"/>
            <p:cNvSpPr/>
            <p:nvPr/>
          </p:nvSpPr>
          <p:spPr>
            <a:xfrm rot="10800000">
              <a:off x="3105000" y="1552320"/>
              <a:ext cx="4106880" cy="3698640"/>
            </a:xfrm>
            <a:custGeom>
              <a:avLst/>
              <a:gdLst/>
              <a:ahLst/>
              <a:rect l="l" t="t" r="r" b="b"/>
              <a:pathLst>
                <a:path w="24300" h="16200">
                  <a:moveTo>
                    <a:pt x="16200" y="10800"/>
                  </a:moveTo>
                  <a:cubicBezTo>
                    <a:pt x="16200" y="7823"/>
                    <a:pt x="13791" y="5408"/>
                    <a:pt x="10815" y="5400"/>
                  </a:cubicBezTo>
                  <a:lnTo>
                    <a:pt x="10830" y="0"/>
                  </a:lnTo>
                  <a:cubicBezTo>
                    <a:pt x="16783" y="16"/>
                    <a:pt x="21599" y="4847"/>
                    <a:pt x="21600" y="10799"/>
                  </a:cubicBezTo>
                  <a:lnTo>
                    <a:pt x="21600" y="10800"/>
                  </a:lnTo>
                  <a:lnTo>
                    <a:pt x="24300" y="10800"/>
                  </a:lnTo>
                  <a:lnTo>
                    <a:pt x="18900" y="16200"/>
                  </a:lnTo>
                  <a:lnTo>
                    <a:pt x="13500" y="10800"/>
                  </a:lnTo>
                  <a:lnTo>
                    <a:pt x="16200" y="10800"/>
                  </a:lnTo>
                  <a:close/>
                </a:path>
              </a:pathLst>
            </a:custGeom>
            <a:solidFill>
              <a:srgbClr val="8994a0"/>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5" name="AutoShape 17"/>
            <p:cNvSpPr/>
            <p:nvPr/>
          </p:nvSpPr>
          <p:spPr>
            <a:xfrm rot="5400000">
              <a:off x="3152880" y="1308960"/>
              <a:ext cx="3698280" cy="4105440"/>
            </a:xfrm>
            <a:custGeom>
              <a:avLst/>
              <a:gdLst/>
              <a:ahLst/>
              <a:rect l="l" t="t" r="r" b="b"/>
              <a:pathLst>
                <a:path w="24300" h="16200">
                  <a:moveTo>
                    <a:pt x="16200" y="10800"/>
                  </a:moveTo>
                  <a:cubicBezTo>
                    <a:pt x="16200" y="7823"/>
                    <a:pt x="13791" y="5408"/>
                    <a:pt x="10815" y="5400"/>
                  </a:cubicBezTo>
                  <a:lnTo>
                    <a:pt x="10830" y="0"/>
                  </a:lnTo>
                  <a:cubicBezTo>
                    <a:pt x="16783" y="16"/>
                    <a:pt x="21599" y="4847"/>
                    <a:pt x="21600" y="10799"/>
                  </a:cubicBezTo>
                  <a:lnTo>
                    <a:pt x="21600" y="10800"/>
                  </a:lnTo>
                  <a:lnTo>
                    <a:pt x="24300" y="10800"/>
                  </a:lnTo>
                  <a:lnTo>
                    <a:pt x="18900" y="16200"/>
                  </a:lnTo>
                  <a:lnTo>
                    <a:pt x="13500" y="10800"/>
                  </a:lnTo>
                  <a:lnTo>
                    <a:pt x="16200" y="10800"/>
                  </a:lnTo>
                  <a:close/>
                </a:path>
              </a:pathLst>
            </a:custGeom>
            <a:solidFill>
              <a:srgbClr val="aed4f8"/>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6" name="AutoShape 18"/>
            <p:cNvSpPr/>
            <p:nvPr/>
          </p:nvSpPr>
          <p:spPr>
            <a:xfrm rot="10800000">
              <a:off x="5516640" y="3174840"/>
              <a:ext cx="1968480" cy="888480"/>
            </a:xfrm>
            <a:prstGeom prst="triangle">
              <a:avLst>
                <a:gd name="adj" fmla="val 50000"/>
              </a:avLst>
            </a:prstGeom>
            <a:solidFill>
              <a:srgbClr val="00235a"/>
            </a:solidFill>
            <a:ln w="38160">
              <a:solidFill>
                <a:srgbClr val="ffffff"/>
              </a:solidFill>
              <a:miter/>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7" name="Rectangle 19"/>
            <p:cNvSpPr/>
            <p:nvPr/>
          </p:nvSpPr>
          <p:spPr>
            <a:xfrm>
              <a:off x="1960560" y="1482840"/>
              <a:ext cx="3121200" cy="960120"/>
            </a:xfrm>
            <a:prstGeom prst="rect">
              <a:avLst/>
            </a:prstGeom>
            <a:solidFill>
              <a:srgbClr val="00235a"/>
            </a:solidFill>
            <a:ln w="0">
              <a:noFill/>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8" name="Rectangle 20"/>
            <p:cNvSpPr/>
            <p:nvPr/>
          </p:nvSpPr>
          <p:spPr>
            <a:xfrm>
              <a:off x="6016680" y="3152520"/>
              <a:ext cx="1009440" cy="68040"/>
            </a:xfrm>
            <a:prstGeom prst="rect">
              <a:avLst/>
            </a:prstGeom>
            <a:solidFill>
              <a:srgbClr val="00235a"/>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9" name="Rectangle 21"/>
            <p:cNvSpPr/>
            <p:nvPr/>
          </p:nvSpPr>
          <p:spPr>
            <a:xfrm>
              <a:off x="3477960" y="371916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sp>
          <p:nvSpPr>
            <p:cNvPr id="820" name="Rectangle 22"/>
            <p:cNvSpPr/>
            <p:nvPr/>
          </p:nvSpPr>
          <p:spPr>
            <a:xfrm>
              <a:off x="5003640" y="4605120"/>
              <a:ext cx="400320" cy="261720"/>
            </a:xfrm>
            <a:prstGeom prst="rect">
              <a:avLst/>
            </a:prstGeom>
            <a:noFill/>
            <a:ln w="0">
              <a:noFill/>
            </a:ln>
          </p:spPr>
          <p:style>
            <a:lnRef idx="0"/>
            <a:fillRef idx="0"/>
            <a:effectRef idx="0"/>
            <a:fontRef idx="minor"/>
          </p:style>
          <p:txBody>
            <a:bodyPr wrap="none" lIns="0" rIns="0" tIns="0" bIns="0" anchor="t">
              <a:no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sp>
          <p:nvSpPr>
            <p:cNvPr id="821" name="Rectangle 23"/>
            <p:cNvSpPr/>
            <p:nvPr/>
          </p:nvSpPr>
          <p:spPr>
            <a:xfrm>
              <a:off x="3789360" y="180936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D731-DF3B-420C-978C-879127189B66}"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823"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5F0C7BA-668B-45D3-AF68-CA652C0C3854}"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2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Flow</a:t>
            </a:r>
            <a:endParaRPr b="0" lang="en-US" sz="2800" spc="-1" strike="noStrike">
              <a:solidFill>
                <a:srgbClr val="333333"/>
              </a:solidFill>
              <a:latin typeface="Arial"/>
            </a:endParaRPr>
          </a:p>
        </p:txBody>
      </p:sp>
      <p:grpSp>
        <p:nvGrpSpPr>
          <p:cNvPr id="825" name="组合 50180"/>
          <p:cNvGrpSpPr/>
          <p:nvPr/>
        </p:nvGrpSpPr>
        <p:grpSpPr>
          <a:xfrm>
            <a:off x="1019160" y="1482840"/>
            <a:ext cx="8083080" cy="4214160"/>
            <a:chOff x="1019160" y="1482840"/>
            <a:chExt cx="8083080" cy="4214160"/>
          </a:xfrm>
        </p:grpSpPr>
        <p:sp>
          <p:nvSpPr>
            <p:cNvPr id="826" name="AutoShape 4"/>
            <p:cNvSpPr/>
            <p:nvPr/>
          </p:nvSpPr>
          <p:spPr>
            <a:xfrm>
              <a:off x="1019160" y="1488960"/>
              <a:ext cx="8083080" cy="42080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27" name="Freeform 5"/>
            <p:cNvSpPr/>
            <p:nvPr/>
          </p:nvSpPr>
          <p:spPr>
            <a:xfrm>
              <a:off x="2868120" y="1482840"/>
              <a:ext cx="2408040" cy="4208400"/>
            </a:xfrm>
            <a:custGeom>
              <a:avLst/>
              <a:gdLst/>
              <a:ahLst/>
              <a:rect l="l" t="t" r="r" b="b"/>
              <a:pathLst>
                <a:path w="3703" h="4794">
                  <a:moveTo>
                    <a:pt x="3703" y="2391"/>
                  </a:moveTo>
                  <a:lnTo>
                    <a:pt x="2750" y="4794"/>
                  </a:lnTo>
                  <a:lnTo>
                    <a:pt x="0" y="4794"/>
                  </a:lnTo>
                  <a:lnTo>
                    <a:pt x="957" y="2391"/>
                  </a:lnTo>
                  <a:lnTo>
                    <a:pt x="0" y="0"/>
                  </a:lnTo>
                  <a:lnTo>
                    <a:pt x="2750" y="0"/>
                  </a:lnTo>
                  <a:lnTo>
                    <a:pt x="3703" y="2391"/>
                  </a:lnTo>
                  <a:close/>
                </a:path>
              </a:pathLst>
            </a:custGeom>
            <a:solidFill>
              <a:srgbClr val="aed4f8"/>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28" name="Freeform 6"/>
            <p:cNvSpPr/>
            <p:nvPr/>
          </p:nvSpPr>
          <p:spPr>
            <a:xfrm>
              <a:off x="4707720" y="1482840"/>
              <a:ext cx="2408040" cy="4208400"/>
            </a:xfrm>
            <a:custGeom>
              <a:avLst/>
              <a:gdLst/>
              <a:ahLst/>
              <a:rect l="l" t="t" r="r" b="b"/>
              <a:pathLst>
                <a:path w="3703" h="4794">
                  <a:moveTo>
                    <a:pt x="3703" y="2391"/>
                  </a:moveTo>
                  <a:lnTo>
                    <a:pt x="2745" y="4794"/>
                  </a:lnTo>
                  <a:lnTo>
                    <a:pt x="0" y="4794"/>
                  </a:lnTo>
                  <a:lnTo>
                    <a:pt x="952" y="2391"/>
                  </a:lnTo>
                  <a:lnTo>
                    <a:pt x="0" y="0"/>
                  </a:lnTo>
                  <a:lnTo>
                    <a:pt x="2745" y="0"/>
                  </a:lnTo>
                  <a:lnTo>
                    <a:pt x="3703" y="2391"/>
                  </a:lnTo>
                  <a:close/>
                </a:path>
              </a:pathLst>
            </a:custGeom>
            <a:solidFill>
              <a:srgbClr val="8994a0"/>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29" name="Freeform 7"/>
            <p:cNvSpPr/>
            <p:nvPr/>
          </p:nvSpPr>
          <p:spPr>
            <a:xfrm>
              <a:off x="1020600" y="1482840"/>
              <a:ext cx="2408040" cy="4208400"/>
            </a:xfrm>
            <a:custGeom>
              <a:avLst/>
              <a:gdLst/>
              <a:ahLst/>
              <a:rect l="l" t="t" r="r" b="b"/>
              <a:pathLst>
                <a:path w="3703" h="4794">
                  <a:moveTo>
                    <a:pt x="3703" y="2391"/>
                  </a:moveTo>
                  <a:lnTo>
                    <a:pt x="2745" y="4794"/>
                  </a:lnTo>
                  <a:lnTo>
                    <a:pt x="0" y="4794"/>
                  </a:lnTo>
                  <a:lnTo>
                    <a:pt x="958" y="2391"/>
                  </a:lnTo>
                  <a:lnTo>
                    <a:pt x="0" y="0"/>
                  </a:lnTo>
                  <a:lnTo>
                    <a:pt x="2745" y="0"/>
                  </a:lnTo>
                  <a:lnTo>
                    <a:pt x="3703" y="2391"/>
                  </a:lnTo>
                  <a:close/>
                </a:path>
              </a:pathLst>
            </a:custGeom>
            <a:solidFill>
              <a:srgbClr val="00235a"/>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30" name="Text Box 8"/>
            <p:cNvSpPr/>
            <p:nvPr/>
          </p:nvSpPr>
          <p:spPr>
            <a:xfrm>
              <a:off x="1630440" y="1509120"/>
              <a:ext cx="1150920" cy="41551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800" spc="-1" strike="noStrike">
                  <a:solidFill>
                    <a:srgbClr val="ffffff"/>
                  </a:solidFill>
                  <a:latin typeface="VW Headline OT-Black"/>
                  <a:ea typeface="宋体"/>
                </a:rPr>
                <a:t>Text</a:t>
              </a:r>
              <a:endParaRPr b="0" lang="en-US" sz="1800" spc="-1" strike="noStrike">
                <a:solidFill>
                  <a:srgbClr val="333333"/>
                </a:solidFill>
                <a:latin typeface="VW Headline OT-Book"/>
              </a:endParaRPr>
            </a:p>
          </p:txBody>
        </p:sp>
        <p:sp>
          <p:nvSpPr>
            <p:cNvPr id="831" name="Text Box 9"/>
            <p:cNvSpPr/>
            <p:nvPr/>
          </p:nvSpPr>
          <p:spPr>
            <a:xfrm>
              <a:off x="3498840" y="1493640"/>
              <a:ext cx="1140120" cy="41533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800" spc="-1" strike="noStrike">
                  <a:solidFill>
                    <a:srgbClr val="333333"/>
                  </a:solidFill>
                  <a:latin typeface="VW Headline OT-Black"/>
                  <a:ea typeface="宋体"/>
                </a:rPr>
                <a:t>Text</a:t>
              </a:r>
              <a:endParaRPr b="0" lang="en-US" sz="1800" spc="-1" strike="noStrike">
                <a:solidFill>
                  <a:srgbClr val="333333"/>
                </a:solidFill>
                <a:latin typeface="VW Headline OT-Book"/>
              </a:endParaRPr>
            </a:p>
          </p:txBody>
        </p:sp>
        <p:sp>
          <p:nvSpPr>
            <p:cNvPr id="832" name="Text Box 10"/>
            <p:cNvSpPr/>
            <p:nvPr/>
          </p:nvSpPr>
          <p:spPr>
            <a:xfrm>
              <a:off x="5319360" y="1493640"/>
              <a:ext cx="1155960" cy="41533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800" spc="-1" strike="noStrike">
                  <a:solidFill>
                    <a:srgbClr val="ffffff"/>
                  </a:solidFill>
                  <a:latin typeface="VW Headline OT-Black"/>
                  <a:ea typeface="宋体"/>
                </a:rPr>
                <a:t>Text</a:t>
              </a:r>
              <a:endParaRPr b="0" lang="en-US" sz="1800" spc="-1" strike="noStrike">
                <a:solidFill>
                  <a:srgbClr val="333333"/>
                </a:solidFill>
                <a:latin typeface="VW Headline OT-Book"/>
              </a:endParaRPr>
            </a:p>
          </p:txBody>
        </p:sp>
        <p:sp>
          <p:nvSpPr>
            <p:cNvPr id="833" name="Freeform 11"/>
            <p:cNvSpPr/>
            <p:nvPr/>
          </p:nvSpPr>
          <p:spPr>
            <a:xfrm>
              <a:off x="6555600" y="1482840"/>
              <a:ext cx="2407680" cy="4208400"/>
            </a:xfrm>
            <a:custGeom>
              <a:avLst/>
              <a:gdLst/>
              <a:ahLst/>
              <a:rect l="l" t="t" r="r" b="b"/>
              <a:pathLst>
                <a:path w="3703" h="4794">
                  <a:moveTo>
                    <a:pt x="3703" y="2391"/>
                  </a:moveTo>
                  <a:lnTo>
                    <a:pt x="2745" y="4794"/>
                  </a:lnTo>
                  <a:lnTo>
                    <a:pt x="0" y="4794"/>
                  </a:lnTo>
                  <a:lnTo>
                    <a:pt x="952" y="2391"/>
                  </a:lnTo>
                  <a:lnTo>
                    <a:pt x="0" y="0"/>
                  </a:lnTo>
                  <a:lnTo>
                    <a:pt x="2745" y="0"/>
                  </a:lnTo>
                  <a:lnTo>
                    <a:pt x="3703" y="2391"/>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34" name="Text Box 12"/>
            <p:cNvSpPr/>
            <p:nvPr/>
          </p:nvSpPr>
          <p:spPr>
            <a:xfrm>
              <a:off x="7156080" y="1493640"/>
              <a:ext cx="1155600" cy="41533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800" spc="-1" strike="noStrike">
                  <a:solidFill>
                    <a:srgbClr val="333333"/>
                  </a:solidFill>
                  <a:latin typeface="VW Headline OT-Black"/>
                  <a:ea typeface="宋体"/>
                </a:rPr>
                <a:t>Text</a:t>
              </a:r>
              <a:endParaRPr b="0" lang="en-US" sz="1800" spc="-1" strike="noStrike">
                <a:solidFill>
                  <a:srgbClr val="333333"/>
                </a:solidFill>
                <a:latin typeface="VW Headline OT-Book"/>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CC07-6DC4-4B46-8B6D-8593B162205B}"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836"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303FAD55-E76C-483B-A62A-B432DA3AB8D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3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re segments</a:t>
            </a:r>
            <a:endParaRPr b="0" lang="en-US" sz="2800" spc="-1" strike="noStrike">
              <a:solidFill>
                <a:srgbClr val="333333"/>
              </a:solidFill>
              <a:latin typeface="Arial"/>
            </a:endParaRPr>
          </a:p>
        </p:txBody>
      </p:sp>
      <p:grpSp>
        <p:nvGrpSpPr>
          <p:cNvPr id="838" name="组合 51204"/>
          <p:cNvGrpSpPr/>
          <p:nvPr/>
        </p:nvGrpSpPr>
        <p:grpSpPr>
          <a:xfrm>
            <a:off x="1023840" y="1487520"/>
            <a:ext cx="7943760" cy="4191120"/>
            <a:chOff x="1023840" y="1487520"/>
            <a:chExt cx="7943760" cy="4191120"/>
          </a:xfrm>
        </p:grpSpPr>
        <p:grpSp>
          <p:nvGrpSpPr>
            <p:cNvPr id="839" name=""/>
            <p:cNvGrpSpPr/>
            <p:nvPr/>
          </p:nvGrpSpPr>
          <p:grpSpPr>
            <a:xfrm>
              <a:off x="1181160" y="3576600"/>
              <a:ext cx="7761240" cy="360"/>
              <a:chOff x="1181160" y="3576600"/>
              <a:chExt cx="7761240" cy="360"/>
            </a:xfrm>
          </p:grpSpPr>
          <p:sp>
            <p:nvSpPr>
              <p:cNvPr id="840" name="Line 4"/>
              <p:cNvSpPr/>
              <p:nvPr/>
            </p:nvSpPr>
            <p:spPr>
              <a:xfrm>
                <a:off x="1181160" y="3576600"/>
                <a:ext cx="77612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841" name=""/>
              <p:cNvSpPr txBox="1"/>
              <p:nvPr/>
            </p:nvSpPr>
            <p:spPr>
              <a:xfrm>
                <a:off x="1181160" y="3576600"/>
                <a:ext cx="77612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842" name="Oval 5"/>
            <p:cNvSpPr/>
            <p:nvPr/>
          </p:nvSpPr>
          <p:spPr>
            <a:xfrm>
              <a:off x="1023840" y="1487520"/>
              <a:ext cx="7943760" cy="4191120"/>
            </a:xfrm>
            <a:prstGeom prst="ellipse">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nvGrpSpPr>
            <p:cNvPr id="843" name=""/>
            <p:cNvGrpSpPr/>
            <p:nvPr/>
          </p:nvGrpSpPr>
          <p:grpSpPr>
            <a:xfrm>
              <a:off x="5060880" y="1496520"/>
              <a:ext cx="12600" cy="2059560"/>
              <a:chOff x="5060880" y="1496520"/>
              <a:chExt cx="12600" cy="2059560"/>
            </a:xfrm>
          </p:grpSpPr>
          <p:sp>
            <p:nvSpPr>
              <p:cNvPr id="844" name="Line 6"/>
              <p:cNvSpPr/>
              <p:nvPr/>
            </p:nvSpPr>
            <p:spPr>
              <a:xfrm>
                <a:off x="5060880" y="1496520"/>
                <a:ext cx="12600" cy="20595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845" name=""/>
              <p:cNvSpPr txBox="1"/>
              <p:nvPr/>
            </p:nvSpPr>
            <p:spPr>
              <a:xfrm>
                <a:off x="5060880" y="1496520"/>
                <a:ext cx="12600" cy="2059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846" name="Freeform 7"/>
            <p:cNvSpPr/>
            <p:nvPr/>
          </p:nvSpPr>
          <p:spPr>
            <a:xfrm>
              <a:off x="1350720" y="3583080"/>
              <a:ext cx="7224840" cy="953640"/>
            </a:xfrm>
            <a:custGeom>
              <a:avLst/>
              <a:gdLst/>
              <a:ahLst/>
              <a:rect l="l" t="t" r="r" b="b"/>
              <a:pathLst>
                <a:path w="5001" h="768">
                  <a:moveTo>
                    <a:pt x="0" y="749"/>
                  </a:moveTo>
                  <a:lnTo>
                    <a:pt x="2560" y="0"/>
                  </a:lnTo>
                  <a:lnTo>
                    <a:pt x="5001" y="768"/>
                  </a:lnTo>
                </a:path>
              </a:pathLst>
            </a:custGeom>
            <a:no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47" name="Oval 8"/>
            <p:cNvSpPr/>
            <p:nvPr/>
          </p:nvSpPr>
          <p:spPr>
            <a:xfrm>
              <a:off x="3138480" y="2893680"/>
              <a:ext cx="3698640" cy="1330560"/>
            </a:xfrm>
            <a:prstGeom prst="ellipse">
              <a:avLst/>
            </a:prstGeom>
            <a:solidFill>
              <a:srgbClr val="00235a"/>
            </a:solidFill>
            <a:ln w="38160">
              <a:solidFill>
                <a:srgbClr val="ffffff"/>
              </a:solidFill>
              <a:round/>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lack"/>
                  <a:ea typeface="宋体"/>
                </a:rPr>
                <a:t>Text</a:t>
              </a:r>
              <a:endParaRPr b="0" lang="en-US" sz="1600" spc="-1" strike="noStrike">
                <a:solidFill>
                  <a:srgbClr val="333333"/>
                </a:solidFill>
                <a:latin typeface="VW Headline OT-Book"/>
              </a:endParaRPr>
            </a:p>
          </p:txBody>
        </p:sp>
        <p:sp>
          <p:nvSpPr>
            <p:cNvPr id="848" name="Rectangle 9"/>
            <p:cNvSpPr/>
            <p:nvPr/>
          </p:nvSpPr>
          <p:spPr>
            <a:xfrm>
              <a:off x="2395440" y="2505960"/>
              <a:ext cx="1941480" cy="315720"/>
            </a:xfrm>
            <a:prstGeom prst="rect">
              <a:avLst/>
            </a:prstGeom>
            <a:noFill/>
            <a:ln w="0">
              <a:noFill/>
            </a:ln>
          </p:spPr>
          <p:style>
            <a:lnRef idx="0"/>
            <a:fillRef idx="0"/>
            <a:effectRef idx="0"/>
            <a:fontRef idx="minor"/>
          </p:style>
          <p:txBody>
            <a:bodyPr lIns="36000" rIns="36000" tIns="36000" bIns="36000" anchor="t">
              <a:spAutoFit/>
            </a:bodyPr>
            <a:p>
              <a:pPr marL="380880" indent="-380880" algn="ctr">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Part A</a:t>
              </a:r>
              <a:endParaRPr b="0" lang="en-US" sz="1600" spc="-1" strike="noStrike">
                <a:solidFill>
                  <a:srgbClr val="333333"/>
                </a:solidFill>
                <a:latin typeface="VW Headline OT-Book"/>
              </a:endParaRPr>
            </a:p>
          </p:txBody>
        </p:sp>
        <p:sp>
          <p:nvSpPr>
            <p:cNvPr id="849" name="Rectangle 10"/>
            <p:cNvSpPr/>
            <p:nvPr/>
          </p:nvSpPr>
          <p:spPr>
            <a:xfrm>
              <a:off x="4083120" y="4574520"/>
              <a:ext cx="1941480" cy="315720"/>
            </a:xfrm>
            <a:prstGeom prst="rect">
              <a:avLst/>
            </a:prstGeom>
            <a:noFill/>
            <a:ln w="0">
              <a:noFill/>
            </a:ln>
          </p:spPr>
          <p:style>
            <a:lnRef idx="0"/>
            <a:fillRef idx="0"/>
            <a:effectRef idx="0"/>
            <a:fontRef idx="minor"/>
          </p:style>
          <p:txBody>
            <a:bodyPr lIns="36000" rIns="36000" tIns="36000" bIns="36000" anchor="t">
              <a:spAutoFit/>
            </a:bodyPr>
            <a:p>
              <a:pPr marL="380880" indent="-380880" algn="ctr">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Part C</a:t>
              </a:r>
              <a:endParaRPr b="0" lang="en-US" sz="1600" spc="-1" strike="noStrike">
                <a:solidFill>
                  <a:srgbClr val="333333"/>
                </a:solidFill>
                <a:latin typeface="VW Headline OT-Book"/>
              </a:endParaRPr>
            </a:p>
          </p:txBody>
        </p:sp>
        <p:sp>
          <p:nvSpPr>
            <p:cNvPr id="850" name="Rectangle 11"/>
            <p:cNvSpPr/>
            <p:nvPr/>
          </p:nvSpPr>
          <p:spPr>
            <a:xfrm>
              <a:off x="5518080" y="2505960"/>
              <a:ext cx="1938240" cy="315720"/>
            </a:xfrm>
            <a:prstGeom prst="rect">
              <a:avLst/>
            </a:prstGeom>
            <a:noFill/>
            <a:ln w="0">
              <a:noFill/>
            </a:ln>
          </p:spPr>
          <p:style>
            <a:lnRef idx="0"/>
            <a:fillRef idx="0"/>
            <a:effectRef idx="0"/>
            <a:fontRef idx="minor"/>
          </p:style>
          <p:txBody>
            <a:bodyPr lIns="36000" rIns="36000" tIns="36000" bIns="36000" anchor="t">
              <a:spAutoFit/>
            </a:bodyPr>
            <a:p>
              <a:pPr marL="380880" indent="-380880" algn="ctr">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Part B</a:t>
              </a:r>
              <a:endParaRPr b="0" lang="en-US" sz="1600" spc="-1" strike="noStrike">
                <a:solidFill>
                  <a:srgbClr val="333333"/>
                </a:solidFill>
                <a:latin typeface="VW Headline OT-Book"/>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50D0-C102-4269-8641-9D997BBD8C7E}"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852"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CD48EA1-6FCD-4ADD-9DB7-6C2AE86CD4AE}"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5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re segments (variation)</a:t>
            </a:r>
            <a:endParaRPr b="0" lang="en-US" sz="2800" spc="-1" strike="noStrike">
              <a:solidFill>
                <a:srgbClr val="333333"/>
              </a:solidFill>
              <a:latin typeface="Arial"/>
            </a:endParaRPr>
          </a:p>
        </p:txBody>
      </p:sp>
      <p:graphicFrame>
        <p:nvGraphicFramePr>
          <p:cNvPr id="854" name=""/>
          <p:cNvGraphicFramePr/>
          <p:nvPr/>
        </p:nvGraphicFramePr>
        <p:xfrm>
          <a:off x="1019160" y="1482840"/>
          <a:ext cx="7953480" cy="4209840"/>
        </p:xfrm>
        <a:graphic>
          <a:graphicData uri="http://schemas.openxmlformats.org/drawingml/2006/table">
            <a:tbl>
              <a:tblPr/>
              <a:tblGrid>
                <a:gridCol w="3978360"/>
                <a:gridCol w="3975120"/>
              </a:tblGrid>
              <a:tr h="210456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rPr>
                        <a:t>Part A</a:t>
                      </a:r>
                      <a:endParaRPr b="0" lang="en-US" sz="16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bbc2c5"/>
                    </a:solidFill>
                  </a:tcPr>
                </a:tc>
                <a:tc>
                  <a: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rPr>
                        <a:t>Part B</a:t>
                      </a:r>
                      <a:endParaRPr b="0" lang="en-US" sz="1600" spc="-1" strike="noStrike">
                        <a:solidFill>
                          <a:srgbClr val="333333"/>
                        </a:solidFill>
                        <a:latin typeface="VW Headline OT-Book"/>
                      </a:endParaRPr>
                    </a:p>
                  </a:txBody>
                  <a:tcPr anchor="t" marL="90000" marR="90000">
                    <a:lnL w="18720">
                      <a:solidFill>
                        <a:srgbClr val="ffffff"/>
                      </a:solidFill>
                    </a:lnL>
                    <a:lnR>
                      <a:noFill/>
                    </a:lnR>
                    <a:lnT>
                      <a:noFill/>
                    </a:lnT>
                    <a:lnB w="18720">
                      <a:solidFill>
                        <a:srgbClr val="ffffff"/>
                      </a:solidFill>
                    </a:lnB>
                    <a:solidFill>
                      <a:srgbClr val="bbc2c5"/>
                    </a:solidFill>
                  </a:tcPr>
                </a:tc>
              </a:tr>
              <a:tr h="210528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rPr>
                        <a:t>Part C</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rPr>
                        <a:t>Part D</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
        <p:nvSpPr>
          <p:cNvPr id="855" name="Rectangle 14"/>
          <p:cNvSpPr/>
          <p:nvPr/>
        </p:nvSpPr>
        <p:spPr>
          <a:xfrm>
            <a:off x="3529080" y="2921040"/>
            <a:ext cx="2933640" cy="1278000"/>
          </a:xfrm>
          <a:prstGeom prst="rect">
            <a:avLst/>
          </a:prstGeom>
          <a:solidFill>
            <a:srgbClr val="00235a"/>
          </a:solidFill>
          <a:ln w="38160">
            <a:solidFill>
              <a:srgbClr val="ffffff"/>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lack"/>
                <a:ea typeface="宋体"/>
              </a:rPr>
              <a:t>Text</a:t>
            </a:r>
            <a:endParaRPr b="0" lang="en-US" sz="1600" spc="-1" strike="noStrike">
              <a:solidFill>
                <a:srgbClr val="333333"/>
              </a:solidFill>
              <a:latin typeface="VW Headline OT-Book"/>
            </a:endParaRPr>
          </a:p>
        </p:txBody>
      </p:sp>
      <p:sp>
        <p:nvSpPr>
          <p:cNvPr id="856" name="文本框 52236"/>
          <p:cNvSpPr/>
          <p:nvPr/>
        </p:nvSpPr>
        <p:spPr>
          <a:xfrm>
            <a:off x="1098720" y="112068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1"/>
              </a:rPr>
              <a:t>ppt</a:t>
            </a:r>
            <a:r>
              <a:rPr b="0" lang="zh-CN" sz="1600" spc="-1" strike="noStrike" u="sng">
                <a:solidFill>
                  <a:srgbClr val="8994a0"/>
                </a:solidFill>
                <a:uFillTx/>
                <a:latin typeface="VW Headline OT-Book"/>
                <a:ea typeface="VW Headline OT-Book"/>
                <a:hlinkClick r:id="rId2"/>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68C9-3EE0-4879-A0DB-39621C829BA5}"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858"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84056E55-A867-449F-BD75-AD7B8EFAAE6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5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re segments (variation)</a:t>
            </a:r>
            <a:endParaRPr b="0" lang="en-US" sz="2800" spc="-1" strike="noStrike">
              <a:solidFill>
                <a:srgbClr val="333333"/>
              </a:solidFill>
              <a:latin typeface="Arial"/>
            </a:endParaRPr>
          </a:p>
        </p:txBody>
      </p:sp>
      <p:graphicFrame>
        <p:nvGraphicFramePr>
          <p:cNvPr id="860" name=""/>
          <p:cNvGraphicFramePr/>
          <p:nvPr/>
        </p:nvGraphicFramePr>
        <p:xfrm>
          <a:off x="1019160" y="1482840"/>
          <a:ext cx="7953480" cy="4276440"/>
        </p:xfrm>
        <a:graphic>
          <a:graphicData uri="http://schemas.openxmlformats.org/drawingml/2006/table">
            <a:tbl>
              <a:tblPr/>
              <a:tblGrid>
                <a:gridCol w="3978360"/>
                <a:gridCol w="3975120"/>
              </a:tblGrid>
              <a:tr h="406080">
                <a:tc>
                  <a:txBody>
                    <a:bodyPr lIns="90000" rIns="90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00235a"/>
                    </a:solidFill>
                  </a:tcPr>
                </a:tc>
                <a:tc>
                  <a:txBody>
                    <a:bodyPr lIns="90000" rIns="90000" tIns="54000" bIns="54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a:noFill/>
                    </a:lnR>
                    <a:lnT>
                      <a:noFill/>
                    </a:lnT>
                    <a:lnB w="18720">
                      <a:solidFill>
                        <a:srgbClr val="ffffff"/>
                      </a:solidFill>
                    </a:lnB>
                    <a:solidFill>
                      <a:srgbClr val="00235a"/>
                    </a:solidFill>
                  </a:tcPr>
                </a:tc>
              </a:tr>
              <a:tr h="173340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bbc2c5"/>
                    </a:solidFill>
                  </a:tcPr>
                </a:tc>
                <a:tc>
                  <a: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bbc2c5"/>
                    </a:solidFill>
                  </a:tcPr>
                </a:tc>
              </a:tr>
              <a:tr h="406440">
                <a:tc>
                  <a:txBody>
                    <a:bodyPr lIns="90000" rIns="90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00235a"/>
                    </a:solidFill>
                  </a:tcPr>
                </a:tc>
                <a:tc>
                  <a:txBody>
                    <a:bodyPr lIns="90000" rIns="90000" tIns="54000" bIns="54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00235a"/>
                    </a:solidFill>
                  </a:tcPr>
                </a:tc>
              </a:tr>
              <a:tr h="173052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
        <p:nvSpPr>
          <p:cNvPr id="861" name="Rectangle 20"/>
          <p:cNvSpPr/>
          <p:nvPr/>
        </p:nvSpPr>
        <p:spPr>
          <a:xfrm>
            <a:off x="3519360" y="2938320"/>
            <a:ext cx="2857680" cy="1189080"/>
          </a:xfrm>
          <a:prstGeom prst="rect">
            <a:avLst/>
          </a:prstGeom>
          <a:solidFill>
            <a:srgbClr val="00235a"/>
          </a:solidFill>
          <a:ln w="38160">
            <a:solidFill>
              <a:srgbClr val="ffffff"/>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lack"/>
                <a:ea typeface="宋体"/>
              </a:rPr>
              <a:t>Text</a:t>
            </a:r>
            <a:endParaRPr b="0" lang="en-US" sz="1600" spc="-1" strike="noStrike">
              <a:solidFill>
                <a:srgbClr val="333333"/>
              </a:solidFill>
              <a:latin typeface="VW Headline OT-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F781-9335-487F-BABF-882F396A5C82}"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13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DA8DD618-3EAB-4422-A8B4-D9DAA77C6FEF}"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4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3. grid</a:t>
            </a:r>
            <a:endParaRPr b="0" lang="en-US" sz="2800" spc="-1" strike="noStrike">
              <a:solidFill>
                <a:srgbClr val="333333"/>
              </a:solidFill>
              <a:latin typeface="Arial"/>
            </a:endParaRPr>
          </a:p>
        </p:txBody>
      </p:sp>
      <p:grpSp>
        <p:nvGrpSpPr>
          <p:cNvPr id="141" name="组合 8196"/>
          <p:cNvGrpSpPr/>
          <p:nvPr/>
        </p:nvGrpSpPr>
        <p:grpSpPr>
          <a:xfrm>
            <a:off x="-1440" y="-7920"/>
            <a:ext cx="9911880" cy="6865560"/>
            <a:chOff x="-1440" y="-7920"/>
            <a:chExt cx="9911880" cy="6865560"/>
          </a:xfrm>
        </p:grpSpPr>
        <p:grpSp>
          <p:nvGrpSpPr>
            <p:cNvPr id="142" name="组合 8197"/>
            <p:cNvGrpSpPr/>
            <p:nvPr/>
          </p:nvGrpSpPr>
          <p:grpSpPr>
            <a:xfrm>
              <a:off x="8974080" y="5689800"/>
              <a:ext cx="468000" cy="468000"/>
              <a:chOff x="8974080" y="5689800"/>
              <a:chExt cx="468000" cy="468000"/>
            </a:xfrm>
          </p:grpSpPr>
          <p:grpSp>
            <p:nvGrpSpPr>
              <p:cNvPr id="143" name=""/>
              <p:cNvGrpSpPr/>
              <p:nvPr/>
            </p:nvGrpSpPr>
            <p:grpSpPr>
              <a:xfrm>
                <a:off x="8974080" y="5689800"/>
                <a:ext cx="360" cy="468000"/>
                <a:chOff x="8974080" y="5689800"/>
                <a:chExt cx="360" cy="468000"/>
              </a:xfrm>
            </p:grpSpPr>
            <p:sp>
              <p:nvSpPr>
                <p:cNvPr id="144" name="Line 8"/>
                <p:cNvSpPr/>
                <p:nvPr/>
              </p:nvSpPr>
              <p:spPr>
                <a:xfrm>
                  <a:off x="897408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45" name=""/>
                <p:cNvSpPr txBox="1"/>
                <p:nvPr/>
              </p:nvSpPr>
              <p:spPr>
                <a:xfrm>
                  <a:off x="897408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46" name=""/>
              <p:cNvGrpSpPr/>
              <p:nvPr/>
            </p:nvGrpSpPr>
            <p:grpSpPr>
              <a:xfrm>
                <a:off x="9440280" y="5689800"/>
                <a:ext cx="360" cy="468000"/>
                <a:chOff x="9440280" y="5689800"/>
                <a:chExt cx="360" cy="468000"/>
              </a:xfrm>
            </p:grpSpPr>
            <p:sp>
              <p:nvSpPr>
                <p:cNvPr id="147" name="Line 9"/>
                <p:cNvSpPr/>
                <p:nvPr/>
              </p:nvSpPr>
              <p:spPr>
                <a:xfrm>
                  <a:off x="944028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48" name=""/>
                <p:cNvSpPr txBox="1"/>
                <p:nvPr/>
              </p:nvSpPr>
              <p:spPr>
                <a:xfrm>
                  <a:off x="944028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49" name=""/>
              <p:cNvGrpSpPr/>
              <p:nvPr/>
            </p:nvGrpSpPr>
            <p:grpSpPr>
              <a:xfrm>
                <a:off x="8974080" y="5689800"/>
                <a:ext cx="468000" cy="360"/>
                <a:chOff x="8974080" y="5689800"/>
                <a:chExt cx="468000" cy="360"/>
              </a:xfrm>
            </p:grpSpPr>
            <p:sp>
              <p:nvSpPr>
                <p:cNvPr id="150" name="Line 10"/>
                <p:cNvSpPr/>
                <p:nvPr/>
              </p:nvSpPr>
              <p:spPr>
                <a:xfrm>
                  <a:off x="8974080" y="56898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51" name=""/>
                <p:cNvSpPr txBox="1"/>
                <p:nvPr/>
              </p:nvSpPr>
              <p:spPr>
                <a:xfrm>
                  <a:off x="8974080" y="56898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52" name=""/>
              <p:cNvGrpSpPr/>
              <p:nvPr/>
            </p:nvGrpSpPr>
            <p:grpSpPr>
              <a:xfrm>
                <a:off x="8974080" y="6156000"/>
                <a:ext cx="468000" cy="360"/>
                <a:chOff x="8974080" y="6156000"/>
                <a:chExt cx="468000" cy="360"/>
              </a:xfrm>
            </p:grpSpPr>
            <p:sp>
              <p:nvSpPr>
                <p:cNvPr id="153" name="Line 11"/>
                <p:cNvSpPr/>
                <p:nvPr/>
              </p:nvSpPr>
              <p:spPr>
                <a:xfrm>
                  <a:off x="8974080" y="61560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54" name=""/>
                <p:cNvSpPr txBox="1"/>
                <p:nvPr/>
              </p:nvSpPr>
              <p:spPr>
                <a:xfrm>
                  <a:off x="8974080" y="61560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55" name=""/>
              <p:cNvGrpSpPr/>
              <p:nvPr/>
            </p:nvGrpSpPr>
            <p:grpSpPr>
              <a:xfrm>
                <a:off x="9207000" y="5689800"/>
                <a:ext cx="360" cy="468000"/>
                <a:chOff x="9207000" y="5689800"/>
                <a:chExt cx="360" cy="468000"/>
              </a:xfrm>
            </p:grpSpPr>
            <p:sp>
              <p:nvSpPr>
                <p:cNvPr id="156" name="Line 12"/>
                <p:cNvSpPr/>
                <p:nvPr/>
              </p:nvSpPr>
              <p:spPr>
                <a:xfrm>
                  <a:off x="920700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57" name=""/>
                <p:cNvSpPr txBox="1"/>
                <p:nvPr/>
              </p:nvSpPr>
              <p:spPr>
                <a:xfrm>
                  <a:off x="920700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58" name=""/>
              <p:cNvGrpSpPr/>
              <p:nvPr/>
            </p:nvGrpSpPr>
            <p:grpSpPr>
              <a:xfrm>
                <a:off x="8974080" y="5922720"/>
                <a:ext cx="468000" cy="360"/>
                <a:chOff x="8974080" y="5922720"/>
                <a:chExt cx="468000" cy="360"/>
              </a:xfrm>
            </p:grpSpPr>
            <p:sp>
              <p:nvSpPr>
                <p:cNvPr id="159" name="Line 13"/>
                <p:cNvSpPr/>
                <p:nvPr/>
              </p:nvSpPr>
              <p:spPr>
                <a:xfrm>
                  <a:off x="8974080" y="592272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60" name=""/>
                <p:cNvSpPr txBox="1"/>
                <p:nvPr/>
              </p:nvSpPr>
              <p:spPr>
                <a:xfrm>
                  <a:off x="8974080" y="592272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161" name="组合 8204"/>
            <p:cNvGrpSpPr/>
            <p:nvPr/>
          </p:nvGrpSpPr>
          <p:grpSpPr>
            <a:xfrm>
              <a:off x="1020600" y="1483920"/>
              <a:ext cx="7952040" cy="4209480"/>
              <a:chOff x="1020600" y="1483920"/>
              <a:chExt cx="7952040" cy="4209480"/>
            </a:xfrm>
          </p:grpSpPr>
          <p:grpSp>
            <p:nvGrpSpPr>
              <p:cNvPr id="162" name=""/>
              <p:cNvGrpSpPr/>
              <p:nvPr/>
            </p:nvGrpSpPr>
            <p:grpSpPr>
              <a:xfrm>
                <a:off x="1020600" y="1483920"/>
                <a:ext cx="360" cy="4209120"/>
                <a:chOff x="1020600" y="1483920"/>
                <a:chExt cx="360" cy="4209120"/>
              </a:xfrm>
            </p:grpSpPr>
            <p:sp>
              <p:nvSpPr>
                <p:cNvPr id="163" name="Line 15"/>
                <p:cNvSpPr/>
                <p:nvPr/>
              </p:nvSpPr>
              <p:spPr>
                <a:xfrm>
                  <a:off x="10206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64" name=""/>
                <p:cNvSpPr txBox="1"/>
                <p:nvPr/>
              </p:nvSpPr>
              <p:spPr>
                <a:xfrm>
                  <a:off x="10206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65" name=""/>
              <p:cNvGrpSpPr/>
              <p:nvPr/>
            </p:nvGrpSpPr>
            <p:grpSpPr>
              <a:xfrm>
                <a:off x="1253520" y="1483920"/>
                <a:ext cx="360" cy="4209120"/>
                <a:chOff x="1253520" y="1483920"/>
                <a:chExt cx="360" cy="4209120"/>
              </a:xfrm>
            </p:grpSpPr>
            <p:sp>
              <p:nvSpPr>
                <p:cNvPr id="166" name="Line 16"/>
                <p:cNvSpPr/>
                <p:nvPr/>
              </p:nvSpPr>
              <p:spPr>
                <a:xfrm>
                  <a:off x="12535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67" name=""/>
                <p:cNvSpPr txBox="1"/>
                <p:nvPr/>
              </p:nvSpPr>
              <p:spPr>
                <a:xfrm>
                  <a:off x="12535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68" name=""/>
              <p:cNvGrpSpPr/>
              <p:nvPr/>
            </p:nvGrpSpPr>
            <p:grpSpPr>
              <a:xfrm>
                <a:off x="1488600" y="1483920"/>
                <a:ext cx="360" cy="4209120"/>
                <a:chOff x="1488600" y="1483920"/>
                <a:chExt cx="360" cy="4209120"/>
              </a:xfrm>
            </p:grpSpPr>
            <p:sp>
              <p:nvSpPr>
                <p:cNvPr id="169" name="Line 17"/>
                <p:cNvSpPr/>
                <p:nvPr/>
              </p:nvSpPr>
              <p:spPr>
                <a:xfrm>
                  <a:off x="14886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70" name=""/>
                <p:cNvSpPr txBox="1"/>
                <p:nvPr/>
              </p:nvSpPr>
              <p:spPr>
                <a:xfrm>
                  <a:off x="14886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71" name=""/>
              <p:cNvGrpSpPr/>
              <p:nvPr/>
            </p:nvGrpSpPr>
            <p:grpSpPr>
              <a:xfrm>
                <a:off x="1721880" y="1483920"/>
                <a:ext cx="360" cy="4209120"/>
                <a:chOff x="1721880" y="1483920"/>
                <a:chExt cx="360" cy="4209120"/>
              </a:xfrm>
            </p:grpSpPr>
            <p:sp>
              <p:nvSpPr>
                <p:cNvPr id="172" name="Line 18"/>
                <p:cNvSpPr/>
                <p:nvPr/>
              </p:nvSpPr>
              <p:spPr>
                <a:xfrm>
                  <a:off x="17218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73" name=""/>
                <p:cNvSpPr txBox="1"/>
                <p:nvPr/>
              </p:nvSpPr>
              <p:spPr>
                <a:xfrm>
                  <a:off x="17218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74" name=""/>
              <p:cNvGrpSpPr/>
              <p:nvPr/>
            </p:nvGrpSpPr>
            <p:grpSpPr>
              <a:xfrm>
                <a:off x="1955160" y="1483920"/>
                <a:ext cx="360" cy="4209120"/>
                <a:chOff x="1955160" y="1483920"/>
                <a:chExt cx="360" cy="4209120"/>
              </a:xfrm>
            </p:grpSpPr>
            <p:sp>
              <p:nvSpPr>
                <p:cNvPr id="175" name="Line 19"/>
                <p:cNvSpPr/>
                <p:nvPr/>
              </p:nvSpPr>
              <p:spPr>
                <a:xfrm>
                  <a:off x="195516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76" name=""/>
                <p:cNvSpPr txBox="1"/>
                <p:nvPr/>
              </p:nvSpPr>
              <p:spPr>
                <a:xfrm>
                  <a:off x="195516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77" name=""/>
              <p:cNvGrpSpPr/>
              <p:nvPr/>
            </p:nvGrpSpPr>
            <p:grpSpPr>
              <a:xfrm>
                <a:off x="2190240" y="1483920"/>
                <a:ext cx="360" cy="4209120"/>
                <a:chOff x="2190240" y="1483920"/>
                <a:chExt cx="360" cy="4209120"/>
              </a:xfrm>
            </p:grpSpPr>
            <p:sp>
              <p:nvSpPr>
                <p:cNvPr id="178" name="Line 20"/>
                <p:cNvSpPr/>
                <p:nvPr/>
              </p:nvSpPr>
              <p:spPr>
                <a:xfrm>
                  <a:off x="21902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79" name=""/>
                <p:cNvSpPr txBox="1"/>
                <p:nvPr/>
              </p:nvSpPr>
              <p:spPr>
                <a:xfrm>
                  <a:off x="21902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80" name=""/>
              <p:cNvGrpSpPr/>
              <p:nvPr/>
            </p:nvGrpSpPr>
            <p:grpSpPr>
              <a:xfrm>
                <a:off x="2423520" y="1483920"/>
                <a:ext cx="360" cy="4209120"/>
                <a:chOff x="2423520" y="1483920"/>
                <a:chExt cx="360" cy="4209120"/>
              </a:xfrm>
            </p:grpSpPr>
            <p:sp>
              <p:nvSpPr>
                <p:cNvPr id="181" name="Line 21"/>
                <p:cNvSpPr/>
                <p:nvPr/>
              </p:nvSpPr>
              <p:spPr>
                <a:xfrm>
                  <a:off x="24235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82" name=""/>
                <p:cNvSpPr txBox="1"/>
                <p:nvPr/>
              </p:nvSpPr>
              <p:spPr>
                <a:xfrm>
                  <a:off x="24235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83" name=""/>
              <p:cNvGrpSpPr/>
              <p:nvPr/>
            </p:nvGrpSpPr>
            <p:grpSpPr>
              <a:xfrm>
                <a:off x="2656440" y="1483920"/>
                <a:ext cx="360" cy="4209120"/>
                <a:chOff x="2656440" y="1483920"/>
                <a:chExt cx="360" cy="4209120"/>
              </a:xfrm>
            </p:grpSpPr>
            <p:sp>
              <p:nvSpPr>
                <p:cNvPr id="184" name="Line 22"/>
                <p:cNvSpPr/>
                <p:nvPr/>
              </p:nvSpPr>
              <p:spPr>
                <a:xfrm>
                  <a:off x="26564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85" name=""/>
                <p:cNvSpPr txBox="1"/>
                <p:nvPr/>
              </p:nvSpPr>
              <p:spPr>
                <a:xfrm>
                  <a:off x="26564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86" name=""/>
              <p:cNvGrpSpPr/>
              <p:nvPr/>
            </p:nvGrpSpPr>
            <p:grpSpPr>
              <a:xfrm>
                <a:off x="2891520" y="1483920"/>
                <a:ext cx="360" cy="4209120"/>
                <a:chOff x="2891520" y="1483920"/>
                <a:chExt cx="360" cy="4209120"/>
              </a:xfrm>
            </p:grpSpPr>
            <p:sp>
              <p:nvSpPr>
                <p:cNvPr id="187" name="Line 23"/>
                <p:cNvSpPr/>
                <p:nvPr/>
              </p:nvSpPr>
              <p:spPr>
                <a:xfrm>
                  <a:off x="28915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88" name=""/>
                <p:cNvSpPr txBox="1"/>
                <p:nvPr/>
              </p:nvSpPr>
              <p:spPr>
                <a:xfrm>
                  <a:off x="28915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89" name=""/>
              <p:cNvGrpSpPr/>
              <p:nvPr/>
            </p:nvGrpSpPr>
            <p:grpSpPr>
              <a:xfrm>
                <a:off x="3124800" y="1483920"/>
                <a:ext cx="360" cy="4209120"/>
                <a:chOff x="3124800" y="1483920"/>
                <a:chExt cx="360" cy="4209120"/>
              </a:xfrm>
            </p:grpSpPr>
            <p:sp>
              <p:nvSpPr>
                <p:cNvPr id="190" name="Line 24"/>
                <p:cNvSpPr/>
                <p:nvPr/>
              </p:nvSpPr>
              <p:spPr>
                <a:xfrm>
                  <a:off x="31248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91" name=""/>
                <p:cNvSpPr txBox="1"/>
                <p:nvPr/>
              </p:nvSpPr>
              <p:spPr>
                <a:xfrm>
                  <a:off x="31248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92" name=""/>
              <p:cNvGrpSpPr/>
              <p:nvPr/>
            </p:nvGrpSpPr>
            <p:grpSpPr>
              <a:xfrm>
                <a:off x="3359880" y="1483920"/>
                <a:ext cx="360" cy="4209120"/>
                <a:chOff x="3359880" y="1483920"/>
                <a:chExt cx="360" cy="4209120"/>
              </a:xfrm>
            </p:grpSpPr>
            <p:sp>
              <p:nvSpPr>
                <p:cNvPr id="193" name="Line 25"/>
                <p:cNvSpPr/>
                <p:nvPr/>
              </p:nvSpPr>
              <p:spPr>
                <a:xfrm>
                  <a:off x="33598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94" name=""/>
                <p:cNvSpPr txBox="1"/>
                <p:nvPr/>
              </p:nvSpPr>
              <p:spPr>
                <a:xfrm>
                  <a:off x="33598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95" name=""/>
              <p:cNvGrpSpPr/>
              <p:nvPr/>
            </p:nvGrpSpPr>
            <p:grpSpPr>
              <a:xfrm>
                <a:off x="3593160" y="1483920"/>
                <a:ext cx="360" cy="4209120"/>
                <a:chOff x="3593160" y="1483920"/>
                <a:chExt cx="360" cy="4209120"/>
              </a:xfrm>
            </p:grpSpPr>
            <p:sp>
              <p:nvSpPr>
                <p:cNvPr id="196" name="Line 26"/>
                <p:cNvSpPr/>
                <p:nvPr/>
              </p:nvSpPr>
              <p:spPr>
                <a:xfrm>
                  <a:off x="359316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97" name=""/>
                <p:cNvSpPr txBox="1"/>
                <p:nvPr/>
              </p:nvSpPr>
              <p:spPr>
                <a:xfrm>
                  <a:off x="359316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98" name=""/>
              <p:cNvGrpSpPr/>
              <p:nvPr/>
            </p:nvGrpSpPr>
            <p:grpSpPr>
              <a:xfrm>
                <a:off x="3826440" y="1483920"/>
                <a:ext cx="360" cy="4209120"/>
                <a:chOff x="3826440" y="1483920"/>
                <a:chExt cx="360" cy="4209120"/>
              </a:xfrm>
            </p:grpSpPr>
            <p:sp>
              <p:nvSpPr>
                <p:cNvPr id="199" name="Line 27"/>
                <p:cNvSpPr/>
                <p:nvPr/>
              </p:nvSpPr>
              <p:spPr>
                <a:xfrm>
                  <a:off x="38264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00" name=""/>
                <p:cNvSpPr txBox="1"/>
                <p:nvPr/>
              </p:nvSpPr>
              <p:spPr>
                <a:xfrm>
                  <a:off x="38264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01" name=""/>
              <p:cNvGrpSpPr/>
              <p:nvPr/>
            </p:nvGrpSpPr>
            <p:grpSpPr>
              <a:xfrm>
                <a:off x="4061520" y="1483920"/>
                <a:ext cx="360" cy="4209120"/>
                <a:chOff x="4061520" y="1483920"/>
                <a:chExt cx="360" cy="4209120"/>
              </a:xfrm>
            </p:grpSpPr>
            <p:sp>
              <p:nvSpPr>
                <p:cNvPr id="202" name="Line 28"/>
                <p:cNvSpPr/>
                <p:nvPr/>
              </p:nvSpPr>
              <p:spPr>
                <a:xfrm>
                  <a:off x="40615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03" name=""/>
                <p:cNvSpPr txBox="1"/>
                <p:nvPr/>
              </p:nvSpPr>
              <p:spPr>
                <a:xfrm>
                  <a:off x="40615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04" name=""/>
              <p:cNvGrpSpPr/>
              <p:nvPr/>
            </p:nvGrpSpPr>
            <p:grpSpPr>
              <a:xfrm>
                <a:off x="4294440" y="1483920"/>
                <a:ext cx="360" cy="4209120"/>
                <a:chOff x="4294440" y="1483920"/>
                <a:chExt cx="360" cy="4209120"/>
              </a:xfrm>
            </p:grpSpPr>
            <p:sp>
              <p:nvSpPr>
                <p:cNvPr id="205" name="Line 29"/>
                <p:cNvSpPr/>
                <p:nvPr/>
              </p:nvSpPr>
              <p:spPr>
                <a:xfrm>
                  <a:off x="42944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06" name=""/>
                <p:cNvSpPr txBox="1"/>
                <p:nvPr/>
              </p:nvSpPr>
              <p:spPr>
                <a:xfrm>
                  <a:off x="42944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07" name=""/>
              <p:cNvGrpSpPr/>
              <p:nvPr/>
            </p:nvGrpSpPr>
            <p:grpSpPr>
              <a:xfrm>
                <a:off x="4527720" y="1483920"/>
                <a:ext cx="360" cy="4209120"/>
                <a:chOff x="4527720" y="1483920"/>
                <a:chExt cx="360" cy="4209120"/>
              </a:xfrm>
            </p:grpSpPr>
            <p:sp>
              <p:nvSpPr>
                <p:cNvPr id="208" name="Line 30"/>
                <p:cNvSpPr/>
                <p:nvPr/>
              </p:nvSpPr>
              <p:spPr>
                <a:xfrm>
                  <a:off x="4527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09" name=""/>
                <p:cNvSpPr txBox="1"/>
                <p:nvPr/>
              </p:nvSpPr>
              <p:spPr>
                <a:xfrm>
                  <a:off x="4527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10" name=""/>
              <p:cNvGrpSpPr/>
              <p:nvPr/>
            </p:nvGrpSpPr>
            <p:grpSpPr>
              <a:xfrm>
                <a:off x="4762800" y="1483920"/>
                <a:ext cx="360" cy="4209120"/>
                <a:chOff x="4762800" y="1483920"/>
                <a:chExt cx="360" cy="4209120"/>
              </a:xfrm>
            </p:grpSpPr>
            <p:sp>
              <p:nvSpPr>
                <p:cNvPr id="211" name="Line 31"/>
                <p:cNvSpPr/>
                <p:nvPr/>
              </p:nvSpPr>
              <p:spPr>
                <a:xfrm>
                  <a:off x="47628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12" name=""/>
                <p:cNvSpPr txBox="1"/>
                <p:nvPr/>
              </p:nvSpPr>
              <p:spPr>
                <a:xfrm>
                  <a:off x="47628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13" name=""/>
              <p:cNvGrpSpPr/>
              <p:nvPr/>
            </p:nvGrpSpPr>
            <p:grpSpPr>
              <a:xfrm>
                <a:off x="4996080" y="1483920"/>
                <a:ext cx="360" cy="4209120"/>
                <a:chOff x="4996080" y="1483920"/>
                <a:chExt cx="360" cy="4209120"/>
              </a:xfrm>
            </p:grpSpPr>
            <p:sp>
              <p:nvSpPr>
                <p:cNvPr id="214" name="Line 32"/>
                <p:cNvSpPr/>
                <p:nvPr/>
              </p:nvSpPr>
              <p:spPr>
                <a:xfrm>
                  <a:off x="49960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15" name=""/>
                <p:cNvSpPr txBox="1"/>
                <p:nvPr/>
              </p:nvSpPr>
              <p:spPr>
                <a:xfrm>
                  <a:off x="49960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16" name=""/>
              <p:cNvGrpSpPr/>
              <p:nvPr/>
            </p:nvGrpSpPr>
            <p:grpSpPr>
              <a:xfrm>
                <a:off x="5229720" y="1483920"/>
                <a:ext cx="360" cy="4209120"/>
                <a:chOff x="5229720" y="1483920"/>
                <a:chExt cx="360" cy="4209120"/>
              </a:xfrm>
            </p:grpSpPr>
            <p:sp>
              <p:nvSpPr>
                <p:cNvPr id="217" name="Line 33"/>
                <p:cNvSpPr/>
                <p:nvPr/>
              </p:nvSpPr>
              <p:spPr>
                <a:xfrm>
                  <a:off x="5229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18" name=""/>
                <p:cNvSpPr txBox="1"/>
                <p:nvPr/>
              </p:nvSpPr>
              <p:spPr>
                <a:xfrm>
                  <a:off x="5229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19" name=""/>
              <p:cNvGrpSpPr/>
              <p:nvPr/>
            </p:nvGrpSpPr>
            <p:grpSpPr>
              <a:xfrm>
                <a:off x="5464440" y="1483920"/>
                <a:ext cx="360" cy="4209120"/>
                <a:chOff x="5464440" y="1483920"/>
                <a:chExt cx="360" cy="4209120"/>
              </a:xfrm>
            </p:grpSpPr>
            <p:sp>
              <p:nvSpPr>
                <p:cNvPr id="220" name="Line 34"/>
                <p:cNvSpPr/>
                <p:nvPr/>
              </p:nvSpPr>
              <p:spPr>
                <a:xfrm>
                  <a:off x="54644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21" name=""/>
                <p:cNvSpPr txBox="1"/>
                <p:nvPr/>
              </p:nvSpPr>
              <p:spPr>
                <a:xfrm>
                  <a:off x="54644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22" name=""/>
              <p:cNvGrpSpPr/>
              <p:nvPr/>
            </p:nvGrpSpPr>
            <p:grpSpPr>
              <a:xfrm>
                <a:off x="5697720" y="1483920"/>
                <a:ext cx="360" cy="4209120"/>
                <a:chOff x="5697720" y="1483920"/>
                <a:chExt cx="360" cy="4209120"/>
              </a:xfrm>
            </p:grpSpPr>
            <p:sp>
              <p:nvSpPr>
                <p:cNvPr id="223" name="Line 35"/>
                <p:cNvSpPr/>
                <p:nvPr/>
              </p:nvSpPr>
              <p:spPr>
                <a:xfrm>
                  <a:off x="5697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24" name=""/>
                <p:cNvSpPr txBox="1"/>
                <p:nvPr/>
              </p:nvSpPr>
              <p:spPr>
                <a:xfrm>
                  <a:off x="5697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25" name=""/>
              <p:cNvGrpSpPr/>
              <p:nvPr/>
            </p:nvGrpSpPr>
            <p:grpSpPr>
              <a:xfrm>
                <a:off x="5931000" y="1483920"/>
                <a:ext cx="360" cy="4209120"/>
                <a:chOff x="5931000" y="1483920"/>
                <a:chExt cx="360" cy="4209120"/>
              </a:xfrm>
            </p:grpSpPr>
            <p:sp>
              <p:nvSpPr>
                <p:cNvPr id="226" name="Line 36"/>
                <p:cNvSpPr/>
                <p:nvPr/>
              </p:nvSpPr>
              <p:spPr>
                <a:xfrm>
                  <a:off x="59310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27" name=""/>
                <p:cNvSpPr txBox="1"/>
                <p:nvPr/>
              </p:nvSpPr>
              <p:spPr>
                <a:xfrm>
                  <a:off x="59310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28" name=""/>
              <p:cNvGrpSpPr/>
              <p:nvPr/>
            </p:nvGrpSpPr>
            <p:grpSpPr>
              <a:xfrm>
                <a:off x="6165720" y="1483920"/>
                <a:ext cx="360" cy="4209120"/>
                <a:chOff x="6165720" y="1483920"/>
                <a:chExt cx="360" cy="4209120"/>
              </a:xfrm>
            </p:grpSpPr>
            <p:sp>
              <p:nvSpPr>
                <p:cNvPr id="229" name="Line 37"/>
                <p:cNvSpPr/>
                <p:nvPr/>
              </p:nvSpPr>
              <p:spPr>
                <a:xfrm>
                  <a:off x="6165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30" name=""/>
                <p:cNvSpPr txBox="1"/>
                <p:nvPr/>
              </p:nvSpPr>
              <p:spPr>
                <a:xfrm>
                  <a:off x="6165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31" name=""/>
              <p:cNvGrpSpPr/>
              <p:nvPr/>
            </p:nvGrpSpPr>
            <p:grpSpPr>
              <a:xfrm>
                <a:off x="6399360" y="1483920"/>
                <a:ext cx="360" cy="4209120"/>
                <a:chOff x="6399360" y="1483920"/>
                <a:chExt cx="360" cy="4209120"/>
              </a:xfrm>
            </p:grpSpPr>
            <p:sp>
              <p:nvSpPr>
                <p:cNvPr id="232" name="Line 38"/>
                <p:cNvSpPr/>
                <p:nvPr/>
              </p:nvSpPr>
              <p:spPr>
                <a:xfrm>
                  <a:off x="639936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33" name=""/>
                <p:cNvSpPr txBox="1"/>
                <p:nvPr/>
              </p:nvSpPr>
              <p:spPr>
                <a:xfrm>
                  <a:off x="639936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34" name=""/>
              <p:cNvGrpSpPr/>
              <p:nvPr/>
            </p:nvGrpSpPr>
            <p:grpSpPr>
              <a:xfrm>
                <a:off x="6632640" y="1483920"/>
                <a:ext cx="360" cy="4209120"/>
                <a:chOff x="6632640" y="1483920"/>
                <a:chExt cx="360" cy="4209120"/>
              </a:xfrm>
            </p:grpSpPr>
            <p:sp>
              <p:nvSpPr>
                <p:cNvPr id="235" name="Line 39"/>
                <p:cNvSpPr/>
                <p:nvPr/>
              </p:nvSpPr>
              <p:spPr>
                <a:xfrm>
                  <a:off x="66326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36" name=""/>
                <p:cNvSpPr txBox="1"/>
                <p:nvPr/>
              </p:nvSpPr>
              <p:spPr>
                <a:xfrm>
                  <a:off x="66326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37" name=""/>
              <p:cNvGrpSpPr/>
              <p:nvPr/>
            </p:nvGrpSpPr>
            <p:grpSpPr>
              <a:xfrm>
                <a:off x="6867360" y="1483920"/>
                <a:ext cx="360" cy="4209120"/>
                <a:chOff x="6867360" y="1483920"/>
                <a:chExt cx="360" cy="4209120"/>
              </a:xfrm>
            </p:grpSpPr>
            <p:sp>
              <p:nvSpPr>
                <p:cNvPr id="238" name="Line 40"/>
                <p:cNvSpPr/>
                <p:nvPr/>
              </p:nvSpPr>
              <p:spPr>
                <a:xfrm>
                  <a:off x="686736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39" name=""/>
                <p:cNvSpPr txBox="1"/>
                <p:nvPr/>
              </p:nvSpPr>
              <p:spPr>
                <a:xfrm>
                  <a:off x="686736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40" name=""/>
              <p:cNvGrpSpPr/>
              <p:nvPr/>
            </p:nvGrpSpPr>
            <p:grpSpPr>
              <a:xfrm>
                <a:off x="7101000" y="1483920"/>
                <a:ext cx="360" cy="4209120"/>
                <a:chOff x="7101000" y="1483920"/>
                <a:chExt cx="360" cy="4209120"/>
              </a:xfrm>
            </p:grpSpPr>
            <p:sp>
              <p:nvSpPr>
                <p:cNvPr id="241" name="Line 41"/>
                <p:cNvSpPr/>
                <p:nvPr/>
              </p:nvSpPr>
              <p:spPr>
                <a:xfrm>
                  <a:off x="71010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42" name=""/>
                <p:cNvSpPr txBox="1"/>
                <p:nvPr/>
              </p:nvSpPr>
              <p:spPr>
                <a:xfrm>
                  <a:off x="71010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43" name=""/>
              <p:cNvGrpSpPr/>
              <p:nvPr/>
            </p:nvGrpSpPr>
            <p:grpSpPr>
              <a:xfrm>
                <a:off x="7335720" y="1483920"/>
                <a:ext cx="360" cy="4209120"/>
                <a:chOff x="7335720" y="1483920"/>
                <a:chExt cx="360" cy="4209120"/>
              </a:xfrm>
            </p:grpSpPr>
            <p:sp>
              <p:nvSpPr>
                <p:cNvPr id="244" name="Line 42"/>
                <p:cNvSpPr/>
                <p:nvPr/>
              </p:nvSpPr>
              <p:spPr>
                <a:xfrm>
                  <a:off x="7335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45" name=""/>
                <p:cNvSpPr txBox="1"/>
                <p:nvPr/>
              </p:nvSpPr>
              <p:spPr>
                <a:xfrm>
                  <a:off x="7335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46" name=""/>
              <p:cNvGrpSpPr/>
              <p:nvPr/>
            </p:nvGrpSpPr>
            <p:grpSpPr>
              <a:xfrm>
                <a:off x="7569000" y="1483920"/>
                <a:ext cx="360" cy="4209120"/>
                <a:chOff x="7569000" y="1483920"/>
                <a:chExt cx="360" cy="4209120"/>
              </a:xfrm>
            </p:grpSpPr>
            <p:sp>
              <p:nvSpPr>
                <p:cNvPr id="247" name="Line 43"/>
                <p:cNvSpPr/>
                <p:nvPr/>
              </p:nvSpPr>
              <p:spPr>
                <a:xfrm>
                  <a:off x="75690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48" name=""/>
                <p:cNvSpPr txBox="1"/>
                <p:nvPr/>
              </p:nvSpPr>
              <p:spPr>
                <a:xfrm>
                  <a:off x="75690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49" name=""/>
              <p:cNvGrpSpPr/>
              <p:nvPr/>
            </p:nvGrpSpPr>
            <p:grpSpPr>
              <a:xfrm>
                <a:off x="7802280" y="1483920"/>
                <a:ext cx="360" cy="4209120"/>
                <a:chOff x="7802280" y="1483920"/>
                <a:chExt cx="360" cy="4209120"/>
              </a:xfrm>
            </p:grpSpPr>
            <p:sp>
              <p:nvSpPr>
                <p:cNvPr id="250" name="Line 44"/>
                <p:cNvSpPr/>
                <p:nvPr/>
              </p:nvSpPr>
              <p:spPr>
                <a:xfrm>
                  <a:off x="78022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51" name=""/>
                <p:cNvSpPr txBox="1"/>
                <p:nvPr/>
              </p:nvSpPr>
              <p:spPr>
                <a:xfrm>
                  <a:off x="78022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52" name=""/>
              <p:cNvGrpSpPr/>
              <p:nvPr/>
            </p:nvGrpSpPr>
            <p:grpSpPr>
              <a:xfrm>
                <a:off x="8037000" y="1483920"/>
                <a:ext cx="360" cy="4209120"/>
                <a:chOff x="8037000" y="1483920"/>
                <a:chExt cx="360" cy="4209120"/>
              </a:xfrm>
            </p:grpSpPr>
            <p:sp>
              <p:nvSpPr>
                <p:cNvPr id="253" name="Line 45"/>
                <p:cNvSpPr/>
                <p:nvPr/>
              </p:nvSpPr>
              <p:spPr>
                <a:xfrm>
                  <a:off x="80370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54" name=""/>
                <p:cNvSpPr txBox="1"/>
                <p:nvPr/>
              </p:nvSpPr>
              <p:spPr>
                <a:xfrm>
                  <a:off x="80370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55" name=""/>
              <p:cNvGrpSpPr/>
              <p:nvPr/>
            </p:nvGrpSpPr>
            <p:grpSpPr>
              <a:xfrm>
                <a:off x="8270640" y="1483920"/>
                <a:ext cx="360" cy="4209120"/>
                <a:chOff x="8270640" y="1483920"/>
                <a:chExt cx="360" cy="4209120"/>
              </a:xfrm>
            </p:grpSpPr>
            <p:sp>
              <p:nvSpPr>
                <p:cNvPr id="256" name="Line 46"/>
                <p:cNvSpPr/>
                <p:nvPr/>
              </p:nvSpPr>
              <p:spPr>
                <a:xfrm>
                  <a:off x="82706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57" name=""/>
                <p:cNvSpPr txBox="1"/>
                <p:nvPr/>
              </p:nvSpPr>
              <p:spPr>
                <a:xfrm>
                  <a:off x="82706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58" name=""/>
              <p:cNvGrpSpPr/>
              <p:nvPr/>
            </p:nvGrpSpPr>
            <p:grpSpPr>
              <a:xfrm>
                <a:off x="8503920" y="1483920"/>
                <a:ext cx="360" cy="4209120"/>
                <a:chOff x="8503920" y="1483920"/>
                <a:chExt cx="360" cy="4209120"/>
              </a:xfrm>
            </p:grpSpPr>
            <p:sp>
              <p:nvSpPr>
                <p:cNvPr id="259" name="Line 47"/>
                <p:cNvSpPr/>
                <p:nvPr/>
              </p:nvSpPr>
              <p:spPr>
                <a:xfrm>
                  <a:off x="85039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60" name=""/>
                <p:cNvSpPr txBox="1"/>
                <p:nvPr/>
              </p:nvSpPr>
              <p:spPr>
                <a:xfrm>
                  <a:off x="85039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61" name=""/>
              <p:cNvGrpSpPr/>
              <p:nvPr/>
            </p:nvGrpSpPr>
            <p:grpSpPr>
              <a:xfrm>
                <a:off x="8738640" y="1483920"/>
                <a:ext cx="360" cy="4209120"/>
                <a:chOff x="8738640" y="1483920"/>
                <a:chExt cx="360" cy="4209120"/>
              </a:xfrm>
            </p:grpSpPr>
            <p:sp>
              <p:nvSpPr>
                <p:cNvPr id="262" name="Line 48"/>
                <p:cNvSpPr/>
                <p:nvPr/>
              </p:nvSpPr>
              <p:spPr>
                <a:xfrm>
                  <a:off x="87386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63" name=""/>
                <p:cNvSpPr txBox="1"/>
                <p:nvPr/>
              </p:nvSpPr>
              <p:spPr>
                <a:xfrm>
                  <a:off x="87386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64" name=""/>
              <p:cNvGrpSpPr/>
              <p:nvPr/>
            </p:nvGrpSpPr>
            <p:grpSpPr>
              <a:xfrm>
                <a:off x="8972280" y="1483920"/>
                <a:ext cx="360" cy="4209120"/>
                <a:chOff x="8972280" y="1483920"/>
                <a:chExt cx="360" cy="4209120"/>
              </a:xfrm>
            </p:grpSpPr>
            <p:sp>
              <p:nvSpPr>
                <p:cNvPr id="265" name="Line 49"/>
                <p:cNvSpPr/>
                <p:nvPr/>
              </p:nvSpPr>
              <p:spPr>
                <a:xfrm>
                  <a:off x="89722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66" name=""/>
                <p:cNvSpPr txBox="1"/>
                <p:nvPr/>
              </p:nvSpPr>
              <p:spPr>
                <a:xfrm>
                  <a:off x="89722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67" name=""/>
              <p:cNvGrpSpPr/>
              <p:nvPr/>
            </p:nvGrpSpPr>
            <p:grpSpPr>
              <a:xfrm>
                <a:off x="1020600" y="1483920"/>
                <a:ext cx="7951680" cy="360"/>
                <a:chOff x="1020600" y="1483920"/>
                <a:chExt cx="7951680" cy="360"/>
              </a:xfrm>
            </p:grpSpPr>
            <p:sp>
              <p:nvSpPr>
                <p:cNvPr id="268" name="Line 50"/>
                <p:cNvSpPr/>
                <p:nvPr/>
              </p:nvSpPr>
              <p:spPr>
                <a:xfrm>
                  <a:off x="1020600" y="148392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69" name=""/>
                <p:cNvSpPr txBox="1"/>
                <p:nvPr/>
              </p:nvSpPr>
              <p:spPr>
                <a:xfrm>
                  <a:off x="1020600" y="148392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70" name=""/>
              <p:cNvGrpSpPr/>
              <p:nvPr/>
            </p:nvGrpSpPr>
            <p:grpSpPr>
              <a:xfrm>
                <a:off x="1020600" y="1716840"/>
                <a:ext cx="7951680" cy="360"/>
                <a:chOff x="1020600" y="1716840"/>
                <a:chExt cx="7951680" cy="360"/>
              </a:xfrm>
            </p:grpSpPr>
            <p:sp>
              <p:nvSpPr>
                <p:cNvPr id="271" name="Line 51"/>
                <p:cNvSpPr/>
                <p:nvPr/>
              </p:nvSpPr>
              <p:spPr>
                <a:xfrm>
                  <a:off x="1020600" y="17168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72" name=""/>
                <p:cNvSpPr txBox="1"/>
                <p:nvPr/>
              </p:nvSpPr>
              <p:spPr>
                <a:xfrm>
                  <a:off x="1020600" y="17168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73" name=""/>
              <p:cNvGrpSpPr/>
              <p:nvPr/>
            </p:nvGrpSpPr>
            <p:grpSpPr>
              <a:xfrm>
                <a:off x="1020600" y="1951920"/>
                <a:ext cx="7951680" cy="360"/>
                <a:chOff x="1020600" y="1951920"/>
                <a:chExt cx="7951680" cy="360"/>
              </a:xfrm>
            </p:grpSpPr>
            <p:sp>
              <p:nvSpPr>
                <p:cNvPr id="274" name="Line 52"/>
                <p:cNvSpPr/>
                <p:nvPr/>
              </p:nvSpPr>
              <p:spPr>
                <a:xfrm>
                  <a:off x="1020600" y="195192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75" name=""/>
                <p:cNvSpPr txBox="1"/>
                <p:nvPr/>
              </p:nvSpPr>
              <p:spPr>
                <a:xfrm>
                  <a:off x="1020600" y="195192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76" name=""/>
              <p:cNvGrpSpPr/>
              <p:nvPr/>
            </p:nvGrpSpPr>
            <p:grpSpPr>
              <a:xfrm>
                <a:off x="1020600" y="2185200"/>
                <a:ext cx="7951680" cy="360"/>
                <a:chOff x="1020600" y="2185200"/>
                <a:chExt cx="7951680" cy="360"/>
              </a:xfrm>
            </p:grpSpPr>
            <p:sp>
              <p:nvSpPr>
                <p:cNvPr id="277" name="Line 53"/>
                <p:cNvSpPr/>
                <p:nvPr/>
              </p:nvSpPr>
              <p:spPr>
                <a:xfrm>
                  <a:off x="1020600" y="218520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78" name=""/>
                <p:cNvSpPr txBox="1"/>
                <p:nvPr/>
              </p:nvSpPr>
              <p:spPr>
                <a:xfrm>
                  <a:off x="1020600" y="218520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79" name=""/>
              <p:cNvGrpSpPr/>
              <p:nvPr/>
            </p:nvGrpSpPr>
            <p:grpSpPr>
              <a:xfrm>
                <a:off x="1020600" y="2418480"/>
                <a:ext cx="7951680" cy="360"/>
                <a:chOff x="1020600" y="2418480"/>
                <a:chExt cx="7951680" cy="360"/>
              </a:xfrm>
            </p:grpSpPr>
            <p:sp>
              <p:nvSpPr>
                <p:cNvPr id="280" name="Line 54"/>
                <p:cNvSpPr/>
                <p:nvPr/>
              </p:nvSpPr>
              <p:spPr>
                <a:xfrm>
                  <a:off x="1020600" y="241848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81" name=""/>
                <p:cNvSpPr txBox="1"/>
                <p:nvPr/>
              </p:nvSpPr>
              <p:spPr>
                <a:xfrm>
                  <a:off x="1020600" y="241848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82" name=""/>
              <p:cNvGrpSpPr/>
              <p:nvPr/>
            </p:nvGrpSpPr>
            <p:grpSpPr>
              <a:xfrm>
                <a:off x="1020600" y="2653560"/>
                <a:ext cx="7951680" cy="360"/>
                <a:chOff x="1020600" y="2653560"/>
                <a:chExt cx="7951680" cy="360"/>
              </a:xfrm>
            </p:grpSpPr>
            <p:sp>
              <p:nvSpPr>
                <p:cNvPr id="283" name="Line 55"/>
                <p:cNvSpPr/>
                <p:nvPr/>
              </p:nvSpPr>
              <p:spPr>
                <a:xfrm>
                  <a:off x="1020600" y="26535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84" name=""/>
                <p:cNvSpPr txBox="1"/>
                <p:nvPr/>
              </p:nvSpPr>
              <p:spPr>
                <a:xfrm>
                  <a:off x="1020600" y="26535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85" name=""/>
              <p:cNvGrpSpPr/>
              <p:nvPr/>
            </p:nvGrpSpPr>
            <p:grpSpPr>
              <a:xfrm>
                <a:off x="1020600" y="2886840"/>
                <a:ext cx="7951680" cy="360"/>
                <a:chOff x="1020600" y="2886840"/>
                <a:chExt cx="7951680" cy="360"/>
              </a:xfrm>
            </p:grpSpPr>
            <p:sp>
              <p:nvSpPr>
                <p:cNvPr id="286" name="Line 56"/>
                <p:cNvSpPr/>
                <p:nvPr/>
              </p:nvSpPr>
              <p:spPr>
                <a:xfrm>
                  <a:off x="1020600" y="28868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87" name=""/>
                <p:cNvSpPr txBox="1"/>
                <p:nvPr/>
              </p:nvSpPr>
              <p:spPr>
                <a:xfrm>
                  <a:off x="1020600" y="28868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88" name=""/>
              <p:cNvGrpSpPr/>
              <p:nvPr/>
            </p:nvGrpSpPr>
            <p:grpSpPr>
              <a:xfrm>
                <a:off x="1020600" y="3119760"/>
                <a:ext cx="7951680" cy="360"/>
                <a:chOff x="1020600" y="3119760"/>
                <a:chExt cx="7951680" cy="360"/>
              </a:xfrm>
            </p:grpSpPr>
            <p:sp>
              <p:nvSpPr>
                <p:cNvPr id="289" name="Line 57"/>
                <p:cNvSpPr/>
                <p:nvPr/>
              </p:nvSpPr>
              <p:spPr>
                <a:xfrm>
                  <a:off x="1020600" y="31197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90" name=""/>
                <p:cNvSpPr txBox="1"/>
                <p:nvPr/>
              </p:nvSpPr>
              <p:spPr>
                <a:xfrm>
                  <a:off x="1020600" y="31197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91" name=""/>
              <p:cNvGrpSpPr/>
              <p:nvPr/>
            </p:nvGrpSpPr>
            <p:grpSpPr>
              <a:xfrm>
                <a:off x="1020600" y="3354840"/>
                <a:ext cx="7951680" cy="360"/>
                <a:chOff x="1020600" y="3354840"/>
                <a:chExt cx="7951680" cy="360"/>
              </a:xfrm>
            </p:grpSpPr>
            <p:sp>
              <p:nvSpPr>
                <p:cNvPr id="292" name="Line 58"/>
                <p:cNvSpPr/>
                <p:nvPr/>
              </p:nvSpPr>
              <p:spPr>
                <a:xfrm>
                  <a:off x="1020600" y="33548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93" name=""/>
                <p:cNvSpPr txBox="1"/>
                <p:nvPr/>
              </p:nvSpPr>
              <p:spPr>
                <a:xfrm>
                  <a:off x="1020600" y="33548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94" name=""/>
              <p:cNvGrpSpPr/>
              <p:nvPr/>
            </p:nvGrpSpPr>
            <p:grpSpPr>
              <a:xfrm>
                <a:off x="1020600" y="3588120"/>
                <a:ext cx="7951680" cy="360"/>
                <a:chOff x="1020600" y="3588120"/>
                <a:chExt cx="7951680" cy="360"/>
              </a:xfrm>
            </p:grpSpPr>
            <p:sp>
              <p:nvSpPr>
                <p:cNvPr id="295" name="Line 59"/>
                <p:cNvSpPr/>
                <p:nvPr/>
              </p:nvSpPr>
              <p:spPr>
                <a:xfrm>
                  <a:off x="1020600" y="358812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96" name=""/>
                <p:cNvSpPr txBox="1"/>
                <p:nvPr/>
              </p:nvSpPr>
              <p:spPr>
                <a:xfrm>
                  <a:off x="1020600" y="358812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97" name=""/>
              <p:cNvGrpSpPr/>
              <p:nvPr/>
            </p:nvGrpSpPr>
            <p:grpSpPr>
              <a:xfrm>
                <a:off x="1020600" y="3821760"/>
                <a:ext cx="7951680" cy="360"/>
                <a:chOff x="1020600" y="3821760"/>
                <a:chExt cx="7951680" cy="360"/>
              </a:xfrm>
            </p:grpSpPr>
            <p:sp>
              <p:nvSpPr>
                <p:cNvPr id="298" name="Line 60"/>
                <p:cNvSpPr/>
                <p:nvPr/>
              </p:nvSpPr>
              <p:spPr>
                <a:xfrm>
                  <a:off x="1020600" y="38217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99" name=""/>
                <p:cNvSpPr txBox="1"/>
                <p:nvPr/>
              </p:nvSpPr>
              <p:spPr>
                <a:xfrm>
                  <a:off x="1020600" y="38217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00" name=""/>
              <p:cNvGrpSpPr/>
              <p:nvPr/>
            </p:nvGrpSpPr>
            <p:grpSpPr>
              <a:xfrm>
                <a:off x="1020600" y="4056480"/>
                <a:ext cx="7951680" cy="360"/>
                <a:chOff x="1020600" y="4056480"/>
                <a:chExt cx="7951680" cy="360"/>
              </a:xfrm>
            </p:grpSpPr>
            <p:sp>
              <p:nvSpPr>
                <p:cNvPr id="301" name="Line 61"/>
                <p:cNvSpPr/>
                <p:nvPr/>
              </p:nvSpPr>
              <p:spPr>
                <a:xfrm>
                  <a:off x="1020600" y="405648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02" name=""/>
                <p:cNvSpPr txBox="1"/>
                <p:nvPr/>
              </p:nvSpPr>
              <p:spPr>
                <a:xfrm>
                  <a:off x="1020600" y="405648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03" name=""/>
              <p:cNvGrpSpPr/>
              <p:nvPr/>
            </p:nvGrpSpPr>
            <p:grpSpPr>
              <a:xfrm>
                <a:off x="1020600" y="4289760"/>
                <a:ext cx="7951680" cy="360"/>
                <a:chOff x="1020600" y="4289760"/>
                <a:chExt cx="7951680" cy="360"/>
              </a:xfrm>
            </p:grpSpPr>
            <p:sp>
              <p:nvSpPr>
                <p:cNvPr id="304" name="Line 62"/>
                <p:cNvSpPr/>
                <p:nvPr/>
              </p:nvSpPr>
              <p:spPr>
                <a:xfrm>
                  <a:off x="1020600" y="42897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05" name=""/>
                <p:cNvSpPr txBox="1"/>
                <p:nvPr/>
              </p:nvSpPr>
              <p:spPr>
                <a:xfrm>
                  <a:off x="1020600" y="42897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06" name=""/>
              <p:cNvGrpSpPr/>
              <p:nvPr/>
            </p:nvGrpSpPr>
            <p:grpSpPr>
              <a:xfrm>
                <a:off x="1020600" y="4523040"/>
                <a:ext cx="7951680" cy="360"/>
                <a:chOff x="1020600" y="4523040"/>
                <a:chExt cx="7951680" cy="360"/>
              </a:xfrm>
            </p:grpSpPr>
            <p:sp>
              <p:nvSpPr>
                <p:cNvPr id="307" name="Line 63"/>
                <p:cNvSpPr/>
                <p:nvPr/>
              </p:nvSpPr>
              <p:spPr>
                <a:xfrm>
                  <a:off x="1020600" y="45230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08" name=""/>
                <p:cNvSpPr txBox="1"/>
                <p:nvPr/>
              </p:nvSpPr>
              <p:spPr>
                <a:xfrm>
                  <a:off x="1020600" y="45230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09" name=""/>
              <p:cNvGrpSpPr/>
              <p:nvPr/>
            </p:nvGrpSpPr>
            <p:grpSpPr>
              <a:xfrm>
                <a:off x="1020600" y="4757760"/>
                <a:ext cx="7951680" cy="360"/>
                <a:chOff x="1020600" y="4757760"/>
                <a:chExt cx="7951680" cy="360"/>
              </a:xfrm>
            </p:grpSpPr>
            <p:sp>
              <p:nvSpPr>
                <p:cNvPr id="310" name="Line 64"/>
                <p:cNvSpPr/>
                <p:nvPr/>
              </p:nvSpPr>
              <p:spPr>
                <a:xfrm>
                  <a:off x="1020600" y="47577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11" name=""/>
                <p:cNvSpPr txBox="1"/>
                <p:nvPr/>
              </p:nvSpPr>
              <p:spPr>
                <a:xfrm>
                  <a:off x="1020600" y="47577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12" name=""/>
              <p:cNvGrpSpPr/>
              <p:nvPr/>
            </p:nvGrpSpPr>
            <p:grpSpPr>
              <a:xfrm>
                <a:off x="1020600" y="4991040"/>
                <a:ext cx="7951680" cy="360"/>
                <a:chOff x="1020600" y="4991040"/>
                <a:chExt cx="7951680" cy="360"/>
              </a:xfrm>
            </p:grpSpPr>
            <p:sp>
              <p:nvSpPr>
                <p:cNvPr id="313" name="Line 65"/>
                <p:cNvSpPr/>
                <p:nvPr/>
              </p:nvSpPr>
              <p:spPr>
                <a:xfrm>
                  <a:off x="1020600" y="49910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14" name=""/>
                <p:cNvSpPr txBox="1"/>
                <p:nvPr/>
              </p:nvSpPr>
              <p:spPr>
                <a:xfrm>
                  <a:off x="1020600" y="49910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15" name=""/>
              <p:cNvGrpSpPr/>
              <p:nvPr/>
            </p:nvGrpSpPr>
            <p:grpSpPr>
              <a:xfrm>
                <a:off x="1020600" y="5224680"/>
                <a:ext cx="7951680" cy="360"/>
                <a:chOff x="1020600" y="5224680"/>
                <a:chExt cx="7951680" cy="360"/>
              </a:xfrm>
            </p:grpSpPr>
            <p:sp>
              <p:nvSpPr>
                <p:cNvPr id="316" name="Line 66"/>
                <p:cNvSpPr/>
                <p:nvPr/>
              </p:nvSpPr>
              <p:spPr>
                <a:xfrm>
                  <a:off x="1020600" y="522468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17" name=""/>
                <p:cNvSpPr txBox="1"/>
                <p:nvPr/>
              </p:nvSpPr>
              <p:spPr>
                <a:xfrm>
                  <a:off x="1020600" y="522468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18" name=""/>
              <p:cNvGrpSpPr/>
              <p:nvPr/>
            </p:nvGrpSpPr>
            <p:grpSpPr>
              <a:xfrm>
                <a:off x="1020600" y="5459400"/>
                <a:ext cx="7951680" cy="360"/>
                <a:chOff x="1020600" y="5459400"/>
                <a:chExt cx="7951680" cy="360"/>
              </a:xfrm>
            </p:grpSpPr>
            <p:sp>
              <p:nvSpPr>
                <p:cNvPr id="319" name="Line 67"/>
                <p:cNvSpPr/>
                <p:nvPr/>
              </p:nvSpPr>
              <p:spPr>
                <a:xfrm>
                  <a:off x="1020600" y="545940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20" name=""/>
                <p:cNvSpPr txBox="1"/>
                <p:nvPr/>
              </p:nvSpPr>
              <p:spPr>
                <a:xfrm>
                  <a:off x="1020600" y="545940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21" name=""/>
              <p:cNvGrpSpPr/>
              <p:nvPr/>
            </p:nvGrpSpPr>
            <p:grpSpPr>
              <a:xfrm>
                <a:off x="1020600" y="5693040"/>
                <a:ext cx="7951680" cy="360"/>
                <a:chOff x="1020600" y="5693040"/>
                <a:chExt cx="7951680" cy="360"/>
              </a:xfrm>
            </p:grpSpPr>
            <p:sp>
              <p:nvSpPr>
                <p:cNvPr id="322" name="Line 68"/>
                <p:cNvSpPr/>
                <p:nvPr/>
              </p:nvSpPr>
              <p:spPr>
                <a:xfrm>
                  <a:off x="1020600" y="56930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23" name=""/>
                <p:cNvSpPr txBox="1"/>
                <p:nvPr/>
              </p:nvSpPr>
              <p:spPr>
                <a:xfrm>
                  <a:off x="1020600" y="56930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324" name="组合 8259"/>
            <p:cNvGrpSpPr/>
            <p:nvPr/>
          </p:nvGrpSpPr>
          <p:grpSpPr>
            <a:xfrm>
              <a:off x="8507520" y="6154920"/>
              <a:ext cx="467640" cy="468000"/>
              <a:chOff x="8507520" y="6154920"/>
              <a:chExt cx="467640" cy="468000"/>
            </a:xfrm>
          </p:grpSpPr>
          <p:grpSp>
            <p:nvGrpSpPr>
              <p:cNvPr id="325" name=""/>
              <p:cNvGrpSpPr/>
              <p:nvPr/>
            </p:nvGrpSpPr>
            <p:grpSpPr>
              <a:xfrm>
                <a:off x="8507520" y="6154920"/>
                <a:ext cx="360" cy="468000"/>
                <a:chOff x="8507520" y="6154920"/>
                <a:chExt cx="360" cy="468000"/>
              </a:xfrm>
            </p:grpSpPr>
            <p:sp>
              <p:nvSpPr>
                <p:cNvPr id="326" name="Line 70"/>
                <p:cNvSpPr/>
                <p:nvPr/>
              </p:nvSpPr>
              <p:spPr>
                <a:xfrm>
                  <a:off x="8507520" y="615492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27" name=""/>
                <p:cNvSpPr txBox="1"/>
                <p:nvPr/>
              </p:nvSpPr>
              <p:spPr>
                <a:xfrm>
                  <a:off x="8507520" y="615492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28" name=""/>
              <p:cNvGrpSpPr/>
              <p:nvPr/>
            </p:nvGrpSpPr>
            <p:grpSpPr>
              <a:xfrm>
                <a:off x="8973360" y="6154920"/>
                <a:ext cx="360" cy="468000"/>
                <a:chOff x="8973360" y="6154920"/>
                <a:chExt cx="360" cy="468000"/>
              </a:xfrm>
            </p:grpSpPr>
            <p:sp>
              <p:nvSpPr>
                <p:cNvPr id="329" name="Line 71"/>
                <p:cNvSpPr/>
                <p:nvPr/>
              </p:nvSpPr>
              <p:spPr>
                <a:xfrm>
                  <a:off x="8973360" y="615492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30" name=""/>
                <p:cNvSpPr txBox="1"/>
                <p:nvPr/>
              </p:nvSpPr>
              <p:spPr>
                <a:xfrm>
                  <a:off x="8973360" y="615492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31" name=""/>
              <p:cNvGrpSpPr/>
              <p:nvPr/>
            </p:nvGrpSpPr>
            <p:grpSpPr>
              <a:xfrm>
                <a:off x="8507520" y="6154920"/>
                <a:ext cx="467640" cy="360"/>
                <a:chOff x="8507520" y="6154920"/>
                <a:chExt cx="467640" cy="360"/>
              </a:xfrm>
            </p:grpSpPr>
            <p:sp>
              <p:nvSpPr>
                <p:cNvPr id="332" name="Line 72"/>
                <p:cNvSpPr/>
                <p:nvPr/>
              </p:nvSpPr>
              <p:spPr>
                <a:xfrm>
                  <a:off x="8507520" y="615492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33" name=""/>
                <p:cNvSpPr txBox="1"/>
                <p:nvPr/>
              </p:nvSpPr>
              <p:spPr>
                <a:xfrm>
                  <a:off x="8507520" y="615492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34" name=""/>
              <p:cNvGrpSpPr/>
              <p:nvPr/>
            </p:nvGrpSpPr>
            <p:grpSpPr>
              <a:xfrm>
                <a:off x="8507520" y="6621120"/>
                <a:ext cx="467640" cy="360"/>
                <a:chOff x="8507520" y="6621120"/>
                <a:chExt cx="467640" cy="360"/>
              </a:xfrm>
            </p:grpSpPr>
            <p:sp>
              <p:nvSpPr>
                <p:cNvPr id="335" name="Line 73"/>
                <p:cNvSpPr/>
                <p:nvPr/>
              </p:nvSpPr>
              <p:spPr>
                <a:xfrm>
                  <a:off x="8507520" y="662112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36" name=""/>
                <p:cNvSpPr txBox="1"/>
                <p:nvPr/>
              </p:nvSpPr>
              <p:spPr>
                <a:xfrm>
                  <a:off x="8507520" y="662112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37" name=""/>
              <p:cNvGrpSpPr/>
              <p:nvPr/>
            </p:nvGrpSpPr>
            <p:grpSpPr>
              <a:xfrm>
                <a:off x="8740440" y="6154920"/>
                <a:ext cx="360" cy="468000"/>
                <a:chOff x="8740440" y="6154920"/>
                <a:chExt cx="360" cy="468000"/>
              </a:xfrm>
            </p:grpSpPr>
            <p:sp>
              <p:nvSpPr>
                <p:cNvPr id="338" name="Line 74"/>
                <p:cNvSpPr/>
                <p:nvPr/>
              </p:nvSpPr>
              <p:spPr>
                <a:xfrm>
                  <a:off x="8740440" y="615492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39" name=""/>
                <p:cNvSpPr txBox="1"/>
                <p:nvPr/>
              </p:nvSpPr>
              <p:spPr>
                <a:xfrm>
                  <a:off x="8740440" y="615492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40" name=""/>
              <p:cNvGrpSpPr/>
              <p:nvPr/>
            </p:nvGrpSpPr>
            <p:grpSpPr>
              <a:xfrm>
                <a:off x="8507520" y="6387840"/>
                <a:ext cx="467640" cy="360"/>
                <a:chOff x="8507520" y="6387840"/>
                <a:chExt cx="467640" cy="360"/>
              </a:xfrm>
            </p:grpSpPr>
            <p:sp>
              <p:nvSpPr>
                <p:cNvPr id="341" name="Line 75"/>
                <p:cNvSpPr/>
                <p:nvPr/>
              </p:nvSpPr>
              <p:spPr>
                <a:xfrm>
                  <a:off x="8507520" y="638784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42" name=""/>
                <p:cNvSpPr txBox="1"/>
                <p:nvPr/>
              </p:nvSpPr>
              <p:spPr>
                <a:xfrm>
                  <a:off x="8507520" y="638784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343" name=""/>
            <p:cNvGrpSpPr/>
            <p:nvPr/>
          </p:nvGrpSpPr>
          <p:grpSpPr>
            <a:xfrm>
              <a:off x="1440" y="1483920"/>
              <a:ext cx="9903960" cy="360"/>
              <a:chOff x="1440" y="1483920"/>
              <a:chExt cx="9903960" cy="360"/>
            </a:xfrm>
          </p:grpSpPr>
          <p:sp>
            <p:nvSpPr>
              <p:cNvPr id="344" name="Line 76"/>
              <p:cNvSpPr/>
              <p:nvPr/>
            </p:nvSpPr>
            <p:spPr>
              <a:xfrm>
                <a:off x="1440" y="1483920"/>
                <a:ext cx="9903960" cy="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45" name=""/>
              <p:cNvSpPr txBox="1"/>
              <p:nvPr/>
            </p:nvSpPr>
            <p:spPr>
              <a:xfrm>
                <a:off x="1440" y="148392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46" name=""/>
            <p:cNvGrpSpPr/>
            <p:nvPr/>
          </p:nvGrpSpPr>
          <p:grpSpPr>
            <a:xfrm>
              <a:off x="1440" y="1721880"/>
              <a:ext cx="9903960" cy="360"/>
              <a:chOff x="1440" y="1721880"/>
              <a:chExt cx="9903960" cy="360"/>
            </a:xfrm>
          </p:grpSpPr>
          <p:sp>
            <p:nvSpPr>
              <p:cNvPr id="347" name="Line 77"/>
              <p:cNvSpPr/>
              <p:nvPr/>
            </p:nvSpPr>
            <p:spPr>
              <a:xfrm>
                <a:off x="1440" y="1721880"/>
                <a:ext cx="9903960" cy="0"/>
              </a:xfrm>
              <a:prstGeom prst="line">
                <a:avLst/>
              </a:prstGeom>
              <a:ln w="9360">
                <a:solidFill>
                  <a:srgbClr val="ff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48" name=""/>
              <p:cNvSpPr txBox="1"/>
              <p:nvPr/>
            </p:nvSpPr>
            <p:spPr>
              <a:xfrm>
                <a:off x="1440" y="172188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49" name=""/>
            <p:cNvGrpSpPr/>
            <p:nvPr/>
          </p:nvGrpSpPr>
          <p:grpSpPr>
            <a:xfrm>
              <a:off x="1021680" y="1080"/>
              <a:ext cx="360" cy="6856560"/>
              <a:chOff x="1021680" y="1080"/>
              <a:chExt cx="360" cy="6856560"/>
            </a:xfrm>
          </p:grpSpPr>
          <p:sp>
            <p:nvSpPr>
              <p:cNvPr id="350" name="Line 78"/>
              <p:cNvSpPr/>
              <p:nvPr/>
            </p:nvSpPr>
            <p:spPr>
              <a:xfrm flipV="1">
                <a:off x="1022040" y="1080"/>
                <a:ext cx="0" cy="685656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51" name=""/>
              <p:cNvSpPr txBox="1"/>
              <p:nvPr/>
            </p:nvSpPr>
            <p:spPr>
              <a:xfrm rot="10800000">
                <a:off x="1021680" y="1080"/>
                <a:ext cx="360" cy="6856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52" name=""/>
            <p:cNvGrpSpPr/>
            <p:nvPr/>
          </p:nvGrpSpPr>
          <p:grpSpPr>
            <a:xfrm>
              <a:off x="8975160" y="1080"/>
              <a:ext cx="360" cy="6856560"/>
              <a:chOff x="8975160" y="1080"/>
              <a:chExt cx="360" cy="6856560"/>
            </a:xfrm>
          </p:grpSpPr>
          <p:sp>
            <p:nvSpPr>
              <p:cNvPr id="353" name="Line 79"/>
              <p:cNvSpPr/>
              <p:nvPr/>
            </p:nvSpPr>
            <p:spPr>
              <a:xfrm flipV="1">
                <a:off x="8975520" y="1080"/>
                <a:ext cx="0" cy="685656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54" name=""/>
              <p:cNvSpPr txBox="1"/>
              <p:nvPr/>
            </p:nvSpPr>
            <p:spPr>
              <a:xfrm rot="10800000">
                <a:off x="8975160" y="1080"/>
                <a:ext cx="360" cy="6856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55" name=""/>
            <p:cNvGrpSpPr/>
            <p:nvPr/>
          </p:nvGrpSpPr>
          <p:grpSpPr>
            <a:xfrm>
              <a:off x="-1440" y="622080"/>
              <a:ext cx="9904320" cy="360"/>
              <a:chOff x="-1440" y="622080"/>
              <a:chExt cx="9904320" cy="360"/>
            </a:xfrm>
          </p:grpSpPr>
          <p:sp>
            <p:nvSpPr>
              <p:cNvPr id="356" name="Line 80"/>
              <p:cNvSpPr/>
              <p:nvPr/>
            </p:nvSpPr>
            <p:spPr>
              <a:xfrm>
                <a:off x="-1440" y="622080"/>
                <a:ext cx="9904320" cy="0"/>
              </a:xfrm>
              <a:prstGeom prst="line">
                <a:avLst/>
              </a:prstGeom>
              <a:ln w="9360">
                <a:solidFill>
                  <a:srgbClr val="ff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57" name=""/>
              <p:cNvSpPr txBox="1"/>
              <p:nvPr/>
            </p:nvSpPr>
            <p:spPr>
              <a:xfrm>
                <a:off x="-1440" y="622080"/>
                <a:ext cx="990432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58" name=""/>
            <p:cNvGrpSpPr/>
            <p:nvPr/>
          </p:nvGrpSpPr>
          <p:grpSpPr>
            <a:xfrm>
              <a:off x="1440" y="5691240"/>
              <a:ext cx="9903960" cy="360"/>
              <a:chOff x="1440" y="5691240"/>
              <a:chExt cx="9903960" cy="360"/>
            </a:xfrm>
          </p:grpSpPr>
          <p:sp>
            <p:nvSpPr>
              <p:cNvPr id="359" name="Line 81"/>
              <p:cNvSpPr/>
              <p:nvPr/>
            </p:nvSpPr>
            <p:spPr>
              <a:xfrm>
                <a:off x="1440" y="5691240"/>
                <a:ext cx="9903960" cy="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60" name=""/>
              <p:cNvSpPr txBox="1"/>
              <p:nvPr/>
            </p:nvSpPr>
            <p:spPr>
              <a:xfrm>
                <a:off x="1440" y="569124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61" name=""/>
            <p:cNvGrpSpPr/>
            <p:nvPr/>
          </p:nvGrpSpPr>
          <p:grpSpPr>
            <a:xfrm>
              <a:off x="1440" y="6623280"/>
              <a:ext cx="9903960" cy="360"/>
              <a:chOff x="1440" y="6623280"/>
              <a:chExt cx="9903960" cy="360"/>
            </a:xfrm>
          </p:grpSpPr>
          <p:sp>
            <p:nvSpPr>
              <p:cNvPr id="362" name="Line 82"/>
              <p:cNvSpPr/>
              <p:nvPr/>
            </p:nvSpPr>
            <p:spPr>
              <a:xfrm>
                <a:off x="1440" y="6623280"/>
                <a:ext cx="9903960" cy="0"/>
              </a:xfrm>
              <a:prstGeom prst="line">
                <a:avLst/>
              </a:prstGeom>
              <a:ln w="9360">
                <a:solidFill>
                  <a:srgbClr val="ff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63" name=""/>
              <p:cNvSpPr txBox="1"/>
              <p:nvPr/>
            </p:nvSpPr>
            <p:spPr>
              <a:xfrm>
                <a:off x="1440" y="662328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64" name=""/>
            <p:cNvGrpSpPr/>
            <p:nvPr/>
          </p:nvGrpSpPr>
          <p:grpSpPr>
            <a:xfrm>
              <a:off x="1440" y="225000"/>
              <a:ext cx="9903960" cy="360"/>
              <a:chOff x="1440" y="225000"/>
              <a:chExt cx="9903960" cy="360"/>
            </a:xfrm>
          </p:grpSpPr>
          <p:sp>
            <p:nvSpPr>
              <p:cNvPr id="365" name="Line 83"/>
              <p:cNvSpPr/>
              <p:nvPr/>
            </p:nvSpPr>
            <p:spPr>
              <a:xfrm>
                <a:off x="1440" y="225000"/>
                <a:ext cx="9903960" cy="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66" name=""/>
              <p:cNvSpPr txBox="1"/>
              <p:nvPr/>
            </p:nvSpPr>
            <p:spPr>
              <a:xfrm>
                <a:off x="1440" y="22500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67" name="组合 8274"/>
            <p:cNvGrpSpPr/>
            <p:nvPr/>
          </p:nvGrpSpPr>
          <p:grpSpPr>
            <a:xfrm>
              <a:off x="8507520" y="6388200"/>
              <a:ext cx="467640" cy="468000"/>
              <a:chOff x="8507520" y="6388200"/>
              <a:chExt cx="467640" cy="468000"/>
            </a:xfrm>
          </p:grpSpPr>
          <p:grpSp>
            <p:nvGrpSpPr>
              <p:cNvPr id="368" name=""/>
              <p:cNvGrpSpPr/>
              <p:nvPr/>
            </p:nvGrpSpPr>
            <p:grpSpPr>
              <a:xfrm>
                <a:off x="8507520" y="6388200"/>
                <a:ext cx="360" cy="468000"/>
                <a:chOff x="8507520" y="6388200"/>
                <a:chExt cx="360" cy="468000"/>
              </a:xfrm>
            </p:grpSpPr>
            <p:sp>
              <p:nvSpPr>
                <p:cNvPr id="369" name="Line 85"/>
                <p:cNvSpPr/>
                <p:nvPr/>
              </p:nvSpPr>
              <p:spPr>
                <a:xfrm>
                  <a:off x="8507520" y="63882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70" name=""/>
                <p:cNvSpPr txBox="1"/>
                <p:nvPr/>
              </p:nvSpPr>
              <p:spPr>
                <a:xfrm>
                  <a:off x="8507520" y="63882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71" name=""/>
              <p:cNvGrpSpPr/>
              <p:nvPr/>
            </p:nvGrpSpPr>
            <p:grpSpPr>
              <a:xfrm>
                <a:off x="8973360" y="6388200"/>
                <a:ext cx="360" cy="468000"/>
                <a:chOff x="8973360" y="6388200"/>
                <a:chExt cx="360" cy="468000"/>
              </a:xfrm>
            </p:grpSpPr>
            <p:sp>
              <p:nvSpPr>
                <p:cNvPr id="372" name="Line 86"/>
                <p:cNvSpPr/>
                <p:nvPr/>
              </p:nvSpPr>
              <p:spPr>
                <a:xfrm>
                  <a:off x="8973360" y="63882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73" name=""/>
                <p:cNvSpPr txBox="1"/>
                <p:nvPr/>
              </p:nvSpPr>
              <p:spPr>
                <a:xfrm>
                  <a:off x="8973360" y="63882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74" name=""/>
              <p:cNvGrpSpPr/>
              <p:nvPr/>
            </p:nvGrpSpPr>
            <p:grpSpPr>
              <a:xfrm>
                <a:off x="8507520" y="6388200"/>
                <a:ext cx="467640" cy="360"/>
                <a:chOff x="8507520" y="6388200"/>
                <a:chExt cx="467640" cy="360"/>
              </a:xfrm>
            </p:grpSpPr>
            <p:sp>
              <p:nvSpPr>
                <p:cNvPr id="375" name="Line 87"/>
                <p:cNvSpPr/>
                <p:nvPr/>
              </p:nvSpPr>
              <p:spPr>
                <a:xfrm>
                  <a:off x="8507520" y="638820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76" name=""/>
                <p:cNvSpPr txBox="1"/>
                <p:nvPr/>
              </p:nvSpPr>
              <p:spPr>
                <a:xfrm>
                  <a:off x="8507520" y="638820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77" name=""/>
              <p:cNvGrpSpPr/>
              <p:nvPr/>
            </p:nvGrpSpPr>
            <p:grpSpPr>
              <a:xfrm>
                <a:off x="8507520" y="6854400"/>
                <a:ext cx="467640" cy="360"/>
                <a:chOff x="8507520" y="6854400"/>
                <a:chExt cx="467640" cy="360"/>
              </a:xfrm>
            </p:grpSpPr>
            <p:sp>
              <p:nvSpPr>
                <p:cNvPr id="378" name="Line 88"/>
                <p:cNvSpPr/>
                <p:nvPr/>
              </p:nvSpPr>
              <p:spPr>
                <a:xfrm>
                  <a:off x="8507520" y="685440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79" name=""/>
                <p:cNvSpPr txBox="1"/>
                <p:nvPr/>
              </p:nvSpPr>
              <p:spPr>
                <a:xfrm>
                  <a:off x="8507520" y="685440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80" name=""/>
              <p:cNvGrpSpPr/>
              <p:nvPr/>
            </p:nvGrpSpPr>
            <p:grpSpPr>
              <a:xfrm>
                <a:off x="8740440" y="6388200"/>
                <a:ext cx="360" cy="468000"/>
                <a:chOff x="8740440" y="6388200"/>
                <a:chExt cx="360" cy="468000"/>
              </a:xfrm>
            </p:grpSpPr>
            <p:sp>
              <p:nvSpPr>
                <p:cNvPr id="381" name="Line 89"/>
                <p:cNvSpPr/>
                <p:nvPr/>
              </p:nvSpPr>
              <p:spPr>
                <a:xfrm>
                  <a:off x="8740440" y="63882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82" name=""/>
                <p:cNvSpPr txBox="1"/>
                <p:nvPr/>
              </p:nvSpPr>
              <p:spPr>
                <a:xfrm>
                  <a:off x="8740440" y="63882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83" name=""/>
              <p:cNvGrpSpPr/>
              <p:nvPr/>
            </p:nvGrpSpPr>
            <p:grpSpPr>
              <a:xfrm>
                <a:off x="8507520" y="6621120"/>
                <a:ext cx="467640" cy="360"/>
                <a:chOff x="8507520" y="6621120"/>
                <a:chExt cx="467640" cy="360"/>
              </a:xfrm>
            </p:grpSpPr>
            <p:sp>
              <p:nvSpPr>
                <p:cNvPr id="384" name="Line 90"/>
                <p:cNvSpPr/>
                <p:nvPr/>
              </p:nvSpPr>
              <p:spPr>
                <a:xfrm>
                  <a:off x="8507520" y="662112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85" name=""/>
                <p:cNvSpPr txBox="1"/>
                <p:nvPr/>
              </p:nvSpPr>
              <p:spPr>
                <a:xfrm>
                  <a:off x="8507520" y="662112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386" name="组合 8281"/>
            <p:cNvGrpSpPr/>
            <p:nvPr/>
          </p:nvGrpSpPr>
          <p:grpSpPr>
            <a:xfrm>
              <a:off x="9442440" y="5689800"/>
              <a:ext cx="468000" cy="468000"/>
              <a:chOff x="9442440" y="5689800"/>
              <a:chExt cx="468000" cy="468000"/>
            </a:xfrm>
          </p:grpSpPr>
          <p:grpSp>
            <p:nvGrpSpPr>
              <p:cNvPr id="387" name=""/>
              <p:cNvGrpSpPr/>
              <p:nvPr/>
            </p:nvGrpSpPr>
            <p:grpSpPr>
              <a:xfrm>
                <a:off x="9442440" y="5689800"/>
                <a:ext cx="360" cy="468000"/>
                <a:chOff x="9442440" y="5689800"/>
                <a:chExt cx="360" cy="468000"/>
              </a:xfrm>
            </p:grpSpPr>
            <p:sp>
              <p:nvSpPr>
                <p:cNvPr id="388" name="Line 92"/>
                <p:cNvSpPr/>
                <p:nvPr/>
              </p:nvSpPr>
              <p:spPr>
                <a:xfrm>
                  <a:off x="944244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89" name=""/>
                <p:cNvSpPr txBox="1"/>
                <p:nvPr/>
              </p:nvSpPr>
              <p:spPr>
                <a:xfrm>
                  <a:off x="944244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90" name=""/>
              <p:cNvGrpSpPr/>
              <p:nvPr/>
            </p:nvGrpSpPr>
            <p:grpSpPr>
              <a:xfrm>
                <a:off x="9908640" y="5689800"/>
                <a:ext cx="360" cy="468000"/>
                <a:chOff x="9908640" y="5689800"/>
                <a:chExt cx="360" cy="468000"/>
              </a:xfrm>
            </p:grpSpPr>
            <p:sp>
              <p:nvSpPr>
                <p:cNvPr id="391" name="Line 93"/>
                <p:cNvSpPr/>
                <p:nvPr/>
              </p:nvSpPr>
              <p:spPr>
                <a:xfrm>
                  <a:off x="990864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92" name=""/>
                <p:cNvSpPr txBox="1"/>
                <p:nvPr/>
              </p:nvSpPr>
              <p:spPr>
                <a:xfrm>
                  <a:off x="990864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93" name=""/>
              <p:cNvGrpSpPr/>
              <p:nvPr/>
            </p:nvGrpSpPr>
            <p:grpSpPr>
              <a:xfrm>
                <a:off x="9442440" y="5689800"/>
                <a:ext cx="468000" cy="360"/>
                <a:chOff x="9442440" y="5689800"/>
                <a:chExt cx="468000" cy="360"/>
              </a:xfrm>
            </p:grpSpPr>
            <p:sp>
              <p:nvSpPr>
                <p:cNvPr id="394" name="Line 94"/>
                <p:cNvSpPr/>
                <p:nvPr/>
              </p:nvSpPr>
              <p:spPr>
                <a:xfrm>
                  <a:off x="9442440" y="56898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95" name=""/>
                <p:cNvSpPr txBox="1"/>
                <p:nvPr/>
              </p:nvSpPr>
              <p:spPr>
                <a:xfrm>
                  <a:off x="9442440" y="56898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96" name=""/>
              <p:cNvGrpSpPr/>
              <p:nvPr/>
            </p:nvGrpSpPr>
            <p:grpSpPr>
              <a:xfrm>
                <a:off x="9442440" y="6156000"/>
                <a:ext cx="468000" cy="360"/>
                <a:chOff x="9442440" y="6156000"/>
                <a:chExt cx="468000" cy="360"/>
              </a:xfrm>
            </p:grpSpPr>
            <p:sp>
              <p:nvSpPr>
                <p:cNvPr id="397" name="Line 95"/>
                <p:cNvSpPr/>
                <p:nvPr/>
              </p:nvSpPr>
              <p:spPr>
                <a:xfrm>
                  <a:off x="9442440" y="61560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98" name=""/>
                <p:cNvSpPr txBox="1"/>
                <p:nvPr/>
              </p:nvSpPr>
              <p:spPr>
                <a:xfrm>
                  <a:off x="9442440" y="61560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99" name=""/>
              <p:cNvGrpSpPr/>
              <p:nvPr/>
            </p:nvGrpSpPr>
            <p:grpSpPr>
              <a:xfrm>
                <a:off x="9675360" y="5689800"/>
                <a:ext cx="360" cy="468000"/>
                <a:chOff x="9675360" y="5689800"/>
                <a:chExt cx="360" cy="468000"/>
              </a:xfrm>
            </p:grpSpPr>
            <p:sp>
              <p:nvSpPr>
                <p:cNvPr id="400" name="Line 96"/>
                <p:cNvSpPr/>
                <p:nvPr/>
              </p:nvSpPr>
              <p:spPr>
                <a:xfrm>
                  <a:off x="967536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01" name=""/>
                <p:cNvSpPr txBox="1"/>
                <p:nvPr/>
              </p:nvSpPr>
              <p:spPr>
                <a:xfrm>
                  <a:off x="967536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02" name=""/>
              <p:cNvGrpSpPr/>
              <p:nvPr/>
            </p:nvGrpSpPr>
            <p:grpSpPr>
              <a:xfrm>
                <a:off x="9442440" y="5922720"/>
                <a:ext cx="468000" cy="360"/>
                <a:chOff x="9442440" y="5922720"/>
                <a:chExt cx="468000" cy="360"/>
              </a:xfrm>
            </p:grpSpPr>
            <p:sp>
              <p:nvSpPr>
                <p:cNvPr id="403" name="Line 97"/>
                <p:cNvSpPr/>
                <p:nvPr/>
              </p:nvSpPr>
              <p:spPr>
                <a:xfrm>
                  <a:off x="9442440" y="592272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04" name=""/>
                <p:cNvSpPr txBox="1"/>
                <p:nvPr/>
              </p:nvSpPr>
              <p:spPr>
                <a:xfrm>
                  <a:off x="9442440" y="592272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405" name="组合 8288"/>
            <p:cNvGrpSpPr/>
            <p:nvPr/>
          </p:nvGrpSpPr>
          <p:grpSpPr>
            <a:xfrm>
              <a:off x="9442440" y="6153480"/>
              <a:ext cx="468000" cy="467640"/>
              <a:chOff x="9442440" y="6153480"/>
              <a:chExt cx="468000" cy="467640"/>
            </a:xfrm>
          </p:grpSpPr>
          <p:grpSp>
            <p:nvGrpSpPr>
              <p:cNvPr id="406" name=""/>
              <p:cNvGrpSpPr/>
              <p:nvPr/>
            </p:nvGrpSpPr>
            <p:grpSpPr>
              <a:xfrm>
                <a:off x="9442440" y="6153480"/>
                <a:ext cx="360" cy="467640"/>
                <a:chOff x="9442440" y="6153480"/>
                <a:chExt cx="360" cy="467640"/>
              </a:xfrm>
            </p:grpSpPr>
            <p:sp>
              <p:nvSpPr>
                <p:cNvPr id="407" name="Line 99"/>
                <p:cNvSpPr/>
                <p:nvPr/>
              </p:nvSpPr>
              <p:spPr>
                <a:xfrm>
                  <a:off x="9442440" y="6153480"/>
                  <a:ext cx="0" cy="46764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08" name=""/>
                <p:cNvSpPr txBox="1"/>
                <p:nvPr/>
              </p:nvSpPr>
              <p:spPr>
                <a:xfrm>
                  <a:off x="9442440" y="6153480"/>
                  <a:ext cx="360" cy="46764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09" name=""/>
              <p:cNvGrpSpPr/>
              <p:nvPr/>
            </p:nvGrpSpPr>
            <p:grpSpPr>
              <a:xfrm>
                <a:off x="9908640" y="6153480"/>
                <a:ext cx="360" cy="467640"/>
                <a:chOff x="9908640" y="6153480"/>
                <a:chExt cx="360" cy="467640"/>
              </a:xfrm>
            </p:grpSpPr>
            <p:sp>
              <p:nvSpPr>
                <p:cNvPr id="410" name="Line 100"/>
                <p:cNvSpPr/>
                <p:nvPr/>
              </p:nvSpPr>
              <p:spPr>
                <a:xfrm>
                  <a:off x="9908640" y="6153480"/>
                  <a:ext cx="0" cy="46764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11" name=""/>
                <p:cNvSpPr txBox="1"/>
                <p:nvPr/>
              </p:nvSpPr>
              <p:spPr>
                <a:xfrm>
                  <a:off x="9908640" y="6153480"/>
                  <a:ext cx="360" cy="46764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12" name=""/>
              <p:cNvGrpSpPr/>
              <p:nvPr/>
            </p:nvGrpSpPr>
            <p:grpSpPr>
              <a:xfrm>
                <a:off x="9442440" y="6153480"/>
                <a:ext cx="468000" cy="360"/>
                <a:chOff x="9442440" y="6153480"/>
                <a:chExt cx="468000" cy="360"/>
              </a:xfrm>
            </p:grpSpPr>
            <p:sp>
              <p:nvSpPr>
                <p:cNvPr id="413" name="Line 101"/>
                <p:cNvSpPr/>
                <p:nvPr/>
              </p:nvSpPr>
              <p:spPr>
                <a:xfrm>
                  <a:off x="9442440" y="615348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14" name=""/>
                <p:cNvSpPr txBox="1"/>
                <p:nvPr/>
              </p:nvSpPr>
              <p:spPr>
                <a:xfrm>
                  <a:off x="9442440" y="615348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15" name=""/>
              <p:cNvGrpSpPr/>
              <p:nvPr/>
            </p:nvGrpSpPr>
            <p:grpSpPr>
              <a:xfrm>
                <a:off x="9442440" y="6619320"/>
                <a:ext cx="468000" cy="360"/>
                <a:chOff x="9442440" y="6619320"/>
                <a:chExt cx="468000" cy="360"/>
              </a:xfrm>
            </p:grpSpPr>
            <p:sp>
              <p:nvSpPr>
                <p:cNvPr id="416" name="Line 102"/>
                <p:cNvSpPr/>
                <p:nvPr/>
              </p:nvSpPr>
              <p:spPr>
                <a:xfrm>
                  <a:off x="9442440" y="661932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17" name=""/>
                <p:cNvSpPr txBox="1"/>
                <p:nvPr/>
              </p:nvSpPr>
              <p:spPr>
                <a:xfrm>
                  <a:off x="9442440" y="661932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18" name=""/>
              <p:cNvGrpSpPr/>
              <p:nvPr/>
            </p:nvGrpSpPr>
            <p:grpSpPr>
              <a:xfrm>
                <a:off x="9675360" y="6153480"/>
                <a:ext cx="360" cy="467640"/>
                <a:chOff x="9675360" y="6153480"/>
                <a:chExt cx="360" cy="467640"/>
              </a:xfrm>
            </p:grpSpPr>
            <p:sp>
              <p:nvSpPr>
                <p:cNvPr id="419" name="Line 103"/>
                <p:cNvSpPr/>
                <p:nvPr/>
              </p:nvSpPr>
              <p:spPr>
                <a:xfrm>
                  <a:off x="9675360" y="6153480"/>
                  <a:ext cx="0" cy="46764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20" name=""/>
                <p:cNvSpPr txBox="1"/>
                <p:nvPr/>
              </p:nvSpPr>
              <p:spPr>
                <a:xfrm>
                  <a:off x="9675360" y="6153480"/>
                  <a:ext cx="360" cy="46764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21" name=""/>
              <p:cNvGrpSpPr/>
              <p:nvPr/>
            </p:nvGrpSpPr>
            <p:grpSpPr>
              <a:xfrm>
                <a:off x="9442440" y="6386400"/>
                <a:ext cx="468000" cy="360"/>
                <a:chOff x="9442440" y="6386400"/>
                <a:chExt cx="468000" cy="360"/>
              </a:xfrm>
            </p:grpSpPr>
            <p:sp>
              <p:nvSpPr>
                <p:cNvPr id="422" name="Line 104"/>
                <p:cNvSpPr/>
                <p:nvPr/>
              </p:nvSpPr>
              <p:spPr>
                <a:xfrm>
                  <a:off x="9442440" y="63864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23" name=""/>
                <p:cNvSpPr txBox="1"/>
                <p:nvPr/>
              </p:nvSpPr>
              <p:spPr>
                <a:xfrm>
                  <a:off x="9442440" y="63864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424" name=""/>
            <p:cNvGrpSpPr/>
            <p:nvPr/>
          </p:nvGrpSpPr>
          <p:grpSpPr>
            <a:xfrm>
              <a:off x="234360" y="-7920"/>
              <a:ext cx="360" cy="6856560"/>
              <a:chOff x="234360" y="-7920"/>
              <a:chExt cx="360" cy="6856560"/>
            </a:xfrm>
          </p:grpSpPr>
          <p:sp>
            <p:nvSpPr>
              <p:cNvPr id="425" name="Line 418"/>
              <p:cNvSpPr/>
              <p:nvPr/>
            </p:nvSpPr>
            <p:spPr>
              <a:xfrm flipV="1">
                <a:off x="234720" y="-7920"/>
                <a:ext cx="0" cy="685656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26" name=""/>
              <p:cNvSpPr txBox="1"/>
              <p:nvPr/>
            </p:nvSpPr>
            <p:spPr>
              <a:xfrm rot="10800000">
                <a:off x="234360" y="-7920"/>
                <a:ext cx="360" cy="6856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27" name=""/>
            <p:cNvGrpSpPr/>
            <p:nvPr/>
          </p:nvGrpSpPr>
          <p:grpSpPr>
            <a:xfrm>
              <a:off x="9670680" y="-7920"/>
              <a:ext cx="360" cy="6856560"/>
              <a:chOff x="9670680" y="-7920"/>
              <a:chExt cx="360" cy="6856560"/>
            </a:xfrm>
          </p:grpSpPr>
          <p:sp>
            <p:nvSpPr>
              <p:cNvPr id="428" name="Line 419"/>
              <p:cNvSpPr/>
              <p:nvPr/>
            </p:nvSpPr>
            <p:spPr>
              <a:xfrm flipV="1">
                <a:off x="9671040" y="-7920"/>
                <a:ext cx="0" cy="685656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29" name=""/>
              <p:cNvSpPr txBox="1"/>
              <p:nvPr/>
            </p:nvSpPr>
            <p:spPr>
              <a:xfrm rot="10800000">
                <a:off x="9670680" y="-7920"/>
                <a:ext cx="360" cy="6856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sp>
        <p:nvSpPr>
          <p:cNvPr id="430"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basic grid helps to position all design elements.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It can be copied onto every slide and helps to position images, graphics, charts and texts exactly. The grid is deleted after use.</a:t>
            </a:r>
            <a:endParaRPr b="0" lang="en-US" sz="1700" spc="-1" strike="noStrike">
              <a:solidFill>
                <a:srgbClr val="333333"/>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4F1B-9347-4CD1-BF76-073B75ADECF0}"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863"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38751B2-F9BA-4230-8484-DC0D1A567F56}"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6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ircle segments</a:t>
            </a:r>
            <a:endParaRPr b="0" lang="en-US" sz="2800" spc="-1" strike="noStrike">
              <a:solidFill>
                <a:srgbClr val="333333"/>
              </a:solidFill>
              <a:latin typeface="Arial"/>
            </a:endParaRPr>
          </a:p>
        </p:txBody>
      </p:sp>
      <p:sp>
        <p:nvSpPr>
          <p:cNvPr id="865" name="Text Box 3"/>
          <p:cNvSpPr/>
          <p:nvPr/>
        </p:nvSpPr>
        <p:spPr>
          <a:xfrm>
            <a:off x="3944880" y="1925640"/>
            <a:ext cx="1998720" cy="19512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66" name="PlaceHolder 2"/>
          <p:cNvSpPr>
            <a:spLocks noGrp="1"/>
          </p:cNvSpPr>
          <p:nvPr>
            <p:ph/>
          </p:nvPr>
        </p:nvSpPr>
        <p:spPr>
          <a:xfrm>
            <a:off x="7335720" y="1496520"/>
            <a:ext cx="1619280" cy="2102040"/>
          </a:xfrm>
          <a:prstGeom prst="rect">
            <a:avLst/>
          </a:prstGeom>
          <a:noFill/>
          <a:ln w="0">
            <a:noFill/>
          </a:ln>
        </p:spPr>
        <p:txBody>
          <a:bodyPr lIns="0" rIns="0" tIns="0" bIns="0" anchor="t">
            <a:normAutofit/>
          </a:bodyPr>
          <a:p>
            <a:pPr indent="0">
              <a:lnSpc>
                <a:spcPts val="22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Copytext Headline-Book 17 pt, line spacing 22 pt, spacing after 0.5 lines.</a:t>
            </a:r>
            <a:endParaRPr b="0" lang="en-US" sz="1700" spc="-1" strike="noStrike">
              <a:solidFill>
                <a:srgbClr val="333333"/>
              </a:solidFill>
              <a:latin typeface="Arial"/>
            </a:endParaRPr>
          </a:p>
        </p:txBody>
      </p:sp>
      <p:sp>
        <p:nvSpPr>
          <p:cNvPr id="867" name="Rectangle 5"/>
          <p:cNvSpPr/>
          <p:nvPr/>
        </p:nvSpPr>
        <p:spPr>
          <a:xfrm>
            <a:off x="1019160" y="1496880"/>
            <a:ext cx="1619280" cy="21020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868" name="Rectangle 6"/>
          <p:cNvSpPr/>
          <p:nvPr/>
        </p:nvSpPr>
        <p:spPr>
          <a:xfrm>
            <a:off x="7334280" y="3592440"/>
            <a:ext cx="1619280" cy="205416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grpSp>
        <p:nvGrpSpPr>
          <p:cNvPr id="869" name="组合 54280"/>
          <p:cNvGrpSpPr/>
          <p:nvPr/>
        </p:nvGrpSpPr>
        <p:grpSpPr>
          <a:xfrm>
            <a:off x="2143080" y="731880"/>
            <a:ext cx="5707440" cy="5704200"/>
            <a:chOff x="2143080" y="731880"/>
            <a:chExt cx="5707440" cy="5704200"/>
          </a:xfrm>
        </p:grpSpPr>
        <p:sp>
          <p:nvSpPr>
            <p:cNvPr id="870" name="Text Box 8"/>
            <p:cNvSpPr/>
            <p:nvPr/>
          </p:nvSpPr>
          <p:spPr>
            <a:xfrm>
              <a:off x="4053600" y="2011680"/>
              <a:ext cx="1964880" cy="18972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grpSp>
          <p:nvGrpSpPr>
            <p:cNvPr id="871" name="组合 54282"/>
            <p:cNvGrpSpPr/>
            <p:nvPr/>
          </p:nvGrpSpPr>
          <p:grpSpPr>
            <a:xfrm>
              <a:off x="2143080" y="731880"/>
              <a:ext cx="5707440" cy="5704200"/>
              <a:chOff x="2143080" y="731880"/>
              <a:chExt cx="5707440" cy="5704200"/>
            </a:xfrm>
          </p:grpSpPr>
          <p:sp>
            <p:nvSpPr>
              <p:cNvPr id="872" name="AutoShape 10"/>
              <p:cNvSpPr/>
              <p:nvPr/>
            </p:nvSpPr>
            <p:spPr>
              <a:xfrm rot="18007200">
                <a:off x="2911680" y="1494360"/>
                <a:ext cx="4170240" cy="4178520"/>
              </a:xfrm>
              <a:custGeom>
                <a:avLst/>
                <a:gdLst/>
                <a:ahLst/>
                <a:rect l="l" t="t" r="r" b="b"/>
                <a:pathLst>
                  <a:path w="20134" h="8312">
                    <a:moveTo>
                      <a:pt x="6522" y="8311"/>
                    </a:moveTo>
                    <a:cubicBezTo>
                      <a:pt x="7408" y="6788"/>
                      <a:pt x="9037" y="5850"/>
                      <a:pt x="10800" y="5851"/>
                    </a:cubicBezTo>
                    <a:cubicBezTo>
                      <a:pt x="12562" y="5851"/>
                      <a:pt x="14191" y="6788"/>
                      <a:pt x="15077" y="8311"/>
                    </a:cubicBezTo>
                    <a:lnTo>
                      <a:pt x="20134" y="5368"/>
                    </a:lnTo>
                    <a:cubicBezTo>
                      <a:pt x="18201" y="2044"/>
                      <a:pt x="14645" y="-1"/>
                      <a:pt x="10799" y="0"/>
                    </a:cubicBezTo>
                    <a:cubicBezTo>
                      <a:pt x="6954" y="0"/>
                      <a:pt x="3398" y="2044"/>
                      <a:pt x="1465" y="5368"/>
                    </a:cubicBezTo>
                    <a:lnTo>
                      <a:pt x="6522" y="8311"/>
                    </a:lnTo>
                    <a:close/>
                  </a:path>
                </a:pathLst>
              </a:custGeom>
              <a:solidFill>
                <a:srgbClr val="8994a0"/>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73" name="AutoShape 11"/>
              <p:cNvSpPr/>
              <p:nvPr/>
            </p:nvSpPr>
            <p:spPr>
              <a:xfrm rot="3592200">
                <a:off x="2911320" y="1494720"/>
                <a:ext cx="4170240" cy="4178520"/>
              </a:xfrm>
              <a:custGeom>
                <a:avLst/>
                <a:gdLst/>
                <a:ahLst/>
                <a:rect l="l" t="t" r="r" b="b"/>
                <a:pathLst>
                  <a:path w="20134" h="8312">
                    <a:moveTo>
                      <a:pt x="6522" y="8311"/>
                    </a:moveTo>
                    <a:cubicBezTo>
                      <a:pt x="7408" y="6788"/>
                      <a:pt x="9037" y="5850"/>
                      <a:pt x="10800" y="5851"/>
                    </a:cubicBezTo>
                    <a:cubicBezTo>
                      <a:pt x="12562" y="5851"/>
                      <a:pt x="14191" y="6788"/>
                      <a:pt x="15077" y="8311"/>
                    </a:cubicBezTo>
                    <a:lnTo>
                      <a:pt x="20134" y="5368"/>
                    </a:lnTo>
                    <a:cubicBezTo>
                      <a:pt x="18201" y="2044"/>
                      <a:pt x="14645" y="-1"/>
                      <a:pt x="10799" y="0"/>
                    </a:cubicBezTo>
                    <a:cubicBezTo>
                      <a:pt x="6954" y="0"/>
                      <a:pt x="3398" y="2044"/>
                      <a:pt x="1465" y="5368"/>
                    </a:cubicBezTo>
                    <a:lnTo>
                      <a:pt x="6522" y="8311"/>
                    </a:lnTo>
                    <a:close/>
                  </a:path>
                </a:pathLst>
              </a:custGeom>
              <a:solidFill>
                <a:srgbClr val="00235a"/>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74" name="AutoShape 12"/>
              <p:cNvSpPr/>
              <p:nvPr/>
            </p:nvSpPr>
            <p:spPr>
              <a:xfrm rot="10800000">
                <a:off x="2906280" y="1504800"/>
                <a:ext cx="4189320" cy="4158720"/>
              </a:xfrm>
              <a:custGeom>
                <a:avLst/>
                <a:gdLst/>
                <a:ahLst/>
                <a:rect l="l" t="t" r="r" b="b"/>
                <a:pathLst>
                  <a:path w="20134" h="8312">
                    <a:moveTo>
                      <a:pt x="6522" y="8311"/>
                    </a:moveTo>
                    <a:cubicBezTo>
                      <a:pt x="7408" y="6788"/>
                      <a:pt x="9037" y="5850"/>
                      <a:pt x="10800" y="5851"/>
                    </a:cubicBezTo>
                    <a:cubicBezTo>
                      <a:pt x="12562" y="5851"/>
                      <a:pt x="14191" y="6788"/>
                      <a:pt x="15077" y="8311"/>
                    </a:cubicBezTo>
                    <a:lnTo>
                      <a:pt x="20134" y="5368"/>
                    </a:lnTo>
                    <a:cubicBezTo>
                      <a:pt x="18201" y="2044"/>
                      <a:pt x="14645" y="-1"/>
                      <a:pt x="10799" y="0"/>
                    </a:cubicBezTo>
                    <a:cubicBezTo>
                      <a:pt x="6954" y="0"/>
                      <a:pt x="3398" y="2044"/>
                      <a:pt x="1465" y="5368"/>
                    </a:cubicBezTo>
                    <a:lnTo>
                      <a:pt x="6522" y="8311"/>
                    </a:lnTo>
                    <a:close/>
                  </a:path>
                </a:pathLst>
              </a:custGeom>
              <a:solidFill>
                <a:srgbClr val="aed4f8"/>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75" name="Text Box 13"/>
              <p:cNvSpPr/>
              <p:nvPr/>
            </p:nvSpPr>
            <p:spPr>
              <a:xfrm>
                <a:off x="3091320" y="2968560"/>
                <a:ext cx="961200" cy="19080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76" name="Text Box 14"/>
              <p:cNvSpPr/>
              <p:nvPr/>
            </p:nvSpPr>
            <p:spPr>
              <a:xfrm>
                <a:off x="4038840" y="4952520"/>
                <a:ext cx="1952280" cy="18936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sp>
            <p:nvSpPr>
              <p:cNvPr id="877" name="Text Box 15"/>
              <p:cNvSpPr/>
              <p:nvPr/>
            </p:nvSpPr>
            <p:spPr>
              <a:xfrm>
                <a:off x="5949720" y="2968560"/>
                <a:ext cx="961200" cy="19080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gr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DC44-F660-4449-BFFB-A993CCDAD38A}"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879"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2708540-5EE9-4192-8AB2-3F455174B546}"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8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re chart</a:t>
            </a:r>
            <a:endParaRPr b="0" lang="en-US" sz="2800" spc="-1" strike="noStrike">
              <a:solidFill>
                <a:srgbClr val="333333"/>
              </a:solidFill>
              <a:latin typeface="Arial"/>
            </a:endParaRPr>
          </a:p>
        </p:txBody>
      </p:sp>
      <p:sp>
        <p:nvSpPr>
          <p:cNvPr id="881" name="PlaceHolder 2"/>
          <p:cNvSpPr>
            <a:spLocks noGrp="1"/>
          </p:cNvSpPr>
          <p:nvPr>
            <p:ph/>
          </p:nvPr>
        </p:nvSpPr>
        <p:spPr>
          <a:xfrm>
            <a:off x="5437080" y="1453680"/>
            <a:ext cx="349272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a:t>
            </a:r>
            <a:br>
              <a:rPr sz="2100"/>
            </a:br>
            <a:r>
              <a:rPr b="0" lang="en-GB" sz="2100" spc="-1" strike="noStrike">
                <a:solidFill>
                  <a:srgbClr val="333333"/>
                </a:solidFill>
                <a:latin typeface="Arial"/>
                <a:ea typeface="宋体"/>
              </a:rPr>
              <a:t>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 sed</a:t>
            </a:r>
            <a:endParaRPr b="0" lang="en-US" sz="2100" spc="-1" strike="noStrike">
              <a:solidFill>
                <a:srgbClr val="333333"/>
              </a:solidFill>
              <a:latin typeface="Arial"/>
            </a:endParaRPr>
          </a:p>
          <a:p>
            <a:pPr lvl="1" marL="291960" indent="-2905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diam nonummy nibh euismod tincidunt ut laoreet dolore magna aliquam erat volutpat.</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grpSp>
        <p:nvGrpSpPr>
          <p:cNvPr id="882" name="组合 55301"/>
          <p:cNvGrpSpPr/>
          <p:nvPr/>
        </p:nvGrpSpPr>
        <p:grpSpPr>
          <a:xfrm>
            <a:off x="1031760" y="1496880"/>
            <a:ext cx="4179960" cy="4179960"/>
            <a:chOff x="1031760" y="1496880"/>
            <a:chExt cx="4179960" cy="4179960"/>
          </a:xfrm>
        </p:grpSpPr>
        <p:sp>
          <p:nvSpPr>
            <p:cNvPr id="883" name="Freeform 5"/>
            <p:cNvSpPr/>
            <p:nvPr/>
          </p:nvSpPr>
          <p:spPr>
            <a:xfrm>
              <a:off x="1031760" y="1496880"/>
              <a:ext cx="4179960" cy="4179960"/>
            </a:xfrm>
            <a:custGeom>
              <a:avLst/>
              <a:gdLst/>
              <a:ahLst/>
              <a:rect l="l" t="t" r="r" b="b"/>
              <a:pathLst>
                <a:path w="5992" h="5992">
                  <a:moveTo>
                    <a:pt x="2993" y="0"/>
                  </a:moveTo>
                  <a:lnTo>
                    <a:pt x="2842" y="6"/>
                  </a:lnTo>
                  <a:lnTo>
                    <a:pt x="2688" y="17"/>
                  </a:lnTo>
                  <a:lnTo>
                    <a:pt x="2537" y="37"/>
                  </a:lnTo>
                  <a:lnTo>
                    <a:pt x="2392" y="63"/>
                  </a:lnTo>
                  <a:lnTo>
                    <a:pt x="2247" y="94"/>
                  </a:lnTo>
                  <a:lnTo>
                    <a:pt x="2103" y="135"/>
                  </a:lnTo>
                  <a:lnTo>
                    <a:pt x="1967" y="183"/>
                  </a:lnTo>
                  <a:lnTo>
                    <a:pt x="1828" y="240"/>
                  </a:lnTo>
                  <a:lnTo>
                    <a:pt x="1699" y="296"/>
                  </a:lnTo>
                  <a:lnTo>
                    <a:pt x="1568" y="363"/>
                  </a:lnTo>
                  <a:lnTo>
                    <a:pt x="1440" y="436"/>
                  </a:lnTo>
                  <a:lnTo>
                    <a:pt x="1320" y="513"/>
                  </a:lnTo>
                  <a:lnTo>
                    <a:pt x="1201" y="596"/>
                  </a:lnTo>
                  <a:lnTo>
                    <a:pt x="1092" y="684"/>
                  </a:lnTo>
                  <a:lnTo>
                    <a:pt x="984" y="778"/>
                  </a:lnTo>
                  <a:lnTo>
                    <a:pt x="875" y="876"/>
                  </a:lnTo>
                  <a:lnTo>
                    <a:pt x="778" y="984"/>
                  </a:lnTo>
                  <a:lnTo>
                    <a:pt x="684" y="1094"/>
                  </a:lnTo>
                  <a:lnTo>
                    <a:pt x="596" y="1203"/>
                  </a:lnTo>
                  <a:lnTo>
                    <a:pt x="513" y="1321"/>
                  </a:lnTo>
                  <a:lnTo>
                    <a:pt x="436" y="1446"/>
                  </a:lnTo>
                  <a:lnTo>
                    <a:pt x="362" y="1571"/>
                  </a:lnTo>
                  <a:lnTo>
                    <a:pt x="296" y="1699"/>
                  </a:lnTo>
                  <a:lnTo>
                    <a:pt x="239" y="1830"/>
                  </a:lnTo>
                  <a:lnTo>
                    <a:pt x="182" y="1970"/>
                  </a:lnTo>
                  <a:lnTo>
                    <a:pt x="134" y="2104"/>
                  </a:lnTo>
                  <a:lnTo>
                    <a:pt x="94" y="2249"/>
                  </a:lnTo>
                  <a:lnTo>
                    <a:pt x="63" y="2394"/>
                  </a:lnTo>
                  <a:lnTo>
                    <a:pt x="37" y="2538"/>
                  </a:lnTo>
                  <a:lnTo>
                    <a:pt x="15" y="2689"/>
                  </a:lnTo>
                  <a:lnTo>
                    <a:pt x="6" y="2845"/>
                  </a:lnTo>
                  <a:lnTo>
                    <a:pt x="0" y="2994"/>
                  </a:lnTo>
                  <a:lnTo>
                    <a:pt x="6" y="3150"/>
                  </a:lnTo>
                  <a:lnTo>
                    <a:pt x="15" y="3299"/>
                  </a:lnTo>
                  <a:lnTo>
                    <a:pt x="37" y="3450"/>
                  </a:lnTo>
                  <a:lnTo>
                    <a:pt x="63" y="3600"/>
                  </a:lnTo>
                  <a:lnTo>
                    <a:pt x="94" y="3746"/>
                  </a:lnTo>
                  <a:lnTo>
                    <a:pt x="134" y="3885"/>
                  </a:lnTo>
                  <a:lnTo>
                    <a:pt x="182" y="4025"/>
                  </a:lnTo>
                  <a:lnTo>
                    <a:pt x="239" y="4159"/>
                  </a:lnTo>
                  <a:lnTo>
                    <a:pt x="296" y="4294"/>
                  </a:lnTo>
                  <a:lnTo>
                    <a:pt x="362" y="4424"/>
                  </a:lnTo>
                  <a:lnTo>
                    <a:pt x="436" y="4547"/>
                  </a:lnTo>
                  <a:lnTo>
                    <a:pt x="513" y="4672"/>
                  </a:lnTo>
                  <a:lnTo>
                    <a:pt x="596" y="4786"/>
                  </a:lnTo>
                  <a:lnTo>
                    <a:pt x="684" y="4900"/>
                  </a:lnTo>
                  <a:lnTo>
                    <a:pt x="778" y="5009"/>
                  </a:lnTo>
                  <a:lnTo>
                    <a:pt x="875" y="5112"/>
                  </a:lnTo>
                  <a:lnTo>
                    <a:pt x="984" y="5211"/>
                  </a:lnTo>
                  <a:lnTo>
                    <a:pt x="1092" y="5309"/>
                  </a:lnTo>
                  <a:lnTo>
                    <a:pt x="1201" y="5397"/>
                  </a:lnTo>
                  <a:lnTo>
                    <a:pt x="1320" y="5480"/>
                  </a:lnTo>
                  <a:lnTo>
                    <a:pt x="1440" y="5559"/>
                  </a:lnTo>
                  <a:lnTo>
                    <a:pt x="1568" y="5630"/>
                  </a:lnTo>
                  <a:lnTo>
                    <a:pt x="1699" y="5698"/>
                  </a:lnTo>
                  <a:lnTo>
                    <a:pt x="1828" y="5755"/>
                  </a:lnTo>
                  <a:lnTo>
                    <a:pt x="1967" y="5812"/>
                  </a:lnTo>
                  <a:lnTo>
                    <a:pt x="2103" y="5858"/>
                  </a:lnTo>
                  <a:lnTo>
                    <a:pt x="2247" y="5895"/>
                  </a:lnTo>
                  <a:lnTo>
                    <a:pt x="2392" y="5930"/>
                  </a:lnTo>
                  <a:lnTo>
                    <a:pt x="2537" y="5956"/>
                  </a:lnTo>
                  <a:lnTo>
                    <a:pt x="2688" y="5978"/>
                  </a:lnTo>
                  <a:lnTo>
                    <a:pt x="2842" y="5987"/>
                  </a:lnTo>
                  <a:lnTo>
                    <a:pt x="2993" y="5992"/>
                  </a:lnTo>
                  <a:lnTo>
                    <a:pt x="3150" y="5987"/>
                  </a:lnTo>
                  <a:lnTo>
                    <a:pt x="3298" y="5978"/>
                  </a:lnTo>
                  <a:lnTo>
                    <a:pt x="3449" y="5956"/>
                  </a:lnTo>
                  <a:lnTo>
                    <a:pt x="3600" y="5930"/>
                  </a:lnTo>
                  <a:lnTo>
                    <a:pt x="3745" y="5895"/>
                  </a:lnTo>
                  <a:lnTo>
                    <a:pt x="3885" y="5858"/>
                  </a:lnTo>
                  <a:lnTo>
                    <a:pt x="4025" y="5812"/>
                  </a:lnTo>
                  <a:lnTo>
                    <a:pt x="4159" y="5755"/>
                  </a:lnTo>
                  <a:lnTo>
                    <a:pt x="4293" y="5698"/>
                  </a:lnTo>
                  <a:lnTo>
                    <a:pt x="4424" y="5630"/>
                  </a:lnTo>
                  <a:lnTo>
                    <a:pt x="4547" y="5559"/>
                  </a:lnTo>
                  <a:lnTo>
                    <a:pt x="4672" y="5480"/>
                  </a:lnTo>
                  <a:lnTo>
                    <a:pt x="4786" y="5397"/>
                  </a:lnTo>
                  <a:lnTo>
                    <a:pt x="4900" y="5309"/>
                  </a:lnTo>
                  <a:lnTo>
                    <a:pt x="5008" y="5211"/>
                  </a:lnTo>
                  <a:lnTo>
                    <a:pt x="5111" y="5112"/>
                  </a:lnTo>
                  <a:lnTo>
                    <a:pt x="5211" y="5009"/>
                  </a:lnTo>
                  <a:lnTo>
                    <a:pt x="5308" y="4900"/>
                  </a:lnTo>
                  <a:lnTo>
                    <a:pt x="5396" y="4786"/>
                  </a:lnTo>
                  <a:lnTo>
                    <a:pt x="5479" y="4672"/>
                  </a:lnTo>
                  <a:lnTo>
                    <a:pt x="5556" y="4547"/>
                  </a:lnTo>
                  <a:lnTo>
                    <a:pt x="5630" y="4424"/>
                  </a:lnTo>
                  <a:lnTo>
                    <a:pt x="5696" y="4294"/>
                  </a:lnTo>
                  <a:lnTo>
                    <a:pt x="5753" y="4159"/>
                  </a:lnTo>
                  <a:lnTo>
                    <a:pt x="5810" y="4025"/>
                  </a:lnTo>
                  <a:lnTo>
                    <a:pt x="5858" y="3885"/>
                  </a:lnTo>
                  <a:lnTo>
                    <a:pt x="5893" y="3746"/>
                  </a:lnTo>
                  <a:lnTo>
                    <a:pt x="5929" y="3600"/>
                  </a:lnTo>
                  <a:lnTo>
                    <a:pt x="5955" y="3450"/>
                  </a:lnTo>
                  <a:lnTo>
                    <a:pt x="5977" y="3299"/>
                  </a:lnTo>
                  <a:lnTo>
                    <a:pt x="5986" y="3150"/>
                  </a:lnTo>
                  <a:lnTo>
                    <a:pt x="5992" y="2994"/>
                  </a:lnTo>
                  <a:lnTo>
                    <a:pt x="5986" y="2845"/>
                  </a:lnTo>
                  <a:lnTo>
                    <a:pt x="5977" y="2689"/>
                  </a:lnTo>
                  <a:lnTo>
                    <a:pt x="5955" y="2538"/>
                  </a:lnTo>
                  <a:lnTo>
                    <a:pt x="5929" y="2394"/>
                  </a:lnTo>
                  <a:lnTo>
                    <a:pt x="5893" y="2249"/>
                  </a:lnTo>
                  <a:lnTo>
                    <a:pt x="5858" y="2104"/>
                  </a:lnTo>
                  <a:lnTo>
                    <a:pt x="5810" y="1970"/>
                  </a:lnTo>
                  <a:lnTo>
                    <a:pt x="5753" y="1830"/>
                  </a:lnTo>
                  <a:lnTo>
                    <a:pt x="5696" y="1699"/>
                  </a:lnTo>
                  <a:lnTo>
                    <a:pt x="5630" y="1571"/>
                  </a:lnTo>
                  <a:lnTo>
                    <a:pt x="5556" y="1446"/>
                  </a:lnTo>
                  <a:lnTo>
                    <a:pt x="5479" y="1321"/>
                  </a:lnTo>
                  <a:lnTo>
                    <a:pt x="5396" y="1203"/>
                  </a:lnTo>
                  <a:lnTo>
                    <a:pt x="5308" y="1094"/>
                  </a:lnTo>
                  <a:lnTo>
                    <a:pt x="5211" y="984"/>
                  </a:lnTo>
                  <a:lnTo>
                    <a:pt x="5111" y="876"/>
                  </a:lnTo>
                  <a:lnTo>
                    <a:pt x="5008" y="778"/>
                  </a:lnTo>
                  <a:lnTo>
                    <a:pt x="4900" y="684"/>
                  </a:lnTo>
                  <a:lnTo>
                    <a:pt x="4786" y="596"/>
                  </a:lnTo>
                  <a:lnTo>
                    <a:pt x="4672" y="513"/>
                  </a:lnTo>
                  <a:lnTo>
                    <a:pt x="4547" y="436"/>
                  </a:lnTo>
                  <a:lnTo>
                    <a:pt x="4424" y="363"/>
                  </a:lnTo>
                  <a:lnTo>
                    <a:pt x="4293" y="296"/>
                  </a:lnTo>
                  <a:lnTo>
                    <a:pt x="4159" y="240"/>
                  </a:lnTo>
                  <a:lnTo>
                    <a:pt x="4025" y="183"/>
                  </a:lnTo>
                  <a:lnTo>
                    <a:pt x="3885" y="135"/>
                  </a:lnTo>
                  <a:lnTo>
                    <a:pt x="3745" y="94"/>
                  </a:lnTo>
                  <a:lnTo>
                    <a:pt x="3600" y="63"/>
                  </a:lnTo>
                  <a:lnTo>
                    <a:pt x="3449" y="37"/>
                  </a:lnTo>
                  <a:lnTo>
                    <a:pt x="3298" y="17"/>
                  </a:lnTo>
                  <a:lnTo>
                    <a:pt x="3150" y="6"/>
                  </a:lnTo>
                  <a:lnTo>
                    <a:pt x="2993" y="0"/>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4" name="Freeform 6"/>
            <p:cNvSpPr/>
            <p:nvPr/>
          </p:nvSpPr>
          <p:spPr>
            <a:xfrm>
              <a:off x="1031760" y="1496880"/>
              <a:ext cx="4179960" cy="4179960"/>
            </a:xfrm>
            <a:custGeom>
              <a:avLst/>
              <a:gdLst/>
              <a:ahLst/>
              <a:rect l="l" t="t" r="r" b="b"/>
              <a:pathLst>
                <a:path w="5992" h="5992">
                  <a:moveTo>
                    <a:pt x="2993" y="0"/>
                  </a:moveTo>
                  <a:lnTo>
                    <a:pt x="2842" y="6"/>
                  </a:lnTo>
                  <a:lnTo>
                    <a:pt x="2688" y="17"/>
                  </a:lnTo>
                  <a:lnTo>
                    <a:pt x="2537" y="37"/>
                  </a:lnTo>
                  <a:lnTo>
                    <a:pt x="2392" y="63"/>
                  </a:lnTo>
                  <a:lnTo>
                    <a:pt x="2247" y="94"/>
                  </a:lnTo>
                  <a:lnTo>
                    <a:pt x="2103" y="135"/>
                  </a:lnTo>
                  <a:lnTo>
                    <a:pt x="1967" y="183"/>
                  </a:lnTo>
                  <a:lnTo>
                    <a:pt x="1828" y="240"/>
                  </a:lnTo>
                  <a:lnTo>
                    <a:pt x="1699" y="296"/>
                  </a:lnTo>
                  <a:lnTo>
                    <a:pt x="1568" y="363"/>
                  </a:lnTo>
                  <a:lnTo>
                    <a:pt x="1440" y="436"/>
                  </a:lnTo>
                  <a:lnTo>
                    <a:pt x="1320" y="513"/>
                  </a:lnTo>
                  <a:lnTo>
                    <a:pt x="1201" y="596"/>
                  </a:lnTo>
                  <a:lnTo>
                    <a:pt x="1092" y="684"/>
                  </a:lnTo>
                  <a:lnTo>
                    <a:pt x="984" y="778"/>
                  </a:lnTo>
                  <a:lnTo>
                    <a:pt x="875" y="876"/>
                  </a:lnTo>
                  <a:lnTo>
                    <a:pt x="778" y="984"/>
                  </a:lnTo>
                  <a:lnTo>
                    <a:pt x="684" y="1094"/>
                  </a:lnTo>
                  <a:lnTo>
                    <a:pt x="596" y="1203"/>
                  </a:lnTo>
                  <a:lnTo>
                    <a:pt x="513" y="1321"/>
                  </a:lnTo>
                  <a:lnTo>
                    <a:pt x="436" y="1446"/>
                  </a:lnTo>
                  <a:lnTo>
                    <a:pt x="362" y="1571"/>
                  </a:lnTo>
                  <a:lnTo>
                    <a:pt x="296" y="1699"/>
                  </a:lnTo>
                  <a:lnTo>
                    <a:pt x="239" y="1830"/>
                  </a:lnTo>
                  <a:lnTo>
                    <a:pt x="182" y="1970"/>
                  </a:lnTo>
                  <a:lnTo>
                    <a:pt x="134" y="2104"/>
                  </a:lnTo>
                  <a:lnTo>
                    <a:pt x="94" y="2249"/>
                  </a:lnTo>
                  <a:lnTo>
                    <a:pt x="63" y="2394"/>
                  </a:lnTo>
                  <a:lnTo>
                    <a:pt x="37" y="2538"/>
                  </a:lnTo>
                  <a:lnTo>
                    <a:pt x="15" y="2689"/>
                  </a:lnTo>
                  <a:lnTo>
                    <a:pt x="6" y="2845"/>
                  </a:lnTo>
                  <a:lnTo>
                    <a:pt x="0" y="2994"/>
                  </a:lnTo>
                  <a:lnTo>
                    <a:pt x="6" y="3150"/>
                  </a:lnTo>
                  <a:lnTo>
                    <a:pt x="15" y="3299"/>
                  </a:lnTo>
                  <a:lnTo>
                    <a:pt x="37" y="3450"/>
                  </a:lnTo>
                  <a:lnTo>
                    <a:pt x="63" y="3600"/>
                  </a:lnTo>
                  <a:lnTo>
                    <a:pt x="94" y="3746"/>
                  </a:lnTo>
                  <a:lnTo>
                    <a:pt x="134" y="3885"/>
                  </a:lnTo>
                  <a:lnTo>
                    <a:pt x="182" y="4025"/>
                  </a:lnTo>
                  <a:lnTo>
                    <a:pt x="239" y="4159"/>
                  </a:lnTo>
                  <a:lnTo>
                    <a:pt x="296" y="4294"/>
                  </a:lnTo>
                  <a:lnTo>
                    <a:pt x="362" y="4424"/>
                  </a:lnTo>
                  <a:lnTo>
                    <a:pt x="436" y="4547"/>
                  </a:lnTo>
                  <a:lnTo>
                    <a:pt x="513" y="4672"/>
                  </a:lnTo>
                  <a:lnTo>
                    <a:pt x="596" y="4786"/>
                  </a:lnTo>
                  <a:lnTo>
                    <a:pt x="684" y="4900"/>
                  </a:lnTo>
                  <a:lnTo>
                    <a:pt x="778" y="5009"/>
                  </a:lnTo>
                  <a:lnTo>
                    <a:pt x="875" y="5112"/>
                  </a:lnTo>
                  <a:lnTo>
                    <a:pt x="984" y="5211"/>
                  </a:lnTo>
                  <a:lnTo>
                    <a:pt x="1092" y="5309"/>
                  </a:lnTo>
                  <a:lnTo>
                    <a:pt x="1201" y="5397"/>
                  </a:lnTo>
                  <a:lnTo>
                    <a:pt x="1320" y="5480"/>
                  </a:lnTo>
                  <a:lnTo>
                    <a:pt x="1440" y="5559"/>
                  </a:lnTo>
                  <a:lnTo>
                    <a:pt x="1568" y="5630"/>
                  </a:lnTo>
                  <a:lnTo>
                    <a:pt x="1699" y="5698"/>
                  </a:lnTo>
                  <a:lnTo>
                    <a:pt x="1828" y="5755"/>
                  </a:lnTo>
                  <a:lnTo>
                    <a:pt x="1967" y="5812"/>
                  </a:lnTo>
                  <a:lnTo>
                    <a:pt x="2103" y="5858"/>
                  </a:lnTo>
                  <a:lnTo>
                    <a:pt x="2247" y="5895"/>
                  </a:lnTo>
                  <a:lnTo>
                    <a:pt x="2392" y="5930"/>
                  </a:lnTo>
                  <a:lnTo>
                    <a:pt x="2537" y="5956"/>
                  </a:lnTo>
                  <a:lnTo>
                    <a:pt x="2688" y="5978"/>
                  </a:lnTo>
                  <a:lnTo>
                    <a:pt x="2842" y="5987"/>
                  </a:lnTo>
                  <a:lnTo>
                    <a:pt x="2993" y="5992"/>
                  </a:lnTo>
                  <a:lnTo>
                    <a:pt x="3150" y="5987"/>
                  </a:lnTo>
                  <a:lnTo>
                    <a:pt x="3298" y="5978"/>
                  </a:lnTo>
                  <a:lnTo>
                    <a:pt x="3449" y="5956"/>
                  </a:lnTo>
                  <a:lnTo>
                    <a:pt x="3600" y="5930"/>
                  </a:lnTo>
                  <a:lnTo>
                    <a:pt x="3745" y="5895"/>
                  </a:lnTo>
                  <a:lnTo>
                    <a:pt x="3885" y="5858"/>
                  </a:lnTo>
                  <a:lnTo>
                    <a:pt x="4025" y="5812"/>
                  </a:lnTo>
                  <a:lnTo>
                    <a:pt x="4159" y="5755"/>
                  </a:lnTo>
                  <a:lnTo>
                    <a:pt x="4293" y="5698"/>
                  </a:lnTo>
                  <a:lnTo>
                    <a:pt x="4424" y="5630"/>
                  </a:lnTo>
                  <a:lnTo>
                    <a:pt x="4547" y="5559"/>
                  </a:lnTo>
                  <a:lnTo>
                    <a:pt x="4672" y="5480"/>
                  </a:lnTo>
                  <a:lnTo>
                    <a:pt x="4786" y="5397"/>
                  </a:lnTo>
                  <a:lnTo>
                    <a:pt x="4900" y="5309"/>
                  </a:lnTo>
                  <a:lnTo>
                    <a:pt x="5008" y="5211"/>
                  </a:lnTo>
                  <a:lnTo>
                    <a:pt x="5111" y="5112"/>
                  </a:lnTo>
                  <a:lnTo>
                    <a:pt x="5211" y="5009"/>
                  </a:lnTo>
                  <a:lnTo>
                    <a:pt x="5308" y="4900"/>
                  </a:lnTo>
                  <a:lnTo>
                    <a:pt x="5396" y="4786"/>
                  </a:lnTo>
                  <a:lnTo>
                    <a:pt x="5479" y="4672"/>
                  </a:lnTo>
                  <a:lnTo>
                    <a:pt x="5556" y="4547"/>
                  </a:lnTo>
                  <a:lnTo>
                    <a:pt x="5630" y="4424"/>
                  </a:lnTo>
                  <a:lnTo>
                    <a:pt x="5696" y="4294"/>
                  </a:lnTo>
                  <a:lnTo>
                    <a:pt x="5753" y="4159"/>
                  </a:lnTo>
                  <a:lnTo>
                    <a:pt x="5810" y="4025"/>
                  </a:lnTo>
                  <a:lnTo>
                    <a:pt x="5858" y="3885"/>
                  </a:lnTo>
                  <a:lnTo>
                    <a:pt x="5893" y="3746"/>
                  </a:lnTo>
                  <a:lnTo>
                    <a:pt x="5929" y="3600"/>
                  </a:lnTo>
                  <a:lnTo>
                    <a:pt x="5955" y="3450"/>
                  </a:lnTo>
                  <a:lnTo>
                    <a:pt x="5977" y="3299"/>
                  </a:lnTo>
                  <a:lnTo>
                    <a:pt x="5986" y="3150"/>
                  </a:lnTo>
                  <a:lnTo>
                    <a:pt x="5992" y="2994"/>
                  </a:lnTo>
                  <a:lnTo>
                    <a:pt x="5986" y="2845"/>
                  </a:lnTo>
                  <a:lnTo>
                    <a:pt x="5977" y="2689"/>
                  </a:lnTo>
                  <a:lnTo>
                    <a:pt x="5955" y="2538"/>
                  </a:lnTo>
                  <a:lnTo>
                    <a:pt x="5929" y="2394"/>
                  </a:lnTo>
                  <a:lnTo>
                    <a:pt x="5893" y="2249"/>
                  </a:lnTo>
                  <a:lnTo>
                    <a:pt x="5858" y="2104"/>
                  </a:lnTo>
                  <a:lnTo>
                    <a:pt x="5810" y="1970"/>
                  </a:lnTo>
                  <a:lnTo>
                    <a:pt x="5753" y="1830"/>
                  </a:lnTo>
                  <a:lnTo>
                    <a:pt x="5696" y="1699"/>
                  </a:lnTo>
                  <a:lnTo>
                    <a:pt x="5630" y="1571"/>
                  </a:lnTo>
                  <a:lnTo>
                    <a:pt x="5556" y="1446"/>
                  </a:lnTo>
                  <a:lnTo>
                    <a:pt x="5479" y="1321"/>
                  </a:lnTo>
                  <a:lnTo>
                    <a:pt x="5396" y="1203"/>
                  </a:lnTo>
                  <a:lnTo>
                    <a:pt x="5308" y="1094"/>
                  </a:lnTo>
                  <a:lnTo>
                    <a:pt x="5211" y="984"/>
                  </a:lnTo>
                  <a:lnTo>
                    <a:pt x="5111" y="876"/>
                  </a:lnTo>
                  <a:lnTo>
                    <a:pt x="5008" y="778"/>
                  </a:lnTo>
                  <a:lnTo>
                    <a:pt x="4900" y="684"/>
                  </a:lnTo>
                  <a:lnTo>
                    <a:pt x="4786" y="596"/>
                  </a:lnTo>
                  <a:lnTo>
                    <a:pt x="4672" y="513"/>
                  </a:lnTo>
                  <a:lnTo>
                    <a:pt x="4547" y="436"/>
                  </a:lnTo>
                  <a:lnTo>
                    <a:pt x="4424" y="363"/>
                  </a:lnTo>
                  <a:lnTo>
                    <a:pt x="4293" y="296"/>
                  </a:lnTo>
                  <a:lnTo>
                    <a:pt x="4159" y="240"/>
                  </a:lnTo>
                  <a:lnTo>
                    <a:pt x="4025" y="183"/>
                  </a:lnTo>
                  <a:lnTo>
                    <a:pt x="3885" y="135"/>
                  </a:lnTo>
                  <a:lnTo>
                    <a:pt x="3745" y="94"/>
                  </a:lnTo>
                  <a:lnTo>
                    <a:pt x="3600" y="63"/>
                  </a:lnTo>
                  <a:lnTo>
                    <a:pt x="3449" y="37"/>
                  </a:lnTo>
                  <a:lnTo>
                    <a:pt x="3298" y="17"/>
                  </a:lnTo>
                  <a:lnTo>
                    <a:pt x="3150" y="6"/>
                  </a:lnTo>
                  <a:lnTo>
                    <a:pt x="2993" y="0"/>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5" name="Freeform 7"/>
            <p:cNvSpPr/>
            <p:nvPr/>
          </p:nvSpPr>
          <p:spPr>
            <a:xfrm>
              <a:off x="1522440" y="1987560"/>
              <a:ext cx="3197160" cy="3198600"/>
            </a:xfrm>
            <a:custGeom>
              <a:avLst/>
              <a:gdLst/>
              <a:ahLst/>
              <a:rect l="l" t="t" r="r" b="b"/>
              <a:pathLst>
                <a:path w="4584" h="4583">
                  <a:moveTo>
                    <a:pt x="2289" y="0"/>
                  </a:moveTo>
                  <a:lnTo>
                    <a:pt x="2175" y="5"/>
                  </a:lnTo>
                  <a:lnTo>
                    <a:pt x="2056" y="11"/>
                  </a:lnTo>
                  <a:lnTo>
                    <a:pt x="1942" y="25"/>
                  </a:lnTo>
                  <a:lnTo>
                    <a:pt x="1828" y="47"/>
                  </a:lnTo>
                  <a:lnTo>
                    <a:pt x="1719" y="73"/>
                  </a:lnTo>
                  <a:lnTo>
                    <a:pt x="1611" y="104"/>
                  </a:lnTo>
                  <a:lnTo>
                    <a:pt x="1502" y="139"/>
                  </a:lnTo>
                  <a:lnTo>
                    <a:pt x="1399" y="182"/>
                  </a:lnTo>
                  <a:lnTo>
                    <a:pt x="1300" y="228"/>
                  </a:lnTo>
                  <a:lnTo>
                    <a:pt x="1203" y="279"/>
                  </a:lnTo>
                  <a:lnTo>
                    <a:pt x="1103" y="332"/>
                  </a:lnTo>
                  <a:lnTo>
                    <a:pt x="1010" y="393"/>
                  </a:lnTo>
                  <a:lnTo>
                    <a:pt x="921" y="456"/>
                  </a:lnTo>
                  <a:lnTo>
                    <a:pt x="835" y="524"/>
                  </a:lnTo>
                  <a:lnTo>
                    <a:pt x="752" y="595"/>
                  </a:lnTo>
                  <a:lnTo>
                    <a:pt x="673" y="673"/>
                  </a:lnTo>
                  <a:lnTo>
                    <a:pt x="596" y="752"/>
                  </a:lnTo>
                  <a:lnTo>
                    <a:pt x="524" y="834"/>
                  </a:lnTo>
                  <a:lnTo>
                    <a:pt x="456" y="923"/>
                  </a:lnTo>
                  <a:lnTo>
                    <a:pt x="394" y="1011"/>
                  </a:lnTo>
                  <a:lnTo>
                    <a:pt x="331" y="1103"/>
                  </a:lnTo>
                  <a:lnTo>
                    <a:pt x="280" y="1202"/>
                  </a:lnTo>
                  <a:lnTo>
                    <a:pt x="228" y="1300"/>
                  </a:lnTo>
                  <a:lnTo>
                    <a:pt x="182" y="1399"/>
                  </a:lnTo>
                  <a:lnTo>
                    <a:pt x="140" y="1502"/>
                  </a:lnTo>
                  <a:lnTo>
                    <a:pt x="103" y="1610"/>
                  </a:lnTo>
                  <a:lnTo>
                    <a:pt x="74" y="1719"/>
                  </a:lnTo>
                  <a:lnTo>
                    <a:pt x="46" y="1829"/>
                  </a:lnTo>
                  <a:lnTo>
                    <a:pt x="26" y="1943"/>
                  </a:lnTo>
                  <a:lnTo>
                    <a:pt x="11" y="2057"/>
                  </a:lnTo>
                  <a:lnTo>
                    <a:pt x="6" y="2175"/>
                  </a:lnTo>
                  <a:lnTo>
                    <a:pt x="0" y="2289"/>
                  </a:lnTo>
                  <a:lnTo>
                    <a:pt x="6" y="2408"/>
                  </a:lnTo>
                  <a:lnTo>
                    <a:pt x="11" y="2528"/>
                  </a:lnTo>
                  <a:lnTo>
                    <a:pt x="26" y="2642"/>
                  </a:lnTo>
                  <a:lnTo>
                    <a:pt x="46" y="2750"/>
                  </a:lnTo>
                  <a:lnTo>
                    <a:pt x="74" y="2864"/>
                  </a:lnTo>
                  <a:lnTo>
                    <a:pt x="103" y="2973"/>
                  </a:lnTo>
                  <a:lnTo>
                    <a:pt x="140" y="3076"/>
                  </a:lnTo>
                  <a:lnTo>
                    <a:pt x="182" y="3180"/>
                  </a:lnTo>
                  <a:lnTo>
                    <a:pt x="228" y="3283"/>
                  </a:lnTo>
                  <a:lnTo>
                    <a:pt x="280" y="3383"/>
                  </a:lnTo>
                  <a:lnTo>
                    <a:pt x="331" y="3480"/>
                  </a:lnTo>
                  <a:lnTo>
                    <a:pt x="394" y="3574"/>
                  </a:lnTo>
                  <a:lnTo>
                    <a:pt x="456" y="3662"/>
                  </a:lnTo>
                  <a:lnTo>
                    <a:pt x="524" y="3750"/>
                  </a:lnTo>
                  <a:lnTo>
                    <a:pt x="596" y="3833"/>
                  </a:lnTo>
                  <a:lnTo>
                    <a:pt x="673" y="3910"/>
                  </a:lnTo>
                  <a:lnTo>
                    <a:pt x="752" y="3988"/>
                  </a:lnTo>
                  <a:lnTo>
                    <a:pt x="835" y="4061"/>
                  </a:lnTo>
                  <a:lnTo>
                    <a:pt x="921" y="4127"/>
                  </a:lnTo>
                  <a:lnTo>
                    <a:pt x="1010" y="4190"/>
                  </a:lnTo>
                  <a:lnTo>
                    <a:pt x="1103" y="4252"/>
                  </a:lnTo>
                  <a:lnTo>
                    <a:pt x="1203" y="4304"/>
                  </a:lnTo>
                  <a:lnTo>
                    <a:pt x="1300" y="4355"/>
                  </a:lnTo>
                  <a:lnTo>
                    <a:pt x="1399" y="4403"/>
                  </a:lnTo>
                  <a:lnTo>
                    <a:pt x="1502" y="4444"/>
                  </a:lnTo>
                  <a:lnTo>
                    <a:pt x="1611" y="4480"/>
                  </a:lnTo>
                  <a:lnTo>
                    <a:pt x="1719" y="4512"/>
                  </a:lnTo>
                  <a:lnTo>
                    <a:pt x="1828" y="4537"/>
                  </a:lnTo>
                  <a:lnTo>
                    <a:pt x="1942" y="4552"/>
                  </a:lnTo>
                  <a:lnTo>
                    <a:pt x="2056" y="4569"/>
                  </a:lnTo>
                  <a:lnTo>
                    <a:pt x="2175" y="4578"/>
                  </a:lnTo>
                  <a:lnTo>
                    <a:pt x="2289" y="4583"/>
                  </a:lnTo>
                  <a:lnTo>
                    <a:pt x="2409" y="4578"/>
                  </a:lnTo>
                  <a:lnTo>
                    <a:pt x="2528" y="4569"/>
                  </a:lnTo>
                  <a:lnTo>
                    <a:pt x="2642" y="4552"/>
                  </a:lnTo>
                  <a:lnTo>
                    <a:pt x="2751" y="4537"/>
                  </a:lnTo>
                  <a:lnTo>
                    <a:pt x="2865" y="4512"/>
                  </a:lnTo>
                  <a:lnTo>
                    <a:pt x="2973" y="4480"/>
                  </a:lnTo>
                  <a:lnTo>
                    <a:pt x="3076" y="4444"/>
                  </a:lnTo>
                  <a:lnTo>
                    <a:pt x="3181" y="4403"/>
                  </a:lnTo>
                  <a:lnTo>
                    <a:pt x="3284" y="4355"/>
                  </a:lnTo>
                  <a:lnTo>
                    <a:pt x="3381" y="4304"/>
                  </a:lnTo>
                  <a:lnTo>
                    <a:pt x="3481" y="4252"/>
                  </a:lnTo>
                  <a:lnTo>
                    <a:pt x="3574" y="4190"/>
                  </a:lnTo>
                  <a:lnTo>
                    <a:pt x="3663" y="4127"/>
                  </a:lnTo>
                  <a:lnTo>
                    <a:pt x="3749" y="4061"/>
                  </a:lnTo>
                  <a:lnTo>
                    <a:pt x="3832" y="3988"/>
                  </a:lnTo>
                  <a:lnTo>
                    <a:pt x="3911" y="3910"/>
                  </a:lnTo>
                  <a:lnTo>
                    <a:pt x="3988" y="3833"/>
                  </a:lnTo>
                  <a:lnTo>
                    <a:pt x="4060" y="3750"/>
                  </a:lnTo>
                  <a:lnTo>
                    <a:pt x="4128" y="3662"/>
                  </a:lnTo>
                  <a:lnTo>
                    <a:pt x="4190" y="3574"/>
                  </a:lnTo>
                  <a:lnTo>
                    <a:pt x="4253" y="3480"/>
                  </a:lnTo>
                  <a:lnTo>
                    <a:pt x="4304" y="3383"/>
                  </a:lnTo>
                  <a:lnTo>
                    <a:pt x="4356" y="3283"/>
                  </a:lnTo>
                  <a:lnTo>
                    <a:pt x="4402" y="3180"/>
                  </a:lnTo>
                  <a:lnTo>
                    <a:pt x="4444" y="3076"/>
                  </a:lnTo>
                  <a:lnTo>
                    <a:pt x="4481" y="2973"/>
                  </a:lnTo>
                  <a:lnTo>
                    <a:pt x="4510" y="2864"/>
                  </a:lnTo>
                  <a:lnTo>
                    <a:pt x="4538" y="2750"/>
                  </a:lnTo>
                  <a:lnTo>
                    <a:pt x="4553" y="2642"/>
                  </a:lnTo>
                  <a:lnTo>
                    <a:pt x="4567" y="2528"/>
                  </a:lnTo>
                  <a:lnTo>
                    <a:pt x="4578" y="2408"/>
                  </a:lnTo>
                  <a:lnTo>
                    <a:pt x="4584" y="2289"/>
                  </a:lnTo>
                  <a:lnTo>
                    <a:pt x="4578" y="2175"/>
                  </a:lnTo>
                  <a:lnTo>
                    <a:pt x="4567" y="2057"/>
                  </a:lnTo>
                  <a:lnTo>
                    <a:pt x="4553" y="1943"/>
                  </a:lnTo>
                  <a:lnTo>
                    <a:pt x="4538" y="1829"/>
                  </a:lnTo>
                  <a:lnTo>
                    <a:pt x="4510" y="1719"/>
                  </a:lnTo>
                  <a:lnTo>
                    <a:pt x="4481" y="1610"/>
                  </a:lnTo>
                  <a:lnTo>
                    <a:pt x="4444" y="1502"/>
                  </a:lnTo>
                  <a:lnTo>
                    <a:pt x="4402" y="1399"/>
                  </a:lnTo>
                  <a:lnTo>
                    <a:pt x="4356" y="1300"/>
                  </a:lnTo>
                  <a:lnTo>
                    <a:pt x="4304" y="1202"/>
                  </a:lnTo>
                  <a:lnTo>
                    <a:pt x="4253" y="1103"/>
                  </a:lnTo>
                  <a:lnTo>
                    <a:pt x="4190" y="1011"/>
                  </a:lnTo>
                  <a:lnTo>
                    <a:pt x="4128" y="923"/>
                  </a:lnTo>
                  <a:lnTo>
                    <a:pt x="4060" y="834"/>
                  </a:lnTo>
                  <a:lnTo>
                    <a:pt x="3988" y="752"/>
                  </a:lnTo>
                  <a:lnTo>
                    <a:pt x="3911" y="673"/>
                  </a:lnTo>
                  <a:lnTo>
                    <a:pt x="3832" y="595"/>
                  </a:lnTo>
                  <a:lnTo>
                    <a:pt x="3749" y="524"/>
                  </a:lnTo>
                  <a:lnTo>
                    <a:pt x="3663" y="456"/>
                  </a:lnTo>
                  <a:lnTo>
                    <a:pt x="3574" y="393"/>
                  </a:lnTo>
                  <a:lnTo>
                    <a:pt x="3481" y="332"/>
                  </a:lnTo>
                  <a:lnTo>
                    <a:pt x="3381" y="279"/>
                  </a:lnTo>
                  <a:lnTo>
                    <a:pt x="3284" y="228"/>
                  </a:lnTo>
                  <a:lnTo>
                    <a:pt x="3181" y="182"/>
                  </a:lnTo>
                  <a:lnTo>
                    <a:pt x="3076" y="139"/>
                  </a:lnTo>
                  <a:lnTo>
                    <a:pt x="2973" y="104"/>
                  </a:lnTo>
                  <a:lnTo>
                    <a:pt x="2865" y="73"/>
                  </a:lnTo>
                  <a:lnTo>
                    <a:pt x="2751" y="47"/>
                  </a:lnTo>
                  <a:lnTo>
                    <a:pt x="2642" y="25"/>
                  </a:lnTo>
                  <a:lnTo>
                    <a:pt x="2528" y="11"/>
                  </a:lnTo>
                  <a:lnTo>
                    <a:pt x="2409" y="5"/>
                  </a:lnTo>
                  <a:lnTo>
                    <a:pt x="2289" y="0"/>
                  </a:lnTo>
                  <a:close/>
                </a:path>
              </a:pathLst>
            </a:custGeom>
            <a:solidFill>
              <a:srgbClr val="8994a0"/>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6" name="Freeform 8"/>
            <p:cNvSpPr/>
            <p:nvPr/>
          </p:nvSpPr>
          <p:spPr>
            <a:xfrm>
              <a:off x="2014560" y="2479680"/>
              <a:ext cx="2209680" cy="2216160"/>
            </a:xfrm>
            <a:custGeom>
              <a:avLst/>
              <a:gdLst/>
              <a:ahLst/>
              <a:rect l="l" t="t" r="r" b="b"/>
              <a:pathLst>
                <a:path w="3170" h="3175">
                  <a:moveTo>
                    <a:pt x="1585" y="0"/>
                  </a:moveTo>
                  <a:lnTo>
                    <a:pt x="1508" y="5"/>
                  </a:lnTo>
                  <a:lnTo>
                    <a:pt x="1425" y="11"/>
                  </a:lnTo>
                  <a:lnTo>
                    <a:pt x="1348" y="22"/>
                  </a:lnTo>
                  <a:lnTo>
                    <a:pt x="1269" y="31"/>
                  </a:lnTo>
                  <a:lnTo>
                    <a:pt x="1192" y="53"/>
                  </a:lnTo>
                  <a:lnTo>
                    <a:pt x="1115" y="73"/>
                  </a:lnTo>
                  <a:lnTo>
                    <a:pt x="1041" y="99"/>
                  </a:lnTo>
                  <a:lnTo>
                    <a:pt x="969" y="125"/>
                  </a:lnTo>
                  <a:lnTo>
                    <a:pt x="901" y="156"/>
                  </a:lnTo>
                  <a:lnTo>
                    <a:pt x="830" y="193"/>
                  </a:lnTo>
                  <a:lnTo>
                    <a:pt x="767" y="233"/>
                  </a:lnTo>
                  <a:lnTo>
                    <a:pt x="699" y="276"/>
                  </a:lnTo>
                  <a:lnTo>
                    <a:pt x="638" y="316"/>
                  </a:lnTo>
                  <a:lnTo>
                    <a:pt x="581" y="364"/>
                  </a:lnTo>
                  <a:lnTo>
                    <a:pt x="524" y="415"/>
                  </a:lnTo>
                  <a:lnTo>
                    <a:pt x="467" y="467"/>
                  </a:lnTo>
                  <a:lnTo>
                    <a:pt x="416" y="524"/>
                  </a:lnTo>
                  <a:lnTo>
                    <a:pt x="363" y="581"/>
                  </a:lnTo>
                  <a:lnTo>
                    <a:pt x="317" y="638"/>
                  </a:lnTo>
                  <a:lnTo>
                    <a:pt x="271" y="700"/>
                  </a:lnTo>
                  <a:lnTo>
                    <a:pt x="234" y="767"/>
                  </a:lnTo>
                  <a:lnTo>
                    <a:pt x="192" y="829"/>
                  </a:lnTo>
                  <a:lnTo>
                    <a:pt x="157" y="901"/>
                  </a:lnTo>
                  <a:lnTo>
                    <a:pt x="125" y="969"/>
                  </a:lnTo>
                  <a:lnTo>
                    <a:pt x="100" y="1042"/>
                  </a:lnTo>
                  <a:lnTo>
                    <a:pt x="74" y="1114"/>
                  </a:lnTo>
                  <a:lnTo>
                    <a:pt x="52" y="1191"/>
                  </a:lnTo>
                  <a:lnTo>
                    <a:pt x="32" y="1268"/>
                  </a:lnTo>
                  <a:lnTo>
                    <a:pt x="21" y="1348"/>
                  </a:lnTo>
                  <a:lnTo>
                    <a:pt x="11" y="1425"/>
                  </a:lnTo>
                  <a:lnTo>
                    <a:pt x="6" y="1508"/>
                  </a:lnTo>
                  <a:lnTo>
                    <a:pt x="0" y="1585"/>
                  </a:lnTo>
                  <a:lnTo>
                    <a:pt x="6" y="1667"/>
                  </a:lnTo>
                  <a:lnTo>
                    <a:pt x="11" y="1750"/>
                  </a:lnTo>
                  <a:lnTo>
                    <a:pt x="21" y="1829"/>
                  </a:lnTo>
                  <a:lnTo>
                    <a:pt x="32" y="1906"/>
                  </a:lnTo>
                  <a:lnTo>
                    <a:pt x="52" y="1984"/>
                  </a:lnTo>
                  <a:lnTo>
                    <a:pt x="74" y="2057"/>
                  </a:lnTo>
                  <a:lnTo>
                    <a:pt x="100" y="2134"/>
                  </a:lnTo>
                  <a:lnTo>
                    <a:pt x="125" y="2206"/>
                  </a:lnTo>
                  <a:lnTo>
                    <a:pt x="157" y="2274"/>
                  </a:lnTo>
                  <a:lnTo>
                    <a:pt x="192" y="2342"/>
                  </a:lnTo>
                  <a:lnTo>
                    <a:pt x="234" y="2408"/>
                  </a:lnTo>
                  <a:lnTo>
                    <a:pt x="271" y="2476"/>
                  </a:lnTo>
                  <a:lnTo>
                    <a:pt x="317" y="2539"/>
                  </a:lnTo>
                  <a:lnTo>
                    <a:pt x="363" y="2596"/>
                  </a:lnTo>
                  <a:lnTo>
                    <a:pt x="416" y="2653"/>
                  </a:lnTo>
                  <a:lnTo>
                    <a:pt x="467" y="2710"/>
                  </a:lnTo>
                  <a:lnTo>
                    <a:pt x="524" y="2761"/>
                  </a:lnTo>
                  <a:lnTo>
                    <a:pt x="581" y="2813"/>
                  </a:lnTo>
                  <a:lnTo>
                    <a:pt x="638" y="2859"/>
                  </a:lnTo>
                  <a:lnTo>
                    <a:pt x="699" y="2901"/>
                  </a:lnTo>
                  <a:lnTo>
                    <a:pt x="767" y="2942"/>
                  </a:lnTo>
                  <a:lnTo>
                    <a:pt x="830" y="2984"/>
                  </a:lnTo>
                  <a:lnTo>
                    <a:pt x="901" y="3015"/>
                  </a:lnTo>
                  <a:lnTo>
                    <a:pt x="969" y="3046"/>
                  </a:lnTo>
                  <a:lnTo>
                    <a:pt x="1041" y="3078"/>
                  </a:lnTo>
                  <a:lnTo>
                    <a:pt x="1115" y="3103"/>
                  </a:lnTo>
                  <a:lnTo>
                    <a:pt x="1192" y="3124"/>
                  </a:lnTo>
                  <a:lnTo>
                    <a:pt x="1269" y="3138"/>
                  </a:lnTo>
                  <a:lnTo>
                    <a:pt x="1348" y="3155"/>
                  </a:lnTo>
                  <a:lnTo>
                    <a:pt x="1425" y="3164"/>
                  </a:lnTo>
                  <a:lnTo>
                    <a:pt x="1508" y="3170"/>
                  </a:lnTo>
                  <a:lnTo>
                    <a:pt x="1585" y="3175"/>
                  </a:lnTo>
                  <a:lnTo>
                    <a:pt x="1668" y="3170"/>
                  </a:lnTo>
                  <a:lnTo>
                    <a:pt x="1751" y="3164"/>
                  </a:lnTo>
                  <a:lnTo>
                    <a:pt x="1828" y="3155"/>
                  </a:lnTo>
                  <a:lnTo>
                    <a:pt x="1907" y="3138"/>
                  </a:lnTo>
                  <a:lnTo>
                    <a:pt x="1984" y="3124"/>
                  </a:lnTo>
                  <a:lnTo>
                    <a:pt x="2056" y="3103"/>
                  </a:lnTo>
                  <a:lnTo>
                    <a:pt x="2135" y="3078"/>
                  </a:lnTo>
                  <a:lnTo>
                    <a:pt x="2207" y="3046"/>
                  </a:lnTo>
                  <a:lnTo>
                    <a:pt x="2275" y="3015"/>
                  </a:lnTo>
                  <a:lnTo>
                    <a:pt x="2341" y="2984"/>
                  </a:lnTo>
                  <a:lnTo>
                    <a:pt x="2409" y="2942"/>
                  </a:lnTo>
                  <a:lnTo>
                    <a:pt x="2477" y="2901"/>
                  </a:lnTo>
                  <a:lnTo>
                    <a:pt x="2538" y="2859"/>
                  </a:lnTo>
                  <a:lnTo>
                    <a:pt x="2595" y="2813"/>
                  </a:lnTo>
                  <a:lnTo>
                    <a:pt x="2652" y="2761"/>
                  </a:lnTo>
                  <a:lnTo>
                    <a:pt x="2709" y="2710"/>
                  </a:lnTo>
                  <a:lnTo>
                    <a:pt x="2760" y="2653"/>
                  </a:lnTo>
                  <a:lnTo>
                    <a:pt x="2813" y="2596"/>
                  </a:lnTo>
                  <a:lnTo>
                    <a:pt x="2859" y="2539"/>
                  </a:lnTo>
                  <a:lnTo>
                    <a:pt x="2902" y="2476"/>
                  </a:lnTo>
                  <a:lnTo>
                    <a:pt x="2942" y="2408"/>
                  </a:lnTo>
                  <a:lnTo>
                    <a:pt x="2984" y="2342"/>
                  </a:lnTo>
                  <a:lnTo>
                    <a:pt x="3016" y="2274"/>
                  </a:lnTo>
                  <a:lnTo>
                    <a:pt x="3045" y="2206"/>
                  </a:lnTo>
                  <a:lnTo>
                    <a:pt x="3076" y="2134"/>
                  </a:lnTo>
                  <a:lnTo>
                    <a:pt x="3102" y="2057"/>
                  </a:lnTo>
                  <a:lnTo>
                    <a:pt x="3124" y="1984"/>
                  </a:lnTo>
                  <a:lnTo>
                    <a:pt x="3139" y="1906"/>
                  </a:lnTo>
                  <a:lnTo>
                    <a:pt x="3155" y="1829"/>
                  </a:lnTo>
                  <a:lnTo>
                    <a:pt x="3165" y="1750"/>
                  </a:lnTo>
                  <a:lnTo>
                    <a:pt x="3170" y="1667"/>
                  </a:lnTo>
                  <a:lnTo>
                    <a:pt x="3170" y="1585"/>
                  </a:lnTo>
                  <a:lnTo>
                    <a:pt x="3170" y="1508"/>
                  </a:lnTo>
                  <a:lnTo>
                    <a:pt x="3165" y="1425"/>
                  </a:lnTo>
                  <a:lnTo>
                    <a:pt x="3155" y="1348"/>
                  </a:lnTo>
                  <a:lnTo>
                    <a:pt x="3139" y="1268"/>
                  </a:lnTo>
                  <a:lnTo>
                    <a:pt x="3124" y="1191"/>
                  </a:lnTo>
                  <a:lnTo>
                    <a:pt x="3102" y="1114"/>
                  </a:lnTo>
                  <a:lnTo>
                    <a:pt x="3076" y="1042"/>
                  </a:lnTo>
                  <a:lnTo>
                    <a:pt x="3045" y="969"/>
                  </a:lnTo>
                  <a:lnTo>
                    <a:pt x="3016" y="901"/>
                  </a:lnTo>
                  <a:lnTo>
                    <a:pt x="2984" y="829"/>
                  </a:lnTo>
                  <a:lnTo>
                    <a:pt x="2942" y="767"/>
                  </a:lnTo>
                  <a:lnTo>
                    <a:pt x="2902" y="700"/>
                  </a:lnTo>
                  <a:lnTo>
                    <a:pt x="2859" y="638"/>
                  </a:lnTo>
                  <a:lnTo>
                    <a:pt x="2813" y="581"/>
                  </a:lnTo>
                  <a:lnTo>
                    <a:pt x="2760" y="524"/>
                  </a:lnTo>
                  <a:lnTo>
                    <a:pt x="2709" y="467"/>
                  </a:lnTo>
                  <a:lnTo>
                    <a:pt x="2652" y="415"/>
                  </a:lnTo>
                  <a:lnTo>
                    <a:pt x="2595" y="364"/>
                  </a:lnTo>
                  <a:lnTo>
                    <a:pt x="2538" y="316"/>
                  </a:lnTo>
                  <a:lnTo>
                    <a:pt x="2477" y="276"/>
                  </a:lnTo>
                  <a:lnTo>
                    <a:pt x="2409" y="233"/>
                  </a:lnTo>
                  <a:lnTo>
                    <a:pt x="2341" y="193"/>
                  </a:lnTo>
                  <a:lnTo>
                    <a:pt x="2275" y="156"/>
                  </a:lnTo>
                  <a:lnTo>
                    <a:pt x="2207" y="125"/>
                  </a:lnTo>
                  <a:lnTo>
                    <a:pt x="2135" y="99"/>
                  </a:lnTo>
                  <a:lnTo>
                    <a:pt x="2056" y="73"/>
                  </a:lnTo>
                  <a:lnTo>
                    <a:pt x="1984" y="53"/>
                  </a:lnTo>
                  <a:lnTo>
                    <a:pt x="1907" y="31"/>
                  </a:lnTo>
                  <a:lnTo>
                    <a:pt x="1828" y="22"/>
                  </a:lnTo>
                  <a:lnTo>
                    <a:pt x="1751" y="11"/>
                  </a:lnTo>
                  <a:lnTo>
                    <a:pt x="1668" y="5"/>
                  </a:lnTo>
                  <a:lnTo>
                    <a:pt x="1585" y="0"/>
                  </a:lnTo>
                  <a:close/>
                </a:path>
              </a:pathLst>
            </a:custGeom>
            <a:solidFill>
              <a:srgbClr val="aed4f8"/>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7" name="Freeform 9"/>
            <p:cNvSpPr/>
            <p:nvPr/>
          </p:nvSpPr>
          <p:spPr>
            <a:xfrm>
              <a:off x="2503440" y="2971800"/>
              <a:ext cx="1230120" cy="1226880"/>
            </a:xfrm>
            <a:custGeom>
              <a:avLst/>
              <a:gdLst/>
              <a:ahLst/>
              <a:rect l="l" t="t" r="r" b="b"/>
              <a:pathLst>
                <a:path w="1761" h="1761">
                  <a:moveTo>
                    <a:pt x="1761" y="881"/>
                  </a:moveTo>
                  <a:lnTo>
                    <a:pt x="1761" y="974"/>
                  </a:lnTo>
                  <a:lnTo>
                    <a:pt x="1744" y="1063"/>
                  </a:lnTo>
                  <a:lnTo>
                    <a:pt x="1724" y="1145"/>
                  </a:lnTo>
                  <a:lnTo>
                    <a:pt x="1693" y="1228"/>
                  </a:lnTo>
                  <a:lnTo>
                    <a:pt x="1658" y="1300"/>
                  </a:lnTo>
                  <a:lnTo>
                    <a:pt x="1610" y="1373"/>
                  </a:lnTo>
                  <a:lnTo>
                    <a:pt x="1564" y="1445"/>
                  </a:lnTo>
                  <a:lnTo>
                    <a:pt x="1507" y="1508"/>
                  </a:lnTo>
                  <a:lnTo>
                    <a:pt x="1445" y="1565"/>
                  </a:lnTo>
                  <a:lnTo>
                    <a:pt x="1373" y="1611"/>
                  </a:lnTo>
                  <a:lnTo>
                    <a:pt x="1299" y="1658"/>
                  </a:lnTo>
                  <a:lnTo>
                    <a:pt x="1228" y="1695"/>
                  </a:lnTo>
                  <a:lnTo>
                    <a:pt x="1145" y="1725"/>
                  </a:lnTo>
                  <a:lnTo>
                    <a:pt x="1062" y="1747"/>
                  </a:lnTo>
                  <a:lnTo>
                    <a:pt x="974" y="1761"/>
                  </a:lnTo>
                  <a:lnTo>
                    <a:pt x="880" y="1761"/>
                  </a:lnTo>
                  <a:lnTo>
                    <a:pt x="792" y="1761"/>
                  </a:lnTo>
                  <a:lnTo>
                    <a:pt x="704" y="1747"/>
                  </a:lnTo>
                  <a:lnTo>
                    <a:pt x="621" y="1725"/>
                  </a:lnTo>
                  <a:lnTo>
                    <a:pt x="538" y="1695"/>
                  </a:lnTo>
                  <a:lnTo>
                    <a:pt x="461" y="1658"/>
                  </a:lnTo>
                  <a:lnTo>
                    <a:pt x="387" y="1611"/>
                  </a:lnTo>
                  <a:lnTo>
                    <a:pt x="321" y="1565"/>
                  </a:lnTo>
                  <a:lnTo>
                    <a:pt x="259" y="1508"/>
                  </a:lnTo>
                  <a:lnTo>
                    <a:pt x="202" y="1445"/>
                  </a:lnTo>
                  <a:lnTo>
                    <a:pt x="150" y="1373"/>
                  </a:lnTo>
                  <a:lnTo>
                    <a:pt x="108" y="1300"/>
                  </a:lnTo>
                  <a:lnTo>
                    <a:pt x="73" y="1228"/>
                  </a:lnTo>
                  <a:lnTo>
                    <a:pt x="42" y="1145"/>
                  </a:lnTo>
                  <a:lnTo>
                    <a:pt x="22" y="1063"/>
                  </a:lnTo>
                  <a:lnTo>
                    <a:pt x="5" y="974"/>
                  </a:lnTo>
                  <a:lnTo>
                    <a:pt x="0" y="881"/>
                  </a:lnTo>
                  <a:lnTo>
                    <a:pt x="5" y="792"/>
                  </a:lnTo>
                  <a:lnTo>
                    <a:pt x="22" y="706"/>
                  </a:lnTo>
                  <a:lnTo>
                    <a:pt x="42" y="621"/>
                  </a:lnTo>
                  <a:lnTo>
                    <a:pt x="73" y="539"/>
                  </a:lnTo>
                  <a:lnTo>
                    <a:pt x="108" y="462"/>
                  </a:lnTo>
                  <a:lnTo>
                    <a:pt x="150" y="390"/>
                  </a:lnTo>
                  <a:lnTo>
                    <a:pt x="202" y="322"/>
                  </a:lnTo>
                  <a:lnTo>
                    <a:pt x="259" y="259"/>
                  </a:lnTo>
                  <a:lnTo>
                    <a:pt x="321" y="202"/>
                  </a:lnTo>
                  <a:lnTo>
                    <a:pt x="387" y="151"/>
                  </a:lnTo>
                  <a:lnTo>
                    <a:pt x="461" y="110"/>
                  </a:lnTo>
                  <a:lnTo>
                    <a:pt x="538" y="74"/>
                  </a:lnTo>
                  <a:lnTo>
                    <a:pt x="621" y="42"/>
                  </a:lnTo>
                  <a:lnTo>
                    <a:pt x="704" y="22"/>
                  </a:lnTo>
                  <a:lnTo>
                    <a:pt x="792" y="6"/>
                  </a:lnTo>
                  <a:lnTo>
                    <a:pt x="880" y="0"/>
                  </a:lnTo>
                  <a:lnTo>
                    <a:pt x="974" y="6"/>
                  </a:lnTo>
                  <a:lnTo>
                    <a:pt x="1062" y="22"/>
                  </a:lnTo>
                  <a:lnTo>
                    <a:pt x="1145" y="42"/>
                  </a:lnTo>
                  <a:lnTo>
                    <a:pt x="1228" y="74"/>
                  </a:lnTo>
                  <a:lnTo>
                    <a:pt x="1299" y="110"/>
                  </a:lnTo>
                  <a:lnTo>
                    <a:pt x="1373" y="151"/>
                  </a:lnTo>
                  <a:lnTo>
                    <a:pt x="1445" y="202"/>
                  </a:lnTo>
                  <a:lnTo>
                    <a:pt x="1507" y="259"/>
                  </a:lnTo>
                  <a:lnTo>
                    <a:pt x="1564" y="322"/>
                  </a:lnTo>
                  <a:lnTo>
                    <a:pt x="1610" y="390"/>
                  </a:lnTo>
                  <a:lnTo>
                    <a:pt x="1658" y="462"/>
                  </a:lnTo>
                  <a:lnTo>
                    <a:pt x="1693" y="539"/>
                  </a:lnTo>
                  <a:lnTo>
                    <a:pt x="1724" y="621"/>
                  </a:lnTo>
                  <a:lnTo>
                    <a:pt x="1744" y="706"/>
                  </a:lnTo>
                  <a:lnTo>
                    <a:pt x="1761" y="792"/>
                  </a:lnTo>
                  <a:lnTo>
                    <a:pt x="1761" y="881"/>
                  </a:lnTo>
                  <a:close/>
                </a:path>
              </a:pathLst>
            </a:custGeom>
            <a:solidFill>
              <a:srgbClr val="00235a"/>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8" name="Text Box 10"/>
            <p:cNvSpPr/>
            <p:nvPr/>
          </p:nvSpPr>
          <p:spPr>
            <a:xfrm>
              <a:off x="3044880" y="3481200"/>
              <a:ext cx="152280" cy="192240"/>
            </a:xfrm>
            <a:prstGeom prst="rect">
              <a:avLst/>
            </a:prstGeom>
            <a:solidFill>
              <a:srgbClr val="00235a"/>
            </a:solid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A</a:t>
              </a:r>
              <a:endParaRPr b="0" lang="en-US" sz="1600" spc="-1" strike="noStrike">
                <a:solidFill>
                  <a:srgbClr val="333333"/>
                </a:solidFill>
                <a:latin typeface="VW Headline OT-Book"/>
              </a:endParaRPr>
            </a:p>
          </p:txBody>
        </p:sp>
        <p:sp>
          <p:nvSpPr>
            <p:cNvPr id="889" name="Text Box 11"/>
            <p:cNvSpPr/>
            <p:nvPr/>
          </p:nvSpPr>
          <p:spPr>
            <a:xfrm>
              <a:off x="3895560" y="3481200"/>
              <a:ext cx="154080" cy="193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333333"/>
                  </a:solidFill>
                  <a:latin typeface="VW Headline OT-Black"/>
                  <a:ea typeface="宋体"/>
                </a:rPr>
                <a:t>B</a:t>
              </a:r>
              <a:endParaRPr b="0" lang="en-US" sz="1600" spc="-1" strike="noStrike">
                <a:solidFill>
                  <a:srgbClr val="333333"/>
                </a:solidFill>
                <a:latin typeface="VW Headline OT-Book"/>
              </a:endParaRPr>
            </a:p>
          </p:txBody>
        </p:sp>
        <p:sp>
          <p:nvSpPr>
            <p:cNvPr id="890" name="Text Box 12"/>
            <p:cNvSpPr/>
            <p:nvPr/>
          </p:nvSpPr>
          <p:spPr>
            <a:xfrm>
              <a:off x="4368600" y="3481200"/>
              <a:ext cx="150840" cy="19224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333333"/>
                  </a:solidFill>
                  <a:latin typeface="VW Headline OT-Black"/>
                  <a:ea typeface="宋体"/>
                </a:rPr>
                <a:t>C</a:t>
              </a:r>
              <a:endParaRPr b="0" lang="en-US" sz="1600" spc="-1" strike="noStrike">
                <a:solidFill>
                  <a:srgbClr val="333333"/>
                </a:solidFill>
                <a:latin typeface="VW Headline OT-Book"/>
              </a:endParaRPr>
            </a:p>
          </p:txBody>
        </p:sp>
        <p:sp>
          <p:nvSpPr>
            <p:cNvPr id="891" name="Text Box 13"/>
            <p:cNvSpPr/>
            <p:nvPr/>
          </p:nvSpPr>
          <p:spPr>
            <a:xfrm>
              <a:off x="4870440" y="3481200"/>
              <a:ext cx="152280" cy="192240"/>
            </a:xfrm>
            <a:prstGeom prst="rect">
              <a:avLst/>
            </a:prstGeom>
            <a:solidFill>
              <a:srgbClr val="bbc2c5"/>
            </a:solid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333333"/>
                  </a:solidFill>
                  <a:latin typeface="VW Headline OT-Black"/>
                  <a:ea typeface="宋体"/>
                </a:rPr>
                <a:t>D</a:t>
              </a:r>
              <a:endParaRPr b="0" lang="en-US" sz="1600" spc="-1" strike="noStrike">
                <a:solidFill>
                  <a:srgbClr val="333333"/>
                </a:solidFill>
                <a:latin typeface="VW Headline OT-Book"/>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0930-F23D-4D91-89A9-30E3947DF5CC}"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893"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BFA7573E-EE60-4A85-8D7A-ABC83AA3D307}"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9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Pyramid</a:t>
            </a:r>
            <a:endParaRPr b="0" lang="en-US" sz="2800" spc="-1" strike="noStrike">
              <a:solidFill>
                <a:srgbClr val="333333"/>
              </a:solidFill>
              <a:latin typeface="Arial"/>
            </a:endParaRPr>
          </a:p>
        </p:txBody>
      </p:sp>
      <p:grpSp>
        <p:nvGrpSpPr>
          <p:cNvPr id="895" name="组合 56324"/>
          <p:cNvGrpSpPr/>
          <p:nvPr/>
        </p:nvGrpSpPr>
        <p:grpSpPr>
          <a:xfrm>
            <a:off x="1019160" y="1482840"/>
            <a:ext cx="3957480" cy="4204440"/>
            <a:chOff x="1019160" y="1482840"/>
            <a:chExt cx="3957480" cy="4204440"/>
          </a:xfrm>
        </p:grpSpPr>
        <p:grpSp>
          <p:nvGrpSpPr>
            <p:cNvPr id="896" name="组合 56325"/>
            <p:cNvGrpSpPr/>
            <p:nvPr/>
          </p:nvGrpSpPr>
          <p:grpSpPr>
            <a:xfrm>
              <a:off x="2411280" y="1482840"/>
              <a:ext cx="1153800" cy="1159200"/>
              <a:chOff x="2411280" y="1482840"/>
              <a:chExt cx="1153800" cy="1159200"/>
            </a:xfrm>
          </p:grpSpPr>
          <p:sp>
            <p:nvSpPr>
              <p:cNvPr id="897" name="Freeform 5"/>
              <p:cNvSpPr/>
              <p:nvPr/>
            </p:nvSpPr>
            <p:spPr>
              <a:xfrm>
                <a:off x="2411280" y="1482840"/>
                <a:ext cx="1153800" cy="1159200"/>
              </a:xfrm>
              <a:custGeom>
                <a:avLst/>
                <a:gdLst/>
                <a:ahLst/>
                <a:rect l="l" t="t" r="r" b="b"/>
                <a:pathLst>
                  <a:path w="1598" h="1386">
                    <a:moveTo>
                      <a:pt x="1598" y="1386"/>
                    </a:moveTo>
                    <a:lnTo>
                      <a:pt x="796" y="0"/>
                    </a:lnTo>
                    <a:lnTo>
                      <a:pt x="0" y="1386"/>
                    </a:lnTo>
                    <a:lnTo>
                      <a:pt x="1598" y="1386"/>
                    </a:lnTo>
                    <a:close/>
                  </a:path>
                </a:pathLst>
              </a:custGeom>
              <a:solidFill>
                <a:srgbClr val="00235a"/>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98" name="Text Box 6"/>
              <p:cNvSpPr/>
              <p:nvPr/>
            </p:nvSpPr>
            <p:spPr>
              <a:xfrm>
                <a:off x="2810160" y="2070000"/>
                <a:ext cx="341280" cy="26460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0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A</a:t>
                </a:r>
                <a:endParaRPr b="0" lang="en-US" sz="1600" spc="-1" strike="noStrike">
                  <a:solidFill>
                    <a:srgbClr val="333333"/>
                  </a:solidFill>
                  <a:latin typeface="VW Headline OT-Book"/>
                </a:endParaRPr>
              </a:p>
            </p:txBody>
          </p:sp>
        </p:grpSp>
        <p:grpSp>
          <p:nvGrpSpPr>
            <p:cNvPr id="899" name="组合 56328"/>
            <p:cNvGrpSpPr/>
            <p:nvPr/>
          </p:nvGrpSpPr>
          <p:grpSpPr>
            <a:xfrm>
              <a:off x="1852560" y="2682000"/>
              <a:ext cx="2280960" cy="1161360"/>
              <a:chOff x="1852560" y="2682000"/>
              <a:chExt cx="2280960" cy="1161360"/>
            </a:xfrm>
          </p:grpSpPr>
          <p:sp>
            <p:nvSpPr>
              <p:cNvPr id="900" name="Freeform 8"/>
              <p:cNvSpPr/>
              <p:nvPr/>
            </p:nvSpPr>
            <p:spPr>
              <a:xfrm>
                <a:off x="1852560" y="2682000"/>
                <a:ext cx="2280960" cy="1161360"/>
              </a:xfrm>
              <a:custGeom>
                <a:avLst/>
                <a:gdLst/>
                <a:ahLst/>
                <a:rect l="l" t="t" r="r" b="b"/>
                <a:pathLst>
                  <a:path w="3377" h="1385">
                    <a:moveTo>
                      <a:pt x="3377" y="1385"/>
                    </a:moveTo>
                    <a:lnTo>
                      <a:pt x="2581" y="0"/>
                    </a:lnTo>
                    <a:lnTo>
                      <a:pt x="801" y="0"/>
                    </a:lnTo>
                    <a:lnTo>
                      <a:pt x="0" y="1385"/>
                    </a:lnTo>
                    <a:lnTo>
                      <a:pt x="3377" y="1385"/>
                    </a:lnTo>
                    <a:close/>
                  </a:path>
                </a:pathLst>
              </a:custGeom>
              <a:solidFill>
                <a:srgbClr val="aed4f8"/>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01" name="Text Box 9"/>
              <p:cNvSpPr/>
              <p:nvPr/>
            </p:nvSpPr>
            <p:spPr>
              <a:xfrm>
                <a:off x="2828160" y="3164400"/>
                <a:ext cx="319320" cy="26460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0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333333"/>
                    </a:solidFill>
                    <a:latin typeface="VW Headline OT-Black"/>
                    <a:ea typeface="宋体"/>
                  </a:rPr>
                  <a:t>B</a:t>
                </a:r>
                <a:endParaRPr b="0" lang="en-US" sz="1600" spc="-1" strike="noStrike">
                  <a:solidFill>
                    <a:srgbClr val="333333"/>
                  </a:solidFill>
                  <a:latin typeface="VW Headline OT-Book"/>
                </a:endParaRPr>
              </a:p>
            </p:txBody>
          </p:sp>
        </p:grpSp>
        <p:grpSp>
          <p:nvGrpSpPr>
            <p:cNvPr id="902" name="组合 56331"/>
            <p:cNvGrpSpPr/>
            <p:nvPr/>
          </p:nvGrpSpPr>
          <p:grpSpPr>
            <a:xfrm>
              <a:off x="1019160" y="3878280"/>
              <a:ext cx="3957480" cy="1809000"/>
              <a:chOff x="1019160" y="3878280"/>
              <a:chExt cx="3957480" cy="1809000"/>
            </a:xfrm>
          </p:grpSpPr>
          <p:sp>
            <p:nvSpPr>
              <p:cNvPr id="903" name="Freeform 11"/>
              <p:cNvSpPr/>
              <p:nvPr/>
            </p:nvSpPr>
            <p:spPr>
              <a:xfrm>
                <a:off x="1019160" y="3878280"/>
                <a:ext cx="3957480" cy="1809000"/>
              </a:xfrm>
              <a:custGeom>
                <a:avLst/>
                <a:gdLst/>
                <a:ahLst/>
                <a:rect l="l" t="t" r="r" b="b"/>
                <a:pathLst>
                  <a:path w="6042" h="2160">
                    <a:moveTo>
                      <a:pt x="1244" y="0"/>
                    </a:moveTo>
                    <a:lnTo>
                      <a:pt x="0" y="2160"/>
                    </a:lnTo>
                    <a:lnTo>
                      <a:pt x="6042" y="2160"/>
                    </a:lnTo>
                    <a:lnTo>
                      <a:pt x="4798" y="0"/>
                    </a:lnTo>
                    <a:lnTo>
                      <a:pt x="1244" y="0"/>
                    </a:lnTo>
                    <a:close/>
                  </a:path>
                </a:pathLst>
              </a:custGeom>
              <a:solidFill>
                <a:srgbClr val="8994a0"/>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04" name="Text Box 12"/>
              <p:cNvSpPr/>
              <p:nvPr/>
            </p:nvSpPr>
            <p:spPr>
              <a:xfrm>
                <a:off x="2852640" y="4640400"/>
                <a:ext cx="309600" cy="26460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0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C</a:t>
                </a:r>
                <a:endParaRPr b="0" lang="en-US" sz="1600" spc="-1" strike="noStrike">
                  <a:solidFill>
                    <a:srgbClr val="333333"/>
                  </a:solidFill>
                  <a:latin typeface="VW Headline OT-Book"/>
                </a:endParaRPr>
              </a:p>
            </p:txBody>
          </p:sp>
        </p:grpSp>
      </p:grpSp>
      <p:grpSp>
        <p:nvGrpSpPr>
          <p:cNvPr id="905" name=""/>
          <p:cNvGrpSpPr/>
          <p:nvPr/>
        </p:nvGrpSpPr>
        <p:grpSpPr>
          <a:xfrm>
            <a:off x="3581280" y="2516040"/>
            <a:ext cx="5327640" cy="360"/>
            <a:chOff x="3581280" y="2516040"/>
            <a:chExt cx="5327640" cy="360"/>
          </a:xfrm>
        </p:grpSpPr>
        <p:sp>
          <p:nvSpPr>
            <p:cNvPr id="906" name="Line 13"/>
            <p:cNvSpPr/>
            <p:nvPr/>
          </p:nvSpPr>
          <p:spPr>
            <a:xfrm>
              <a:off x="3581280" y="2516040"/>
              <a:ext cx="5327640" cy="0"/>
            </a:xfrm>
            <a:prstGeom prst="line">
              <a:avLst/>
            </a:prstGeom>
            <a:ln w="9360">
              <a:solidFill>
                <a:srgbClr val="bbc2c5"/>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907" name=""/>
            <p:cNvSpPr txBox="1"/>
            <p:nvPr/>
          </p:nvSpPr>
          <p:spPr>
            <a:xfrm>
              <a:off x="3581280" y="2516040"/>
              <a:ext cx="532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08" name=""/>
          <p:cNvGrpSpPr/>
          <p:nvPr/>
        </p:nvGrpSpPr>
        <p:grpSpPr>
          <a:xfrm>
            <a:off x="4156200" y="3765600"/>
            <a:ext cx="4752720" cy="360"/>
            <a:chOff x="4156200" y="3765600"/>
            <a:chExt cx="4752720" cy="360"/>
          </a:xfrm>
        </p:grpSpPr>
        <p:sp>
          <p:nvSpPr>
            <p:cNvPr id="909" name="Line 14"/>
            <p:cNvSpPr/>
            <p:nvPr/>
          </p:nvSpPr>
          <p:spPr>
            <a:xfrm>
              <a:off x="4156200" y="3765600"/>
              <a:ext cx="4752720" cy="0"/>
            </a:xfrm>
            <a:prstGeom prst="line">
              <a:avLst/>
            </a:prstGeom>
            <a:ln w="9360">
              <a:solidFill>
                <a:srgbClr val="bbc2c5"/>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910" name=""/>
            <p:cNvSpPr txBox="1"/>
            <p:nvPr/>
          </p:nvSpPr>
          <p:spPr>
            <a:xfrm>
              <a:off x="4156200" y="3765600"/>
              <a:ext cx="475272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11" name="Text Box 15"/>
          <p:cNvSpPr/>
          <p:nvPr/>
        </p:nvSpPr>
        <p:spPr>
          <a:xfrm>
            <a:off x="5356080" y="1773360"/>
            <a:ext cx="1627200" cy="696960"/>
          </a:xfrm>
          <a:prstGeom prst="rect">
            <a:avLst/>
          </a:prstGeom>
          <a:noFill/>
          <a:ln w="0">
            <a:noFill/>
          </a:ln>
        </p:spPr>
        <p:style>
          <a:lnRef idx="0"/>
          <a:fillRef idx="0"/>
          <a:effectRef idx="0"/>
          <a:fontRef idx="minor"/>
        </p:style>
        <p:txBody>
          <a:bodyPr lIns="0" rIns="0" tIns="0" bIns="0" anchor="ctr">
            <a:noAutofit/>
          </a:bodyPr>
          <a:p>
            <a:pPr algn="ctr">
              <a:spcBef>
                <a:spcPts val="876"/>
              </a:spcBef>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400" spc="-1" strike="noStrike">
                <a:solidFill>
                  <a:srgbClr val="333333"/>
                </a:solidFill>
                <a:latin typeface="VW Headline OT-Book"/>
                <a:ea typeface="宋体"/>
              </a:rPr>
              <a:t>Text 1</a:t>
            </a:r>
            <a:endParaRPr b="0" lang="en-US" sz="1400" spc="-1" strike="noStrike">
              <a:solidFill>
                <a:srgbClr val="333333"/>
              </a:solidFill>
              <a:latin typeface="VW Headline OT-Book"/>
            </a:endParaRPr>
          </a:p>
        </p:txBody>
      </p:sp>
      <p:sp>
        <p:nvSpPr>
          <p:cNvPr id="912" name="Text Box 16"/>
          <p:cNvSpPr/>
          <p:nvPr/>
        </p:nvSpPr>
        <p:spPr>
          <a:xfrm>
            <a:off x="5356080" y="2943360"/>
            <a:ext cx="1627200" cy="696600"/>
          </a:xfrm>
          <a:prstGeom prst="rect">
            <a:avLst/>
          </a:prstGeom>
          <a:noFill/>
          <a:ln w="0">
            <a:noFill/>
          </a:ln>
        </p:spPr>
        <p:style>
          <a:lnRef idx="0"/>
          <a:fillRef idx="0"/>
          <a:effectRef idx="0"/>
          <a:fontRef idx="minor"/>
        </p:style>
        <p:txBody>
          <a:bodyPr lIns="0" rIns="0" tIns="0" bIns="0" anchor="ctr">
            <a:noAutofit/>
          </a:bodyPr>
          <a:p>
            <a:pPr algn="ctr">
              <a:spcBef>
                <a:spcPts val="876"/>
              </a:spcBef>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400" spc="-1" strike="noStrike">
                <a:solidFill>
                  <a:srgbClr val="333333"/>
                </a:solidFill>
                <a:latin typeface="VW Headline OT-Book"/>
                <a:ea typeface="宋体"/>
              </a:rPr>
              <a:t>Text 2</a:t>
            </a:r>
            <a:endParaRPr b="0" lang="en-US" sz="1400" spc="-1" strike="noStrike">
              <a:solidFill>
                <a:srgbClr val="333333"/>
              </a:solidFill>
              <a:latin typeface="VW Headline OT-Book"/>
            </a:endParaRPr>
          </a:p>
        </p:txBody>
      </p:sp>
      <p:sp>
        <p:nvSpPr>
          <p:cNvPr id="913" name="Text Box 17"/>
          <p:cNvSpPr/>
          <p:nvPr/>
        </p:nvSpPr>
        <p:spPr>
          <a:xfrm>
            <a:off x="5356080" y="4341960"/>
            <a:ext cx="1627200" cy="682560"/>
          </a:xfrm>
          <a:prstGeom prst="rect">
            <a:avLst/>
          </a:prstGeom>
          <a:noFill/>
          <a:ln w="0">
            <a:noFill/>
          </a:ln>
        </p:spPr>
        <p:style>
          <a:lnRef idx="0"/>
          <a:fillRef idx="0"/>
          <a:effectRef idx="0"/>
          <a:fontRef idx="minor"/>
        </p:style>
        <p:txBody>
          <a:bodyPr lIns="0" rIns="0" tIns="0" bIns="0" anchor="ctr">
            <a:noAutofit/>
          </a:bodyPr>
          <a:p>
            <a:pPr algn="ctr">
              <a:spcBef>
                <a:spcPts val="876"/>
              </a:spcBef>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400" spc="-1" strike="noStrike">
                <a:solidFill>
                  <a:srgbClr val="333333"/>
                </a:solidFill>
                <a:latin typeface="VW Headline OT-Book"/>
                <a:ea typeface="宋体"/>
              </a:rPr>
              <a:t>Text 3</a:t>
            </a:r>
            <a:endParaRPr b="0" lang="en-US" sz="1400" spc="-1" strike="noStrike">
              <a:solidFill>
                <a:srgbClr val="333333"/>
              </a:solidFill>
              <a:latin typeface="VW Headline OT-Book"/>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094F-A373-4D4A-BB8F-CE9CE50157FB}"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915"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861CEF38-C54C-4D6D-87E8-3BCC9D29454C}"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91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Intersection chart</a:t>
            </a:r>
            <a:endParaRPr b="0" lang="en-US" sz="2800" spc="-1" strike="noStrike">
              <a:solidFill>
                <a:srgbClr val="333333"/>
              </a:solidFill>
              <a:latin typeface="Arial"/>
            </a:endParaRPr>
          </a:p>
        </p:txBody>
      </p:sp>
      <p:grpSp>
        <p:nvGrpSpPr>
          <p:cNvPr id="917" name="组合 57348"/>
          <p:cNvGrpSpPr/>
          <p:nvPr/>
        </p:nvGrpSpPr>
        <p:grpSpPr>
          <a:xfrm>
            <a:off x="2720880" y="1486080"/>
            <a:ext cx="4528800" cy="4204800"/>
            <a:chOff x="2720880" y="1486080"/>
            <a:chExt cx="4528800" cy="4204800"/>
          </a:xfrm>
        </p:grpSpPr>
        <p:sp>
          <p:nvSpPr>
            <p:cNvPr id="918" name="Freeform 4"/>
            <p:cNvSpPr/>
            <p:nvPr/>
          </p:nvSpPr>
          <p:spPr>
            <a:xfrm>
              <a:off x="3456000" y="1486080"/>
              <a:ext cx="3033720" cy="1446480"/>
            </a:xfrm>
            <a:custGeom>
              <a:avLst/>
              <a:gdLst/>
              <a:ahLst/>
              <a:rect l="l" t="t" r="r" b="b"/>
              <a:pathLst>
                <a:path w="4017" h="1945">
                  <a:moveTo>
                    <a:pt x="2009" y="1945"/>
                  </a:moveTo>
                  <a:lnTo>
                    <a:pt x="2121" y="1885"/>
                  </a:lnTo>
                  <a:lnTo>
                    <a:pt x="2235" y="1832"/>
                  </a:lnTo>
                  <a:lnTo>
                    <a:pt x="2358" y="1783"/>
                  </a:lnTo>
                  <a:lnTo>
                    <a:pt x="2481" y="1748"/>
                  </a:lnTo>
                  <a:lnTo>
                    <a:pt x="2610" y="1713"/>
                  </a:lnTo>
                  <a:lnTo>
                    <a:pt x="2741" y="1693"/>
                  </a:lnTo>
                  <a:lnTo>
                    <a:pt x="2875" y="1679"/>
                  </a:lnTo>
                  <a:lnTo>
                    <a:pt x="3014" y="1674"/>
                  </a:lnTo>
                  <a:lnTo>
                    <a:pt x="3145" y="1679"/>
                  </a:lnTo>
                  <a:lnTo>
                    <a:pt x="3284" y="1693"/>
                  </a:lnTo>
                  <a:lnTo>
                    <a:pt x="3413" y="1713"/>
                  </a:lnTo>
                  <a:lnTo>
                    <a:pt x="3539" y="1743"/>
                  </a:lnTo>
                  <a:lnTo>
                    <a:pt x="3664" y="1783"/>
                  </a:lnTo>
                  <a:lnTo>
                    <a:pt x="3787" y="1832"/>
                  </a:lnTo>
                  <a:lnTo>
                    <a:pt x="3905" y="1881"/>
                  </a:lnTo>
                  <a:lnTo>
                    <a:pt x="4017" y="1945"/>
                  </a:lnTo>
                  <a:lnTo>
                    <a:pt x="4008" y="1841"/>
                  </a:lnTo>
                  <a:lnTo>
                    <a:pt x="3998" y="1743"/>
                  </a:lnTo>
                  <a:lnTo>
                    <a:pt x="3984" y="1644"/>
                  </a:lnTo>
                  <a:lnTo>
                    <a:pt x="3962" y="1551"/>
                  </a:lnTo>
                  <a:lnTo>
                    <a:pt x="3938" y="1458"/>
                  </a:lnTo>
                  <a:lnTo>
                    <a:pt x="3910" y="1363"/>
                  </a:lnTo>
                  <a:lnTo>
                    <a:pt x="3880" y="1275"/>
                  </a:lnTo>
                  <a:lnTo>
                    <a:pt x="3839" y="1186"/>
                  </a:lnTo>
                  <a:lnTo>
                    <a:pt x="3801" y="1098"/>
                  </a:lnTo>
                  <a:lnTo>
                    <a:pt x="3752" y="1013"/>
                  </a:lnTo>
                  <a:lnTo>
                    <a:pt x="3702" y="936"/>
                  </a:lnTo>
                  <a:lnTo>
                    <a:pt x="3653" y="857"/>
                  </a:lnTo>
                  <a:lnTo>
                    <a:pt x="3594" y="778"/>
                  </a:lnTo>
                  <a:lnTo>
                    <a:pt x="3536" y="704"/>
                  </a:lnTo>
                  <a:lnTo>
                    <a:pt x="3471" y="636"/>
                  </a:lnTo>
                  <a:lnTo>
                    <a:pt x="3407" y="565"/>
                  </a:lnTo>
                  <a:lnTo>
                    <a:pt x="3339" y="502"/>
                  </a:lnTo>
                  <a:lnTo>
                    <a:pt x="3265" y="442"/>
                  </a:lnTo>
                  <a:lnTo>
                    <a:pt x="3189" y="384"/>
                  </a:lnTo>
                  <a:lnTo>
                    <a:pt x="3112" y="330"/>
                  </a:lnTo>
                  <a:lnTo>
                    <a:pt x="3033" y="281"/>
                  </a:lnTo>
                  <a:lnTo>
                    <a:pt x="2949" y="232"/>
                  </a:lnTo>
                  <a:lnTo>
                    <a:pt x="2861" y="191"/>
                  </a:lnTo>
                  <a:lnTo>
                    <a:pt x="2776" y="153"/>
                  </a:lnTo>
                  <a:lnTo>
                    <a:pt x="2683" y="117"/>
                  </a:lnTo>
                  <a:lnTo>
                    <a:pt x="2594" y="89"/>
                  </a:lnTo>
                  <a:lnTo>
                    <a:pt x="2501" y="59"/>
                  </a:lnTo>
                  <a:lnTo>
                    <a:pt x="2402" y="40"/>
                  </a:lnTo>
                  <a:lnTo>
                    <a:pt x="2309" y="24"/>
                  </a:lnTo>
                  <a:lnTo>
                    <a:pt x="2211" y="10"/>
                  </a:lnTo>
                  <a:lnTo>
                    <a:pt x="2107" y="5"/>
                  </a:lnTo>
                  <a:lnTo>
                    <a:pt x="2009" y="0"/>
                  </a:lnTo>
                  <a:lnTo>
                    <a:pt x="1905" y="5"/>
                  </a:lnTo>
                  <a:lnTo>
                    <a:pt x="1807" y="10"/>
                  </a:lnTo>
                  <a:lnTo>
                    <a:pt x="1708" y="24"/>
                  </a:lnTo>
                  <a:lnTo>
                    <a:pt x="1610" y="40"/>
                  </a:lnTo>
                  <a:lnTo>
                    <a:pt x="1517" y="59"/>
                  </a:lnTo>
                  <a:lnTo>
                    <a:pt x="1422" y="89"/>
                  </a:lnTo>
                  <a:lnTo>
                    <a:pt x="1329" y="117"/>
                  </a:lnTo>
                  <a:lnTo>
                    <a:pt x="1241" y="153"/>
                  </a:lnTo>
                  <a:lnTo>
                    <a:pt x="1151" y="191"/>
                  </a:lnTo>
                  <a:lnTo>
                    <a:pt x="1069" y="232"/>
                  </a:lnTo>
                  <a:lnTo>
                    <a:pt x="984" y="281"/>
                  </a:lnTo>
                  <a:lnTo>
                    <a:pt x="900" y="330"/>
                  </a:lnTo>
                  <a:lnTo>
                    <a:pt x="826" y="384"/>
                  </a:lnTo>
                  <a:lnTo>
                    <a:pt x="747" y="442"/>
                  </a:lnTo>
                  <a:lnTo>
                    <a:pt x="679" y="502"/>
                  </a:lnTo>
                  <a:lnTo>
                    <a:pt x="610" y="565"/>
                  </a:lnTo>
                  <a:lnTo>
                    <a:pt x="541" y="636"/>
                  </a:lnTo>
                  <a:lnTo>
                    <a:pt x="476" y="704"/>
                  </a:lnTo>
                  <a:lnTo>
                    <a:pt x="418" y="778"/>
                  </a:lnTo>
                  <a:lnTo>
                    <a:pt x="364" y="857"/>
                  </a:lnTo>
                  <a:lnTo>
                    <a:pt x="310" y="936"/>
                  </a:lnTo>
                  <a:lnTo>
                    <a:pt x="260" y="1013"/>
                  </a:lnTo>
                  <a:lnTo>
                    <a:pt x="216" y="1098"/>
                  </a:lnTo>
                  <a:lnTo>
                    <a:pt x="173" y="1186"/>
                  </a:lnTo>
                  <a:lnTo>
                    <a:pt x="137" y="1275"/>
                  </a:lnTo>
                  <a:lnTo>
                    <a:pt x="102" y="1363"/>
                  </a:lnTo>
                  <a:lnTo>
                    <a:pt x="74" y="1458"/>
                  </a:lnTo>
                  <a:lnTo>
                    <a:pt x="50" y="1551"/>
                  </a:lnTo>
                  <a:lnTo>
                    <a:pt x="28" y="1644"/>
                  </a:lnTo>
                  <a:lnTo>
                    <a:pt x="14" y="1743"/>
                  </a:lnTo>
                  <a:lnTo>
                    <a:pt x="4" y="1841"/>
                  </a:lnTo>
                  <a:lnTo>
                    <a:pt x="0" y="1945"/>
                  </a:lnTo>
                  <a:lnTo>
                    <a:pt x="113" y="1881"/>
                  </a:lnTo>
                  <a:lnTo>
                    <a:pt x="225" y="1832"/>
                  </a:lnTo>
                  <a:lnTo>
                    <a:pt x="348" y="1783"/>
                  </a:lnTo>
                  <a:lnTo>
                    <a:pt x="473" y="1743"/>
                  </a:lnTo>
                  <a:lnTo>
                    <a:pt x="599" y="1713"/>
                  </a:lnTo>
                  <a:lnTo>
                    <a:pt x="733" y="1693"/>
                  </a:lnTo>
                  <a:lnTo>
                    <a:pt x="867" y="1679"/>
                  </a:lnTo>
                  <a:lnTo>
                    <a:pt x="1004" y="1674"/>
                  </a:lnTo>
                  <a:lnTo>
                    <a:pt x="1137" y="1679"/>
                  </a:lnTo>
                  <a:lnTo>
                    <a:pt x="1271" y="1693"/>
                  </a:lnTo>
                  <a:lnTo>
                    <a:pt x="1402" y="1713"/>
                  </a:lnTo>
                  <a:lnTo>
                    <a:pt x="1531" y="1748"/>
                  </a:lnTo>
                  <a:lnTo>
                    <a:pt x="1654" y="1783"/>
                  </a:lnTo>
                  <a:lnTo>
                    <a:pt x="1777" y="1832"/>
                  </a:lnTo>
                  <a:lnTo>
                    <a:pt x="1894" y="1885"/>
                  </a:lnTo>
                  <a:lnTo>
                    <a:pt x="2009" y="1945"/>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19" name="Freeform 5"/>
            <p:cNvSpPr/>
            <p:nvPr/>
          </p:nvSpPr>
          <p:spPr>
            <a:xfrm>
              <a:off x="2720880" y="2904480"/>
              <a:ext cx="2279160" cy="2786400"/>
            </a:xfrm>
            <a:custGeom>
              <a:avLst/>
              <a:gdLst/>
              <a:ahLst/>
              <a:rect l="l" t="t" r="r" b="b"/>
              <a:pathLst>
                <a:path w="3019" h="3751">
                  <a:moveTo>
                    <a:pt x="2014" y="1806"/>
                  </a:moveTo>
                  <a:lnTo>
                    <a:pt x="1901" y="1737"/>
                  </a:lnTo>
                  <a:lnTo>
                    <a:pt x="1797" y="1663"/>
                  </a:lnTo>
                  <a:lnTo>
                    <a:pt x="1699" y="1579"/>
                  </a:lnTo>
                  <a:lnTo>
                    <a:pt x="1601" y="1491"/>
                  </a:lnTo>
                  <a:lnTo>
                    <a:pt x="1511" y="1398"/>
                  </a:lnTo>
                  <a:lnTo>
                    <a:pt x="1434" y="1300"/>
                  </a:lnTo>
                  <a:lnTo>
                    <a:pt x="1355" y="1196"/>
                  </a:lnTo>
                  <a:lnTo>
                    <a:pt x="1284" y="1082"/>
                  </a:lnTo>
                  <a:lnTo>
                    <a:pt x="1221" y="969"/>
                  </a:lnTo>
                  <a:lnTo>
                    <a:pt x="1167" y="852"/>
                  </a:lnTo>
                  <a:lnTo>
                    <a:pt x="1117" y="729"/>
                  </a:lnTo>
                  <a:lnTo>
                    <a:pt x="1079" y="601"/>
                  </a:lnTo>
                  <a:lnTo>
                    <a:pt x="1049" y="472"/>
                  </a:lnTo>
                  <a:lnTo>
                    <a:pt x="1024" y="339"/>
                  </a:lnTo>
                  <a:lnTo>
                    <a:pt x="1010" y="202"/>
                  </a:lnTo>
                  <a:lnTo>
                    <a:pt x="1010" y="63"/>
                  </a:lnTo>
                  <a:lnTo>
                    <a:pt x="1010" y="0"/>
                  </a:lnTo>
                  <a:lnTo>
                    <a:pt x="896" y="68"/>
                  </a:lnTo>
                  <a:lnTo>
                    <a:pt x="792" y="142"/>
                  </a:lnTo>
                  <a:lnTo>
                    <a:pt x="694" y="226"/>
                  </a:lnTo>
                  <a:lnTo>
                    <a:pt x="596" y="311"/>
                  </a:lnTo>
                  <a:lnTo>
                    <a:pt x="508" y="409"/>
                  </a:lnTo>
                  <a:lnTo>
                    <a:pt x="423" y="507"/>
                  </a:lnTo>
                  <a:lnTo>
                    <a:pt x="350" y="609"/>
                  </a:lnTo>
                  <a:lnTo>
                    <a:pt x="281" y="718"/>
                  </a:lnTo>
                  <a:lnTo>
                    <a:pt x="216" y="836"/>
                  </a:lnTo>
                  <a:lnTo>
                    <a:pt x="162" y="955"/>
                  </a:lnTo>
                  <a:lnTo>
                    <a:pt x="112" y="1078"/>
                  </a:lnTo>
                  <a:lnTo>
                    <a:pt x="74" y="1201"/>
                  </a:lnTo>
                  <a:lnTo>
                    <a:pt x="44" y="1333"/>
                  </a:lnTo>
                  <a:lnTo>
                    <a:pt x="19" y="1467"/>
                  </a:lnTo>
                  <a:lnTo>
                    <a:pt x="5" y="1600"/>
                  </a:lnTo>
                  <a:lnTo>
                    <a:pt x="0" y="1737"/>
                  </a:lnTo>
                  <a:lnTo>
                    <a:pt x="5" y="1841"/>
                  </a:lnTo>
                  <a:lnTo>
                    <a:pt x="14" y="1945"/>
                  </a:lnTo>
                  <a:lnTo>
                    <a:pt x="25" y="2048"/>
                  </a:lnTo>
                  <a:lnTo>
                    <a:pt x="44" y="2147"/>
                  </a:lnTo>
                  <a:lnTo>
                    <a:pt x="63" y="2240"/>
                  </a:lnTo>
                  <a:lnTo>
                    <a:pt x="93" y="2338"/>
                  </a:lnTo>
                  <a:lnTo>
                    <a:pt x="123" y="2431"/>
                  </a:lnTo>
                  <a:lnTo>
                    <a:pt x="158" y="2521"/>
                  </a:lnTo>
                  <a:lnTo>
                    <a:pt x="202" y="2609"/>
                  </a:lnTo>
                  <a:lnTo>
                    <a:pt x="246" y="2698"/>
                  </a:lnTo>
                  <a:lnTo>
                    <a:pt x="295" y="2781"/>
                  </a:lnTo>
                  <a:lnTo>
                    <a:pt x="344" y="2865"/>
                  </a:lnTo>
                  <a:lnTo>
                    <a:pt x="404" y="2944"/>
                  </a:lnTo>
                  <a:lnTo>
                    <a:pt x="462" y="3018"/>
                  </a:lnTo>
                  <a:lnTo>
                    <a:pt x="522" y="3092"/>
                  </a:lnTo>
                  <a:lnTo>
                    <a:pt x="590" y="3160"/>
                  </a:lnTo>
                  <a:lnTo>
                    <a:pt x="661" y="3229"/>
                  </a:lnTo>
                  <a:lnTo>
                    <a:pt x="734" y="3289"/>
                  </a:lnTo>
                  <a:lnTo>
                    <a:pt x="808" y="3352"/>
                  </a:lnTo>
                  <a:lnTo>
                    <a:pt x="886" y="3406"/>
                  </a:lnTo>
                  <a:lnTo>
                    <a:pt x="970" y="3461"/>
                  </a:lnTo>
                  <a:lnTo>
                    <a:pt x="1054" y="3505"/>
                  </a:lnTo>
                  <a:lnTo>
                    <a:pt x="1142" y="3549"/>
                  </a:lnTo>
                  <a:lnTo>
                    <a:pt x="1232" y="3594"/>
                  </a:lnTo>
                  <a:lnTo>
                    <a:pt x="1320" y="3628"/>
                  </a:lnTo>
                  <a:lnTo>
                    <a:pt x="1413" y="3658"/>
                  </a:lnTo>
                  <a:lnTo>
                    <a:pt x="1511" y="3687"/>
                  </a:lnTo>
                  <a:lnTo>
                    <a:pt x="1606" y="3707"/>
                  </a:lnTo>
                  <a:lnTo>
                    <a:pt x="1704" y="3726"/>
                  </a:lnTo>
                  <a:lnTo>
                    <a:pt x="1806" y="3742"/>
                  </a:lnTo>
                  <a:lnTo>
                    <a:pt x="1910" y="3745"/>
                  </a:lnTo>
                  <a:lnTo>
                    <a:pt x="2014" y="3751"/>
                  </a:lnTo>
                  <a:lnTo>
                    <a:pt x="2147" y="3745"/>
                  </a:lnTo>
                  <a:lnTo>
                    <a:pt x="2281" y="3731"/>
                  </a:lnTo>
                  <a:lnTo>
                    <a:pt x="2412" y="3712"/>
                  </a:lnTo>
                  <a:lnTo>
                    <a:pt x="2541" y="3677"/>
                  </a:lnTo>
                  <a:lnTo>
                    <a:pt x="2664" y="3644"/>
                  </a:lnTo>
                  <a:lnTo>
                    <a:pt x="2787" y="3594"/>
                  </a:lnTo>
                  <a:lnTo>
                    <a:pt x="2904" y="3540"/>
                  </a:lnTo>
                  <a:lnTo>
                    <a:pt x="3019" y="3480"/>
                  </a:lnTo>
                  <a:lnTo>
                    <a:pt x="2910" y="3417"/>
                  </a:lnTo>
                  <a:lnTo>
                    <a:pt x="2806" y="3343"/>
                  </a:lnTo>
                  <a:lnTo>
                    <a:pt x="2708" y="3264"/>
                  </a:lnTo>
                  <a:lnTo>
                    <a:pt x="2620" y="3174"/>
                  </a:lnTo>
                  <a:lnTo>
                    <a:pt x="2530" y="3087"/>
                  </a:lnTo>
                  <a:lnTo>
                    <a:pt x="2448" y="2993"/>
                  </a:lnTo>
                  <a:lnTo>
                    <a:pt x="2374" y="2890"/>
                  </a:lnTo>
                  <a:lnTo>
                    <a:pt x="2305" y="2786"/>
                  </a:lnTo>
                  <a:lnTo>
                    <a:pt x="2246" y="2677"/>
                  </a:lnTo>
                  <a:lnTo>
                    <a:pt x="2186" y="2560"/>
                  </a:lnTo>
                  <a:lnTo>
                    <a:pt x="2137" y="2442"/>
                  </a:lnTo>
                  <a:lnTo>
                    <a:pt x="2098" y="2324"/>
                  </a:lnTo>
                  <a:lnTo>
                    <a:pt x="2063" y="2201"/>
                  </a:lnTo>
                  <a:lnTo>
                    <a:pt x="2038" y="2073"/>
                  </a:lnTo>
                  <a:lnTo>
                    <a:pt x="2024" y="1939"/>
                  </a:lnTo>
                  <a:lnTo>
                    <a:pt x="2014" y="18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0" name="Freeform 6"/>
            <p:cNvSpPr/>
            <p:nvPr/>
          </p:nvSpPr>
          <p:spPr>
            <a:xfrm>
              <a:off x="3470400" y="2704680"/>
              <a:ext cx="1516320" cy="1541160"/>
            </a:xfrm>
            <a:custGeom>
              <a:avLst/>
              <a:gdLst/>
              <a:ahLst/>
              <a:rect l="l" t="t" r="r" b="b"/>
              <a:pathLst>
                <a:path w="2009" h="2077">
                  <a:moveTo>
                    <a:pt x="1004" y="2077"/>
                  </a:moveTo>
                  <a:lnTo>
                    <a:pt x="1004" y="2008"/>
                  </a:lnTo>
                  <a:lnTo>
                    <a:pt x="1009" y="1871"/>
                  </a:lnTo>
                  <a:lnTo>
                    <a:pt x="1019" y="1738"/>
                  </a:lnTo>
                  <a:lnTo>
                    <a:pt x="1044" y="1604"/>
                  </a:lnTo>
                  <a:lnTo>
                    <a:pt x="1072" y="1472"/>
                  </a:lnTo>
                  <a:lnTo>
                    <a:pt x="1113" y="1349"/>
                  </a:lnTo>
                  <a:lnTo>
                    <a:pt x="1162" y="1226"/>
                  </a:lnTo>
                  <a:lnTo>
                    <a:pt x="1216" y="1107"/>
                  </a:lnTo>
                  <a:lnTo>
                    <a:pt x="1279" y="989"/>
                  </a:lnTo>
                  <a:lnTo>
                    <a:pt x="1348" y="880"/>
                  </a:lnTo>
                  <a:lnTo>
                    <a:pt x="1427" y="778"/>
                  </a:lnTo>
                  <a:lnTo>
                    <a:pt x="1506" y="680"/>
                  </a:lnTo>
                  <a:lnTo>
                    <a:pt x="1594" y="585"/>
                  </a:lnTo>
                  <a:lnTo>
                    <a:pt x="1694" y="497"/>
                  </a:lnTo>
                  <a:lnTo>
                    <a:pt x="1793" y="413"/>
                  </a:lnTo>
                  <a:lnTo>
                    <a:pt x="1894" y="339"/>
                  </a:lnTo>
                  <a:lnTo>
                    <a:pt x="2009" y="271"/>
                  </a:lnTo>
                  <a:lnTo>
                    <a:pt x="1894" y="211"/>
                  </a:lnTo>
                  <a:lnTo>
                    <a:pt x="1777" y="158"/>
                  </a:lnTo>
                  <a:lnTo>
                    <a:pt x="1654" y="109"/>
                  </a:lnTo>
                  <a:lnTo>
                    <a:pt x="1531" y="74"/>
                  </a:lnTo>
                  <a:lnTo>
                    <a:pt x="1402" y="39"/>
                  </a:lnTo>
                  <a:lnTo>
                    <a:pt x="1271" y="19"/>
                  </a:lnTo>
                  <a:lnTo>
                    <a:pt x="1137" y="5"/>
                  </a:lnTo>
                  <a:lnTo>
                    <a:pt x="1004" y="0"/>
                  </a:lnTo>
                  <a:lnTo>
                    <a:pt x="867" y="5"/>
                  </a:lnTo>
                  <a:lnTo>
                    <a:pt x="733" y="19"/>
                  </a:lnTo>
                  <a:lnTo>
                    <a:pt x="599" y="39"/>
                  </a:lnTo>
                  <a:lnTo>
                    <a:pt x="473" y="69"/>
                  </a:lnTo>
                  <a:lnTo>
                    <a:pt x="348" y="109"/>
                  </a:lnTo>
                  <a:lnTo>
                    <a:pt x="225" y="158"/>
                  </a:lnTo>
                  <a:lnTo>
                    <a:pt x="113" y="207"/>
                  </a:lnTo>
                  <a:lnTo>
                    <a:pt x="0" y="271"/>
                  </a:lnTo>
                  <a:lnTo>
                    <a:pt x="0" y="334"/>
                  </a:lnTo>
                  <a:lnTo>
                    <a:pt x="0" y="473"/>
                  </a:lnTo>
                  <a:lnTo>
                    <a:pt x="14" y="610"/>
                  </a:lnTo>
                  <a:lnTo>
                    <a:pt x="39" y="743"/>
                  </a:lnTo>
                  <a:lnTo>
                    <a:pt x="69" y="872"/>
                  </a:lnTo>
                  <a:lnTo>
                    <a:pt x="107" y="1000"/>
                  </a:lnTo>
                  <a:lnTo>
                    <a:pt x="157" y="1123"/>
                  </a:lnTo>
                  <a:lnTo>
                    <a:pt x="211" y="1240"/>
                  </a:lnTo>
                  <a:lnTo>
                    <a:pt x="274" y="1353"/>
                  </a:lnTo>
                  <a:lnTo>
                    <a:pt x="345" y="1467"/>
                  </a:lnTo>
                  <a:lnTo>
                    <a:pt x="424" y="1571"/>
                  </a:lnTo>
                  <a:lnTo>
                    <a:pt x="501" y="1669"/>
                  </a:lnTo>
                  <a:lnTo>
                    <a:pt x="591" y="1762"/>
                  </a:lnTo>
                  <a:lnTo>
                    <a:pt x="689" y="1850"/>
                  </a:lnTo>
                  <a:lnTo>
                    <a:pt x="787" y="1934"/>
                  </a:lnTo>
                  <a:lnTo>
                    <a:pt x="891" y="2008"/>
                  </a:lnTo>
                  <a:lnTo>
                    <a:pt x="1004" y="2077"/>
                  </a:lnTo>
                  <a:close/>
                </a:path>
              </a:pathLst>
            </a:custGeom>
            <a:solidFill>
              <a:srgbClr val="aed4f8"/>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1" name="Freeform 7"/>
            <p:cNvSpPr/>
            <p:nvPr/>
          </p:nvSpPr>
          <p:spPr>
            <a:xfrm>
              <a:off x="4972320" y="2904480"/>
              <a:ext cx="2277360" cy="2786400"/>
            </a:xfrm>
            <a:custGeom>
              <a:avLst/>
              <a:gdLst/>
              <a:ahLst/>
              <a:rect l="l" t="t" r="r" b="b"/>
              <a:pathLst>
                <a:path w="3013" h="3751">
                  <a:moveTo>
                    <a:pt x="2008" y="0"/>
                  </a:moveTo>
                  <a:lnTo>
                    <a:pt x="2008" y="63"/>
                  </a:lnTo>
                  <a:lnTo>
                    <a:pt x="2003" y="202"/>
                  </a:lnTo>
                  <a:lnTo>
                    <a:pt x="1989" y="339"/>
                  </a:lnTo>
                  <a:lnTo>
                    <a:pt x="1964" y="472"/>
                  </a:lnTo>
                  <a:lnTo>
                    <a:pt x="1934" y="601"/>
                  </a:lnTo>
                  <a:lnTo>
                    <a:pt x="1896" y="729"/>
                  </a:lnTo>
                  <a:lnTo>
                    <a:pt x="1846" y="852"/>
                  </a:lnTo>
                  <a:lnTo>
                    <a:pt x="1792" y="969"/>
                  </a:lnTo>
                  <a:lnTo>
                    <a:pt x="1732" y="1082"/>
                  </a:lnTo>
                  <a:lnTo>
                    <a:pt x="1658" y="1196"/>
                  </a:lnTo>
                  <a:lnTo>
                    <a:pt x="1585" y="1300"/>
                  </a:lnTo>
                  <a:lnTo>
                    <a:pt x="1502" y="1398"/>
                  </a:lnTo>
                  <a:lnTo>
                    <a:pt x="1412" y="1491"/>
                  </a:lnTo>
                  <a:lnTo>
                    <a:pt x="1319" y="1579"/>
                  </a:lnTo>
                  <a:lnTo>
                    <a:pt x="1216" y="1663"/>
                  </a:lnTo>
                  <a:lnTo>
                    <a:pt x="1112" y="1737"/>
                  </a:lnTo>
                  <a:lnTo>
                    <a:pt x="1005" y="1806"/>
                  </a:lnTo>
                  <a:lnTo>
                    <a:pt x="994" y="1939"/>
                  </a:lnTo>
                  <a:lnTo>
                    <a:pt x="975" y="2073"/>
                  </a:lnTo>
                  <a:lnTo>
                    <a:pt x="950" y="2201"/>
                  </a:lnTo>
                  <a:lnTo>
                    <a:pt x="915" y="2324"/>
                  </a:lnTo>
                  <a:lnTo>
                    <a:pt x="876" y="2442"/>
                  </a:lnTo>
                  <a:lnTo>
                    <a:pt x="827" y="2560"/>
                  </a:lnTo>
                  <a:lnTo>
                    <a:pt x="773" y="2677"/>
                  </a:lnTo>
                  <a:lnTo>
                    <a:pt x="708" y="2786"/>
                  </a:lnTo>
                  <a:lnTo>
                    <a:pt x="639" y="2890"/>
                  </a:lnTo>
                  <a:lnTo>
                    <a:pt x="565" y="2993"/>
                  </a:lnTo>
                  <a:lnTo>
                    <a:pt x="483" y="3087"/>
                  </a:lnTo>
                  <a:lnTo>
                    <a:pt x="398" y="3174"/>
                  </a:lnTo>
                  <a:lnTo>
                    <a:pt x="305" y="3264"/>
                  </a:lnTo>
                  <a:lnTo>
                    <a:pt x="207" y="3343"/>
                  </a:lnTo>
                  <a:lnTo>
                    <a:pt x="103" y="3417"/>
                  </a:lnTo>
                  <a:lnTo>
                    <a:pt x="0" y="3480"/>
                  </a:lnTo>
                  <a:lnTo>
                    <a:pt x="112" y="3540"/>
                  </a:lnTo>
                  <a:lnTo>
                    <a:pt x="226" y="3594"/>
                  </a:lnTo>
                  <a:lnTo>
                    <a:pt x="349" y="3644"/>
                  </a:lnTo>
                  <a:lnTo>
                    <a:pt x="472" y="3677"/>
                  </a:lnTo>
                  <a:lnTo>
                    <a:pt x="601" y="3712"/>
                  </a:lnTo>
                  <a:lnTo>
                    <a:pt x="732" y="3731"/>
                  </a:lnTo>
                  <a:lnTo>
                    <a:pt x="866" y="3745"/>
                  </a:lnTo>
                  <a:lnTo>
                    <a:pt x="1005" y="3751"/>
                  </a:lnTo>
                  <a:lnTo>
                    <a:pt x="1107" y="3745"/>
                  </a:lnTo>
                  <a:lnTo>
                    <a:pt x="1210" y="3742"/>
                  </a:lnTo>
                  <a:lnTo>
                    <a:pt x="1309" y="3726"/>
                  </a:lnTo>
                  <a:lnTo>
                    <a:pt x="1407" y="3707"/>
                  </a:lnTo>
                  <a:lnTo>
                    <a:pt x="1505" y="3687"/>
                  </a:lnTo>
                  <a:lnTo>
                    <a:pt x="1600" y="3658"/>
                  </a:lnTo>
                  <a:lnTo>
                    <a:pt x="1693" y="3628"/>
                  </a:lnTo>
                  <a:lnTo>
                    <a:pt x="1787" y="3594"/>
                  </a:lnTo>
                  <a:lnTo>
                    <a:pt x="1876" y="3549"/>
                  </a:lnTo>
                  <a:lnTo>
                    <a:pt x="1959" y="3505"/>
                  </a:lnTo>
                  <a:lnTo>
                    <a:pt x="2043" y="3461"/>
                  </a:lnTo>
                  <a:lnTo>
                    <a:pt x="2127" y="3406"/>
                  </a:lnTo>
                  <a:lnTo>
                    <a:pt x="2205" y="3352"/>
                  </a:lnTo>
                  <a:lnTo>
                    <a:pt x="2279" y="3289"/>
                  </a:lnTo>
                  <a:lnTo>
                    <a:pt x="2352" y="3229"/>
                  </a:lnTo>
                  <a:lnTo>
                    <a:pt x="2423" y="3160"/>
                  </a:lnTo>
                  <a:lnTo>
                    <a:pt x="2491" y="3092"/>
                  </a:lnTo>
                  <a:lnTo>
                    <a:pt x="2554" y="3018"/>
                  </a:lnTo>
                  <a:lnTo>
                    <a:pt x="2614" y="2944"/>
                  </a:lnTo>
                  <a:lnTo>
                    <a:pt x="2669" y="2865"/>
                  </a:lnTo>
                  <a:lnTo>
                    <a:pt x="2723" y="2781"/>
                  </a:lnTo>
                  <a:lnTo>
                    <a:pt x="2772" y="2698"/>
                  </a:lnTo>
                  <a:lnTo>
                    <a:pt x="2816" y="2609"/>
                  </a:lnTo>
                  <a:lnTo>
                    <a:pt x="2855" y="2521"/>
                  </a:lnTo>
                  <a:lnTo>
                    <a:pt x="2890" y="2431"/>
                  </a:lnTo>
                  <a:lnTo>
                    <a:pt x="2925" y="2338"/>
                  </a:lnTo>
                  <a:lnTo>
                    <a:pt x="2950" y="2240"/>
                  </a:lnTo>
                  <a:lnTo>
                    <a:pt x="2974" y="2147"/>
                  </a:lnTo>
                  <a:lnTo>
                    <a:pt x="2988" y="2048"/>
                  </a:lnTo>
                  <a:lnTo>
                    <a:pt x="3002" y="1945"/>
                  </a:lnTo>
                  <a:lnTo>
                    <a:pt x="3008" y="1841"/>
                  </a:lnTo>
                  <a:lnTo>
                    <a:pt x="3013" y="1737"/>
                  </a:lnTo>
                  <a:lnTo>
                    <a:pt x="3008" y="1600"/>
                  </a:lnTo>
                  <a:lnTo>
                    <a:pt x="2994" y="1467"/>
                  </a:lnTo>
                  <a:lnTo>
                    <a:pt x="2974" y="1333"/>
                  </a:lnTo>
                  <a:lnTo>
                    <a:pt x="2939" y="1201"/>
                  </a:lnTo>
                  <a:lnTo>
                    <a:pt x="2901" y="1078"/>
                  </a:lnTo>
                  <a:lnTo>
                    <a:pt x="2855" y="955"/>
                  </a:lnTo>
                  <a:lnTo>
                    <a:pt x="2797" y="836"/>
                  </a:lnTo>
                  <a:lnTo>
                    <a:pt x="2737" y="718"/>
                  </a:lnTo>
                  <a:lnTo>
                    <a:pt x="2663" y="609"/>
                  </a:lnTo>
                  <a:lnTo>
                    <a:pt x="2590" y="507"/>
                  </a:lnTo>
                  <a:lnTo>
                    <a:pt x="2505" y="409"/>
                  </a:lnTo>
                  <a:lnTo>
                    <a:pt x="2417" y="311"/>
                  </a:lnTo>
                  <a:lnTo>
                    <a:pt x="2324" y="226"/>
                  </a:lnTo>
                  <a:lnTo>
                    <a:pt x="2221" y="142"/>
                  </a:lnTo>
                  <a:lnTo>
                    <a:pt x="2117" y="68"/>
                  </a:lnTo>
                  <a:lnTo>
                    <a:pt x="2008" y="0"/>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2" name="Freeform 8"/>
            <p:cNvSpPr/>
            <p:nvPr/>
          </p:nvSpPr>
          <p:spPr>
            <a:xfrm>
              <a:off x="4972320" y="2704680"/>
              <a:ext cx="1517400" cy="1541160"/>
            </a:xfrm>
            <a:custGeom>
              <a:avLst/>
              <a:gdLst/>
              <a:ahLst/>
              <a:rect l="l" t="t" r="r" b="b"/>
              <a:pathLst>
                <a:path w="2008" h="2077">
                  <a:moveTo>
                    <a:pt x="0" y="271"/>
                  </a:moveTo>
                  <a:lnTo>
                    <a:pt x="109" y="339"/>
                  </a:lnTo>
                  <a:lnTo>
                    <a:pt x="210" y="413"/>
                  </a:lnTo>
                  <a:lnTo>
                    <a:pt x="314" y="497"/>
                  </a:lnTo>
                  <a:lnTo>
                    <a:pt x="409" y="585"/>
                  </a:lnTo>
                  <a:lnTo>
                    <a:pt x="497" y="680"/>
                  </a:lnTo>
                  <a:lnTo>
                    <a:pt x="581" y="778"/>
                  </a:lnTo>
                  <a:lnTo>
                    <a:pt x="655" y="880"/>
                  </a:lnTo>
                  <a:lnTo>
                    <a:pt x="724" y="989"/>
                  </a:lnTo>
                  <a:lnTo>
                    <a:pt x="787" y="1107"/>
                  </a:lnTo>
                  <a:lnTo>
                    <a:pt x="841" y="1226"/>
                  </a:lnTo>
                  <a:lnTo>
                    <a:pt x="890" y="1349"/>
                  </a:lnTo>
                  <a:lnTo>
                    <a:pt x="931" y="1472"/>
                  </a:lnTo>
                  <a:lnTo>
                    <a:pt x="959" y="1604"/>
                  </a:lnTo>
                  <a:lnTo>
                    <a:pt x="984" y="1738"/>
                  </a:lnTo>
                  <a:lnTo>
                    <a:pt x="999" y="1871"/>
                  </a:lnTo>
                  <a:lnTo>
                    <a:pt x="1005" y="2008"/>
                  </a:lnTo>
                  <a:lnTo>
                    <a:pt x="1005" y="2077"/>
                  </a:lnTo>
                  <a:lnTo>
                    <a:pt x="1112" y="2008"/>
                  </a:lnTo>
                  <a:lnTo>
                    <a:pt x="1216" y="1934"/>
                  </a:lnTo>
                  <a:lnTo>
                    <a:pt x="1319" y="1850"/>
                  </a:lnTo>
                  <a:lnTo>
                    <a:pt x="1412" y="1762"/>
                  </a:lnTo>
                  <a:lnTo>
                    <a:pt x="1502" y="1669"/>
                  </a:lnTo>
                  <a:lnTo>
                    <a:pt x="1585" y="1571"/>
                  </a:lnTo>
                  <a:lnTo>
                    <a:pt x="1658" y="1467"/>
                  </a:lnTo>
                  <a:lnTo>
                    <a:pt x="1732" y="1353"/>
                  </a:lnTo>
                  <a:lnTo>
                    <a:pt x="1792" y="1240"/>
                  </a:lnTo>
                  <a:lnTo>
                    <a:pt x="1846" y="1123"/>
                  </a:lnTo>
                  <a:lnTo>
                    <a:pt x="1896" y="1000"/>
                  </a:lnTo>
                  <a:lnTo>
                    <a:pt x="1934" y="872"/>
                  </a:lnTo>
                  <a:lnTo>
                    <a:pt x="1964" y="743"/>
                  </a:lnTo>
                  <a:lnTo>
                    <a:pt x="1989" y="610"/>
                  </a:lnTo>
                  <a:lnTo>
                    <a:pt x="2003" y="473"/>
                  </a:lnTo>
                  <a:lnTo>
                    <a:pt x="2008" y="334"/>
                  </a:lnTo>
                  <a:lnTo>
                    <a:pt x="2008" y="271"/>
                  </a:lnTo>
                  <a:lnTo>
                    <a:pt x="1896" y="207"/>
                  </a:lnTo>
                  <a:lnTo>
                    <a:pt x="1778" y="158"/>
                  </a:lnTo>
                  <a:lnTo>
                    <a:pt x="1655" y="109"/>
                  </a:lnTo>
                  <a:lnTo>
                    <a:pt x="1530" y="69"/>
                  </a:lnTo>
                  <a:lnTo>
                    <a:pt x="1404" y="39"/>
                  </a:lnTo>
                  <a:lnTo>
                    <a:pt x="1275" y="19"/>
                  </a:lnTo>
                  <a:lnTo>
                    <a:pt x="1136" y="5"/>
                  </a:lnTo>
                  <a:lnTo>
                    <a:pt x="1005" y="0"/>
                  </a:lnTo>
                  <a:lnTo>
                    <a:pt x="866" y="5"/>
                  </a:lnTo>
                  <a:lnTo>
                    <a:pt x="732" y="19"/>
                  </a:lnTo>
                  <a:lnTo>
                    <a:pt x="601" y="39"/>
                  </a:lnTo>
                  <a:lnTo>
                    <a:pt x="472" y="74"/>
                  </a:lnTo>
                  <a:lnTo>
                    <a:pt x="349" y="109"/>
                  </a:lnTo>
                  <a:lnTo>
                    <a:pt x="226" y="158"/>
                  </a:lnTo>
                  <a:lnTo>
                    <a:pt x="112" y="211"/>
                  </a:lnTo>
                  <a:lnTo>
                    <a:pt x="0" y="271"/>
                  </a:lnTo>
                  <a:close/>
                </a:path>
              </a:pathLst>
            </a:custGeom>
            <a:solidFill>
              <a:srgbClr val="aed4f8"/>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3" name="Freeform 9"/>
            <p:cNvSpPr/>
            <p:nvPr/>
          </p:nvSpPr>
          <p:spPr>
            <a:xfrm>
              <a:off x="4214160" y="4245840"/>
              <a:ext cx="1519560" cy="1244880"/>
            </a:xfrm>
            <a:custGeom>
              <a:avLst/>
              <a:gdLst/>
              <a:ahLst/>
              <a:rect l="l" t="t" r="r" b="b"/>
              <a:pathLst>
                <a:path w="2010" h="1674">
                  <a:moveTo>
                    <a:pt x="2010" y="0"/>
                  </a:moveTo>
                  <a:lnTo>
                    <a:pt x="1895" y="60"/>
                  </a:lnTo>
                  <a:lnTo>
                    <a:pt x="1778" y="114"/>
                  </a:lnTo>
                  <a:lnTo>
                    <a:pt x="1655" y="158"/>
                  </a:lnTo>
                  <a:lnTo>
                    <a:pt x="1532" y="197"/>
                  </a:lnTo>
                  <a:lnTo>
                    <a:pt x="1403" y="226"/>
                  </a:lnTo>
                  <a:lnTo>
                    <a:pt x="1270" y="251"/>
                  </a:lnTo>
                  <a:lnTo>
                    <a:pt x="1138" y="267"/>
                  </a:lnTo>
                  <a:lnTo>
                    <a:pt x="1005" y="267"/>
                  </a:lnTo>
                  <a:lnTo>
                    <a:pt x="866" y="267"/>
                  </a:lnTo>
                  <a:lnTo>
                    <a:pt x="734" y="251"/>
                  </a:lnTo>
                  <a:lnTo>
                    <a:pt x="601" y="226"/>
                  </a:lnTo>
                  <a:lnTo>
                    <a:pt x="472" y="197"/>
                  </a:lnTo>
                  <a:lnTo>
                    <a:pt x="349" y="158"/>
                  </a:lnTo>
                  <a:lnTo>
                    <a:pt x="232" y="114"/>
                  </a:lnTo>
                  <a:lnTo>
                    <a:pt x="114" y="60"/>
                  </a:lnTo>
                  <a:lnTo>
                    <a:pt x="0" y="0"/>
                  </a:lnTo>
                  <a:lnTo>
                    <a:pt x="10" y="133"/>
                  </a:lnTo>
                  <a:lnTo>
                    <a:pt x="24" y="267"/>
                  </a:lnTo>
                  <a:lnTo>
                    <a:pt x="49" y="395"/>
                  </a:lnTo>
                  <a:lnTo>
                    <a:pt x="84" y="518"/>
                  </a:lnTo>
                  <a:lnTo>
                    <a:pt x="123" y="636"/>
                  </a:lnTo>
                  <a:lnTo>
                    <a:pt x="172" y="754"/>
                  </a:lnTo>
                  <a:lnTo>
                    <a:pt x="232" y="871"/>
                  </a:lnTo>
                  <a:lnTo>
                    <a:pt x="291" y="980"/>
                  </a:lnTo>
                  <a:lnTo>
                    <a:pt x="360" y="1084"/>
                  </a:lnTo>
                  <a:lnTo>
                    <a:pt x="434" y="1187"/>
                  </a:lnTo>
                  <a:lnTo>
                    <a:pt x="516" y="1281"/>
                  </a:lnTo>
                  <a:lnTo>
                    <a:pt x="606" y="1368"/>
                  </a:lnTo>
                  <a:lnTo>
                    <a:pt x="694" y="1458"/>
                  </a:lnTo>
                  <a:lnTo>
                    <a:pt x="792" y="1537"/>
                  </a:lnTo>
                  <a:lnTo>
                    <a:pt x="896" y="1611"/>
                  </a:lnTo>
                  <a:lnTo>
                    <a:pt x="1005" y="1674"/>
                  </a:lnTo>
                  <a:lnTo>
                    <a:pt x="1108" y="1611"/>
                  </a:lnTo>
                  <a:lnTo>
                    <a:pt x="1212" y="1537"/>
                  </a:lnTo>
                  <a:lnTo>
                    <a:pt x="1310" y="1458"/>
                  </a:lnTo>
                  <a:lnTo>
                    <a:pt x="1403" y="1368"/>
                  </a:lnTo>
                  <a:lnTo>
                    <a:pt x="1488" y="1281"/>
                  </a:lnTo>
                  <a:lnTo>
                    <a:pt x="1570" y="1187"/>
                  </a:lnTo>
                  <a:lnTo>
                    <a:pt x="1644" y="1084"/>
                  </a:lnTo>
                  <a:lnTo>
                    <a:pt x="1713" y="980"/>
                  </a:lnTo>
                  <a:lnTo>
                    <a:pt x="1778" y="871"/>
                  </a:lnTo>
                  <a:lnTo>
                    <a:pt x="1832" y="754"/>
                  </a:lnTo>
                  <a:lnTo>
                    <a:pt x="1881" y="636"/>
                  </a:lnTo>
                  <a:lnTo>
                    <a:pt x="1920" y="518"/>
                  </a:lnTo>
                  <a:lnTo>
                    <a:pt x="1955" y="395"/>
                  </a:lnTo>
                  <a:lnTo>
                    <a:pt x="1980" y="267"/>
                  </a:lnTo>
                  <a:lnTo>
                    <a:pt x="1999" y="133"/>
                  </a:lnTo>
                  <a:lnTo>
                    <a:pt x="2010" y="0"/>
                  </a:lnTo>
                  <a:close/>
                </a:path>
              </a:pathLst>
            </a:custGeom>
            <a:solidFill>
              <a:srgbClr val="aed4f8"/>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4" name="Freeform 10"/>
            <p:cNvSpPr/>
            <p:nvPr/>
          </p:nvSpPr>
          <p:spPr>
            <a:xfrm>
              <a:off x="4214160" y="2904480"/>
              <a:ext cx="1519560" cy="1539720"/>
            </a:xfrm>
            <a:custGeom>
              <a:avLst/>
              <a:gdLst/>
              <a:ahLst/>
              <a:rect l="l" t="t" r="r" b="b"/>
              <a:pathLst>
                <a:path w="2010" h="2073">
                  <a:moveTo>
                    <a:pt x="1005" y="0"/>
                  </a:moveTo>
                  <a:lnTo>
                    <a:pt x="890" y="68"/>
                  </a:lnTo>
                  <a:lnTo>
                    <a:pt x="789" y="142"/>
                  </a:lnTo>
                  <a:lnTo>
                    <a:pt x="690" y="226"/>
                  </a:lnTo>
                  <a:lnTo>
                    <a:pt x="590" y="314"/>
                  </a:lnTo>
                  <a:lnTo>
                    <a:pt x="502" y="409"/>
                  </a:lnTo>
                  <a:lnTo>
                    <a:pt x="423" y="507"/>
                  </a:lnTo>
                  <a:lnTo>
                    <a:pt x="344" y="609"/>
                  </a:lnTo>
                  <a:lnTo>
                    <a:pt x="275" y="718"/>
                  </a:lnTo>
                  <a:lnTo>
                    <a:pt x="212" y="836"/>
                  </a:lnTo>
                  <a:lnTo>
                    <a:pt x="158" y="955"/>
                  </a:lnTo>
                  <a:lnTo>
                    <a:pt x="109" y="1078"/>
                  </a:lnTo>
                  <a:lnTo>
                    <a:pt x="68" y="1201"/>
                  </a:lnTo>
                  <a:lnTo>
                    <a:pt x="40" y="1333"/>
                  </a:lnTo>
                  <a:lnTo>
                    <a:pt x="15" y="1467"/>
                  </a:lnTo>
                  <a:lnTo>
                    <a:pt x="5" y="1600"/>
                  </a:lnTo>
                  <a:lnTo>
                    <a:pt x="0" y="1737"/>
                  </a:lnTo>
                  <a:lnTo>
                    <a:pt x="0" y="1806"/>
                  </a:lnTo>
                  <a:lnTo>
                    <a:pt x="114" y="1866"/>
                  </a:lnTo>
                  <a:lnTo>
                    <a:pt x="232" y="1920"/>
                  </a:lnTo>
                  <a:lnTo>
                    <a:pt x="349" y="1964"/>
                  </a:lnTo>
                  <a:lnTo>
                    <a:pt x="472" y="2003"/>
                  </a:lnTo>
                  <a:lnTo>
                    <a:pt x="601" y="2032"/>
                  </a:lnTo>
                  <a:lnTo>
                    <a:pt x="734" y="2057"/>
                  </a:lnTo>
                  <a:lnTo>
                    <a:pt x="866" y="2073"/>
                  </a:lnTo>
                  <a:lnTo>
                    <a:pt x="1005" y="2073"/>
                  </a:lnTo>
                  <a:lnTo>
                    <a:pt x="1138" y="2073"/>
                  </a:lnTo>
                  <a:lnTo>
                    <a:pt x="1270" y="2057"/>
                  </a:lnTo>
                  <a:lnTo>
                    <a:pt x="1403" y="2032"/>
                  </a:lnTo>
                  <a:lnTo>
                    <a:pt x="1532" y="2003"/>
                  </a:lnTo>
                  <a:lnTo>
                    <a:pt x="1655" y="1964"/>
                  </a:lnTo>
                  <a:lnTo>
                    <a:pt x="1778" y="1920"/>
                  </a:lnTo>
                  <a:lnTo>
                    <a:pt x="1895" y="1866"/>
                  </a:lnTo>
                  <a:lnTo>
                    <a:pt x="2010" y="1806"/>
                  </a:lnTo>
                  <a:lnTo>
                    <a:pt x="2010" y="1737"/>
                  </a:lnTo>
                  <a:lnTo>
                    <a:pt x="2004" y="1600"/>
                  </a:lnTo>
                  <a:lnTo>
                    <a:pt x="1989" y="1467"/>
                  </a:lnTo>
                  <a:lnTo>
                    <a:pt x="1964" y="1333"/>
                  </a:lnTo>
                  <a:lnTo>
                    <a:pt x="1936" y="1201"/>
                  </a:lnTo>
                  <a:lnTo>
                    <a:pt x="1895" y="1078"/>
                  </a:lnTo>
                  <a:lnTo>
                    <a:pt x="1846" y="955"/>
                  </a:lnTo>
                  <a:lnTo>
                    <a:pt x="1792" y="836"/>
                  </a:lnTo>
                  <a:lnTo>
                    <a:pt x="1729" y="718"/>
                  </a:lnTo>
                  <a:lnTo>
                    <a:pt x="1660" y="609"/>
                  </a:lnTo>
                  <a:lnTo>
                    <a:pt x="1586" y="507"/>
                  </a:lnTo>
                  <a:lnTo>
                    <a:pt x="1502" y="409"/>
                  </a:lnTo>
                  <a:lnTo>
                    <a:pt x="1414" y="314"/>
                  </a:lnTo>
                  <a:lnTo>
                    <a:pt x="1319" y="226"/>
                  </a:lnTo>
                  <a:lnTo>
                    <a:pt x="1215" y="142"/>
                  </a:lnTo>
                  <a:lnTo>
                    <a:pt x="1114" y="68"/>
                  </a:lnTo>
                  <a:lnTo>
                    <a:pt x="1005" y="0"/>
                  </a:lnTo>
                  <a:close/>
                </a:path>
              </a:pathLst>
            </a:custGeom>
            <a:solidFill>
              <a:srgbClr val="00235a"/>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5" name="Text Box 11"/>
            <p:cNvSpPr/>
            <p:nvPr/>
          </p:nvSpPr>
          <p:spPr>
            <a:xfrm>
              <a:off x="4610520" y="3346560"/>
              <a:ext cx="720360" cy="91404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ffffff"/>
                  </a:solidFill>
                  <a:latin typeface="VW Headline OT-Black"/>
                  <a:ea typeface="宋体"/>
                </a:rPr>
                <a:t>Text</a:t>
              </a:r>
              <a:endParaRPr b="0" lang="en-US" sz="1500" spc="-1" strike="noStrike">
                <a:solidFill>
                  <a:srgbClr val="333333"/>
                </a:solidFill>
                <a:latin typeface="VW Headline OT-Book"/>
              </a:endParaRPr>
            </a:p>
          </p:txBody>
        </p:sp>
        <p:sp>
          <p:nvSpPr>
            <p:cNvPr id="926" name="Text Box 12"/>
            <p:cNvSpPr/>
            <p:nvPr/>
          </p:nvSpPr>
          <p:spPr>
            <a:xfrm>
              <a:off x="6036840" y="4268880"/>
              <a:ext cx="720360" cy="91224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000000"/>
                  </a:solidFill>
                  <a:latin typeface="VW Headline OT-Book"/>
                  <a:ea typeface="宋体"/>
                </a:rPr>
                <a:t>Text</a:t>
              </a:r>
              <a:endParaRPr b="0" lang="en-US" sz="1500" spc="-1" strike="noStrike">
                <a:solidFill>
                  <a:srgbClr val="333333"/>
                </a:solidFill>
                <a:latin typeface="VW Headline OT-Book"/>
              </a:endParaRPr>
            </a:p>
          </p:txBody>
        </p:sp>
        <p:sp>
          <p:nvSpPr>
            <p:cNvPr id="927" name="Text Box 13"/>
            <p:cNvSpPr/>
            <p:nvPr/>
          </p:nvSpPr>
          <p:spPr>
            <a:xfrm>
              <a:off x="3129840" y="4262400"/>
              <a:ext cx="720360" cy="91260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000000"/>
                  </a:solidFill>
                  <a:latin typeface="VW Headline OT-Book"/>
                  <a:ea typeface="宋体"/>
                </a:rPr>
                <a:t>Text</a:t>
              </a:r>
              <a:endParaRPr b="0" lang="en-US" sz="1500" spc="-1" strike="noStrike">
                <a:solidFill>
                  <a:srgbClr val="333333"/>
                </a:solidFill>
                <a:latin typeface="VW Headline OT-Book"/>
              </a:endParaRPr>
            </a:p>
          </p:txBody>
        </p:sp>
        <p:sp>
          <p:nvSpPr>
            <p:cNvPr id="928" name="Text Box 14"/>
            <p:cNvSpPr/>
            <p:nvPr/>
          </p:nvSpPr>
          <p:spPr>
            <a:xfrm>
              <a:off x="4610520" y="4470840"/>
              <a:ext cx="720360" cy="7009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333333"/>
                  </a:solidFill>
                  <a:latin typeface="VW Headline OT-Black"/>
                  <a:ea typeface="宋体"/>
                </a:rPr>
                <a:t>Text</a:t>
              </a:r>
              <a:endParaRPr b="0" lang="en-US" sz="1500" spc="-1" strike="noStrike">
                <a:solidFill>
                  <a:srgbClr val="333333"/>
                </a:solidFill>
                <a:latin typeface="VW Headline OT-Book"/>
              </a:endParaRPr>
            </a:p>
          </p:txBody>
        </p:sp>
        <p:sp>
          <p:nvSpPr>
            <p:cNvPr id="929" name="Text Box 15"/>
            <p:cNvSpPr/>
            <p:nvPr/>
          </p:nvSpPr>
          <p:spPr>
            <a:xfrm>
              <a:off x="5608440" y="2830680"/>
              <a:ext cx="720360" cy="70128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333333"/>
                  </a:solidFill>
                  <a:latin typeface="VW Headline OT-Black"/>
                  <a:ea typeface="宋体"/>
                </a:rPr>
                <a:t>Text</a:t>
              </a:r>
              <a:endParaRPr b="0" lang="en-US" sz="1500" spc="-1" strike="noStrike">
                <a:solidFill>
                  <a:srgbClr val="333333"/>
                </a:solidFill>
                <a:latin typeface="VW Headline OT-Book"/>
              </a:endParaRPr>
            </a:p>
          </p:txBody>
        </p:sp>
        <p:sp>
          <p:nvSpPr>
            <p:cNvPr id="930" name="Text Box 16"/>
            <p:cNvSpPr/>
            <p:nvPr/>
          </p:nvSpPr>
          <p:spPr>
            <a:xfrm>
              <a:off x="3612600" y="2830680"/>
              <a:ext cx="720360" cy="70128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333333"/>
                  </a:solidFill>
                  <a:latin typeface="VW Headline OT-Black"/>
                  <a:ea typeface="宋体"/>
                </a:rPr>
                <a:t>Text</a:t>
              </a:r>
              <a:endParaRPr b="0" lang="en-US" sz="1500" spc="-1" strike="noStrike">
                <a:solidFill>
                  <a:srgbClr val="333333"/>
                </a:solidFill>
                <a:latin typeface="VW Headline OT-Book"/>
              </a:endParaRPr>
            </a:p>
          </p:txBody>
        </p:sp>
        <p:sp>
          <p:nvSpPr>
            <p:cNvPr id="931" name="Text Box 17"/>
            <p:cNvSpPr/>
            <p:nvPr/>
          </p:nvSpPr>
          <p:spPr>
            <a:xfrm>
              <a:off x="4621680" y="1700640"/>
              <a:ext cx="720360" cy="91224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400" spc="-1" strike="noStrike">
                  <a:solidFill>
                    <a:srgbClr val="000000"/>
                  </a:solidFill>
                  <a:latin typeface="VW Headline OT-Book"/>
                  <a:ea typeface="宋体"/>
                </a:rPr>
                <a:t>Text</a:t>
              </a:r>
              <a:endParaRPr b="0" lang="en-US" sz="1400" spc="-1" strike="noStrike">
                <a:solidFill>
                  <a:srgbClr val="333333"/>
                </a:solidFill>
                <a:latin typeface="VW Headline OT-Book"/>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CC96-9FAA-4E91-8E0D-76B824AB889E}"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933"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33949AE5-19F2-4CA3-9DC4-4F0CCFB2A10C}"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93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Intersection chart (variation) </a:t>
            </a:r>
            <a:endParaRPr b="0" lang="en-US" sz="2800" spc="-1" strike="noStrike">
              <a:solidFill>
                <a:srgbClr val="333333"/>
              </a:solidFill>
              <a:latin typeface="Arial"/>
            </a:endParaRPr>
          </a:p>
        </p:txBody>
      </p:sp>
      <p:grpSp>
        <p:nvGrpSpPr>
          <p:cNvPr id="935" name="组合 58372"/>
          <p:cNvGrpSpPr/>
          <p:nvPr/>
        </p:nvGrpSpPr>
        <p:grpSpPr>
          <a:xfrm>
            <a:off x="934920" y="1833480"/>
            <a:ext cx="8054280" cy="3514320"/>
            <a:chOff x="934920" y="1833480"/>
            <a:chExt cx="8054280" cy="3514320"/>
          </a:xfrm>
        </p:grpSpPr>
        <p:sp>
          <p:nvSpPr>
            <p:cNvPr id="936" name="AutoShape 4"/>
            <p:cNvSpPr/>
            <p:nvPr/>
          </p:nvSpPr>
          <p:spPr>
            <a:xfrm>
              <a:off x="995040" y="1883160"/>
              <a:ext cx="7994160" cy="34034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37" name="Freeform 5"/>
            <p:cNvSpPr/>
            <p:nvPr/>
          </p:nvSpPr>
          <p:spPr>
            <a:xfrm>
              <a:off x="3820680" y="1880280"/>
              <a:ext cx="2296800" cy="3402720"/>
            </a:xfrm>
            <a:custGeom>
              <a:avLst/>
              <a:gdLst/>
              <a:ahLst/>
              <a:rect l="l" t="t" r="r" b="b"/>
              <a:pathLst>
                <a:path w="1735" h="2568">
                  <a:moveTo>
                    <a:pt x="1341" y="1282"/>
                  </a:moveTo>
                  <a:lnTo>
                    <a:pt x="1343" y="1216"/>
                  </a:lnTo>
                  <a:lnTo>
                    <a:pt x="1347" y="1149"/>
                  </a:lnTo>
                  <a:lnTo>
                    <a:pt x="1356" y="1083"/>
                  </a:lnTo>
                  <a:lnTo>
                    <a:pt x="1367" y="1018"/>
                  </a:lnTo>
                  <a:lnTo>
                    <a:pt x="1382" y="954"/>
                  </a:lnTo>
                  <a:lnTo>
                    <a:pt x="1401" y="892"/>
                  </a:lnTo>
                  <a:lnTo>
                    <a:pt x="1423" y="830"/>
                  </a:lnTo>
                  <a:lnTo>
                    <a:pt x="1447" y="770"/>
                  </a:lnTo>
                  <a:lnTo>
                    <a:pt x="1474" y="712"/>
                  </a:lnTo>
                  <a:lnTo>
                    <a:pt x="1505" y="657"/>
                  </a:lnTo>
                  <a:lnTo>
                    <a:pt x="1536" y="602"/>
                  </a:lnTo>
                  <a:lnTo>
                    <a:pt x="1571" y="548"/>
                  </a:lnTo>
                  <a:lnTo>
                    <a:pt x="1609" y="497"/>
                  </a:lnTo>
                  <a:lnTo>
                    <a:pt x="1649" y="448"/>
                  </a:lnTo>
                  <a:lnTo>
                    <a:pt x="1691" y="401"/>
                  </a:lnTo>
                  <a:lnTo>
                    <a:pt x="1735" y="355"/>
                  </a:lnTo>
                  <a:lnTo>
                    <a:pt x="1691" y="315"/>
                  </a:lnTo>
                  <a:lnTo>
                    <a:pt x="1647" y="277"/>
                  </a:lnTo>
                  <a:lnTo>
                    <a:pt x="1598" y="242"/>
                  </a:lnTo>
                  <a:lnTo>
                    <a:pt x="1549" y="209"/>
                  </a:lnTo>
                  <a:lnTo>
                    <a:pt x="1497" y="176"/>
                  </a:lnTo>
                  <a:lnTo>
                    <a:pt x="1444" y="146"/>
                  </a:lnTo>
                  <a:lnTo>
                    <a:pt x="1391" y="119"/>
                  </a:lnTo>
                  <a:lnTo>
                    <a:pt x="1336" y="96"/>
                  </a:lnTo>
                  <a:lnTo>
                    <a:pt x="1278" y="73"/>
                  </a:lnTo>
                  <a:lnTo>
                    <a:pt x="1220" y="55"/>
                  </a:lnTo>
                  <a:lnTo>
                    <a:pt x="1161" y="37"/>
                  </a:lnTo>
                  <a:lnTo>
                    <a:pt x="1101" y="24"/>
                  </a:lnTo>
                  <a:lnTo>
                    <a:pt x="1038" y="13"/>
                  </a:lnTo>
                  <a:lnTo>
                    <a:pt x="977" y="6"/>
                  </a:lnTo>
                  <a:lnTo>
                    <a:pt x="915" y="2"/>
                  </a:lnTo>
                  <a:lnTo>
                    <a:pt x="850" y="0"/>
                  </a:lnTo>
                  <a:lnTo>
                    <a:pt x="788" y="2"/>
                  </a:lnTo>
                  <a:lnTo>
                    <a:pt x="728" y="6"/>
                  </a:lnTo>
                  <a:lnTo>
                    <a:pt x="670" y="13"/>
                  </a:lnTo>
                  <a:lnTo>
                    <a:pt x="610" y="22"/>
                  </a:lnTo>
                  <a:lnTo>
                    <a:pt x="553" y="35"/>
                  </a:lnTo>
                  <a:lnTo>
                    <a:pt x="497" y="49"/>
                  </a:lnTo>
                  <a:lnTo>
                    <a:pt x="442" y="66"/>
                  </a:lnTo>
                  <a:lnTo>
                    <a:pt x="389" y="86"/>
                  </a:lnTo>
                  <a:lnTo>
                    <a:pt x="335" y="109"/>
                  </a:lnTo>
                  <a:lnTo>
                    <a:pt x="282" y="131"/>
                  </a:lnTo>
                  <a:lnTo>
                    <a:pt x="231" y="158"/>
                  </a:lnTo>
                  <a:lnTo>
                    <a:pt x="182" y="186"/>
                  </a:lnTo>
                  <a:lnTo>
                    <a:pt x="135" y="217"/>
                  </a:lnTo>
                  <a:lnTo>
                    <a:pt x="89" y="250"/>
                  </a:lnTo>
                  <a:lnTo>
                    <a:pt x="44" y="284"/>
                  </a:lnTo>
                  <a:lnTo>
                    <a:pt x="0" y="322"/>
                  </a:lnTo>
                  <a:lnTo>
                    <a:pt x="49" y="366"/>
                  </a:lnTo>
                  <a:lnTo>
                    <a:pt x="96" y="415"/>
                  </a:lnTo>
                  <a:lnTo>
                    <a:pt x="139" y="463"/>
                  </a:lnTo>
                  <a:lnTo>
                    <a:pt x="180" y="516"/>
                  </a:lnTo>
                  <a:lnTo>
                    <a:pt x="219" y="573"/>
                  </a:lnTo>
                  <a:lnTo>
                    <a:pt x="255" y="628"/>
                  </a:lnTo>
                  <a:lnTo>
                    <a:pt x="286" y="686"/>
                  </a:lnTo>
                  <a:lnTo>
                    <a:pt x="317" y="748"/>
                  </a:lnTo>
                  <a:lnTo>
                    <a:pt x="344" y="810"/>
                  </a:lnTo>
                  <a:lnTo>
                    <a:pt x="366" y="872"/>
                  </a:lnTo>
                  <a:lnTo>
                    <a:pt x="386" y="938"/>
                  </a:lnTo>
                  <a:lnTo>
                    <a:pt x="403" y="1005"/>
                  </a:lnTo>
                  <a:lnTo>
                    <a:pt x="417" y="1071"/>
                  </a:lnTo>
                  <a:lnTo>
                    <a:pt x="426" y="1143"/>
                  </a:lnTo>
                  <a:lnTo>
                    <a:pt x="432" y="1212"/>
                  </a:lnTo>
                  <a:lnTo>
                    <a:pt x="435" y="1282"/>
                  </a:lnTo>
                  <a:lnTo>
                    <a:pt x="432" y="1356"/>
                  </a:lnTo>
                  <a:lnTo>
                    <a:pt x="426" y="1425"/>
                  </a:lnTo>
                  <a:lnTo>
                    <a:pt x="417" y="1493"/>
                  </a:lnTo>
                  <a:lnTo>
                    <a:pt x="403" y="1562"/>
                  </a:lnTo>
                  <a:lnTo>
                    <a:pt x="386" y="1628"/>
                  </a:lnTo>
                  <a:lnTo>
                    <a:pt x="366" y="1693"/>
                  </a:lnTo>
                  <a:lnTo>
                    <a:pt x="344" y="1757"/>
                  </a:lnTo>
                  <a:lnTo>
                    <a:pt x="317" y="1820"/>
                  </a:lnTo>
                  <a:lnTo>
                    <a:pt x="286" y="1880"/>
                  </a:lnTo>
                  <a:lnTo>
                    <a:pt x="255" y="1939"/>
                  </a:lnTo>
                  <a:lnTo>
                    <a:pt x="219" y="1995"/>
                  </a:lnTo>
                  <a:lnTo>
                    <a:pt x="180" y="2050"/>
                  </a:lnTo>
                  <a:lnTo>
                    <a:pt x="139" y="2101"/>
                  </a:lnTo>
                  <a:lnTo>
                    <a:pt x="96" y="2152"/>
                  </a:lnTo>
                  <a:lnTo>
                    <a:pt x="49" y="2199"/>
                  </a:lnTo>
                  <a:lnTo>
                    <a:pt x="0" y="2246"/>
                  </a:lnTo>
                  <a:lnTo>
                    <a:pt x="44" y="2281"/>
                  </a:lnTo>
                  <a:lnTo>
                    <a:pt x="89" y="2317"/>
                  </a:lnTo>
                  <a:lnTo>
                    <a:pt x="135" y="2351"/>
                  </a:lnTo>
                  <a:lnTo>
                    <a:pt x="182" y="2379"/>
                  </a:lnTo>
                  <a:lnTo>
                    <a:pt x="231" y="2408"/>
                  </a:lnTo>
                  <a:lnTo>
                    <a:pt x="282" y="2435"/>
                  </a:lnTo>
                  <a:lnTo>
                    <a:pt x="335" y="2459"/>
                  </a:lnTo>
                  <a:lnTo>
                    <a:pt x="389" y="2482"/>
                  </a:lnTo>
                  <a:lnTo>
                    <a:pt x="442" y="2501"/>
                  </a:lnTo>
                  <a:lnTo>
                    <a:pt x="497" y="2519"/>
                  </a:lnTo>
                  <a:lnTo>
                    <a:pt x="553" y="2533"/>
                  </a:lnTo>
                  <a:lnTo>
                    <a:pt x="610" y="2546"/>
                  </a:lnTo>
                  <a:lnTo>
                    <a:pt x="670" y="2554"/>
                  </a:lnTo>
                  <a:lnTo>
                    <a:pt x="728" y="2561"/>
                  </a:lnTo>
                  <a:lnTo>
                    <a:pt x="788" y="2566"/>
                  </a:lnTo>
                  <a:lnTo>
                    <a:pt x="850" y="2568"/>
                  </a:lnTo>
                  <a:lnTo>
                    <a:pt x="915" y="2566"/>
                  </a:lnTo>
                  <a:lnTo>
                    <a:pt x="977" y="2561"/>
                  </a:lnTo>
                  <a:lnTo>
                    <a:pt x="1038" y="2552"/>
                  </a:lnTo>
                  <a:lnTo>
                    <a:pt x="1101" y="2543"/>
                  </a:lnTo>
                  <a:lnTo>
                    <a:pt x="1161" y="2527"/>
                  </a:lnTo>
                  <a:lnTo>
                    <a:pt x="1220" y="2512"/>
                  </a:lnTo>
                  <a:lnTo>
                    <a:pt x="1278" y="2492"/>
                  </a:lnTo>
                  <a:lnTo>
                    <a:pt x="1336" y="2472"/>
                  </a:lnTo>
                  <a:lnTo>
                    <a:pt x="1391" y="2448"/>
                  </a:lnTo>
                  <a:lnTo>
                    <a:pt x="1444" y="2421"/>
                  </a:lnTo>
                  <a:lnTo>
                    <a:pt x="1497" y="2390"/>
                  </a:lnTo>
                  <a:lnTo>
                    <a:pt x="1549" y="2359"/>
                  </a:lnTo>
                  <a:lnTo>
                    <a:pt x="1598" y="2326"/>
                  </a:lnTo>
                  <a:lnTo>
                    <a:pt x="1647" y="2290"/>
                  </a:lnTo>
                  <a:lnTo>
                    <a:pt x="1691" y="2250"/>
                  </a:lnTo>
                  <a:lnTo>
                    <a:pt x="1735" y="2210"/>
                  </a:lnTo>
                  <a:lnTo>
                    <a:pt x="1691" y="2166"/>
                  </a:lnTo>
                  <a:lnTo>
                    <a:pt x="1649" y="2119"/>
                  </a:lnTo>
                  <a:lnTo>
                    <a:pt x="1609" y="2070"/>
                  </a:lnTo>
                  <a:lnTo>
                    <a:pt x="1571" y="2019"/>
                  </a:lnTo>
                  <a:lnTo>
                    <a:pt x="1536" y="1966"/>
                  </a:lnTo>
                  <a:lnTo>
                    <a:pt x="1505" y="1911"/>
                  </a:lnTo>
                  <a:lnTo>
                    <a:pt x="1474" y="1855"/>
                  </a:lnTo>
                  <a:lnTo>
                    <a:pt x="1447" y="1796"/>
                  </a:lnTo>
                  <a:lnTo>
                    <a:pt x="1423" y="1738"/>
                  </a:lnTo>
                  <a:lnTo>
                    <a:pt x="1401" y="1675"/>
                  </a:lnTo>
                  <a:lnTo>
                    <a:pt x="1382" y="1614"/>
                  </a:lnTo>
                  <a:lnTo>
                    <a:pt x="1367" y="1549"/>
                  </a:lnTo>
                  <a:lnTo>
                    <a:pt x="1356" y="1485"/>
                  </a:lnTo>
                  <a:lnTo>
                    <a:pt x="1347" y="1418"/>
                  </a:lnTo>
                  <a:lnTo>
                    <a:pt x="1343" y="1352"/>
                  </a:lnTo>
                  <a:lnTo>
                    <a:pt x="1341" y="1282"/>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38" name="Freeform 6"/>
            <p:cNvSpPr/>
            <p:nvPr/>
          </p:nvSpPr>
          <p:spPr>
            <a:xfrm>
              <a:off x="6095160" y="1880280"/>
              <a:ext cx="2871720" cy="3402720"/>
            </a:xfrm>
            <a:custGeom>
              <a:avLst/>
              <a:gdLst/>
              <a:ahLst/>
              <a:rect l="l" t="t" r="r" b="b"/>
              <a:pathLst>
                <a:path w="2171" h="2568">
                  <a:moveTo>
                    <a:pt x="888" y="0"/>
                  </a:moveTo>
                  <a:lnTo>
                    <a:pt x="823" y="2"/>
                  </a:lnTo>
                  <a:lnTo>
                    <a:pt x="762" y="6"/>
                  </a:lnTo>
                  <a:lnTo>
                    <a:pt x="700" y="13"/>
                  </a:lnTo>
                  <a:lnTo>
                    <a:pt x="637" y="24"/>
                  </a:lnTo>
                  <a:lnTo>
                    <a:pt x="577" y="37"/>
                  </a:lnTo>
                  <a:lnTo>
                    <a:pt x="518" y="55"/>
                  </a:lnTo>
                  <a:lnTo>
                    <a:pt x="460" y="73"/>
                  </a:lnTo>
                  <a:lnTo>
                    <a:pt x="403" y="96"/>
                  </a:lnTo>
                  <a:lnTo>
                    <a:pt x="346" y="119"/>
                  </a:lnTo>
                  <a:lnTo>
                    <a:pt x="293" y="146"/>
                  </a:lnTo>
                  <a:lnTo>
                    <a:pt x="240" y="176"/>
                  </a:lnTo>
                  <a:lnTo>
                    <a:pt x="190" y="209"/>
                  </a:lnTo>
                  <a:lnTo>
                    <a:pt x="141" y="242"/>
                  </a:lnTo>
                  <a:lnTo>
                    <a:pt x="92" y="277"/>
                  </a:lnTo>
                  <a:lnTo>
                    <a:pt x="45" y="315"/>
                  </a:lnTo>
                  <a:lnTo>
                    <a:pt x="0" y="355"/>
                  </a:lnTo>
                  <a:lnTo>
                    <a:pt x="47" y="401"/>
                  </a:lnTo>
                  <a:lnTo>
                    <a:pt x="89" y="448"/>
                  </a:lnTo>
                  <a:lnTo>
                    <a:pt x="129" y="497"/>
                  </a:lnTo>
                  <a:lnTo>
                    <a:pt x="167" y="548"/>
                  </a:lnTo>
                  <a:lnTo>
                    <a:pt x="202" y="602"/>
                  </a:lnTo>
                  <a:lnTo>
                    <a:pt x="233" y="657"/>
                  </a:lnTo>
                  <a:lnTo>
                    <a:pt x="264" y="712"/>
                  </a:lnTo>
                  <a:lnTo>
                    <a:pt x="291" y="770"/>
                  </a:lnTo>
                  <a:lnTo>
                    <a:pt x="315" y="830"/>
                  </a:lnTo>
                  <a:lnTo>
                    <a:pt x="336" y="892"/>
                  </a:lnTo>
                  <a:lnTo>
                    <a:pt x="356" y="954"/>
                  </a:lnTo>
                  <a:lnTo>
                    <a:pt x="371" y="1018"/>
                  </a:lnTo>
                  <a:lnTo>
                    <a:pt x="382" y="1083"/>
                  </a:lnTo>
                  <a:lnTo>
                    <a:pt x="391" y="1149"/>
                  </a:lnTo>
                  <a:lnTo>
                    <a:pt x="395" y="1216"/>
                  </a:lnTo>
                  <a:lnTo>
                    <a:pt x="397" y="1282"/>
                  </a:lnTo>
                  <a:lnTo>
                    <a:pt x="395" y="1352"/>
                  </a:lnTo>
                  <a:lnTo>
                    <a:pt x="391" y="1418"/>
                  </a:lnTo>
                  <a:lnTo>
                    <a:pt x="382" y="1485"/>
                  </a:lnTo>
                  <a:lnTo>
                    <a:pt x="371" y="1549"/>
                  </a:lnTo>
                  <a:lnTo>
                    <a:pt x="356" y="1614"/>
                  </a:lnTo>
                  <a:lnTo>
                    <a:pt x="336" y="1675"/>
                  </a:lnTo>
                  <a:lnTo>
                    <a:pt x="315" y="1738"/>
                  </a:lnTo>
                  <a:lnTo>
                    <a:pt x="291" y="1796"/>
                  </a:lnTo>
                  <a:lnTo>
                    <a:pt x="264" y="1855"/>
                  </a:lnTo>
                  <a:lnTo>
                    <a:pt x="233" y="1911"/>
                  </a:lnTo>
                  <a:lnTo>
                    <a:pt x="202" y="1966"/>
                  </a:lnTo>
                  <a:lnTo>
                    <a:pt x="167" y="2019"/>
                  </a:lnTo>
                  <a:lnTo>
                    <a:pt x="129" y="2070"/>
                  </a:lnTo>
                  <a:lnTo>
                    <a:pt x="89" y="2119"/>
                  </a:lnTo>
                  <a:lnTo>
                    <a:pt x="47" y="2166"/>
                  </a:lnTo>
                  <a:lnTo>
                    <a:pt x="0" y="2210"/>
                  </a:lnTo>
                  <a:lnTo>
                    <a:pt x="45" y="2250"/>
                  </a:lnTo>
                  <a:lnTo>
                    <a:pt x="92" y="2290"/>
                  </a:lnTo>
                  <a:lnTo>
                    <a:pt x="141" y="2326"/>
                  </a:lnTo>
                  <a:lnTo>
                    <a:pt x="190" y="2359"/>
                  </a:lnTo>
                  <a:lnTo>
                    <a:pt x="240" y="2390"/>
                  </a:lnTo>
                  <a:lnTo>
                    <a:pt x="293" y="2421"/>
                  </a:lnTo>
                  <a:lnTo>
                    <a:pt x="346" y="2448"/>
                  </a:lnTo>
                  <a:lnTo>
                    <a:pt x="403" y="2472"/>
                  </a:lnTo>
                  <a:lnTo>
                    <a:pt x="460" y="2492"/>
                  </a:lnTo>
                  <a:lnTo>
                    <a:pt x="518" y="2512"/>
                  </a:lnTo>
                  <a:lnTo>
                    <a:pt x="577" y="2527"/>
                  </a:lnTo>
                  <a:lnTo>
                    <a:pt x="637" y="2543"/>
                  </a:lnTo>
                  <a:lnTo>
                    <a:pt x="700" y="2552"/>
                  </a:lnTo>
                  <a:lnTo>
                    <a:pt x="762" y="2561"/>
                  </a:lnTo>
                  <a:lnTo>
                    <a:pt x="823" y="2566"/>
                  </a:lnTo>
                  <a:lnTo>
                    <a:pt x="888" y="2568"/>
                  </a:lnTo>
                  <a:lnTo>
                    <a:pt x="954" y="2566"/>
                  </a:lnTo>
                  <a:lnTo>
                    <a:pt x="1019" y="2561"/>
                  </a:lnTo>
                  <a:lnTo>
                    <a:pt x="1083" y="2552"/>
                  </a:lnTo>
                  <a:lnTo>
                    <a:pt x="1148" y="2541"/>
                  </a:lnTo>
                  <a:lnTo>
                    <a:pt x="1210" y="2525"/>
                  </a:lnTo>
                  <a:lnTo>
                    <a:pt x="1270" y="2510"/>
                  </a:lnTo>
                  <a:lnTo>
                    <a:pt x="1329" y="2490"/>
                  </a:lnTo>
                  <a:lnTo>
                    <a:pt x="1388" y="2466"/>
                  </a:lnTo>
                  <a:lnTo>
                    <a:pt x="1446" y="2441"/>
                  </a:lnTo>
                  <a:lnTo>
                    <a:pt x="1501" y="2412"/>
                  </a:lnTo>
                  <a:lnTo>
                    <a:pt x="1554" y="2381"/>
                  </a:lnTo>
                  <a:lnTo>
                    <a:pt x="1605" y="2348"/>
                  </a:lnTo>
                  <a:lnTo>
                    <a:pt x="1656" y="2312"/>
                  </a:lnTo>
                  <a:lnTo>
                    <a:pt x="1704" y="2275"/>
                  </a:lnTo>
                  <a:lnTo>
                    <a:pt x="1751" y="2232"/>
                  </a:lnTo>
                  <a:lnTo>
                    <a:pt x="1796" y="2191"/>
                  </a:lnTo>
                  <a:lnTo>
                    <a:pt x="1838" y="2146"/>
                  </a:lnTo>
                  <a:lnTo>
                    <a:pt x="1878" y="2099"/>
                  </a:lnTo>
                  <a:lnTo>
                    <a:pt x="1915" y="2050"/>
                  </a:lnTo>
                  <a:lnTo>
                    <a:pt x="1954" y="2002"/>
                  </a:lnTo>
                  <a:lnTo>
                    <a:pt x="1987" y="1949"/>
                  </a:lnTo>
                  <a:lnTo>
                    <a:pt x="2018" y="1896"/>
                  </a:lnTo>
                  <a:lnTo>
                    <a:pt x="2044" y="1839"/>
                  </a:lnTo>
                  <a:lnTo>
                    <a:pt x="2071" y="1782"/>
                  </a:lnTo>
                  <a:lnTo>
                    <a:pt x="2093" y="1724"/>
                  </a:lnTo>
                  <a:lnTo>
                    <a:pt x="2113" y="1665"/>
                  </a:lnTo>
                  <a:lnTo>
                    <a:pt x="2131" y="1605"/>
                  </a:lnTo>
                  <a:lnTo>
                    <a:pt x="2146" y="1542"/>
                  </a:lnTo>
                  <a:lnTo>
                    <a:pt x="2157" y="1478"/>
                  </a:lnTo>
                  <a:lnTo>
                    <a:pt x="2165" y="1413"/>
                  </a:lnTo>
                  <a:lnTo>
                    <a:pt x="2171" y="1349"/>
                  </a:lnTo>
                  <a:lnTo>
                    <a:pt x="2171" y="1282"/>
                  </a:lnTo>
                  <a:lnTo>
                    <a:pt x="2171" y="1218"/>
                  </a:lnTo>
                  <a:lnTo>
                    <a:pt x="2165" y="1151"/>
                  </a:lnTo>
                  <a:lnTo>
                    <a:pt x="2157" y="1087"/>
                  </a:lnTo>
                  <a:lnTo>
                    <a:pt x="2146" y="1026"/>
                  </a:lnTo>
                  <a:lnTo>
                    <a:pt x="2131" y="963"/>
                  </a:lnTo>
                  <a:lnTo>
                    <a:pt x="2113" y="901"/>
                  </a:lnTo>
                  <a:lnTo>
                    <a:pt x="2093" y="843"/>
                  </a:lnTo>
                  <a:lnTo>
                    <a:pt x="2071" y="784"/>
                  </a:lnTo>
                  <a:lnTo>
                    <a:pt x="2044" y="727"/>
                  </a:lnTo>
                  <a:lnTo>
                    <a:pt x="2018" y="672"/>
                  </a:lnTo>
                  <a:lnTo>
                    <a:pt x="1987" y="619"/>
                  </a:lnTo>
                  <a:lnTo>
                    <a:pt x="1954" y="565"/>
                  </a:lnTo>
                  <a:lnTo>
                    <a:pt x="1915" y="514"/>
                  </a:lnTo>
                  <a:lnTo>
                    <a:pt x="1878" y="469"/>
                  </a:lnTo>
                  <a:lnTo>
                    <a:pt x="1838" y="422"/>
                  </a:lnTo>
                  <a:lnTo>
                    <a:pt x="1796" y="375"/>
                  </a:lnTo>
                  <a:lnTo>
                    <a:pt x="1751" y="332"/>
                  </a:lnTo>
                  <a:lnTo>
                    <a:pt x="1704" y="293"/>
                  </a:lnTo>
                  <a:lnTo>
                    <a:pt x="1656" y="255"/>
                  </a:lnTo>
                  <a:lnTo>
                    <a:pt x="1605" y="219"/>
                  </a:lnTo>
                  <a:lnTo>
                    <a:pt x="1554" y="186"/>
                  </a:lnTo>
                  <a:lnTo>
                    <a:pt x="1501" y="155"/>
                  </a:lnTo>
                  <a:lnTo>
                    <a:pt x="1446" y="127"/>
                  </a:lnTo>
                  <a:lnTo>
                    <a:pt x="1388" y="102"/>
                  </a:lnTo>
                  <a:lnTo>
                    <a:pt x="1329" y="78"/>
                  </a:lnTo>
                  <a:lnTo>
                    <a:pt x="1270" y="57"/>
                  </a:lnTo>
                  <a:lnTo>
                    <a:pt x="1210" y="39"/>
                  </a:lnTo>
                  <a:lnTo>
                    <a:pt x="1148" y="26"/>
                  </a:lnTo>
                  <a:lnTo>
                    <a:pt x="1083" y="16"/>
                  </a:lnTo>
                  <a:lnTo>
                    <a:pt x="1019" y="6"/>
                  </a:lnTo>
                  <a:lnTo>
                    <a:pt x="954" y="2"/>
                  </a:lnTo>
                  <a:lnTo>
                    <a:pt x="888" y="0"/>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39" name="Freeform 7"/>
            <p:cNvSpPr/>
            <p:nvPr/>
          </p:nvSpPr>
          <p:spPr>
            <a:xfrm>
              <a:off x="5592240" y="2351160"/>
              <a:ext cx="1048320" cy="2458440"/>
            </a:xfrm>
            <a:custGeom>
              <a:avLst/>
              <a:gdLst/>
              <a:ahLst/>
              <a:rect l="l" t="t" r="r" b="b"/>
              <a:pathLst>
                <a:path w="791" h="1855">
                  <a:moveTo>
                    <a:pt x="791" y="927"/>
                  </a:moveTo>
                  <a:lnTo>
                    <a:pt x="789" y="861"/>
                  </a:lnTo>
                  <a:lnTo>
                    <a:pt x="785" y="794"/>
                  </a:lnTo>
                  <a:lnTo>
                    <a:pt x="776" y="728"/>
                  </a:lnTo>
                  <a:lnTo>
                    <a:pt x="765" y="663"/>
                  </a:lnTo>
                  <a:lnTo>
                    <a:pt x="750" y="599"/>
                  </a:lnTo>
                  <a:lnTo>
                    <a:pt x="730" y="537"/>
                  </a:lnTo>
                  <a:lnTo>
                    <a:pt x="709" y="475"/>
                  </a:lnTo>
                  <a:lnTo>
                    <a:pt x="685" y="415"/>
                  </a:lnTo>
                  <a:lnTo>
                    <a:pt x="658" y="357"/>
                  </a:lnTo>
                  <a:lnTo>
                    <a:pt x="627" y="302"/>
                  </a:lnTo>
                  <a:lnTo>
                    <a:pt x="596" y="247"/>
                  </a:lnTo>
                  <a:lnTo>
                    <a:pt x="561" y="193"/>
                  </a:lnTo>
                  <a:lnTo>
                    <a:pt x="523" y="142"/>
                  </a:lnTo>
                  <a:lnTo>
                    <a:pt x="483" y="93"/>
                  </a:lnTo>
                  <a:lnTo>
                    <a:pt x="441" y="46"/>
                  </a:lnTo>
                  <a:lnTo>
                    <a:pt x="394" y="0"/>
                  </a:lnTo>
                  <a:lnTo>
                    <a:pt x="350" y="46"/>
                  </a:lnTo>
                  <a:lnTo>
                    <a:pt x="308" y="93"/>
                  </a:lnTo>
                  <a:lnTo>
                    <a:pt x="268" y="142"/>
                  </a:lnTo>
                  <a:lnTo>
                    <a:pt x="230" y="193"/>
                  </a:lnTo>
                  <a:lnTo>
                    <a:pt x="195" y="247"/>
                  </a:lnTo>
                  <a:lnTo>
                    <a:pt x="164" y="302"/>
                  </a:lnTo>
                  <a:lnTo>
                    <a:pt x="133" y="357"/>
                  </a:lnTo>
                  <a:lnTo>
                    <a:pt x="106" y="415"/>
                  </a:lnTo>
                  <a:lnTo>
                    <a:pt x="82" y="475"/>
                  </a:lnTo>
                  <a:lnTo>
                    <a:pt x="60" y="537"/>
                  </a:lnTo>
                  <a:lnTo>
                    <a:pt x="41" y="599"/>
                  </a:lnTo>
                  <a:lnTo>
                    <a:pt x="26" y="663"/>
                  </a:lnTo>
                  <a:lnTo>
                    <a:pt x="15" y="728"/>
                  </a:lnTo>
                  <a:lnTo>
                    <a:pt x="6" y="794"/>
                  </a:lnTo>
                  <a:lnTo>
                    <a:pt x="2" y="861"/>
                  </a:lnTo>
                  <a:lnTo>
                    <a:pt x="0" y="927"/>
                  </a:lnTo>
                  <a:lnTo>
                    <a:pt x="2" y="997"/>
                  </a:lnTo>
                  <a:lnTo>
                    <a:pt x="6" y="1063"/>
                  </a:lnTo>
                  <a:lnTo>
                    <a:pt x="15" y="1130"/>
                  </a:lnTo>
                  <a:lnTo>
                    <a:pt x="26" y="1194"/>
                  </a:lnTo>
                  <a:lnTo>
                    <a:pt x="41" y="1259"/>
                  </a:lnTo>
                  <a:lnTo>
                    <a:pt x="60" y="1320"/>
                  </a:lnTo>
                  <a:lnTo>
                    <a:pt x="82" y="1383"/>
                  </a:lnTo>
                  <a:lnTo>
                    <a:pt x="106" y="1441"/>
                  </a:lnTo>
                  <a:lnTo>
                    <a:pt x="133" y="1500"/>
                  </a:lnTo>
                  <a:lnTo>
                    <a:pt x="164" y="1556"/>
                  </a:lnTo>
                  <a:lnTo>
                    <a:pt x="195" y="1611"/>
                  </a:lnTo>
                  <a:lnTo>
                    <a:pt x="230" y="1664"/>
                  </a:lnTo>
                  <a:lnTo>
                    <a:pt x="268" y="1715"/>
                  </a:lnTo>
                  <a:lnTo>
                    <a:pt x="308" y="1764"/>
                  </a:lnTo>
                  <a:lnTo>
                    <a:pt x="350" y="1811"/>
                  </a:lnTo>
                  <a:lnTo>
                    <a:pt x="394" y="1855"/>
                  </a:lnTo>
                  <a:lnTo>
                    <a:pt x="441" y="1811"/>
                  </a:lnTo>
                  <a:lnTo>
                    <a:pt x="483" y="1764"/>
                  </a:lnTo>
                  <a:lnTo>
                    <a:pt x="523" y="1715"/>
                  </a:lnTo>
                  <a:lnTo>
                    <a:pt x="561" y="1664"/>
                  </a:lnTo>
                  <a:lnTo>
                    <a:pt x="596" y="1611"/>
                  </a:lnTo>
                  <a:lnTo>
                    <a:pt x="627" y="1556"/>
                  </a:lnTo>
                  <a:lnTo>
                    <a:pt x="658" y="1500"/>
                  </a:lnTo>
                  <a:lnTo>
                    <a:pt x="685" y="1441"/>
                  </a:lnTo>
                  <a:lnTo>
                    <a:pt x="709" y="1383"/>
                  </a:lnTo>
                  <a:lnTo>
                    <a:pt x="730" y="1320"/>
                  </a:lnTo>
                  <a:lnTo>
                    <a:pt x="750" y="1259"/>
                  </a:lnTo>
                  <a:lnTo>
                    <a:pt x="765" y="1194"/>
                  </a:lnTo>
                  <a:lnTo>
                    <a:pt x="776" y="1130"/>
                  </a:lnTo>
                  <a:lnTo>
                    <a:pt x="785" y="1063"/>
                  </a:lnTo>
                  <a:lnTo>
                    <a:pt x="789" y="997"/>
                  </a:lnTo>
                  <a:lnTo>
                    <a:pt x="791" y="927"/>
                  </a:lnTo>
                  <a:close/>
                </a:path>
              </a:pathLst>
            </a:custGeom>
            <a:solidFill>
              <a:srgbClr val="00235a"/>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40" name="Freeform 8"/>
            <p:cNvSpPr/>
            <p:nvPr/>
          </p:nvSpPr>
          <p:spPr>
            <a:xfrm>
              <a:off x="1020240" y="1880280"/>
              <a:ext cx="2823120" cy="3402720"/>
            </a:xfrm>
            <a:custGeom>
              <a:avLst/>
              <a:gdLst/>
              <a:ahLst/>
              <a:rect l="l" t="t" r="r" b="b"/>
              <a:pathLst>
                <a:path w="2133" h="2568">
                  <a:moveTo>
                    <a:pt x="1698" y="1282"/>
                  </a:moveTo>
                  <a:lnTo>
                    <a:pt x="1700" y="1212"/>
                  </a:lnTo>
                  <a:lnTo>
                    <a:pt x="1707" y="1143"/>
                  </a:lnTo>
                  <a:lnTo>
                    <a:pt x="1715" y="1071"/>
                  </a:lnTo>
                  <a:lnTo>
                    <a:pt x="1729" y="1005"/>
                  </a:lnTo>
                  <a:lnTo>
                    <a:pt x="1747" y="938"/>
                  </a:lnTo>
                  <a:lnTo>
                    <a:pt x="1766" y="872"/>
                  </a:lnTo>
                  <a:lnTo>
                    <a:pt x="1789" y="810"/>
                  </a:lnTo>
                  <a:lnTo>
                    <a:pt x="1815" y="748"/>
                  </a:lnTo>
                  <a:lnTo>
                    <a:pt x="1846" y="686"/>
                  </a:lnTo>
                  <a:lnTo>
                    <a:pt x="1878" y="628"/>
                  </a:lnTo>
                  <a:lnTo>
                    <a:pt x="1915" y="573"/>
                  </a:lnTo>
                  <a:lnTo>
                    <a:pt x="1953" y="516"/>
                  </a:lnTo>
                  <a:lnTo>
                    <a:pt x="1993" y="463"/>
                  </a:lnTo>
                  <a:lnTo>
                    <a:pt x="2038" y="415"/>
                  </a:lnTo>
                  <a:lnTo>
                    <a:pt x="2084" y="366"/>
                  </a:lnTo>
                  <a:lnTo>
                    <a:pt x="2133" y="322"/>
                  </a:lnTo>
                  <a:lnTo>
                    <a:pt x="2091" y="284"/>
                  </a:lnTo>
                  <a:lnTo>
                    <a:pt x="2044" y="250"/>
                  </a:lnTo>
                  <a:lnTo>
                    <a:pt x="1997" y="217"/>
                  </a:lnTo>
                  <a:lnTo>
                    <a:pt x="1951" y="186"/>
                  </a:lnTo>
                  <a:lnTo>
                    <a:pt x="1902" y="158"/>
                  </a:lnTo>
                  <a:lnTo>
                    <a:pt x="1851" y="131"/>
                  </a:lnTo>
                  <a:lnTo>
                    <a:pt x="1798" y="109"/>
                  </a:lnTo>
                  <a:lnTo>
                    <a:pt x="1745" y="86"/>
                  </a:lnTo>
                  <a:lnTo>
                    <a:pt x="1692" y="66"/>
                  </a:lnTo>
                  <a:lnTo>
                    <a:pt x="1635" y="49"/>
                  </a:lnTo>
                  <a:lnTo>
                    <a:pt x="1580" y="35"/>
                  </a:lnTo>
                  <a:lnTo>
                    <a:pt x="1522" y="22"/>
                  </a:lnTo>
                  <a:lnTo>
                    <a:pt x="1463" y="13"/>
                  </a:lnTo>
                  <a:lnTo>
                    <a:pt x="1405" y="6"/>
                  </a:lnTo>
                  <a:lnTo>
                    <a:pt x="1345" y="2"/>
                  </a:lnTo>
                  <a:lnTo>
                    <a:pt x="1283" y="0"/>
                  </a:lnTo>
                  <a:lnTo>
                    <a:pt x="1219" y="2"/>
                  </a:lnTo>
                  <a:lnTo>
                    <a:pt x="1152" y="6"/>
                  </a:lnTo>
                  <a:lnTo>
                    <a:pt x="1088" y="16"/>
                  </a:lnTo>
                  <a:lnTo>
                    <a:pt x="1026" y="26"/>
                  </a:lnTo>
                  <a:lnTo>
                    <a:pt x="963" y="39"/>
                  </a:lnTo>
                  <a:lnTo>
                    <a:pt x="901" y="57"/>
                  </a:lnTo>
                  <a:lnTo>
                    <a:pt x="844" y="78"/>
                  </a:lnTo>
                  <a:lnTo>
                    <a:pt x="783" y="102"/>
                  </a:lnTo>
                  <a:lnTo>
                    <a:pt x="728" y="127"/>
                  </a:lnTo>
                  <a:lnTo>
                    <a:pt x="672" y="155"/>
                  </a:lnTo>
                  <a:lnTo>
                    <a:pt x="617" y="186"/>
                  </a:lnTo>
                  <a:lnTo>
                    <a:pt x="566" y="219"/>
                  </a:lnTo>
                  <a:lnTo>
                    <a:pt x="515" y="255"/>
                  </a:lnTo>
                  <a:lnTo>
                    <a:pt x="469" y="293"/>
                  </a:lnTo>
                  <a:lnTo>
                    <a:pt x="422" y="332"/>
                  </a:lnTo>
                  <a:lnTo>
                    <a:pt x="375" y="375"/>
                  </a:lnTo>
                  <a:lnTo>
                    <a:pt x="333" y="422"/>
                  </a:lnTo>
                  <a:lnTo>
                    <a:pt x="293" y="469"/>
                  </a:lnTo>
                  <a:lnTo>
                    <a:pt x="256" y="514"/>
                  </a:lnTo>
                  <a:lnTo>
                    <a:pt x="220" y="565"/>
                  </a:lnTo>
                  <a:lnTo>
                    <a:pt x="186" y="619"/>
                  </a:lnTo>
                  <a:lnTo>
                    <a:pt x="156" y="672"/>
                  </a:lnTo>
                  <a:lnTo>
                    <a:pt x="127" y="727"/>
                  </a:lnTo>
                  <a:lnTo>
                    <a:pt x="102" y="784"/>
                  </a:lnTo>
                  <a:lnTo>
                    <a:pt x="78" y="843"/>
                  </a:lnTo>
                  <a:lnTo>
                    <a:pt x="58" y="901"/>
                  </a:lnTo>
                  <a:lnTo>
                    <a:pt x="41" y="963"/>
                  </a:lnTo>
                  <a:lnTo>
                    <a:pt x="27" y="1026"/>
                  </a:lnTo>
                  <a:lnTo>
                    <a:pt x="16" y="1087"/>
                  </a:lnTo>
                  <a:lnTo>
                    <a:pt x="6" y="1151"/>
                  </a:lnTo>
                  <a:lnTo>
                    <a:pt x="2" y="1218"/>
                  </a:lnTo>
                  <a:lnTo>
                    <a:pt x="0" y="1282"/>
                  </a:lnTo>
                  <a:lnTo>
                    <a:pt x="2" y="1349"/>
                  </a:lnTo>
                  <a:lnTo>
                    <a:pt x="6" y="1413"/>
                  </a:lnTo>
                  <a:lnTo>
                    <a:pt x="16" y="1478"/>
                  </a:lnTo>
                  <a:lnTo>
                    <a:pt x="27" y="1542"/>
                  </a:lnTo>
                  <a:lnTo>
                    <a:pt x="41" y="1605"/>
                  </a:lnTo>
                  <a:lnTo>
                    <a:pt x="58" y="1665"/>
                  </a:lnTo>
                  <a:lnTo>
                    <a:pt x="78" y="1724"/>
                  </a:lnTo>
                  <a:lnTo>
                    <a:pt x="102" y="1782"/>
                  </a:lnTo>
                  <a:lnTo>
                    <a:pt x="127" y="1839"/>
                  </a:lnTo>
                  <a:lnTo>
                    <a:pt x="156" y="1896"/>
                  </a:lnTo>
                  <a:lnTo>
                    <a:pt x="186" y="1949"/>
                  </a:lnTo>
                  <a:lnTo>
                    <a:pt x="220" y="2002"/>
                  </a:lnTo>
                  <a:lnTo>
                    <a:pt x="256" y="2050"/>
                  </a:lnTo>
                  <a:lnTo>
                    <a:pt x="293" y="2099"/>
                  </a:lnTo>
                  <a:lnTo>
                    <a:pt x="333" y="2146"/>
                  </a:lnTo>
                  <a:lnTo>
                    <a:pt x="375" y="2191"/>
                  </a:lnTo>
                  <a:lnTo>
                    <a:pt x="422" y="2232"/>
                  </a:lnTo>
                  <a:lnTo>
                    <a:pt x="469" y="2275"/>
                  </a:lnTo>
                  <a:lnTo>
                    <a:pt x="515" y="2312"/>
                  </a:lnTo>
                  <a:lnTo>
                    <a:pt x="566" y="2348"/>
                  </a:lnTo>
                  <a:lnTo>
                    <a:pt x="617" y="2381"/>
                  </a:lnTo>
                  <a:lnTo>
                    <a:pt x="672" y="2412"/>
                  </a:lnTo>
                  <a:lnTo>
                    <a:pt x="728" y="2441"/>
                  </a:lnTo>
                  <a:lnTo>
                    <a:pt x="783" y="2466"/>
                  </a:lnTo>
                  <a:lnTo>
                    <a:pt x="844" y="2490"/>
                  </a:lnTo>
                  <a:lnTo>
                    <a:pt x="901" y="2510"/>
                  </a:lnTo>
                  <a:lnTo>
                    <a:pt x="963" y="2525"/>
                  </a:lnTo>
                  <a:lnTo>
                    <a:pt x="1026" y="2541"/>
                  </a:lnTo>
                  <a:lnTo>
                    <a:pt x="1088" y="2552"/>
                  </a:lnTo>
                  <a:lnTo>
                    <a:pt x="1152" y="2561"/>
                  </a:lnTo>
                  <a:lnTo>
                    <a:pt x="1219" y="2566"/>
                  </a:lnTo>
                  <a:lnTo>
                    <a:pt x="1283" y="2568"/>
                  </a:lnTo>
                  <a:lnTo>
                    <a:pt x="1345" y="2566"/>
                  </a:lnTo>
                  <a:lnTo>
                    <a:pt x="1405" y="2561"/>
                  </a:lnTo>
                  <a:lnTo>
                    <a:pt x="1463" y="2554"/>
                  </a:lnTo>
                  <a:lnTo>
                    <a:pt x="1522" y="2546"/>
                  </a:lnTo>
                  <a:lnTo>
                    <a:pt x="1580" y="2533"/>
                  </a:lnTo>
                  <a:lnTo>
                    <a:pt x="1635" y="2519"/>
                  </a:lnTo>
                  <a:lnTo>
                    <a:pt x="1692" y="2501"/>
                  </a:lnTo>
                  <a:lnTo>
                    <a:pt x="1745" y="2482"/>
                  </a:lnTo>
                  <a:lnTo>
                    <a:pt x="1798" y="2459"/>
                  </a:lnTo>
                  <a:lnTo>
                    <a:pt x="1851" y="2435"/>
                  </a:lnTo>
                  <a:lnTo>
                    <a:pt x="1902" y="2408"/>
                  </a:lnTo>
                  <a:lnTo>
                    <a:pt x="1951" y="2379"/>
                  </a:lnTo>
                  <a:lnTo>
                    <a:pt x="1997" y="2351"/>
                  </a:lnTo>
                  <a:lnTo>
                    <a:pt x="2044" y="2317"/>
                  </a:lnTo>
                  <a:lnTo>
                    <a:pt x="2091" y="2281"/>
                  </a:lnTo>
                  <a:lnTo>
                    <a:pt x="2133" y="2246"/>
                  </a:lnTo>
                  <a:lnTo>
                    <a:pt x="2084" y="2199"/>
                  </a:lnTo>
                  <a:lnTo>
                    <a:pt x="2038" y="2152"/>
                  </a:lnTo>
                  <a:lnTo>
                    <a:pt x="1993" y="2101"/>
                  </a:lnTo>
                  <a:lnTo>
                    <a:pt x="1953" y="2050"/>
                  </a:lnTo>
                  <a:lnTo>
                    <a:pt x="1915" y="1995"/>
                  </a:lnTo>
                  <a:lnTo>
                    <a:pt x="1878" y="1939"/>
                  </a:lnTo>
                  <a:lnTo>
                    <a:pt x="1846" y="1880"/>
                  </a:lnTo>
                  <a:lnTo>
                    <a:pt x="1815" y="1820"/>
                  </a:lnTo>
                  <a:lnTo>
                    <a:pt x="1789" y="1757"/>
                  </a:lnTo>
                  <a:lnTo>
                    <a:pt x="1766" y="1693"/>
                  </a:lnTo>
                  <a:lnTo>
                    <a:pt x="1747" y="1628"/>
                  </a:lnTo>
                  <a:lnTo>
                    <a:pt x="1729" y="1562"/>
                  </a:lnTo>
                  <a:lnTo>
                    <a:pt x="1715" y="1493"/>
                  </a:lnTo>
                  <a:lnTo>
                    <a:pt x="1707" y="1425"/>
                  </a:lnTo>
                  <a:lnTo>
                    <a:pt x="1700" y="1356"/>
                  </a:lnTo>
                  <a:lnTo>
                    <a:pt x="1698" y="1282"/>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41" name="Freeform 9"/>
            <p:cNvSpPr/>
            <p:nvPr/>
          </p:nvSpPr>
          <p:spPr>
            <a:xfrm>
              <a:off x="3246120" y="2306880"/>
              <a:ext cx="1152000" cy="2550240"/>
            </a:xfrm>
            <a:custGeom>
              <a:avLst/>
              <a:gdLst/>
              <a:ahLst/>
              <a:rect l="l" t="t" r="r" b="b"/>
              <a:pathLst>
                <a:path w="870" h="1924">
                  <a:moveTo>
                    <a:pt x="870" y="960"/>
                  </a:moveTo>
                  <a:lnTo>
                    <a:pt x="867" y="890"/>
                  </a:lnTo>
                  <a:lnTo>
                    <a:pt x="861" y="821"/>
                  </a:lnTo>
                  <a:lnTo>
                    <a:pt x="852" y="749"/>
                  </a:lnTo>
                  <a:lnTo>
                    <a:pt x="838" y="683"/>
                  </a:lnTo>
                  <a:lnTo>
                    <a:pt x="821" y="616"/>
                  </a:lnTo>
                  <a:lnTo>
                    <a:pt x="801" y="550"/>
                  </a:lnTo>
                  <a:lnTo>
                    <a:pt x="779" y="488"/>
                  </a:lnTo>
                  <a:lnTo>
                    <a:pt x="752" y="426"/>
                  </a:lnTo>
                  <a:lnTo>
                    <a:pt x="721" y="364"/>
                  </a:lnTo>
                  <a:lnTo>
                    <a:pt x="690" y="306"/>
                  </a:lnTo>
                  <a:lnTo>
                    <a:pt x="654" y="251"/>
                  </a:lnTo>
                  <a:lnTo>
                    <a:pt x="615" y="194"/>
                  </a:lnTo>
                  <a:lnTo>
                    <a:pt x="574" y="141"/>
                  </a:lnTo>
                  <a:lnTo>
                    <a:pt x="531" y="93"/>
                  </a:lnTo>
                  <a:lnTo>
                    <a:pt x="484" y="44"/>
                  </a:lnTo>
                  <a:lnTo>
                    <a:pt x="435" y="0"/>
                  </a:lnTo>
                  <a:lnTo>
                    <a:pt x="386" y="44"/>
                  </a:lnTo>
                  <a:lnTo>
                    <a:pt x="340" y="93"/>
                  </a:lnTo>
                  <a:lnTo>
                    <a:pt x="295" y="141"/>
                  </a:lnTo>
                  <a:lnTo>
                    <a:pt x="255" y="194"/>
                  </a:lnTo>
                  <a:lnTo>
                    <a:pt x="217" y="251"/>
                  </a:lnTo>
                  <a:lnTo>
                    <a:pt x="180" y="306"/>
                  </a:lnTo>
                  <a:lnTo>
                    <a:pt x="148" y="364"/>
                  </a:lnTo>
                  <a:lnTo>
                    <a:pt x="117" y="426"/>
                  </a:lnTo>
                  <a:lnTo>
                    <a:pt x="91" y="488"/>
                  </a:lnTo>
                  <a:lnTo>
                    <a:pt x="68" y="550"/>
                  </a:lnTo>
                  <a:lnTo>
                    <a:pt x="49" y="616"/>
                  </a:lnTo>
                  <a:lnTo>
                    <a:pt x="31" y="683"/>
                  </a:lnTo>
                  <a:lnTo>
                    <a:pt x="17" y="749"/>
                  </a:lnTo>
                  <a:lnTo>
                    <a:pt x="9" y="821"/>
                  </a:lnTo>
                  <a:lnTo>
                    <a:pt x="2" y="890"/>
                  </a:lnTo>
                  <a:lnTo>
                    <a:pt x="0" y="960"/>
                  </a:lnTo>
                  <a:lnTo>
                    <a:pt x="2" y="1034"/>
                  </a:lnTo>
                  <a:lnTo>
                    <a:pt x="9" y="1103"/>
                  </a:lnTo>
                  <a:lnTo>
                    <a:pt x="17" y="1171"/>
                  </a:lnTo>
                  <a:lnTo>
                    <a:pt x="31" y="1240"/>
                  </a:lnTo>
                  <a:lnTo>
                    <a:pt x="49" y="1306"/>
                  </a:lnTo>
                  <a:lnTo>
                    <a:pt x="68" y="1371"/>
                  </a:lnTo>
                  <a:lnTo>
                    <a:pt x="91" y="1435"/>
                  </a:lnTo>
                  <a:lnTo>
                    <a:pt x="117" y="1498"/>
                  </a:lnTo>
                  <a:lnTo>
                    <a:pt x="148" y="1558"/>
                  </a:lnTo>
                  <a:lnTo>
                    <a:pt x="180" y="1617"/>
                  </a:lnTo>
                  <a:lnTo>
                    <a:pt x="217" y="1673"/>
                  </a:lnTo>
                  <a:lnTo>
                    <a:pt x="255" y="1728"/>
                  </a:lnTo>
                  <a:lnTo>
                    <a:pt x="295" y="1779"/>
                  </a:lnTo>
                  <a:lnTo>
                    <a:pt x="340" y="1830"/>
                  </a:lnTo>
                  <a:lnTo>
                    <a:pt x="386" y="1877"/>
                  </a:lnTo>
                  <a:lnTo>
                    <a:pt x="435" y="1924"/>
                  </a:lnTo>
                  <a:lnTo>
                    <a:pt x="484" y="1877"/>
                  </a:lnTo>
                  <a:lnTo>
                    <a:pt x="531" y="1830"/>
                  </a:lnTo>
                  <a:lnTo>
                    <a:pt x="574" y="1779"/>
                  </a:lnTo>
                  <a:lnTo>
                    <a:pt x="615" y="1728"/>
                  </a:lnTo>
                  <a:lnTo>
                    <a:pt x="654" y="1673"/>
                  </a:lnTo>
                  <a:lnTo>
                    <a:pt x="690" y="1617"/>
                  </a:lnTo>
                  <a:lnTo>
                    <a:pt x="721" y="1558"/>
                  </a:lnTo>
                  <a:lnTo>
                    <a:pt x="752" y="1498"/>
                  </a:lnTo>
                  <a:lnTo>
                    <a:pt x="779" y="1435"/>
                  </a:lnTo>
                  <a:lnTo>
                    <a:pt x="801" y="1371"/>
                  </a:lnTo>
                  <a:lnTo>
                    <a:pt x="821" y="1306"/>
                  </a:lnTo>
                  <a:lnTo>
                    <a:pt x="838" y="1240"/>
                  </a:lnTo>
                  <a:lnTo>
                    <a:pt x="852" y="1171"/>
                  </a:lnTo>
                  <a:lnTo>
                    <a:pt x="861" y="1103"/>
                  </a:lnTo>
                  <a:lnTo>
                    <a:pt x="867" y="1034"/>
                  </a:lnTo>
                  <a:lnTo>
                    <a:pt x="870" y="960"/>
                  </a:lnTo>
                  <a:close/>
                </a:path>
              </a:pathLst>
            </a:custGeom>
            <a:solidFill>
              <a:srgbClr val="00235a"/>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42" name="Text Box 10"/>
            <p:cNvSpPr/>
            <p:nvPr/>
          </p:nvSpPr>
          <p:spPr>
            <a:xfrm>
              <a:off x="5904000" y="2853720"/>
              <a:ext cx="411120" cy="1538280"/>
            </a:xfrm>
            <a:prstGeom prst="rect">
              <a:avLst/>
            </a:prstGeom>
            <a:solidFill>
              <a:srgbClr val="00235a"/>
            </a:solid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T</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e</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x</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t</a:t>
              </a:r>
              <a:endParaRPr b="0" lang="en-US" sz="1600" spc="-1" strike="noStrike">
                <a:solidFill>
                  <a:srgbClr val="333333"/>
                </a:solidFill>
                <a:latin typeface="VW Headline OT-Book"/>
              </a:endParaRPr>
            </a:p>
          </p:txBody>
        </p:sp>
        <p:sp>
          <p:nvSpPr>
            <p:cNvPr id="943" name="Text Box 11"/>
            <p:cNvSpPr/>
            <p:nvPr/>
          </p:nvSpPr>
          <p:spPr>
            <a:xfrm>
              <a:off x="934920" y="1845360"/>
              <a:ext cx="2756880" cy="350244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000000"/>
                  </a:solidFill>
                  <a:latin typeface="VW Headline OT-Book"/>
                  <a:ea typeface="宋体"/>
                </a:rPr>
                <a:t>Text</a:t>
              </a:r>
              <a:endParaRPr b="0" lang="en-US" sz="1600" spc="-1" strike="noStrike">
                <a:solidFill>
                  <a:srgbClr val="333333"/>
                </a:solidFill>
                <a:latin typeface="VW Headline OT-Book"/>
              </a:endParaRPr>
            </a:p>
          </p:txBody>
        </p:sp>
        <p:sp>
          <p:nvSpPr>
            <p:cNvPr id="944" name="Text Box 12"/>
            <p:cNvSpPr/>
            <p:nvPr/>
          </p:nvSpPr>
          <p:spPr>
            <a:xfrm>
              <a:off x="6163560" y="1833480"/>
              <a:ext cx="2756880" cy="350568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000000"/>
                  </a:solidFill>
                  <a:latin typeface="VW Headline OT-Book"/>
                  <a:ea typeface="宋体"/>
                </a:rPr>
                <a:t>Text</a:t>
              </a:r>
              <a:endParaRPr b="0" lang="en-US" sz="1600" spc="-1" strike="noStrike">
                <a:solidFill>
                  <a:srgbClr val="333333"/>
                </a:solidFill>
                <a:latin typeface="VW Headline OT-Book"/>
              </a:endParaRPr>
            </a:p>
          </p:txBody>
        </p:sp>
        <p:sp>
          <p:nvSpPr>
            <p:cNvPr id="945" name="Text Box 13"/>
            <p:cNvSpPr/>
            <p:nvPr/>
          </p:nvSpPr>
          <p:spPr>
            <a:xfrm>
              <a:off x="3614760" y="2853720"/>
              <a:ext cx="411120" cy="1538280"/>
            </a:xfrm>
            <a:prstGeom prst="rect">
              <a:avLst/>
            </a:prstGeom>
            <a:solidFill>
              <a:srgbClr val="00235a"/>
            </a:solid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T</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e</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x</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t</a:t>
              </a:r>
              <a:endParaRPr b="0" lang="en-US" sz="1600" spc="-1" strike="noStrike">
                <a:solidFill>
                  <a:srgbClr val="333333"/>
                </a:solidFill>
                <a:latin typeface="VW Headline OT-Book"/>
              </a:endParaRPr>
            </a:p>
          </p:txBody>
        </p:sp>
        <p:sp>
          <p:nvSpPr>
            <p:cNvPr id="946" name="Text Box 14"/>
            <p:cNvSpPr/>
            <p:nvPr/>
          </p:nvSpPr>
          <p:spPr>
            <a:xfrm>
              <a:off x="3571920" y="1845360"/>
              <a:ext cx="2754360" cy="350244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000000"/>
                  </a:solidFill>
                  <a:latin typeface="VW Headline OT-Book"/>
                  <a:ea typeface="宋体"/>
                </a:rPr>
                <a:t>Text</a:t>
              </a:r>
              <a:endParaRPr b="0" lang="en-US" sz="1600" spc="-1" strike="noStrike">
                <a:solidFill>
                  <a:srgbClr val="333333"/>
                </a:solidFill>
                <a:latin typeface="VW Headline OT-Book"/>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76E4-0823-41A2-8B6A-FCC98E48C6E4}"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94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4C165B35-7FBE-404B-9AF8-582C307EE62D}"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94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eam: Lorem</a:t>
            </a:r>
            <a:br>
              <a:rPr sz="2800"/>
            </a:br>
            <a:r>
              <a:rPr b="0" lang="en-GB" sz="2800" spc="-1" strike="noStrike">
                <a:solidFill>
                  <a:srgbClr val="333333"/>
                </a:solidFill>
                <a:latin typeface="Arial"/>
                <a:ea typeface="宋体"/>
              </a:rPr>
              <a:t>Name: Ipsum</a:t>
            </a:r>
            <a:endParaRPr b="0" lang="en-US" sz="2800" spc="-1" strike="noStrike">
              <a:solidFill>
                <a:srgbClr val="333333"/>
              </a:solidFill>
              <a:latin typeface="Arial"/>
            </a:endParaRPr>
          </a:p>
        </p:txBody>
      </p:sp>
      <p:grpSp>
        <p:nvGrpSpPr>
          <p:cNvPr id="950" name=""/>
          <p:cNvGrpSpPr/>
          <p:nvPr/>
        </p:nvGrpSpPr>
        <p:grpSpPr>
          <a:xfrm>
            <a:off x="2075040" y="1143000"/>
            <a:ext cx="360" cy="4724280"/>
            <a:chOff x="2075040" y="1143000"/>
            <a:chExt cx="360" cy="4724280"/>
          </a:xfrm>
        </p:grpSpPr>
        <p:sp>
          <p:nvSpPr>
            <p:cNvPr id="951" name="Line 3"/>
            <p:cNvSpPr/>
            <p:nvPr/>
          </p:nvSpPr>
          <p:spPr>
            <a:xfrm>
              <a:off x="2075040" y="1143000"/>
              <a:ext cx="0" cy="4724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952" name=""/>
            <p:cNvSpPr txBox="1"/>
            <p:nvPr/>
          </p:nvSpPr>
          <p:spPr>
            <a:xfrm>
              <a:off x="2075040" y="1143000"/>
              <a:ext cx="360" cy="47242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aphicFrame>
        <p:nvGraphicFramePr>
          <p:cNvPr id="953" name=""/>
          <p:cNvGraphicFramePr/>
          <p:nvPr/>
        </p:nvGraphicFramePr>
        <p:xfrm>
          <a:off x="1019160" y="1473120"/>
          <a:ext cx="7945560" cy="4432320"/>
        </p:xfrm>
        <a:graphic>
          <a:graphicData uri="http://schemas.openxmlformats.org/drawingml/2006/table">
            <a:tbl>
              <a:tblPr/>
              <a:tblGrid>
                <a:gridCol w="1135080"/>
                <a:gridCol w="1135080"/>
                <a:gridCol w="1135080"/>
                <a:gridCol w="1135080"/>
                <a:gridCol w="1135080"/>
                <a:gridCol w="1135080"/>
                <a:gridCol w="1135080"/>
              </a:tblGrid>
              <a:tr h="1136520">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Task/</a:t>
                      </a:r>
                      <a:endParaRPr b="0" lang="en-US" sz="1200" spc="-1" strike="noStrike">
                        <a:solidFill>
                          <a:srgbClr val="333333"/>
                        </a:solidFill>
                        <a:latin typeface="VW Headline OT-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subject</a:t>
                      </a:r>
                      <a:endParaRPr b="0" lang="en-US" sz="1200" spc="-1" strike="noStrike">
                        <a:solidFill>
                          <a:srgbClr val="333333"/>
                        </a:solidFill>
                        <a:latin typeface="VW Headline OT-Book"/>
                      </a:endParaRPr>
                    </a:p>
                  </a:txBody>
                  <a:tcPr anchor="t" marL="72000" marR="72000">
                    <a:lnL>
                      <a:noFill/>
                    </a:lnL>
                    <a:lnR w="432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Brief description</a:t>
                      </a:r>
                      <a:endParaRPr b="0" lang="en-US" sz="1200" spc="-1" strike="noStrike">
                        <a:solidFill>
                          <a:srgbClr val="333333"/>
                        </a:solidFill>
                        <a:latin typeface="VW Headline OT-Book"/>
                      </a:endParaRPr>
                    </a:p>
                  </a:txBody>
                  <a:tcPr anchor="t" marL="72000" marR="72000">
                    <a:lnL w="4320">
                      <a:solidFill>
                        <a:srgbClr val="ffffff"/>
                      </a:solidFill>
                    </a:lnL>
                    <a:lnR w="432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Interfaces</a:t>
                      </a:r>
                      <a:endParaRPr b="0" lang="en-US" sz="1200" spc="-1" strike="noStrike">
                        <a:solidFill>
                          <a:srgbClr val="333333"/>
                        </a:solidFill>
                        <a:latin typeface="VW Headline OT-Book"/>
                      </a:endParaRPr>
                    </a:p>
                  </a:txBody>
                  <a:tcPr anchor="t" marL="72000" marR="72000">
                    <a:lnL w="4320">
                      <a:solidFill>
                        <a:srgbClr val="ffffff"/>
                      </a:solidFill>
                    </a:lnL>
                    <a:lnR w="576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Time required as % of working time</a:t>
                      </a:r>
                      <a:endParaRPr b="0" lang="en-US" sz="1200" spc="-1" strike="noStrike">
                        <a:solidFill>
                          <a:srgbClr val="333333"/>
                        </a:solidFill>
                        <a:latin typeface="VW Headline OT-Book"/>
                      </a:endParaRPr>
                    </a:p>
                  </a:txBody>
                  <a:tcPr anchor="t" marL="72000" marR="72000">
                    <a:lnL w="5760">
                      <a:solidFill>
                        <a:srgbClr val="ffffff"/>
                      </a:solidFill>
                    </a:lnL>
                    <a:lnR w="576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Project status</a:t>
                      </a:r>
                      <a:endParaRPr b="0" lang="en-US" sz="1200" spc="-1" strike="noStrike">
                        <a:solidFill>
                          <a:srgbClr val="333333"/>
                        </a:solidFill>
                        <a:latin typeface="VW Headline OT-Book"/>
                      </a:endParaRPr>
                    </a:p>
                  </a:txBody>
                  <a:tcPr anchor="t" marL="72000" marR="72000">
                    <a:lnL w="5760">
                      <a:solidFill>
                        <a:srgbClr val="ffffff"/>
                      </a:solidFill>
                    </a:lnL>
                    <a:lnR w="576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Resources adequate?</a:t>
                      </a:r>
                      <a:endParaRPr b="0" lang="en-US" sz="1200" spc="-1" strike="noStrike">
                        <a:solidFill>
                          <a:srgbClr val="333333"/>
                        </a:solidFill>
                        <a:latin typeface="VW Headline OT-Book"/>
                      </a:endParaRPr>
                    </a:p>
                  </a:txBody>
                  <a:tcPr anchor="t" marL="72000" marR="72000">
                    <a:lnL w="5760">
                      <a:solidFill>
                        <a:srgbClr val="ffffff"/>
                      </a:solidFill>
                    </a:lnL>
                    <a:lnR w="576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Particular challenges/</a:t>
                      </a:r>
                      <a:endParaRPr b="0" lang="en-US" sz="1200" spc="-1" strike="noStrike">
                        <a:solidFill>
                          <a:srgbClr val="333333"/>
                        </a:solidFill>
                        <a:latin typeface="VW Headline OT-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remarks</a:t>
                      </a:r>
                      <a:endParaRPr b="0" lang="en-US" sz="1200" spc="-1" strike="noStrike">
                        <a:solidFill>
                          <a:srgbClr val="333333"/>
                        </a:solidFill>
                        <a:latin typeface="VW Headline OT-Book"/>
                      </a:endParaRPr>
                    </a:p>
                  </a:txBody>
                  <a:tcPr anchor="t" marL="72000" marR="72000">
                    <a:lnL w="5760">
                      <a:solidFill>
                        <a:srgbClr val="ffffff"/>
                      </a:solidFill>
                    </a:lnL>
                    <a:lnR>
                      <a:noFill/>
                    </a:lnR>
                    <a:lnT>
                      <a:noFill/>
                    </a:lnT>
                    <a:lnB w="18720">
                      <a:solidFill>
                        <a:srgbClr val="ffffff"/>
                      </a:solidFill>
                    </a:lnB>
                    <a:solidFill>
                      <a:srgbClr val="00235a"/>
                    </a:solidFill>
                  </a:tcPr>
                </a:tc>
              </a:tr>
              <a:tr h="1648080">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a:no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432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4320">
                      <a:solidFill>
                        <a:srgbClr val="ffffff"/>
                      </a:solid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a:noFill/>
                    </a:lnR>
                    <a:lnT w="18720">
                      <a:solidFill>
                        <a:srgbClr val="ffffff"/>
                      </a:solidFill>
                    </a:lnT>
                    <a:lnB w="18720">
                      <a:solidFill>
                        <a:srgbClr val="ffffff"/>
                      </a:solidFill>
                    </a:lnB>
                    <a:solidFill>
                      <a:srgbClr val="bbc2c5"/>
                    </a:solidFill>
                  </a:tcPr>
                </a:tc>
              </a:tr>
              <a:tr h="1647720">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a:no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432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4320">
                      <a:solidFill>
                        <a:srgbClr val="ffffff"/>
                      </a:solid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a:noFill/>
                    </a:lnR>
                    <a:lnT w="18720">
                      <a:solidFill>
                        <a:srgbClr val="ffffff"/>
                      </a:solidFill>
                    </a:lnT>
                    <a:lnB>
                      <a:noFill/>
                    </a:lnB>
                    <a:solidFill>
                      <a:srgbClr val="bbc2c5"/>
                    </a:solidFill>
                  </a:tcPr>
                </a:tc>
              </a:tr>
            </a:tbl>
          </a:graphicData>
        </a:graphic>
      </p:graphicFrame>
      <p:sp>
        <p:nvSpPr>
          <p:cNvPr id="954" name="Oval 41"/>
          <p:cNvSpPr/>
          <p:nvPr/>
        </p:nvSpPr>
        <p:spPr>
          <a:xfrm flipV="1">
            <a:off x="1019160" y="5762520"/>
            <a:ext cx="108000" cy="108000"/>
          </a:xfrm>
          <a:prstGeom prst="ellipse">
            <a:avLst/>
          </a:prstGeom>
          <a:solidFill>
            <a:srgbClr val="e63110"/>
          </a:solidFill>
          <a:ln w="0">
            <a:noFill/>
          </a:ln>
        </p:spPr>
        <p:style>
          <a:lnRef idx="0"/>
          <a:fillRef idx="0"/>
          <a:effectRef idx="0"/>
          <a:fontRef idx="minor"/>
        </p:style>
        <p:txBody>
          <a:bodyPr wrap="none" lIns="540000" rIns="90000" tIns="-13680" bIns="-193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55" name="Oval 42"/>
          <p:cNvSpPr/>
          <p:nvPr/>
        </p:nvSpPr>
        <p:spPr>
          <a:xfrm flipV="1">
            <a:off x="1019160" y="5913360"/>
            <a:ext cx="108000" cy="108000"/>
          </a:xfrm>
          <a:prstGeom prst="ellipse">
            <a:avLst/>
          </a:prstGeom>
          <a:solidFill>
            <a:srgbClr val="f9a700"/>
          </a:solidFill>
          <a:ln w="0">
            <a:noFill/>
          </a:ln>
        </p:spPr>
        <p:style>
          <a:lnRef idx="0"/>
          <a:fillRef idx="0"/>
          <a:effectRef idx="0"/>
          <a:fontRef idx="minor"/>
        </p:style>
        <p:txBody>
          <a:bodyPr wrap="none" lIns="540000" rIns="90000" tIns="-13680" bIns="-193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56" name="Oval 43"/>
          <p:cNvSpPr/>
          <p:nvPr/>
        </p:nvSpPr>
        <p:spPr>
          <a:xfrm flipV="1">
            <a:off x="1019160" y="6059520"/>
            <a:ext cx="108000" cy="108000"/>
          </a:xfrm>
          <a:prstGeom prst="ellipse">
            <a:avLst/>
          </a:prstGeom>
          <a:solidFill>
            <a:srgbClr val="009c0e"/>
          </a:solidFill>
          <a:ln w="0">
            <a:noFill/>
          </a:ln>
        </p:spPr>
        <p:style>
          <a:lnRef idx="0"/>
          <a:fillRef idx="0"/>
          <a:effectRef idx="0"/>
          <a:fontRef idx="minor"/>
        </p:style>
        <p:txBody>
          <a:bodyPr wrap="none" lIns="540000" rIns="90000" tIns="-13680" bIns="-193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57" name="Text Box 44"/>
          <p:cNvSpPr/>
          <p:nvPr/>
        </p:nvSpPr>
        <p:spPr>
          <a:xfrm>
            <a:off x="1162080" y="5759280"/>
            <a:ext cx="3863880" cy="410400"/>
          </a:xfrm>
          <a:prstGeom prst="rect">
            <a:avLst/>
          </a:prstGeom>
          <a:noFill/>
          <a:ln w="0">
            <a:noFill/>
          </a:ln>
        </p:spPr>
        <p:style>
          <a:lnRef idx="0"/>
          <a:fillRef idx="0"/>
          <a:effectRef idx="0"/>
          <a:fontRef idx="minor"/>
        </p:style>
        <p:txBody>
          <a:bodyPr lIns="0" rIns="0" tIns="0" bIns="0" anchor="t">
            <a:spAutoFit/>
          </a:bodyPr>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VW Headline OT-Book"/>
                <a:ea typeface="宋体"/>
              </a:rPr>
              <a:t>=  Workload &gt; 120 % of regular working time</a:t>
            </a:r>
            <a:endParaRPr b="0" lang="en-US" sz="800" spc="-1" strike="noStrike">
              <a:solidFill>
                <a:srgbClr val="333333"/>
              </a:solidFill>
              <a:latin typeface="VW Headline OT-Book"/>
            </a:endParaRPr>
          </a:p>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VW Headline OT-Book"/>
                <a:ea typeface="宋体"/>
              </a:rPr>
              <a:t>=  Workload 90-120 % of regular working time</a:t>
            </a:r>
            <a:endParaRPr b="0" lang="en-US" sz="800" spc="-1" strike="noStrike">
              <a:solidFill>
                <a:srgbClr val="333333"/>
              </a:solidFill>
              <a:latin typeface="VW Headline OT-Book"/>
            </a:endParaRPr>
          </a:p>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VW Headline OT-Book"/>
                <a:ea typeface="宋体"/>
              </a:rPr>
              <a:t>=  Workload up to 90 % of regular working time</a:t>
            </a:r>
            <a:endParaRPr b="0" lang="en-US" sz="800" spc="-1" strike="noStrike">
              <a:solidFill>
                <a:srgbClr val="333333"/>
              </a:solidFill>
              <a:latin typeface="VW Headline OT-Book"/>
            </a:endParaRPr>
          </a:p>
        </p:txBody>
      </p:sp>
      <p:grpSp>
        <p:nvGrpSpPr>
          <p:cNvPr id="958" name="组合 59432"/>
          <p:cNvGrpSpPr/>
          <p:nvPr/>
        </p:nvGrpSpPr>
        <p:grpSpPr>
          <a:xfrm>
            <a:off x="3754440" y="4222800"/>
            <a:ext cx="204840" cy="534960"/>
            <a:chOff x="3754440" y="4222800"/>
            <a:chExt cx="204840" cy="534960"/>
          </a:xfrm>
        </p:grpSpPr>
        <p:grpSp>
          <p:nvGrpSpPr>
            <p:cNvPr id="959" name="组合 59433"/>
            <p:cNvGrpSpPr/>
            <p:nvPr/>
          </p:nvGrpSpPr>
          <p:grpSpPr>
            <a:xfrm>
              <a:off x="3754440" y="4222800"/>
              <a:ext cx="204840" cy="534960"/>
              <a:chOff x="3754440" y="4222800"/>
              <a:chExt cx="204840" cy="534960"/>
            </a:xfrm>
          </p:grpSpPr>
          <p:grpSp>
            <p:nvGrpSpPr>
              <p:cNvPr id="960" name="组合 59434"/>
              <p:cNvGrpSpPr/>
              <p:nvPr/>
            </p:nvGrpSpPr>
            <p:grpSpPr>
              <a:xfrm>
                <a:off x="3754440" y="4222800"/>
                <a:ext cx="204840" cy="534960"/>
                <a:chOff x="3754440" y="4222800"/>
                <a:chExt cx="204840" cy="534960"/>
              </a:xfrm>
            </p:grpSpPr>
            <p:sp>
              <p:nvSpPr>
                <p:cNvPr id="961" name="Rectangle 48"/>
                <p:cNvSpPr/>
                <p:nvPr/>
              </p:nvSpPr>
              <p:spPr>
                <a:xfrm>
                  <a:off x="3754440" y="4222800"/>
                  <a:ext cx="204840" cy="53496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2" name="Oval 49"/>
                <p:cNvSpPr/>
                <p:nvPr/>
              </p:nvSpPr>
              <p:spPr>
                <a:xfrm>
                  <a:off x="3798000" y="44334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3" name="Oval 50"/>
                <p:cNvSpPr/>
                <p:nvPr/>
              </p:nvSpPr>
              <p:spPr>
                <a:xfrm>
                  <a:off x="3798000" y="426708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4" name="Oval 51"/>
                <p:cNvSpPr/>
                <p:nvPr/>
              </p:nvSpPr>
              <p:spPr>
                <a:xfrm>
                  <a:off x="3798000" y="460008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65" name="Rectangle 52"/>
              <p:cNvSpPr/>
              <p:nvPr/>
            </p:nvSpPr>
            <p:spPr>
              <a:xfrm>
                <a:off x="3754440" y="4222800"/>
                <a:ext cx="204840" cy="53496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6" name="Oval 53"/>
              <p:cNvSpPr/>
              <p:nvPr/>
            </p:nvSpPr>
            <p:spPr>
              <a:xfrm>
                <a:off x="3798000" y="44334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7" name="Oval 54"/>
              <p:cNvSpPr/>
              <p:nvPr/>
            </p:nvSpPr>
            <p:spPr>
              <a:xfrm>
                <a:off x="3798000" y="426708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8" name="Oval 55"/>
              <p:cNvSpPr/>
              <p:nvPr/>
            </p:nvSpPr>
            <p:spPr>
              <a:xfrm>
                <a:off x="3798000" y="460008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69" name="组合 59443"/>
            <p:cNvGrpSpPr/>
            <p:nvPr/>
          </p:nvGrpSpPr>
          <p:grpSpPr>
            <a:xfrm>
              <a:off x="3754440" y="4222800"/>
              <a:ext cx="204840" cy="534960"/>
              <a:chOff x="3754440" y="4222800"/>
              <a:chExt cx="204840" cy="534960"/>
            </a:xfrm>
          </p:grpSpPr>
          <p:sp>
            <p:nvSpPr>
              <p:cNvPr id="970" name="Rectangle 57"/>
              <p:cNvSpPr/>
              <p:nvPr/>
            </p:nvSpPr>
            <p:spPr>
              <a:xfrm>
                <a:off x="3754440" y="4222800"/>
                <a:ext cx="204840" cy="53496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1" name="Oval 58"/>
              <p:cNvSpPr/>
              <p:nvPr/>
            </p:nvSpPr>
            <p:spPr>
              <a:xfrm>
                <a:off x="3798000" y="44334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2" name="Oval 59"/>
              <p:cNvSpPr/>
              <p:nvPr/>
            </p:nvSpPr>
            <p:spPr>
              <a:xfrm>
                <a:off x="3798000" y="426708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3" name="Oval 60"/>
              <p:cNvSpPr/>
              <p:nvPr/>
            </p:nvSpPr>
            <p:spPr>
              <a:xfrm>
                <a:off x="3798000" y="460008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74" name="Rectangle 61"/>
            <p:cNvSpPr/>
            <p:nvPr/>
          </p:nvSpPr>
          <p:spPr>
            <a:xfrm>
              <a:off x="3754440" y="4222800"/>
              <a:ext cx="204840" cy="53496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5" name="Oval 62"/>
            <p:cNvSpPr/>
            <p:nvPr/>
          </p:nvSpPr>
          <p:spPr>
            <a:xfrm>
              <a:off x="3797280" y="4432680"/>
              <a:ext cx="118440" cy="118440"/>
            </a:xfrm>
            <a:prstGeom prst="ellipse">
              <a:avLst/>
            </a:prstGeom>
            <a:solidFill>
              <a:srgbClr val="bbc2c5"/>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6" name="Oval 63"/>
            <p:cNvSpPr/>
            <p:nvPr/>
          </p:nvSpPr>
          <p:spPr>
            <a:xfrm>
              <a:off x="3797280" y="4267080"/>
              <a:ext cx="118440" cy="118440"/>
            </a:xfrm>
            <a:prstGeom prst="ellipse">
              <a:avLst/>
            </a:prstGeom>
            <a:solidFill>
              <a:srgbClr val="e63110"/>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7" name="Oval 64"/>
            <p:cNvSpPr/>
            <p:nvPr/>
          </p:nvSpPr>
          <p:spPr>
            <a:xfrm>
              <a:off x="3797280" y="4600080"/>
              <a:ext cx="118440" cy="118440"/>
            </a:xfrm>
            <a:prstGeom prst="ellipse">
              <a:avLst/>
            </a:prstGeom>
            <a:solidFill>
              <a:srgbClr val="bbc2c5"/>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78" name="组合 59452"/>
          <p:cNvGrpSpPr/>
          <p:nvPr/>
        </p:nvGrpSpPr>
        <p:grpSpPr>
          <a:xfrm>
            <a:off x="4875120" y="4222800"/>
            <a:ext cx="206640" cy="539640"/>
            <a:chOff x="4875120" y="4222800"/>
            <a:chExt cx="206640" cy="539640"/>
          </a:xfrm>
        </p:grpSpPr>
        <p:grpSp>
          <p:nvGrpSpPr>
            <p:cNvPr id="979" name="组合 59453"/>
            <p:cNvGrpSpPr/>
            <p:nvPr/>
          </p:nvGrpSpPr>
          <p:grpSpPr>
            <a:xfrm>
              <a:off x="4875120" y="4222800"/>
              <a:ext cx="206640" cy="539640"/>
              <a:chOff x="4875120" y="4222800"/>
              <a:chExt cx="206640" cy="539640"/>
            </a:xfrm>
          </p:grpSpPr>
          <p:grpSp>
            <p:nvGrpSpPr>
              <p:cNvPr id="980" name="组合 59454"/>
              <p:cNvGrpSpPr/>
              <p:nvPr/>
            </p:nvGrpSpPr>
            <p:grpSpPr>
              <a:xfrm>
                <a:off x="4875120" y="4222800"/>
                <a:ext cx="206640" cy="539640"/>
                <a:chOff x="4875120" y="4222800"/>
                <a:chExt cx="206640" cy="539640"/>
              </a:xfrm>
            </p:grpSpPr>
            <p:sp>
              <p:nvSpPr>
                <p:cNvPr id="981" name="Rectangle 68"/>
                <p:cNvSpPr/>
                <p:nvPr/>
              </p:nvSpPr>
              <p:spPr>
                <a:xfrm>
                  <a:off x="4875120" y="4222800"/>
                  <a:ext cx="20664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2" name="Oval 69"/>
                <p:cNvSpPr/>
                <p:nvPr/>
              </p:nvSpPr>
              <p:spPr>
                <a:xfrm>
                  <a:off x="4919040" y="443520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3" name="Oval 70"/>
                <p:cNvSpPr/>
                <p:nvPr/>
              </p:nvSpPr>
              <p:spPr>
                <a:xfrm>
                  <a:off x="4919040" y="426780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4" name="Oval 71"/>
                <p:cNvSpPr/>
                <p:nvPr/>
              </p:nvSpPr>
              <p:spPr>
                <a:xfrm>
                  <a:off x="4919040" y="46033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85" name="Rectangle 72"/>
              <p:cNvSpPr/>
              <p:nvPr/>
            </p:nvSpPr>
            <p:spPr>
              <a:xfrm>
                <a:off x="4875120" y="4222800"/>
                <a:ext cx="20664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6" name="Oval 73"/>
              <p:cNvSpPr/>
              <p:nvPr/>
            </p:nvSpPr>
            <p:spPr>
              <a:xfrm>
                <a:off x="4919040" y="443520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7" name="Oval 74"/>
              <p:cNvSpPr/>
              <p:nvPr/>
            </p:nvSpPr>
            <p:spPr>
              <a:xfrm>
                <a:off x="4919040" y="426780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8" name="Oval 75"/>
              <p:cNvSpPr/>
              <p:nvPr/>
            </p:nvSpPr>
            <p:spPr>
              <a:xfrm>
                <a:off x="4919040" y="46033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89" name="组合 59463"/>
            <p:cNvGrpSpPr/>
            <p:nvPr/>
          </p:nvGrpSpPr>
          <p:grpSpPr>
            <a:xfrm>
              <a:off x="4875120" y="4222800"/>
              <a:ext cx="206640" cy="539640"/>
              <a:chOff x="4875120" y="4222800"/>
              <a:chExt cx="206640" cy="539640"/>
            </a:xfrm>
          </p:grpSpPr>
          <p:sp>
            <p:nvSpPr>
              <p:cNvPr id="990" name="Rectangle 77"/>
              <p:cNvSpPr/>
              <p:nvPr/>
            </p:nvSpPr>
            <p:spPr>
              <a:xfrm>
                <a:off x="4875120" y="4222800"/>
                <a:ext cx="20664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1" name="Oval 78"/>
              <p:cNvSpPr/>
              <p:nvPr/>
            </p:nvSpPr>
            <p:spPr>
              <a:xfrm>
                <a:off x="4919040" y="443520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2" name="Oval 79"/>
              <p:cNvSpPr/>
              <p:nvPr/>
            </p:nvSpPr>
            <p:spPr>
              <a:xfrm>
                <a:off x="4919040" y="426780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3" name="Oval 80"/>
              <p:cNvSpPr/>
              <p:nvPr/>
            </p:nvSpPr>
            <p:spPr>
              <a:xfrm>
                <a:off x="4919040" y="46033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94" name="Rectangle 81"/>
            <p:cNvSpPr/>
            <p:nvPr/>
          </p:nvSpPr>
          <p:spPr>
            <a:xfrm>
              <a:off x="4875120" y="4222800"/>
              <a:ext cx="20664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5" name="Oval 82"/>
            <p:cNvSpPr/>
            <p:nvPr/>
          </p:nvSpPr>
          <p:spPr>
            <a:xfrm>
              <a:off x="4918320" y="4434840"/>
              <a:ext cx="119520" cy="119520"/>
            </a:xfrm>
            <a:prstGeom prst="ellipse">
              <a:avLst/>
            </a:prstGeom>
            <a:solidFill>
              <a:srgbClr val="f9a700"/>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6" name="Oval 83"/>
            <p:cNvSpPr/>
            <p:nvPr/>
          </p:nvSpPr>
          <p:spPr>
            <a:xfrm>
              <a:off x="4918320" y="4267800"/>
              <a:ext cx="11952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7" name="Oval 84"/>
            <p:cNvSpPr/>
            <p:nvPr/>
          </p:nvSpPr>
          <p:spPr>
            <a:xfrm>
              <a:off x="4918320" y="4603320"/>
              <a:ext cx="11952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98" name="组合 59472"/>
          <p:cNvGrpSpPr/>
          <p:nvPr/>
        </p:nvGrpSpPr>
        <p:grpSpPr>
          <a:xfrm>
            <a:off x="6045120" y="4222800"/>
            <a:ext cx="206280" cy="539640"/>
            <a:chOff x="6045120" y="4222800"/>
            <a:chExt cx="206280" cy="539640"/>
          </a:xfrm>
        </p:grpSpPr>
        <p:grpSp>
          <p:nvGrpSpPr>
            <p:cNvPr id="999" name="组合 59473"/>
            <p:cNvGrpSpPr/>
            <p:nvPr/>
          </p:nvGrpSpPr>
          <p:grpSpPr>
            <a:xfrm>
              <a:off x="6045120" y="4222800"/>
              <a:ext cx="206280" cy="539640"/>
              <a:chOff x="6045120" y="4222800"/>
              <a:chExt cx="206280" cy="539640"/>
            </a:xfrm>
          </p:grpSpPr>
          <p:grpSp>
            <p:nvGrpSpPr>
              <p:cNvPr id="1000" name="组合 59474"/>
              <p:cNvGrpSpPr/>
              <p:nvPr/>
            </p:nvGrpSpPr>
            <p:grpSpPr>
              <a:xfrm>
                <a:off x="6045120" y="4222800"/>
                <a:ext cx="206280" cy="539640"/>
                <a:chOff x="6045120" y="4222800"/>
                <a:chExt cx="206280" cy="539640"/>
              </a:xfrm>
            </p:grpSpPr>
            <p:sp>
              <p:nvSpPr>
                <p:cNvPr id="1001" name="Rectangle 88"/>
                <p:cNvSpPr/>
                <p:nvPr/>
              </p:nvSpPr>
              <p:spPr>
                <a:xfrm>
                  <a:off x="6045120" y="4222800"/>
                  <a:ext cx="20628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2" name="Oval 89"/>
                <p:cNvSpPr/>
                <p:nvPr/>
              </p:nvSpPr>
              <p:spPr>
                <a:xfrm>
                  <a:off x="6088680" y="44352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3" name="Oval 90"/>
                <p:cNvSpPr/>
                <p:nvPr/>
              </p:nvSpPr>
              <p:spPr>
                <a:xfrm>
                  <a:off x="6088680" y="42678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4" name="Oval 91"/>
                <p:cNvSpPr/>
                <p:nvPr/>
              </p:nvSpPr>
              <p:spPr>
                <a:xfrm>
                  <a:off x="6088680" y="460332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05" name="Rectangle 92"/>
              <p:cNvSpPr/>
              <p:nvPr/>
            </p:nvSpPr>
            <p:spPr>
              <a:xfrm>
                <a:off x="6045120" y="4222800"/>
                <a:ext cx="20628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6" name="Oval 93"/>
              <p:cNvSpPr/>
              <p:nvPr/>
            </p:nvSpPr>
            <p:spPr>
              <a:xfrm>
                <a:off x="6088680" y="44352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7" name="Oval 94"/>
              <p:cNvSpPr/>
              <p:nvPr/>
            </p:nvSpPr>
            <p:spPr>
              <a:xfrm>
                <a:off x="6088680" y="42678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8" name="Oval 95"/>
              <p:cNvSpPr/>
              <p:nvPr/>
            </p:nvSpPr>
            <p:spPr>
              <a:xfrm>
                <a:off x="6088680" y="460332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09" name="组合 59483"/>
            <p:cNvGrpSpPr/>
            <p:nvPr/>
          </p:nvGrpSpPr>
          <p:grpSpPr>
            <a:xfrm>
              <a:off x="6045120" y="4222800"/>
              <a:ext cx="206280" cy="539640"/>
              <a:chOff x="6045120" y="4222800"/>
              <a:chExt cx="206280" cy="539640"/>
            </a:xfrm>
          </p:grpSpPr>
          <p:sp>
            <p:nvSpPr>
              <p:cNvPr id="1010" name="Rectangle 97"/>
              <p:cNvSpPr/>
              <p:nvPr/>
            </p:nvSpPr>
            <p:spPr>
              <a:xfrm>
                <a:off x="6045120" y="4222800"/>
                <a:ext cx="20628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1" name="Oval 98"/>
              <p:cNvSpPr/>
              <p:nvPr/>
            </p:nvSpPr>
            <p:spPr>
              <a:xfrm>
                <a:off x="6088680" y="44352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2" name="Oval 99"/>
              <p:cNvSpPr/>
              <p:nvPr/>
            </p:nvSpPr>
            <p:spPr>
              <a:xfrm>
                <a:off x="6088680" y="42678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3" name="Oval 100"/>
              <p:cNvSpPr/>
              <p:nvPr/>
            </p:nvSpPr>
            <p:spPr>
              <a:xfrm>
                <a:off x="6088680" y="460332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14" name="Rectangle 101"/>
            <p:cNvSpPr/>
            <p:nvPr/>
          </p:nvSpPr>
          <p:spPr>
            <a:xfrm>
              <a:off x="6045120" y="4222800"/>
              <a:ext cx="20628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5" name="Oval 102"/>
            <p:cNvSpPr/>
            <p:nvPr/>
          </p:nvSpPr>
          <p:spPr>
            <a:xfrm>
              <a:off x="6088320" y="4434840"/>
              <a:ext cx="11916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6" name="Oval 103"/>
            <p:cNvSpPr/>
            <p:nvPr/>
          </p:nvSpPr>
          <p:spPr>
            <a:xfrm>
              <a:off x="6088320" y="4267800"/>
              <a:ext cx="11916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7" name="Oval 104"/>
            <p:cNvSpPr/>
            <p:nvPr/>
          </p:nvSpPr>
          <p:spPr>
            <a:xfrm>
              <a:off x="6088320" y="4603320"/>
              <a:ext cx="119160" cy="119520"/>
            </a:xfrm>
            <a:prstGeom prst="ellipse">
              <a:avLst/>
            </a:prstGeom>
            <a:solidFill>
              <a:srgbClr val="009c0e"/>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18" name="组合 59492"/>
          <p:cNvGrpSpPr/>
          <p:nvPr/>
        </p:nvGrpSpPr>
        <p:grpSpPr>
          <a:xfrm>
            <a:off x="3754440" y="2590920"/>
            <a:ext cx="204840" cy="534960"/>
            <a:chOff x="3754440" y="2590920"/>
            <a:chExt cx="204840" cy="534960"/>
          </a:xfrm>
        </p:grpSpPr>
        <p:grpSp>
          <p:nvGrpSpPr>
            <p:cNvPr id="1019" name="组合 59493"/>
            <p:cNvGrpSpPr/>
            <p:nvPr/>
          </p:nvGrpSpPr>
          <p:grpSpPr>
            <a:xfrm>
              <a:off x="3754440" y="2590920"/>
              <a:ext cx="204840" cy="534960"/>
              <a:chOff x="3754440" y="2590920"/>
              <a:chExt cx="204840" cy="534960"/>
            </a:xfrm>
          </p:grpSpPr>
          <p:grpSp>
            <p:nvGrpSpPr>
              <p:cNvPr id="1020" name="组合 59494"/>
              <p:cNvGrpSpPr/>
              <p:nvPr/>
            </p:nvGrpSpPr>
            <p:grpSpPr>
              <a:xfrm>
                <a:off x="3754440" y="2590920"/>
                <a:ext cx="204840" cy="534960"/>
                <a:chOff x="3754440" y="2590920"/>
                <a:chExt cx="204840" cy="534960"/>
              </a:xfrm>
            </p:grpSpPr>
            <p:sp>
              <p:nvSpPr>
                <p:cNvPr id="1021" name="Rectangle 108"/>
                <p:cNvSpPr/>
                <p:nvPr/>
              </p:nvSpPr>
              <p:spPr>
                <a:xfrm>
                  <a:off x="3754440" y="2590920"/>
                  <a:ext cx="204840" cy="53496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2" name="Oval 109"/>
                <p:cNvSpPr/>
                <p:nvPr/>
              </p:nvSpPr>
              <p:spPr>
                <a:xfrm>
                  <a:off x="3798000" y="280152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3" name="Oval 110"/>
                <p:cNvSpPr/>
                <p:nvPr/>
              </p:nvSpPr>
              <p:spPr>
                <a:xfrm>
                  <a:off x="3798000" y="263520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4" name="Oval 111"/>
                <p:cNvSpPr/>
                <p:nvPr/>
              </p:nvSpPr>
              <p:spPr>
                <a:xfrm>
                  <a:off x="3798000" y="29682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25" name="Rectangle 112"/>
              <p:cNvSpPr/>
              <p:nvPr/>
            </p:nvSpPr>
            <p:spPr>
              <a:xfrm>
                <a:off x="3754440" y="2590920"/>
                <a:ext cx="204840" cy="53496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6" name="Oval 113"/>
              <p:cNvSpPr/>
              <p:nvPr/>
            </p:nvSpPr>
            <p:spPr>
              <a:xfrm>
                <a:off x="3798000" y="280152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7" name="Oval 114"/>
              <p:cNvSpPr/>
              <p:nvPr/>
            </p:nvSpPr>
            <p:spPr>
              <a:xfrm>
                <a:off x="3798000" y="263520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8" name="Oval 115"/>
              <p:cNvSpPr/>
              <p:nvPr/>
            </p:nvSpPr>
            <p:spPr>
              <a:xfrm>
                <a:off x="3798000" y="29682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29" name="组合 59503"/>
            <p:cNvGrpSpPr/>
            <p:nvPr/>
          </p:nvGrpSpPr>
          <p:grpSpPr>
            <a:xfrm>
              <a:off x="3754440" y="2590920"/>
              <a:ext cx="204840" cy="534960"/>
              <a:chOff x="3754440" y="2590920"/>
              <a:chExt cx="204840" cy="534960"/>
            </a:xfrm>
          </p:grpSpPr>
          <p:sp>
            <p:nvSpPr>
              <p:cNvPr id="1030" name="Rectangle 117"/>
              <p:cNvSpPr/>
              <p:nvPr/>
            </p:nvSpPr>
            <p:spPr>
              <a:xfrm>
                <a:off x="3754440" y="2590920"/>
                <a:ext cx="204840" cy="53496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1" name="Oval 118"/>
              <p:cNvSpPr/>
              <p:nvPr/>
            </p:nvSpPr>
            <p:spPr>
              <a:xfrm>
                <a:off x="3798000" y="280152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2" name="Oval 119"/>
              <p:cNvSpPr/>
              <p:nvPr/>
            </p:nvSpPr>
            <p:spPr>
              <a:xfrm>
                <a:off x="3798000" y="263520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3" name="Oval 120"/>
              <p:cNvSpPr/>
              <p:nvPr/>
            </p:nvSpPr>
            <p:spPr>
              <a:xfrm>
                <a:off x="3798000" y="29682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34" name="Rectangle 121"/>
            <p:cNvSpPr/>
            <p:nvPr/>
          </p:nvSpPr>
          <p:spPr>
            <a:xfrm>
              <a:off x="3754440" y="2590920"/>
              <a:ext cx="204840" cy="53496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5" name="Oval 122"/>
            <p:cNvSpPr/>
            <p:nvPr/>
          </p:nvSpPr>
          <p:spPr>
            <a:xfrm>
              <a:off x="3797280" y="2800800"/>
              <a:ext cx="118440" cy="118440"/>
            </a:xfrm>
            <a:prstGeom prst="ellipse">
              <a:avLst/>
            </a:prstGeom>
            <a:solidFill>
              <a:srgbClr val="bbc2c5"/>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6" name="Oval 123"/>
            <p:cNvSpPr/>
            <p:nvPr/>
          </p:nvSpPr>
          <p:spPr>
            <a:xfrm>
              <a:off x="3797280" y="2635200"/>
              <a:ext cx="118440" cy="118440"/>
            </a:xfrm>
            <a:prstGeom prst="ellipse">
              <a:avLst/>
            </a:prstGeom>
            <a:solidFill>
              <a:srgbClr val="e63110"/>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7" name="Oval 124"/>
            <p:cNvSpPr/>
            <p:nvPr/>
          </p:nvSpPr>
          <p:spPr>
            <a:xfrm>
              <a:off x="3797280" y="2968200"/>
              <a:ext cx="118440" cy="118440"/>
            </a:xfrm>
            <a:prstGeom prst="ellipse">
              <a:avLst/>
            </a:prstGeom>
            <a:solidFill>
              <a:srgbClr val="bbc2c5"/>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38" name="组合 59512"/>
          <p:cNvGrpSpPr/>
          <p:nvPr/>
        </p:nvGrpSpPr>
        <p:grpSpPr>
          <a:xfrm>
            <a:off x="4875120" y="2590920"/>
            <a:ext cx="206640" cy="539640"/>
            <a:chOff x="4875120" y="2590920"/>
            <a:chExt cx="206640" cy="539640"/>
          </a:xfrm>
        </p:grpSpPr>
        <p:grpSp>
          <p:nvGrpSpPr>
            <p:cNvPr id="1039" name="组合 59513"/>
            <p:cNvGrpSpPr/>
            <p:nvPr/>
          </p:nvGrpSpPr>
          <p:grpSpPr>
            <a:xfrm>
              <a:off x="4875120" y="2590920"/>
              <a:ext cx="206640" cy="539640"/>
              <a:chOff x="4875120" y="2590920"/>
              <a:chExt cx="206640" cy="539640"/>
            </a:xfrm>
          </p:grpSpPr>
          <p:grpSp>
            <p:nvGrpSpPr>
              <p:cNvPr id="1040" name="组合 59514"/>
              <p:cNvGrpSpPr/>
              <p:nvPr/>
            </p:nvGrpSpPr>
            <p:grpSpPr>
              <a:xfrm>
                <a:off x="4875120" y="2590920"/>
                <a:ext cx="206640" cy="539640"/>
                <a:chOff x="4875120" y="2590920"/>
                <a:chExt cx="206640" cy="539640"/>
              </a:xfrm>
            </p:grpSpPr>
            <p:sp>
              <p:nvSpPr>
                <p:cNvPr id="1041" name="Rectangle 128"/>
                <p:cNvSpPr/>
                <p:nvPr/>
              </p:nvSpPr>
              <p:spPr>
                <a:xfrm>
                  <a:off x="4875120" y="2590920"/>
                  <a:ext cx="20664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2" name="Oval 129"/>
                <p:cNvSpPr/>
                <p:nvPr/>
              </p:nvSpPr>
              <p:spPr>
                <a:xfrm>
                  <a:off x="4919040" y="280332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3" name="Oval 130"/>
                <p:cNvSpPr/>
                <p:nvPr/>
              </p:nvSpPr>
              <p:spPr>
                <a:xfrm>
                  <a:off x="4919040" y="26359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4" name="Oval 131"/>
                <p:cNvSpPr/>
                <p:nvPr/>
              </p:nvSpPr>
              <p:spPr>
                <a:xfrm>
                  <a:off x="4919040" y="297144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45" name="Rectangle 132"/>
              <p:cNvSpPr/>
              <p:nvPr/>
            </p:nvSpPr>
            <p:spPr>
              <a:xfrm>
                <a:off x="4875120" y="2590920"/>
                <a:ext cx="20664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6" name="Oval 133"/>
              <p:cNvSpPr/>
              <p:nvPr/>
            </p:nvSpPr>
            <p:spPr>
              <a:xfrm>
                <a:off x="4919040" y="280332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7" name="Oval 134"/>
              <p:cNvSpPr/>
              <p:nvPr/>
            </p:nvSpPr>
            <p:spPr>
              <a:xfrm>
                <a:off x="4919040" y="26359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8" name="Oval 135"/>
              <p:cNvSpPr/>
              <p:nvPr/>
            </p:nvSpPr>
            <p:spPr>
              <a:xfrm>
                <a:off x="4919040" y="297144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49" name="组合 59523"/>
            <p:cNvGrpSpPr/>
            <p:nvPr/>
          </p:nvGrpSpPr>
          <p:grpSpPr>
            <a:xfrm>
              <a:off x="4875120" y="2590920"/>
              <a:ext cx="206640" cy="539640"/>
              <a:chOff x="4875120" y="2590920"/>
              <a:chExt cx="206640" cy="539640"/>
            </a:xfrm>
          </p:grpSpPr>
          <p:sp>
            <p:nvSpPr>
              <p:cNvPr id="1050" name="Rectangle 137"/>
              <p:cNvSpPr/>
              <p:nvPr/>
            </p:nvSpPr>
            <p:spPr>
              <a:xfrm>
                <a:off x="4875120" y="2590920"/>
                <a:ext cx="20664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1" name="Oval 138"/>
              <p:cNvSpPr/>
              <p:nvPr/>
            </p:nvSpPr>
            <p:spPr>
              <a:xfrm>
                <a:off x="4919040" y="280332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2" name="Oval 139"/>
              <p:cNvSpPr/>
              <p:nvPr/>
            </p:nvSpPr>
            <p:spPr>
              <a:xfrm>
                <a:off x="4919040" y="26359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3" name="Oval 140"/>
              <p:cNvSpPr/>
              <p:nvPr/>
            </p:nvSpPr>
            <p:spPr>
              <a:xfrm>
                <a:off x="4919040" y="297144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54" name="Rectangle 141"/>
            <p:cNvSpPr/>
            <p:nvPr/>
          </p:nvSpPr>
          <p:spPr>
            <a:xfrm>
              <a:off x="4875120" y="2590920"/>
              <a:ext cx="20664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5" name="Oval 142"/>
            <p:cNvSpPr/>
            <p:nvPr/>
          </p:nvSpPr>
          <p:spPr>
            <a:xfrm>
              <a:off x="4918320" y="2802960"/>
              <a:ext cx="119520" cy="119520"/>
            </a:xfrm>
            <a:prstGeom prst="ellipse">
              <a:avLst/>
            </a:prstGeom>
            <a:solidFill>
              <a:srgbClr val="f9a700"/>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6" name="Oval 143"/>
            <p:cNvSpPr/>
            <p:nvPr/>
          </p:nvSpPr>
          <p:spPr>
            <a:xfrm>
              <a:off x="4918320" y="2635920"/>
              <a:ext cx="11952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7" name="Oval 144"/>
            <p:cNvSpPr/>
            <p:nvPr/>
          </p:nvSpPr>
          <p:spPr>
            <a:xfrm>
              <a:off x="4918320" y="2971440"/>
              <a:ext cx="11952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58" name="组合 59532"/>
          <p:cNvGrpSpPr/>
          <p:nvPr/>
        </p:nvGrpSpPr>
        <p:grpSpPr>
          <a:xfrm>
            <a:off x="6045120" y="2590920"/>
            <a:ext cx="206280" cy="539640"/>
            <a:chOff x="6045120" y="2590920"/>
            <a:chExt cx="206280" cy="539640"/>
          </a:xfrm>
        </p:grpSpPr>
        <p:grpSp>
          <p:nvGrpSpPr>
            <p:cNvPr id="1059" name="组合 59533"/>
            <p:cNvGrpSpPr/>
            <p:nvPr/>
          </p:nvGrpSpPr>
          <p:grpSpPr>
            <a:xfrm>
              <a:off x="6045120" y="2590920"/>
              <a:ext cx="206280" cy="539640"/>
              <a:chOff x="6045120" y="2590920"/>
              <a:chExt cx="206280" cy="539640"/>
            </a:xfrm>
          </p:grpSpPr>
          <p:grpSp>
            <p:nvGrpSpPr>
              <p:cNvPr id="1060" name="组合 59534"/>
              <p:cNvGrpSpPr/>
              <p:nvPr/>
            </p:nvGrpSpPr>
            <p:grpSpPr>
              <a:xfrm>
                <a:off x="6045120" y="2590920"/>
                <a:ext cx="206280" cy="539640"/>
                <a:chOff x="6045120" y="2590920"/>
                <a:chExt cx="206280" cy="539640"/>
              </a:xfrm>
            </p:grpSpPr>
            <p:sp>
              <p:nvSpPr>
                <p:cNvPr id="1061" name="Rectangle 148"/>
                <p:cNvSpPr/>
                <p:nvPr/>
              </p:nvSpPr>
              <p:spPr>
                <a:xfrm>
                  <a:off x="6045120" y="2590920"/>
                  <a:ext cx="20628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2" name="Oval 149"/>
                <p:cNvSpPr/>
                <p:nvPr/>
              </p:nvSpPr>
              <p:spPr>
                <a:xfrm>
                  <a:off x="6088680" y="28033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3" name="Oval 150"/>
                <p:cNvSpPr/>
                <p:nvPr/>
              </p:nvSpPr>
              <p:spPr>
                <a:xfrm>
                  <a:off x="6088680" y="26359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4" name="Oval 151"/>
                <p:cNvSpPr/>
                <p:nvPr/>
              </p:nvSpPr>
              <p:spPr>
                <a:xfrm>
                  <a:off x="6088680" y="297144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65" name="Rectangle 152"/>
              <p:cNvSpPr/>
              <p:nvPr/>
            </p:nvSpPr>
            <p:spPr>
              <a:xfrm>
                <a:off x="6045120" y="2590920"/>
                <a:ext cx="20628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6" name="Oval 153"/>
              <p:cNvSpPr/>
              <p:nvPr/>
            </p:nvSpPr>
            <p:spPr>
              <a:xfrm>
                <a:off x="6088680" y="28033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7" name="Oval 154"/>
              <p:cNvSpPr/>
              <p:nvPr/>
            </p:nvSpPr>
            <p:spPr>
              <a:xfrm>
                <a:off x="6088680" y="26359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8" name="Oval 155"/>
              <p:cNvSpPr/>
              <p:nvPr/>
            </p:nvSpPr>
            <p:spPr>
              <a:xfrm>
                <a:off x="6088680" y="297144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69" name="组合 59543"/>
            <p:cNvGrpSpPr/>
            <p:nvPr/>
          </p:nvGrpSpPr>
          <p:grpSpPr>
            <a:xfrm>
              <a:off x="6045120" y="2590920"/>
              <a:ext cx="206280" cy="539640"/>
              <a:chOff x="6045120" y="2590920"/>
              <a:chExt cx="206280" cy="539640"/>
            </a:xfrm>
          </p:grpSpPr>
          <p:sp>
            <p:nvSpPr>
              <p:cNvPr id="1070" name="Rectangle 157"/>
              <p:cNvSpPr/>
              <p:nvPr/>
            </p:nvSpPr>
            <p:spPr>
              <a:xfrm>
                <a:off x="6045120" y="2590920"/>
                <a:ext cx="20628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1" name="Oval 158"/>
              <p:cNvSpPr/>
              <p:nvPr/>
            </p:nvSpPr>
            <p:spPr>
              <a:xfrm>
                <a:off x="6088680" y="28033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2" name="Oval 159"/>
              <p:cNvSpPr/>
              <p:nvPr/>
            </p:nvSpPr>
            <p:spPr>
              <a:xfrm>
                <a:off x="6088680" y="26359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3" name="Oval 160"/>
              <p:cNvSpPr/>
              <p:nvPr/>
            </p:nvSpPr>
            <p:spPr>
              <a:xfrm>
                <a:off x="6088680" y="297144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74" name="Rectangle 161"/>
            <p:cNvSpPr/>
            <p:nvPr/>
          </p:nvSpPr>
          <p:spPr>
            <a:xfrm>
              <a:off x="6045120" y="2590920"/>
              <a:ext cx="20628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5" name="Oval 162"/>
            <p:cNvSpPr/>
            <p:nvPr/>
          </p:nvSpPr>
          <p:spPr>
            <a:xfrm>
              <a:off x="6088320" y="2802960"/>
              <a:ext cx="11916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6" name="Oval 163"/>
            <p:cNvSpPr/>
            <p:nvPr/>
          </p:nvSpPr>
          <p:spPr>
            <a:xfrm>
              <a:off x="6088320" y="2635920"/>
              <a:ext cx="11916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7" name="Oval 164"/>
            <p:cNvSpPr/>
            <p:nvPr/>
          </p:nvSpPr>
          <p:spPr>
            <a:xfrm>
              <a:off x="6088320" y="2971440"/>
              <a:ext cx="119160" cy="119520"/>
            </a:xfrm>
            <a:prstGeom prst="ellipse">
              <a:avLst/>
            </a:prstGeom>
            <a:solidFill>
              <a:srgbClr val="009c0e"/>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ecurity information:</a:t>
            </a:r>
            <a:endParaRPr b="0" lang="en-US" sz="2800" spc="-1" strike="noStrike">
              <a:solidFill>
                <a:srgbClr val="333333"/>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E010-7FA0-427D-AB50-D9D6FC63084B}"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1080"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0823876C-723F-49E0-AB15-E14DA1CCB84C}"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08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a:t>
            </a:r>
            <a:endParaRPr b="0" lang="en-US" sz="2800" spc="-1" strike="noStrike">
              <a:solidFill>
                <a:srgbClr val="333333"/>
              </a:solidFill>
              <a:latin typeface="Arial"/>
            </a:endParaRPr>
          </a:p>
        </p:txBody>
      </p:sp>
      <p:sp>
        <p:nvSpPr>
          <p:cNvPr id="1082"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adipscing elitr, sede diam onumy eirmod tempor invidunt ut labore et dolore es magna selsa aliquyam erat, sed diam volu ptua. At vero eos et acus cusam etosa justo duo dolores et ea rebu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
        <p:nvSpPr>
          <p:cNvPr id="1083" name="Text Box 4"/>
          <p:cNvSpPr/>
          <p:nvPr/>
        </p:nvSpPr>
        <p:spPr>
          <a:xfrm>
            <a:off x="992160" y="0"/>
            <a:ext cx="8424720" cy="307800"/>
          </a:xfrm>
          <a:prstGeom prst="rect">
            <a:avLst/>
          </a:prstGeom>
          <a:noFill/>
          <a:ln w="0">
            <a:noFill/>
          </a:ln>
        </p:spPr>
        <p:style>
          <a:lnRef idx="0"/>
          <a:fillRef idx="0"/>
          <a:effectRef idx="0"/>
          <a:fontRef idx="minor"/>
        </p:style>
        <p:txBody>
          <a:bodyPr lIns="0" rIns="0" tIns="54000" bIns="0" anchor="t">
            <a:noAutofit/>
          </a:bodyPr>
          <a:p>
            <a:pPr marL="5302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63110"/>
                </a:solidFill>
                <a:latin typeface="VW Headline OT-Black"/>
                <a:ea typeface="宋体"/>
              </a:rPr>
              <a:t>Confidential/Recipient</a:t>
            </a:r>
            <a:endParaRPr b="0" lang="en-US" sz="1400" spc="-1" strike="noStrike">
              <a:solidFill>
                <a:srgbClr val="333333"/>
              </a:solidFill>
              <a:latin typeface="VW Headline OT-Book"/>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8B39-DCA1-403A-A754-DC0798935D2A}"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108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E7CE84A9-BFF9-4D3D-B84D-E24F07F9478D}"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08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ecurity information: categories</a:t>
            </a:r>
            <a:endParaRPr b="0" lang="en-US" sz="2800" spc="-1" strike="noStrike">
              <a:solidFill>
                <a:srgbClr val="333333"/>
              </a:solidFill>
              <a:latin typeface="Arial"/>
            </a:endParaRPr>
          </a:p>
        </p:txBody>
      </p:sp>
      <p:sp>
        <p:nvSpPr>
          <p:cNvPr id="1087"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lvl="1" marL="401760" indent="-400320">
              <a:lnSpc>
                <a:spcPts val="2599"/>
              </a:lnSpc>
              <a:spcBef>
                <a:spcPts val="1312"/>
              </a:spcBef>
              <a:buClr>
                <a:srgbClr val="333333"/>
              </a:buClr>
              <a:buFont typeface="VW Headline OT-Black"/>
              <a:buAutoNum type="arabicPeriod"/>
              <a:tabLst>
                <a:tab algn="l" pos="170172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lack"/>
                <a:ea typeface="宋体"/>
              </a:rPr>
              <a:t>Confidential</a:t>
            </a:r>
            <a:br>
              <a:rPr sz="2100"/>
            </a:br>
            <a:r>
              <a:rPr b="0" lang="en-GB" sz="2100" spc="-1" strike="noStrike">
                <a:solidFill>
                  <a:srgbClr val="333333"/>
                </a:solidFill>
                <a:latin typeface="Arial"/>
                <a:ea typeface="宋体"/>
              </a:rPr>
              <a:t>Protection required</a:t>
            </a:r>
            <a:br>
              <a:rPr sz="2100"/>
            </a:br>
            <a:r>
              <a:rPr b="0" lang="en-GB" sz="2100" spc="-1" strike="noStrike">
                <a:solidFill>
                  <a:srgbClr val="333333"/>
                </a:solidFill>
                <a:latin typeface="Arial"/>
                <a:ea typeface="宋体"/>
              </a:rPr>
              <a:t>Marked: Confidential/Recipient</a:t>
            </a:r>
            <a:endParaRPr b="0" lang="en-US" sz="2100" spc="-1" strike="noStrike">
              <a:solidFill>
                <a:srgbClr val="333333"/>
              </a:solidFill>
              <a:latin typeface="Arial"/>
            </a:endParaRPr>
          </a:p>
          <a:p>
            <a:pPr lvl="1" marL="401760" indent="-400320">
              <a:lnSpc>
                <a:spcPts val="2599"/>
              </a:lnSpc>
              <a:spcBef>
                <a:spcPts val="1312"/>
              </a:spcBef>
              <a:buClr>
                <a:srgbClr val="333333"/>
              </a:buClr>
              <a:buFont typeface="VW Headline OT-Black"/>
              <a:buAutoNum type="arabicPeriod"/>
              <a:tabLst>
                <a:tab algn="l" pos="170172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333333"/>
                </a:solidFill>
                <a:latin typeface="VW Headline OT-Black"/>
                <a:ea typeface="宋体"/>
              </a:rPr>
              <a:t>Secret</a:t>
            </a:r>
            <a:br>
              <a:rPr sz="2100"/>
            </a:br>
            <a:r>
              <a:rPr b="0" lang="en-GB" sz="2100" spc="-1" strike="noStrike">
                <a:solidFill>
                  <a:srgbClr val="333333"/>
                </a:solidFill>
                <a:latin typeface="Arial"/>
                <a:ea typeface="宋体"/>
              </a:rPr>
              <a:t>Increased protection required</a:t>
            </a:r>
            <a:br>
              <a:rPr sz="2100"/>
            </a:br>
            <a:r>
              <a:rPr b="0" lang="en-GB" sz="2100" spc="-1" strike="noStrike">
                <a:solidFill>
                  <a:srgbClr val="333333"/>
                </a:solidFill>
                <a:latin typeface="Arial"/>
                <a:ea typeface="宋体"/>
              </a:rPr>
              <a:t>Marked: Secret/Recipient</a:t>
            </a:r>
            <a:endParaRPr b="0" lang="en-US" sz="2100" spc="-1" strike="noStrike">
              <a:solidFill>
                <a:srgbClr val="333333"/>
              </a:solidFill>
              <a:latin typeface="Arial"/>
            </a:endParaRPr>
          </a:p>
          <a:p>
            <a:pPr lvl="1" marL="401760" indent="-400320">
              <a:lnSpc>
                <a:spcPts val="2599"/>
              </a:lnSpc>
              <a:spcBef>
                <a:spcPts val="1312"/>
              </a:spcBef>
              <a:buClr>
                <a:srgbClr val="333333"/>
              </a:buClr>
              <a:buFont typeface="VW Headline OT-Black"/>
              <a:buAutoNum type="arabicPeriod"/>
              <a:tabLst>
                <a:tab algn="l" pos="170172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333333"/>
                </a:solidFill>
                <a:latin typeface="VW Headline OT-Black"/>
                <a:ea typeface="宋体"/>
              </a:rPr>
              <a:t>Personal  documents</a:t>
            </a:r>
            <a:br>
              <a:rPr sz="2100"/>
            </a:br>
            <a:r>
              <a:rPr b="0" lang="en-GB" sz="2100" spc="-1" strike="noStrike">
                <a:solidFill>
                  <a:srgbClr val="333333"/>
                </a:solidFill>
                <a:latin typeface="Arial"/>
                <a:ea typeface="宋体"/>
              </a:rPr>
              <a:t>Always to be treated with strict confidentiality, if not marked secret</a:t>
            </a:r>
            <a:br>
              <a:rPr sz="2100"/>
            </a:br>
            <a:r>
              <a:rPr b="0" lang="en-GB" sz="2100" spc="-1" strike="noStrike">
                <a:solidFill>
                  <a:srgbClr val="333333"/>
                </a:solidFill>
                <a:latin typeface="Arial"/>
                <a:ea typeface="宋体"/>
              </a:rPr>
              <a:t>Marked: Personal  document/Recipient</a:t>
            </a:r>
            <a:endParaRPr b="0" lang="en-US" sz="2100" spc="-1" strike="noStrike">
              <a:solidFill>
                <a:srgbClr val="333333"/>
              </a:solidFill>
              <a:latin typeface="Arial"/>
            </a:endParaRPr>
          </a:p>
          <a:p>
            <a:pPr lvl="1" marL="401760" indent="0">
              <a:lnSpc>
                <a:spcPts val="2599"/>
              </a:lnSpc>
              <a:spcBef>
                <a:spcPts val="1312"/>
              </a:spcBef>
              <a:buNone/>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3177-85A9-4618-B680-EA1C2B18BEDA}"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108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7267653E-2F6B-41D8-82CF-DB236EAEFD94}"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09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a:t>
            </a:r>
            <a:endParaRPr b="0" lang="en-US" sz="2800" spc="-1" strike="noStrike">
              <a:solidFill>
                <a:srgbClr val="333333"/>
              </a:solidFill>
              <a:latin typeface="Arial"/>
            </a:endParaRPr>
          </a:p>
        </p:txBody>
      </p:sp>
      <p:sp>
        <p:nvSpPr>
          <p:cNvPr id="1091"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adipscing elitr, sede diam onumy eirmod tempor invidunt ut labore et dolore es magna selsa aliquyam erat, sed diam volu ptua. At vero eos et acus cusam etosa justo duo dolores et ea rebu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
        <p:nvSpPr>
          <p:cNvPr id="1092" name="Text Box 4"/>
          <p:cNvSpPr/>
          <p:nvPr/>
        </p:nvSpPr>
        <p:spPr>
          <a:xfrm>
            <a:off x="992160" y="0"/>
            <a:ext cx="8424720" cy="307800"/>
          </a:xfrm>
          <a:prstGeom prst="rect">
            <a:avLst/>
          </a:prstGeom>
          <a:noFill/>
          <a:ln w="0">
            <a:noFill/>
          </a:ln>
        </p:spPr>
        <p:style>
          <a:lnRef idx="0"/>
          <a:fillRef idx="0"/>
          <a:effectRef idx="0"/>
          <a:fontRef idx="minor"/>
        </p:style>
        <p:txBody>
          <a:bodyPr lIns="0" rIns="0" tIns="54000" bIns="0" anchor="t">
            <a:noAutofit/>
          </a:bodyPr>
          <a:p>
            <a:pPr marL="5302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63110"/>
                </a:solidFill>
                <a:latin typeface="VW Headline OT-Black"/>
                <a:ea typeface="宋体"/>
              </a:rPr>
              <a:t>Secret/Recipient</a:t>
            </a:r>
            <a:endParaRPr b="0" lang="en-US" sz="1400" spc="-1" strike="noStrike">
              <a:solidFill>
                <a:srgbClr val="333333"/>
              </a:solidFill>
              <a:latin typeface="VW Headline OT-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D43D-E2D4-4456-BF32-BD3DF998A9A0}"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432"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EBEBDFF4-A038-4C8E-A4BD-80D32C6B63C5}"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3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4. colours</a:t>
            </a:r>
            <a:endParaRPr b="0" lang="en-US" sz="2800" spc="-1" strike="noStrike">
              <a:solidFill>
                <a:srgbClr val="333333"/>
              </a:solidFill>
              <a:latin typeface="Arial"/>
            </a:endParaRPr>
          </a:p>
        </p:txBody>
      </p:sp>
      <p:sp>
        <p:nvSpPr>
          <p:cNvPr id="434"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A range of colours which is different to the general colour spectrum has been developed for use in PowerPoint; these colours are especially suited to the particular requirements of computer slideshows. The systematic use of these colours makes your presentations more clearly recognisable and help to prevent a garish overall impression being made.</a:t>
            </a:r>
            <a:endParaRPr b="0" lang="en-US" sz="1700" spc="-1" strike="noStrike">
              <a:solidFill>
                <a:srgbClr val="333333"/>
              </a:solidFill>
              <a:latin typeface="Arial"/>
            </a:endParaRPr>
          </a:p>
        </p:txBody>
      </p:sp>
      <p:sp>
        <p:nvSpPr>
          <p:cNvPr id="435" name="文本框 9221"/>
          <p:cNvSpPr/>
          <p:nvPr/>
        </p:nvSpPr>
        <p:spPr>
          <a:xfrm>
            <a:off x="1368360" y="103500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1"/>
              </a:rPr>
              <a:t>ppt</a:t>
            </a:r>
            <a:r>
              <a:rPr b="0" lang="zh-CN" sz="1600" spc="-1" strike="noStrike" u="sng">
                <a:solidFill>
                  <a:srgbClr val="8994a0"/>
                </a:solidFill>
                <a:uFillTx/>
                <a:latin typeface="VW Headline OT-Book"/>
                <a:ea typeface="VW Headline OT-Book"/>
                <a:hlinkClick r:id="rId2"/>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9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宋体"/>
              </a:rPr>
              <a:t>www.eeppt.com</a:t>
            </a:r>
            <a:endParaRPr b="0" lang="en-US" sz="1400" spc="-1" strike="noStrike">
              <a:solidFill>
                <a:srgbClr val="333333"/>
              </a:solidFill>
              <a:latin typeface="VW Headline OT-Book"/>
            </a:endParaRPr>
          </a:p>
        </p:txBody>
      </p:sp>
      <p:sp>
        <p:nvSpPr>
          <p:cNvPr id="1096"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13DB-89EB-4195-9AD0-37FE5D75E4A4}" type="slidenum">
              <a:rPr b="0" lang="zh-CN" sz="1400" spc="-1" strike="noStrike">
                <a:solidFill>
                  <a:srgbClr val="333333"/>
                </a:solidFill>
                <a:latin typeface="Arial"/>
                <a:ea typeface="宋体"/>
              </a:rPr>
              <a:t>&lt;number&gt;</a:t>
            </a:fld>
            <a:endParaRPr b="0" lang="en-US" sz="1400" spc="-1" strike="noStrike">
              <a:solidFill>
                <a:srgbClr val="333333"/>
              </a:solidFill>
              <a:latin typeface="VW Headline OT-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0D9D-205A-4E89-94F1-D1472C2A2F4D}"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109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D9E262CD-829B-41B4-80C8-CDBCC255FFF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09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a:t>
            </a:r>
            <a:endParaRPr b="0" lang="en-US" sz="2800" spc="-1" strike="noStrike">
              <a:solidFill>
                <a:srgbClr val="333333"/>
              </a:solidFill>
              <a:latin typeface="Arial"/>
            </a:endParaRPr>
          </a:p>
        </p:txBody>
      </p:sp>
      <p:sp>
        <p:nvSpPr>
          <p:cNvPr id="1100"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adipscing elitr, sede diam onumy eirmod tempor invidunt ut labore et dolore es magna selsa aliquyam erat, sed diam volu ptua. At vero eos et acus cusam etosa justo duo dolores et ea rebu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E090-BD95-4EBB-AFCF-18CFC5F902AC}"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437"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313AC7CC-0FE5-472C-AC44-C547F78DE440}"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3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4. colour scale </a:t>
            </a:r>
            <a:endParaRPr b="0" lang="en-US" sz="2800" spc="-1" strike="noStrike">
              <a:solidFill>
                <a:srgbClr val="333333"/>
              </a:solidFill>
              <a:latin typeface="Arial"/>
            </a:endParaRPr>
          </a:p>
        </p:txBody>
      </p:sp>
      <p:sp>
        <p:nvSpPr>
          <p:cNvPr id="439" name="PlaceHolder 2"/>
          <p:cNvSpPr>
            <a:spLocks noGrp="1"/>
          </p:cNvSpPr>
          <p:nvPr>
            <p:ph/>
          </p:nvPr>
        </p:nvSpPr>
        <p:spPr>
          <a:xfrm>
            <a:off x="1018800" y="3558960"/>
            <a:ext cx="7953480" cy="210492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first six colours should be given preferential use for texts and illustrations. They are contained in the PowerPoint colour scheme and can be directly assigned.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remaining colours can be defined as specified via the “Other colours” option in RGB mode. They are used in charts, for example, if it is necessary to depict numerous values on the axes.</a:t>
            </a:r>
            <a:endParaRPr b="0" lang="en-US" sz="1700" spc="-1" strike="noStrike">
              <a:solidFill>
                <a:srgbClr val="333333"/>
              </a:solidFill>
              <a:latin typeface="Arial"/>
            </a:endParaRPr>
          </a:p>
        </p:txBody>
      </p:sp>
      <p:sp>
        <p:nvSpPr>
          <p:cNvPr id="440" name="Text Box 7"/>
          <p:cNvSpPr/>
          <p:nvPr/>
        </p:nvSpPr>
        <p:spPr>
          <a:xfrm>
            <a:off x="1020600" y="2176560"/>
            <a:ext cx="1143000" cy="360360"/>
          </a:xfrm>
          <a:prstGeom prst="rect">
            <a:avLst/>
          </a:prstGeom>
          <a:solidFill>
            <a:srgbClr val="e2670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226/103/0</a:t>
            </a:r>
            <a:endParaRPr b="0" lang="en-US" sz="1000" spc="-1" strike="noStrike">
              <a:solidFill>
                <a:srgbClr val="333333"/>
              </a:solidFill>
              <a:latin typeface="VW Headline OT-Book"/>
            </a:endParaRPr>
          </a:p>
        </p:txBody>
      </p:sp>
      <p:sp>
        <p:nvSpPr>
          <p:cNvPr id="441" name="Text Box 8"/>
          <p:cNvSpPr/>
          <p:nvPr/>
        </p:nvSpPr>
        <p:spPr>
          <a:xfrm>
            <a:off x="4898880" y="2190600"/>
            <a:ext cx="1140120" cy="360360"/>
          </a:xfrm>
          <a:prstGeom prst="rect">
            <a:avLst/>
          </a:prstGeom>
          <a:solidFill>
            <a:srgbClr val="bbc60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187/198/0</a:t>
            </a:r>
            <a:endParaRPr b="0" lang="en-US" sz="1000" spc="-1" strike="noStrike">
              <a:solidFill>
                <a:srgbClr val="333333"/>
              </a:solidFill>
              <a:latin typeface="VW Headline OT-Book"/>
            </a:endParaRPr>
          </a:p>
        </p:txBody>
      </p:sp>
      <p:sp>
        <p:nvSpPr>
          <p:cNvPr id="442" name="Text Box 9"/>
          <p:cNvSpPr/>
          <p:nvPr/>
        </p:nvSpPr>
        <p:spPr>
          <a:xfrm>
            <a:off x="3606840" y="2182680"/>
            <a:ext cx="1141200" cy="360360"/>
          </a:xfrm>
          <a:prstGeom prst="rect">
            <a:avLst/>
          </a:prstGeom>
          <a:solidFill>
            <a:srgbClr val="4a6f8a"/>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74/111/138</a:t>
            </a:r>
            <a:endParaRPr b="0" lang="en-US" sz="1000" spc="-1" strike="noStrike">
              <a:solidFill>
                <a:srgbClr val="333333"/>
              </a:solidFill>
              <a:latin typeface="VW Headline OT-Book"/>
            </a:endParaRPr>
          </a:p>
        </p:txBody>
      </p:sp>
      <p:sp>
        <p:nvSpPr>
          <p:cNvPr id="443" name="Text Box 10"/>
          <p:cNvSpPr/>
          <p:nvPr/>
        </p:nvSpPr>
        <p:spPr>
          <a:xfrm>
            <a:off x="6199200" y="2182680"/>
            <a:ext cx="1141560" cy="360360"/>
          </a:xfrm>
          <a:prstGeom prst="rect">
            <a:avLst/>
          </a:prstGeom>
          <a:solidFill>
            <a:srgbClr val="920a6a"/>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146/10/106</a:t>
            </a:r>
            <a:endParaRPr b="0" lang="en-US" sz="1000" spc="-1" strike="noStrike">
              <a:solidFill>
                <a:srgbClr val="333333"/>
              </a:solidFill>
              <a:latin typeface="VW Headline OT-Book"/>
            </a:endParaRPr>
          </a:p>
        </p:txBody>
      </p:sp>
      <p:sp>
        <p:nvSpPr>
          <p:cNvPr id="444" name="Text Box 11"/>
          <p:cNvSpPr/>
          <p:nvPr/>
        </p:nvSpPr>
        <p:spPr>
          <a:xfrm>
            <a:off x="7494480" y="2182680"/>
            <a:ext cx="1141560" cy="360360"/>
          </a:xfrm>
          <a:prstGeom prst="rect">
            <a:avLst/>
          </a:prstGeom>
          <a:solidFill>
            <a:srgbClr val="e6311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230/49/16</a:t>
            </a:r>
            <a:endParaRPr b="0" lang="en-US" sz="1000" spc="-1" strike="noStrike">
              <a:solidFill>
                <a:srgbClr val="333333"/>
              </a:solidFill>
              <a:latin typeface="VW Headline OT-Book"/>
            </a:endParaRPr>
          </a:p>
        </p:txBody>
      </p:sp>
      <p:sp>
        <p:nvSpPr>
          <p:cNvPr id="445" name="Text Box 16"/>
          <p:cNvSpPr/>
          <p:nvPr/>
        </p:nvSpPr>
        <p:spPr>
          <a:xfrm>
            <a:off x="2309760" y="2190600"/>
            <a:ext cx="1141560" cy="360360"/>
          </a:xfrm>
          <a:prstGeom prst="rect">
            <a:avLst/>
          </a:prstGeom>
          <a:solidFill>
            <a:srgbClr val="f9a70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249/167/0</a:t>
            </a:r>
            <a:endParaRPr b="0" lang="en-US" sz="1000" spc="-1" strike="noStrike">
              <a:solidFill>
                <a:srgbClr val="333333"/>
              </a:solidFill>
              <a:latin typeface="VW Headline OT-Book"/>
            </a:endParaRPr>
          </a:p>
        </p:txBody>
      </p:sp>
      <p:sp>
        <p:nvSpPr>
          <p:cNvPr id="446" name="Text Box 17"/>
          <p:cNvSpPr/>
          <p:nvPr/>
        </p:nvSpPr>
        <p:spPr>
          <a:xfrm>
            <a:off x="1009800" y="2887560"/>
            <a:ext cx="1143000" cy="360360"/>
          </a:xfrm>
          <a:prstGeom prst="rect">
            <a:avLst/>
          </a:prstGeom>
          <a:solidFill>
            <a:srgbClr val="005d5b"/>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0/93/91</a:t>
            </a:r>
            <a:endParaRPr b="0" lang="en-US" sz="1000" spc="-1" strike="noStrike">
              <a:solidFill>
                <a:srgbClr val="333333"/>
              </a:solidFill>
              <a:latin typeface="VW Headline OT-Book"/>
            </a:endParaRPr>
          </a:p>
        </p:txBody>
      </p:sp>
      <p:sp>
        <p:nvSpPr>
          <p:cNvPr id="447" name="Text Box 6"/>
          <p:cNvSpPr/>
          <p:nvPr/>
        </p:nvSpPr>
        <p:spPr>
          <a:xfrm>
            <a:off x="7491240" y="2884320"/>
            <a:ext cx="1143000" cy="360360"/>
          </a:xfrm>
          <a:prstGeom prst="rect">
            <a:avLst/>
          </a:prstGeom>
          <a:solidFill>
            <a:srgbClr val="37697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55/105/112</a:t>
            </a:r>
            <a:endParaRPr b="0" lang="en-US" sz="1000" spc="-1" strike="noStrike">
              <a:solidFill>
                <a:srgbClr val="333333"/>
              </a:solidFill>
              <a:latin typeface="VW Headline OT-Book"/>
            </a:endParaRPr>
          </a:p>
        </p:txBody>
      </p:sp>
      <p:sp>
        <p:nvSpPr>
          <p:cNvPr id="448" name="Text Box 12"/>
          <p:cNvSpPr/>
          <p:nvPr/>
        </p:nvSpPr>
        <p:spPr>
          <a:xfrm>
            <a:off x="2309760" y="2897280"/>
            <a:ext cx="1139760" cy="360360"/>
          </a:xfrm>
          <a:prstGeom prst="rect">
            <a:avLst/>
          </a:prstGeom>
          <a:solidFill>
            <a:srgbClr val="face0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VW Headline OT-Book"/>
                <a:ea typeface="宋体"/>
              </a:rPr>
              <a:t>250/206/0</a:t>
            </a:r>
            <a:endParaRPr b="0" lang="en-US" sz="1000" spc="-1" strike="noStrike">
              <a:solidFill>
                <a:srgbClr val="333333"/>
              </a:solidFill>
              <a:latin typeface="VW Headline OT-Book"/>
            </a:endParaRPr>
          </a:p>
        </p:txBody>
      </p:sp>
      <p:sp>
        <p:nvSpPr>
          <p:cNvPr id="449" name="Text Box 13"/>
          <p:cNvSpPr/>
          <p:nvPr/>
        </p:nvSpPr>
        <p:spPr>
          <a:xfrm>
            <a:off x="3602160" y="2897280"/>
            <a:ext cx="1143000" cy="360360"/>
          </a:xfrm>
          <a:prstGeom prst="rect">
            <a:avLst/>
          </a:prstGeom>
          <a:solidFill>
            <a:srgbClr val="009c0e"/>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0/156/14</a:t>
            </a:r>
            <a:endParaRPr b="0" lang="en-US" sz="1000" spc="-1" strike="noStrike">
              <a:solidFill>
                <a:srgbClr val="333333"/>
              </a:solidFill>
              <a:latin typeface="VW Headline OT-Book"/>
            </a:endParaRPr>
          </a:p>
        </p:txBody>
      </p:sp>
      <p:sp>
        <p:nvSpPr>
          <p:cNvPr id="450" name="Text Box 14"/>
          <p:cNvSpPr/>
          <p:nvPr/>
        </p:nvSpPr>
        <p:spPr>
          <a:xfrm>
            <a:off x="4896000" y="2897280"/>
            <a:ext cx="1141200" cy="360360"/>
          </a:xfrm>
          <a:prstGeom prst="rect">
            <a:avLst/>
          </a:prstGeom>
          <a:solidFill>
            <a:srgbClr val="77001d"/>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119/0/29</a:t>
            </a:r>
            <a:endParaRPr b="0" lang="en-US" sz="1000" spc="-1" strike="noStrike">
              <a:solidFill>
                <a:srgbClr val="333333"/>
              </a:solidFill>
              <a:latin typeface="VW Headline OT-Book"/>
            </a:endParaRPr>
          </a:p>
        </p:txBody>
      </p:sp>
      <p:sp>
        <p:nvSpPr>
          <p:cNvPr id="451" name="Text Box 15"/>
          <p:cNvSpPr/>
          <p:nvPr/>
        </p:nvSpPr>
        <p:spPr>
          <a:xfrm>
            <a:off x="6189840" y="2897280"/>
            <a:ext cx="1141200" cy="360360"/>
          </a:xfrm>
          <a:prstGeom prst="rect">
            <a:avLst/>
          </a:prstGeom>
          <a:solidFill>
            <a:srgbClr val="3b7ab2"/>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59/122/178</a:t>
            </a:r>
            <a:endParaRPr b="0" lang="en-US" sz="1000" spc="-1" strike="noStrike">
              <a:solidFill>
                <a:srgbClr val="333333"/>
              </a:solidFill>
              <a:latin typeface="VW Headline OT-Book"/>
            </a:endParaRPr>
          </a:p>
        </p:txBody>
      </p:sp>
      <p:sp>
        <p:nvSpPr>
          <p:cNvPr id="452" name="Text Box 18"/>
          <p:cNvSpPr/>
          <p:nvPr/>
        </p:nvSpPr>
        <p:spPr>
          <a:xfrm>
            <a:off x="1022400" y="1476360"/>
            <a:ext cx="1141200" cy="360360"/>
          </a:xfrm>
          <a:prstGeom prst="rect">
            <a:avLst/>
          </a:prstGeom>
          <a:solidFill>
            <a:srgbClr val="333333"/>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51/51/51</a:t>
            </a:r>
            <a:endParaRPr b="0" lang="en-US" sz="1000" spc="-1" strike="noStrike">
              <a:solidFill>
                <a:srgbClr val="333333"/>
              </a:solidFill>
              <a:latin typeface="VW Headline OT-Book"/>
            </a:endParaRPr>
          </a:p>
        </p:txBody>
      </p:sp>
      <p:sp>
        <p:nvSpPr>
          <p:cNvPr id="453" name="Text Box 3"/>
          <p:cNvSpPr/>
          <p:nvPr/>
        </p:nvSpPr>
        <p:spPr>
          <a:xfrm>
            <a:off x="2309760" y="1484280"/>
            <a:ext cx="1141560" cy="360360"/>
          </a:xfrm>
          <a:prstGeom prst="rect">
            <a:avLst/>
          </a:prstGeom>
          <a:solidFill>
            <a:srgbClr val="00235a"/>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0/35/90</a:t>
            </a:r>
            <a:endParaRPr b="0" lang="en-US" sz="1000" spc="-1" strike="noStrike">
              <a:solidFill>
                <a:srgbClr val="333333"/>
              </a:solidFill>
              <a:latin typeface="VW Headline OT-Book"/>
            </a:endParaRPr>
          </a:p>
        </p:txBody>
      </p:sp>
      <p:sp>
        <p:nvSpPr>
          <p:cNvPr id="454" name="Text Box 4"/>
          <p:cNvSpPr/>
          <p:nvPr/>
        </p:nvSpPr>
        <p:spPr>
          <a:xfrm>
            <a:off x="4905360" y="1484280"/>
            <a:ext cx="1141560" cy="360360"/>
          </a:xfrm>
          <a:prstGeom prst="rect">
            <a:avLst/>
          </a:prstGeom>
          <a:solidFill>
            <a:srgbClr val="8994a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137/148/160</a:t>
            </a:r>
            <a:endParaRPr b="0" lang="en-US" sz="1000" spc="-1" strike="noStrike">
              <a:solidFill>
                <a:srgbClr val="333333"/>
              </a:solidFill>
              <a:latin typeface="VW Headline OT-Book"/>
            </a:endParaRPr>
          </a:p>
        </p:txBody>
      </p:sp>
      <p:sp>
        <p:nvSpPr>
          <p:cNvPr id="455" name="Text Box 5"/>
          <p:cNvSpPr/>
          <p:nvPr/>
        </p:nvSpPr>
        <p:spPr>
          <a:xfrm>
            <a:off x="6199200" y="1484280"/>
            <a:ext cx="1141560" cy="360360"/>
          </a:xfrm>
          <a:prstGeom prst="rect">
            <a:avLst/>
          </a:prstGeom>
          <a:solidFill>
            <a:srgbClr val="bbc2c5"/>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VW Headline OT-Book"/>
                <a:ea typeface="宋体"/>
              </a:rPr>
              <a:t>187/194/197</a:t>
            </a:r>
            <a:endParaRPr b="0" lang="en-US" sz="1000" spc="-1" strike="noStrike">
              <a:solidFill>
                <a:srgbClr val="333333"/>
              </a:solidFill>
              <a:latin typeface="VW Headline OT-Book"/>
            </a:endParaRPr>
          </a:p>
        </p:txBody>
      </p:sp>
      <p:sp>
        <p:nvSpPr>
          <p:cNvPr id="456" name="Text Box 19"/>
          <p:cNvSpPr/>
          <p:nvPr/>
        </p:nvSpPr>
        <p:spPr>
          <a:xfrm>
            <a:off x="3603600" y="1484280"/>
            <a:ext cx="1141560" cy="360360"/>
          </a:xfrm>
          <a:prstGeom prst="rect">
            <a:avLst/>
          </a:prstGeom>
          <a:solidFill>
            <a:srgbClr val="aed4f8"/>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VW Headline OT-Book"/>
                <a:ea typeface="宋体"/>
              </a:rPr>
              <a:t>174/212/248</a:t>
            </a:r>
            <a:endParaRPr b="0" lang="en-US" sz="1000" spc="-1" strike="noStrike">
              <a:solidFill>
                <a:srgbClr val="333333"/>
              </a:solidFill>
              <a:latin typeface="VW Headline OT-Book"/>
            </a:endParaRPr>
          </a:p>
        </p:txBody>
      </p:sp>
      <p:sp>
        <p:nvSpPr>
          <p:cNvPr id="457" name="Text Box 20"/>
          <p:cNvSpPr/>
          <p:nvPr/>
        </p:nvSpPr>
        <p:spPr>
          <a:xfrm>
            <a:off x="7494480" y="1484280"/>
            <a:ext cx="1141560" cy="360360"/>
          </a:xfrm>
          <a:prstGeom prst="rect">
            <a:avLst/>
          </a:prstGeom>
          <a:solidFill>
            <a:srgbClr val="62c5e2"/>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98/197/226</a:t>
            </a:r>
            <a:endParaRPr b="0" lang="en-US" sz="1000" spc="-1" strike="noStrike">
              <a:solidFill>
                <a:srgbClr val="333333"/>
              </a:solidFill>
              <a:latin typeface="VW Headline OT-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D3C6-80EC-4AD4-B944-B06518C2C839}"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45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DDCF603-F0B5-4E9F-8371-517419643090}"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6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5. Leaf signature</a:t>
            </a:r>
            <a:endParaRPr b="0" lang="en-US" sz="2800" spc="-1" strike="noStrike">
              <a:solidFill>
                <a:srgbClr val="333333"/>
              </a:solidFill>
              <a:latin typeface="Arial"/>
            </a:endParaRPr>
          </a:p>
        </p:txBody>
      </p:sp>
      <p:sp>
        <p:nvSpPr>
          <p:cNvPr id="461"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A leaf signature containing information on the document is included on all slides of the presentation. This contains e. g. </a:t>
            </a:r>
            <a:r>
              <a:rPr b="0" lang="en-GB" sz="1700" spc="-1" strike="noStrike">
                <a:solidFill>
                  <a:srgbClr val="333333"/>
                </a:solidFill>
                <a:latin typeface="Arial"/>
                <a:ea typeface="宋体"/>
              </a:rPr>
              <a:t>the</a:t>
            </a:r>
            <a:r>
              <a:rPr b="0" lang="en-US" sz="1700" spc="-1" strike="noStrike">
                <a:solidFill>
                  <a:srgbClr val="333333"/>
                </a:solidFill>
                <a:latin typeface="Arial"/>
                <a:ea typeface="宋体"/>
              </a:rPr>
              <a:t> following details: the slide number, the date and the name of the author and his department or cost centre.</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The details in the leaf signature are preset and can be changed independently in the menu “View” under the option “Header and Footer”. When doing so, the option “Don’t show on title slide” must be ticked.</a:t>
            </a:r>
            <a:endParaRPr b="0" lang="en-US" sz="1700" spc="-1" strike="noStrike">
              <a:solidFill>
                <a:srgbClr val="333333"/>
              </a:solidFill>
              <a:latin typeface="Arial"/>
            </a:endParaRPr>
          </a:p>
        </p:txBody>
      </p:sp>
      <p:sp>
        <p:nvSpPr>
          <p:cNvPr id="462" name="Rectangle 4"/>
          <p:cNvSpPr/>
          <p:nvPr/>
        </p:nvSpPr>
        <p:spPr>
          <a:xfrm>
            <a:off x="304920" y="261288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C6B4-D7C2-4D5E-9AEB-C90D209E904D}" type="datetime">
              <a:rPr b="0" lang="zh-CN" sz="1000" spc="-1" strike="noStrike">
                <a:solidFill>
                  <a:srgbClr val="333333"/>
                </a:solidFill>
                <a:latin typeface="VW Headline OT-Book"/>
                <a:ea typeface="宋体"/>
              </a:rPr>
              <a:t>26/7/31</a:t>
            </a:fld>
            <a:endParaRPr b="0" lang="en-US" sz="1000" spc="-1" strike="noStrike">
              <a:solidFill>
                <a:srgbClr val="333333"/>
              </a:solidFill>
              <a:latin typeface="VW Headline OT-Book"/>
            </a:endParaRPr>
          </a:p>
        </p:txBody>
      </p:sp>
      <p:sp>
        <p:nvSpPr>
          <p:cNvPr id="464"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472CAF5C-056F-4C9D-AD81-DC83B227B43E}"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6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6. Pictures</a:t>
            </a:r>
            <a:endParaRPr b="0" lang="en-US" sz="2800" spc="-1" strike="noStrike">
              <a:solidFill>
                <a:srgbClr val="333333"/>
              </a:solidFill>
              <a:latin typeface="Arial"/>
            </a:endParaRPr>
          </a:p>
        </p:txBody>
      </p:sp>
      <p:sp>
        <p:nvSpPr>
          <p:cNvPr id="466"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Pictures can be used on all title slides and content slides. If several pictures are used on one slide these are separated from each other by a 3 pt wide white margin.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o ensure a high-quality presentation, pictures should appear in the picture format JPEG (.jpg) with a resolution of 192 dpi; the pictures may be neither compressed nor distorted.</a:t>
            </a:r>
            <a:endParaRPr b="0" lang="en-US" sz="1700" spc="-1" strike="noStrike">
              <a:solidFill>
                <a:srgbClr val="3333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6:32:20Z</dcterms:created>
  <dc:creator>幻灯片之家：www.eeppt.com</dc:creator>
  <dc:description>幻灯片之家：www.eeppt.com</dc:description>
  <cp:keywords>幻灯片之家：www.eeppt.com</cp:keywords>
  <dc:language>en-US</dc:language>
  <cp:lastModifiedBy>pc</cp:lastModifiedBy>
  <dcterms:modified xsi:type="dcterms:W3CDTF">2015-11-13T04:36:23Z</dcterms:modified>
  <cp:revision>19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