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00B-6AD1-4C9C-BF42-7D107A87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82B-B51C-4762-A069-734A9158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F7C6-FB9C-44F7-8AA8-DC53DF1C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DD4-5932-432F-83B3-0984A978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1B34-1949-4DBE-9DFD-D5D1F563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8D8D-727B-42D3-A2DF-15D58524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A666-6B0A-4582-8FB8-C6432653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DF60-426F-40D9-9D17-24EB2FF2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813B-C955-4095-9384-29FF40FE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8F21-F9B0-40D0-9A01-4262E57A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C5DC-A5E9-49D7-A326-8AD62C8B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995-C6ED-4605-BAD7-F4DE0D6E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C9E5-07F0-4484-A7CB-41B5D034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C827-0AC2-4E6D-9946-6BC9B9E1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4345-B62D-40BA-9B35-53291A07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43DF-9291-4EBE-99AD-9A4D521F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5A6E-4FBF-4616-B0BD-70D6056D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B805-080D-46A9-A4C3-0C14E4EF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10D-B02E-4798-B88B-F51A4CA9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CBA-2E1E-49B6-9F40-8D2255DD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8E7F-F139-44BB-BFAF-4338CC60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E43-6241-4226-88CE-39E45224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535-9F85-4D97-93A3-62945986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199-8C97-4872-BDC8-3B1320BC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059F-B401-4029-854E-0697D02A4C1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54DF-4C22-406A-AEBD-429A6134FC6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5287-FE9F-46B7-92AD-CED39D8D8B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5"/>
          <p:cNvGrpSpPr/>
          <p:nvPr/>
        </p:nvGrpSpPr>
        <p:grpSpPr>
          <a:xfrm>
            <a:off x="-3479760" y="-5646600"/>
            <a:ext cx="19075320" cy="18181440"/>
            <a:chOff x="-3479760" y="-5646600"/>
            <a:chExt cx="19075320" cy="18181440"/>
          </a:xfrm>
        </p:grpSpPr>
        <p:sp>
          <p:nvSpPr>
            <p:cNvPr id="83" name="矩形 4"/>
            <p:cNvSpPr/>
            <p:nvPr/>
          </p:nvSpPr>
          <p:spPr>
            <a:xfrm>
              <a:off x="-3479760" y="-5646600"/>
              <a:ext cx="19075320" cy="9109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3"/>
            <p:cNvSpPr/>
            <p:nvPr/>
          </p:nvSpPr>
          <p:spPr>
            <a:xfrm>
              <a:off x="-3479760" y="3425040"/>
              <a:ext cx="19075320" cy="9109800"/>
            </a:xfrm>
            <a:prstGeom prst="rect">
              <a:avLst/>
            </a:prstGeom>
            <a:solidFill>
              <a:srgbClr val="e5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椭圆 6"/>
          <p:cNvSpPr/>
          <p:nvPr/>
        </p:nvSpPr>
        <p:spPr>
          <a:xfrm>
            <a:off x="4952880" y="528480"/>
            <a:ext cx="2210040" cy="228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7"/>
          <p:cNvSpPr/>
          <p:nvPr/>
        </p:nvSpPr>
        <p:spPr>
          <a:xfrm>
            <a:off x="4654440" y="1943280"/>
            <a:ext cx="2775240" cy="2869920"/>
          </a:xfrm>
          <a:prstGeom prst="ellipse">
            <a:avLst/>
          </a:prstGeom>
          <a:noFill/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8"/>
          <p:cNvSpPr/>
          <p:nvPr/>
        </p:nvSpPr>
        <p:spPr>
          <a:xfrm>
            <a:off x="5365800" y="3000240"/>
            <a:ext cx="143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539"/>
                </a:solidFill>
                <a:latin typeface="Roboto Th"/>
                <a:ea typeface="Roboto Th"/>
              </a:rPr>
              <a:t>2 ·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高姗 - The Road Not Taken" descr=""/>
          <p:cNvPicPr/>
          <p:nvPr/>
        </p:nvPicPr>
        <p:blipFill>
          <a:blip r:embed="rId1"/>
          <a:stretch/>
        </p:blipFill>
        <p:spPr>
          <a:xfrm>
            <a:off x="-619200" y="1184400"/>
            <a:ext cx="487440" cy="48708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3080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081"/>
          <p:cNvSpPr/>
          <p:nvPr/>
        </p:nvSpPr>
        <p:spPr>
          <a:xfrm>
            <a:off x="3836880" y="104292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情人节创意动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5E-006 0.25 L 5E-006 0 E">
                                      <p:cBhvr>
                                        <p:cTn id="18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path" presetID="42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5E-006 0 L 5E-006 0.25 E">
                                      <p:cBhvr>
                                        <p:cTn id="2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3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3" dur="1500" fill="hold"/>
                                        <p:tgtEl>
                                          <p:spTgt spid="85"/>
                                        </p:tgtEl>
                                      </p:cBhvr>
                                      <p:to x="700000" y="700000"/>
                                    </p:animScale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xit" presetID="25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25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椭圆 4"/>
          <p:cNvSpPr/>
          <p:nvPr/>
        </p:nvSpPr>
        <p:spPr>
          <a:xfrm>
            <a:off x="-1625760" y="-4305240"/>
            <a:ext cx="15354360" cy="15354360"/>
          </a:xfrm>
          <a:prstGeom prst="ellipse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图片 6" descr=""/>
          <p:cNvPicPr/>
          <p:nvPr/>
        </p:nvPicPr>
        <p:blipFill>
          <a:blip r:embed="rId1"/>
          <a:stretch/>
        </p:blipFill>
        <p:spPr>
          <a:xfrm>
            <a:off x="5270400" y="4187880"/>
            <a:ext cx="766800" cy="76824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7" descr=""/>
          <p:cNvPicPr/>
          <p:nvPr/>
        </p:nvPicPr>
        <p:blipFill>
          <a:blip r:embed="rId2"/>
          <a:stretch/>
        </p:blipFill>
        <p:spPr>
          <a:xfrm>
            <a:off x="5827680" y="3925800"/>
            <a:ext cx="239760" cy="136836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8" descr=""/>
          <p:cNvPicPr/>
          <p:nvPr/>
        </p:nvPicPr>
        <p:blipFill>
          <a:blip r:embed="rId3"/>
          <a:stretch/>
        </p:blipFill>
        <p:spPr>
          <a:xfrm>
            <a:off x="5905440" y="4105440"/>
            <a:ext cx="158760" cy="14047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9" descr=""/>
          <p:cNvPicPr/>
          <p:nvPr/>
        </p:nvPicPr>
        <p:blipFill>
          <a:blip r:embed="rId4"/>
          <a:stretch/>
        </p:blipFill>
        <p:spPr>
          <a:xfrm rot="1590000">
            <a:off x="5391000" y="3573360"/>
            <a:ext cx="727200" cy="42732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10" descr=""/>
          <p:cNvPicPr/>
          <p:nvPr/>
        </p:nvPicPr>
        <p:blipFill>
          <a:blip r:embed="rId5"/>
          <a:stretch/>
        </p:blipFill>
        <p:spPr>
          <a:xfrm>
            <a:off x="6033960" y="3835440"/>
            <a:ext cx="385920" cy="67320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11" descr=""/>
          <p:cNvPicPr/>
          <p:nvPr/>
        </p:nvPicPr>
        <p:blipFill>
          <a:blip r:embed="rId6"/>
          <a:stretch/>
        </p:blipFill>
        <p:spPr>
          <a:xfrm>
            <a:off x="6180120" y="3683160"/>
            <a:ext cx="749160" cy="43488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12" descr=""/>
          <p:cNvPicPr/>
          <p:nvPr/>
        </p:nvPicPr>
        <p:blipFill>
          <a:blip r:embed="rId7"/>
          <a:stretch/>
        </p:blipFill>
        <p:spPr>
          <a:xfrm>
            <a:off x="5754600" y="3359160"/>
            <a:ext cx="981000" cy="549360"/>
          </a:xfrm>
          <a:prstGeom prst="rect">
            <a:avLst/>
          </a:prstGeom>
          <a:ln w="0">
            <a:noFill/>
          </a:ln>
        </p:spPr>
      </p:pic>
      <p:pic>
        <p:nvPicPr>
          <p:cNvPr id="356" name="图片 13" descr=""/>
          <p:cNvPicPr/>
          <p:nvPr/>
        </p:nvPicPr>
        <p:blipFill>
          <a:blip r:embed="rId8"/>
          <a:stretch/>
        </p:blipFill>
        <p:spPr>
          <a:xfrm>
            <a:off x="5451480" y="2779560"/>
            <a:ext cx="530280" cy="96552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14" descr=""/>
          <p:cNvPicPr/>
          <p:nvPr/>
        </p:nvPicPr>
        <p:blipFill>
          <a:blip r:embed="rId9"/>
          <a:srcRect l="21615" t="8938" r="29103" b="51894"/>
          <a:stretch/>
        </p:blipFill>
        <p:spPr>
          <a:xfrm>
            <a:off x="5753160" y="2576520"/>
            <a:ext cx="876240" cy="117144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15" descr=""/>
          <p:cNvPicPr/>
          <p:nvPr/>
        </p:nvPicPr>
        <p:blipFill>
          <a:blip r:embed="rId10"/>
          <a:srcRect l="29920" t="0" r="11639" b="72339"/>
          <a:stretch/>
        </p:blipFill>
        <p:spPr>
          <a:xfrm>
            <a:off x="5791320" y="2298600"/>
            <a:ext cx="1187280" cy="94464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16" descr=""/>
          <p:cNvPicPr/>
          <p:nvPr/>
        </p:nvPicPr>
        <p:blipFill>
          <a:blip r:embed="rId11"/>
          <a:stretch/>
        </p:blipFill>
        <p:spPr>
          <a:xfrm>
            <a:off x="6497640" y="2535120"/>
            <a:ext cx="750960" cy="88272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17" descr=""/>
          <p:cNvPicPr/>
          <p:nvPr/>
        </p:nvPicPr>
        <p:blipFill>
          <a:blip r:embed="rId12"/>
          <a:srcRect l="29443" t="3702" r="1647" b="52420"/>
          <a:stretch/>
        </p:blipFill>
        <p:spPr>
          <a:xfrm>
            <a:off x="5837400" y="2448000"/>
            <a:ext cx="1218960" cy="1306440"/>
          </a:xfrm>
          <a:prstGeom prst="rect">
            <a:avLst/>
          </a:prstGeom>
          <a:ln w="0">
            <a:noFill/>
          </a:ln>
        </p:spPr>
      </p:pic>
      <p:sp>
        <p:nvSpPr>
          <p:cNvPr id="361" name="文本框 22"/>
          <p:cNvSpPr/>
          <p:nvPr/>
        </p:nvSpPr>
        <p:spPr>
          <a:xfrm>
            <a:off x="2543760" y="4002120"/>
            <a:ext cx="70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boto Th"/>
                <a:ea typeface="Roboto Th"/>
              </a:rPr>
              <a:t>Let`s cherish the love arranged by our desti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4000">
    <p:fade/>
  </p:transition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0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7" dur="2000" fill="hold"/>
                                        <p:tgtEl>
                                          <p:spTgt spid="348"/>
                                        </p:tgtEl>
                                      </p:cBhvr>
                                      <p:to x="200.000002980232" y="200.000002980232"/>
                                    </p:animScale>
                                  </p:childTnLst>
                                </p:cTn>
                              </p:par>
                              <p:par>
                                <p:cTn id="131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L -0.00052 0.08148 E">
                                      <p:cBhvr>
                                        <p:cTn id="1319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1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75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75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75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dur="indefinite" nodeType="with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7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8" dur="7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dur="indefinite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75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7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dur="indefinite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7" dur="75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dur="indefinite" nodeType="with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75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dur="indefinite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3" dur="7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75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dur="indefinite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dur="indefinite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椭圆 3"/>
          <p:cNvSpPr/>
          <p:nvPr/>
        </p:nvSpPr>
        <p:spPr>
          <a:xfrm>
            <a:off x="4813200" y="2090880"/>
            <a:ext cx="297000" cy="309600"/>
          </a:xfrm>
          <a:prstGeom prst="ellipse">
            <a:avLst/>
          </a:pr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20"/>
          <p:cNvGrpSpPr/>
          <p:nvPr/>
        </p:nvGrpSpPr>
        <p:grpSpPr>
          <a:xfrm>
            <a:off x="5508360" y="1971720"/>
            <a:ext cx="1688040" cy="2589120"/>
            <a:chOff x="5508360" y="1971720"/>
            <a:chExt cx="1688040" cy="2589120"/>
          </a:xfrm>
        </p:grpSpPr>
        <p:sp>
          <p:nvSpPr>
            <p:cNvPr id="93" name="文本框 14"/>
            <p:cNvSpPr/>
            <p:nvPr/>
          </p:nvSpPr>
          <p:spPr>
            <a:xfrm>
              <a:off x="5508360" y="197172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egoe UI Light"/>
                  <a:ea typeface="宋体"/>
                </a:rPr>
                <a:t>Chocola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15"/>
            <p:cNvSpPr/>
            <p:nvPr/>
          </p:nvSpPr>
          <p:spPr>
            <a:xfrm>
              <a:off x="5601240" y="3045240"/>
              <a:ext cx="133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egoe UI Light"/>
                  <a:ea typeface="宋体"/>
                </a:rPr>
                <a:t>Pic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16"/>
            <p:cNvSpPr/>
            <p:nvPr/>
          </p:nvSpPr>
          <p:spPr>
            <a:xfrm>
              <a:off x="5598720" y="4101120"/>
              <a:ext cx="14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egoe UI Light"/>
                  <a:ea typeface="宋体"/>
                </a:rPr>
                <a:t>Bl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椭圆 18"/>
          <p:cNvSpPr/>
          <p:nvPr/>
        </p:nvSpPr>
        <p:spPr>
          <a:xfrm>
            <a:off x="4813200" y="3133800"/>
            <a:ext cx="297000" cy="309600"/>
          </a:xfrm>
          <a:prstGeom prst="ellipse">
            <a:avLst/>
          </a:pr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9"/>
          <p:cNvSpPr/>
          <p:nvPr/>
        </p:nvSpPr>
        <p:spPr>
          <a:xfrm>
            <a:off x="4813200" y="4178160"/>
            <a:ext cx="297000" cy="308160"/>
          </a:xfrm>
          <a:prstGeom prst="ellipse">
            <a:avLst/>
          </a:pr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6"/>
          <p:cNvSpPr/>
          <p:nvPr/>
        </p:nvSpPr>
        <p:spPr>
          <a:xfrm>
            <a:off x="4575960" y="3090960"/>
            <a:ext cx="31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boto Th"/>
                <a:ea typeface="Roboto Th"/>
              </a:rPr>
              <a:t>They are not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7"/>
          <p:cNvSpPr/>
          <p:nvPr/>
        </p:nvSpPr>
        <p:spPr>
          <a:xfrm>
            <a:off x="4228920" y="3287880"/>
            <a:ext cx="41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516"/>
                </a:solidFill>
                <a:latin typeface="Roboto Th"/>
                <a:ea typeface="Roboto Th"/>
              </a:rPr>
              <a:t>We need something spe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1.04167E-006 -4.81481E-006 L 0.20521 0.30371 E">
                                      <p:cBhvr>
                                        <p:cTn id="8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1.04167E-006 1.85185E-006 L 0.09805 0.15162 E">
                                      <p:cBhvr>
                                        <p:cTn id="8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xit" presetID="10">
                                  <p:stCondLst>
                                    <p:cond delay="43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800"/>
                            </p:stCondLst>
                            <p:childTnLst>
                              <p:par>
                                <p:cTn id="95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05 0.15162 L 0.09623 -0.10301 E">
                                      <p:cBhvr>
                                        <p:cTn id="96" dur="1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0.2052 0.30371 L 0.09649 0.18403 E">
                                      <p:cBhvr>
                                        <p:cTn id="101" dur="175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1.04167E-006 -2.96296E-006 L 0.09987 -0.11666 E">
                                      <p:cBhvr>
                                        <p:cTn id="103" dur="175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0.09623 -0.10301 L 0.09623 0.04305 E">
                                      <p:cBhvr>
                                        <p:cTn id="105" dur="175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300"/>
                            </p:stCondLst>
                            <p:childTnLst>
                              <p:par>
                                <p:cTn id="107" dur="indefinite" nodeType="after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-360" y="3398760"/>
            <a:ext cx="12192120" cy="38160"/>
            <a:chOff x="-360" y="3398760"/>
            <a:chExt cx="12192120" cy="38160"/>
          </a:xfrm>
        </p:grpSpPr>
        <p:sp>
          <p:nvSpPr>
            <p:cNvPr id="101" name="直接连接符 4"/>
            <p:cNvSpPr/>
            <p:nvPr/>
          </p:nvSpPr>
          <p:spPr>
            <a:xfrm flipH="1" flipV="1">
              <a:off x="-360" y="3398760"/>
              <a:ext cx="12192120" cy="38160"/>
            </a:xfrm>
            <a:prstGeom prst="line">
              <a:avLst/>
            </a:prstGeom>
            <a:ln w="6480">
              <a:solidFill>
                <a:srgbClr val="c830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 rot="10800000">
              <a:off x="-360" y="3398400"/>
              <a:ext cx="12192120" cy="3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任意多边形 16"/>
          <p:cNvSpPr/>
          <p:nvPr/>
        </p:nvSpPr>
        <p:spPr>
          <a:xfrm>
            <a:off x="-303120" y="2685960"/>
            <a:ext cx="12415680" cy="1046160"/>
          </a:xfrm>
          <a:custGeom>
            <a:avLst/>
            <a:gdLst/>
            <a:ahLst/>
            <a:rect l="l" t="t" r="r" b="b"/>
            <a:pathLst>
              <a:path w="11282516" h="1047352">
                <a:moveTo>
                  <a:pt x="0" y="73876"/>
                </a:moveTo>
                <a:cubicBezTo>
                  <a:pt x="813619" y="564260"/>
                  <a:pt x="1627239" y="1054644"/>
                  <a:pt x="2256503" y="1047270"/>
                </a:cubicBezTo>
                <a:cubicBezTo>
                  <a:pt x="2885767" y="1039896"/>
                  <a:pt x="3136490" y="66502"/>
                  <a:pt x="3775587" y="29631"/>
                </a:cubicBezTo>
                <a:cubicBezTo>
                  <a:pt x="4414684" y="-7240"/>
                  <a:pt x="5361039" y="830960"/>
                  <a:pt x="6091084" y="826044"/>
                </a:cubicBezTo>
                <a:cubicBezTo>
                  <a:pt x="6821129" y="821128"/>
                  <a:pt x="7482348" y="-12156"/>
                  <a:pt x="8155858" y="134"/>
                </a:cubicBezTo>
                <a:cubicBezTo>
                  <a:pt x="8829368" y="12424"/>
                  <a:pt x="9611032" y="872747"/>
                  <a:pt x="10132142" y="899786"/>
                </a:cubicBezTo>
                <a:cubicBezTo>
                  <a:pt x="10653252" y="926825"/>
                  <a:pt x="10967884" y="544596"/>
                  <a:pt x="11282516" y="162367"/>
                </a:cubicBezTo>
              </a:path>
            </a:pathLst>
          </a:custGeom>
          <a:noFill/>
          <a:ln w="1260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17"/>
          <p:cNvSpPr/>
          <p:nvPr/>
        </p:nvSpPr>
        <p:spPr>
          <a:xfrm flipV="1">
            <a:off x="-363240" y="2839680"/>
            <a:ext cx="13017600" cy="1046160"/>
          </a:xfrm>
          <a:custGeom>
            <a:avLst/>
            <a:gdLst/>
            <a:ahLst/>
            <a:rect l="l" t="t" r="r" b="b"/>
            <a:pathLst>
              <a:path w="11282516" h="1047352">
                <a:moveTo>
                  <a:pt x="0" y="73876"/>
                </a:moveTo>
                <a:cubicBezTo>
                  <a:pt x="813619" y="564260"/>
                  <a:pt x="1627239" y="1054644"/>
                  <a:pt x="2256503" y="1047270"/>
                </a:cubicBezTo>
                <a:cubicBezTo>
                  <a:pt x="2885767" y="1039896"/>
                  <a:pt x="3136490" y="66502"/>
                  <a:pt x="3775587" y="29631"/>
                </a:cubicBezTo>
                <a:cubicBezTo>
                  <a:pt x="4414684" y="-7240"/>
                  <a:pt x="5361039" y="830960"/>
                  <a:pt x="6091084" y="826044"/>
                </a:cubicBezTo>
                <a:cubicBezTo>
                  <a:pt x="6821129" y="821128"/>
                  <a:pt x="7482348" y="-12156"/>
                  <a:pt x="8155858" y="134"/>
                </a:cubicBezTo>
                <a:cubicBezTo>
                  <a:pt x="8829368" y="12424"/>
                  <a:pt x="9611032" y="872747"/>
                  <a:pt x="10132142" y="899786"/>
                </a:cubicBezTo>
                <a:cubicBezTo>
                  <a:pt x="10653252" y="926825"/>
                  <a:pt x="10967884" y="544596"/>
                  <a:pt x="11282516" y="162367"/>
                </a:cubicBezTo>
              </a:path>
            </a:pathLst>
          </a:custGeom>
          <a:noFill/>
          <a:ln w="1260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18"/>
          <p:cNvSpPr/>
          <p:nvPr/>
        </p:nvSpPr>
        <p:spPr>
          <a:xfrm flipV="1">
            <a:off x="-363240" y="2352240"/>
            <a:ext cx="13017600" cy="1689120"/>
          </a:xfrm>
          <a:custGeom>
            <a:avLst/>
            <a:gdLst/>
            <a:ahLst/>
            <a:rect l="l" t="t" r="r" b="b"/>
            <a:pathLst>
              <a:path w="11282516" h="1687864">
                <a:moveTo>
                  <a:pt x="0" y="222948"/>
                </a:moveTo>
                <a:cubicBezTo>
                  <a:pt x="813619" y="713332"/>
                  <a:pt x="1627239" y="1232852"/>
                  <a:pt x="2256503" y="1196342"/>
                </a:cubicBezTo>
                <a:cubicBezTo>
                  <a:pt x="2885768" y="1159833"/>
                  <a:pt x="3142903" y="-78020"/>
                  <a:pt x="3775587" y="3891"/>
                </a:cubicBezTo>
                <a:cubicBezTo>
                  <a:pt x="4408271" y="85802"/>
                  <a:pt x="5322562" y="1677038"/>
                  <a:pt x="6052607" y="1687810"/>
                </a:cubicBezTo>
                <a:cubicBezTo>
                  <a:pt x="6782652" y="1698582"/>
                  <a:pt x="7475936" y="123469"/>
                  <a:pt x="8155858" y="68524"/>
                </a:cubicBezTo>
                <a:cubicBezTo>
                  <a:pt x="8835780" y="13579"/>
                  <a:pt x="9611032" y="1317655"/>
                  <a:pt x="10132142" y="1358141"/>
                </a:cubicBezTo>
                <a:cubicBezTo>
                  <a:pt x="10653252" y="1398627"/>
                  <a:pt x="10967884" y="693668"/>
                  <a:pt x="11282516" y="311439"/>
                </a:cubicBezTo>
              </a:path>
            </a:pathLst>
          </a:custGeom>
          <a:noFill/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19"/>
          <p:cNvSpPr/>
          <p:nvPr/>
        </p:nvSpPr>
        <p:spPr>
          <a:xfrm flipH="1" flipV="1">
            <a:off x="-363600" y="2385360"/>
            <a:ext cx="13017600" cy="1687320"/>
          </a:xfrm>
          <a:custGeom>
            <a:avLst/>
            <a:gdLst/>
            <a:ahLst/>
            <a:rect l="l" t="t" r="r" b="b"/>
            <a:pathLst>
              <a:path w="11282516" h="1687864">
                <a:moveTo>
                  <a:pt x="0" y="222948"/>
                </a:moveTo>
                <a:cubicBezTo>
                  <a:pt x="813619" y="713332"/>
                  <a:pt x="1627239" y="1232852"/>
                  <a:pt x="2256503" y="1196342"/>
                </a:cubicBezTo>
                <a:cubicBezTo>
                  <a:pt x="2885768" y="1159833"/>
                  <a:pt x="3142903" y="-78020"/>
                  <a:pt x="3775587" y="3891"/>
                </a:cubicBezTo>
                <a:cubicBezTo>
                  <a:pt x="4408271" y="85802"/>
                  <a:pt x="5322562" y="1677038"/>
                  <a:pt x="6052607" y="1687810"/>
                </a:cubicBezTo>
                <a:cubicBezTo>
                  <a:pt x="6782652" y="1698582"/>
                  <a:pt x="7475936" y="123469"/>
                  <a:pt x="8155858" y="68524"/>
                </a:cubicBezTo>
                <a:cubicBezTo>
                  <a:pt x="8835780" y="13579"/>
                  <a:pt x="9611032" y="1317655"/>
                  <a:pt x="10132142" y="1358141"/>
                </a:cubicBezTo>
                <a:cubicBezTo>
                  <a:pt x="10653252" y="1398627"/>
                  <a:pt x="10967884" y="693668"/>
                  <a:pt x="11282516" y="311439"/>
                </a:cubicBezTo>
              </a:path>
            </a:pathLst>
          </a:custGeom>
          <a:noFill/>
          <a:ln w="12600">
            <a:solidFill>
              <a:srgbClr val="3333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-210960" y="2505240"/>
            <a:ext cx="13017240" cy="1688760"/>
          </a:xfrm>
          <a:custGeom>
            <a:avLst/>
            <a:gdLst/>
            <a:ahLst/>
            <a:rect l="l" t="t" r="r" b="b"/>
            <a:pathLst>
              <a:path w="11282516" h="1687864">
                <a:moveTo>
                  <a:pt x="0" y="222948"/>
                </a:moveTo>
                <a:cubicBezTo>
                  <a:pt x="813619" y="713332"/>
                  <a:pt x="1627239" y="1232852"/>
                  <a:pt x="2256503" y="1196342"/>
                </a:cubicBezTo>
                <a:cubicBezTo>
                  <a:pt x="2885768" y="1159833"/>
                  <a:pt x="3142903" y="-78020"/>
                  <a:pt x="3775587" y="3891"/>
                </a:cubicBezTo>
                <a:cubicBezTo>
                  <a:pt x="4408271" y="85802"/>
                  <a:pt x="5322562" y="1677038"/>
                  <a:pt x="6052607" y="1687810"/>
                </a:cubicBezTo>
                <a:cubicBezTo>
                  <a:pt x="6782652" y="1698582"/>
                  <a:pt x="7475936" y="123469"/>
                  <a:pt x="8155858" y="68524"/>
                </a:cubicBezTo>
                <a:cubicBezTo>
                  <a:pt x="8835780" y="13579"/>
                  <a:pt x="9611032" y="1317655"/>
                  <a:pt x="10132142" y="1358141"/>
                </a:cubicBezTo>
                <a:cubicBezTo>
                  <a:pt x="10653252" y="1398627"/>
                  <a:pt x="10967884" y="693668"/>
                  <a:pt x="11282516" y="311439"/>
                </a:cubicBezTo>
              </a:path>
            </a:pathLst>
          </a:custGeom>
          <a:noFill/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任意多边形 22"/>
          <p:cNvSpPr/>
          <p:nvPr/>
        </p:nvSpPr>
        <p:spPr>
          <a:xfrm flipH="1">
            <a:off x="-58680" y="2144880"/>
            <a:ext cx="13017600" cy="2442960"/>
          </a:xfrm>
          <a:custGeom>
            <a:avLst/>
            <a:gdLst/>
            <a:ahLst/>
            <a:rect l="l" t="t" r="r" b="b"/>
            <a:pathLst>
              <a:path w="11282516" h="2443281">
                <a:moveTo>
                  <a:pt x="0" y="736317"/>
                </a:moveTo>
                <a:cubicBezTo>
                  <a:pt x="813619" y="1226701"/>
                  <a:pt x="1615249" y="1831385"/>
                  <a:pt x="2256503" y="1709711"/>
                </a:cubicBezTo>
                <a:cubicBezTo>
                  <a:pt x="2897757" y="1588037"/>
                  <a:pt x="3214842" y="-115981"/>
                  <a:pt x="3847526" y="6271"/>
                </a:cubicBezTo>
                <a:cubicBezTo>
                  <a:pt x="4480210" y="128523"/>
                  <a:pt x="5312571" y="2430213"/>
                  <a:pt x="6052608" y="2443226"/>
                </a:cubicBezTo>
                <a:cubicBezTo>
                  <a:pt x="6792645" y="2456240"/>
                  <a:pt x="7607826" y="179638"/>
                  <a:pt x="8287748" y="84352"/>
                </a:cubicBezTo>
                <a:cubicBezTo>
                  <a:pt x="8967670" y="-10934"/>
                  <a:pt x="9633014" y="1748101"/>
                  <a:pt x="10132142" y="1871510"/>
                </a:cubicBezTo>
                <a:cubicBezTo>
                  <a:pt x="10631270" y="1994919"/>
                  <a:pt x="10967884" y="1207037"/>
                  <a:pt x="11282516" y="824808"/>
                </a:cubicBezTo>
              </a:path>
            </a:pathLst>
          </a:custGeom>
          <a:noFill/>
          <a:ln w="12600">
            <a:solidFill>
              <a:srgbClr val="99ff3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23"/>
          <p:cNvSpPr/>
          <p:nvPr/>
        </p:nvSpPr>
        <p:spPr>
          <a:xfrm flipH="1" flipV="1">
            <a:off x="-93600" y="2144880"/>
            <a:ext cx="13017600" cy="2442960"/>
          </a:xfrm>
          <a:custGeom>
            <a:avLst/>
            <a:gdLst/>
            <a:ahLst/>
            <a:rect l="l" t="t" r="r" b="b"/>
            <a:pathLst>
              <a:path w="11282516" h="2443281">
                <a:moveTo>
                  <a:pt x="0" y="736317"/>
                </a:moveTo>
                <a:cubicBezTo>
                  <a:pt x="813619" y="1226701"/>
                  <a:pt x="1615249" y="1831385"/>
                  <a:pt x="2256503" y="1709711"/>
                </a:cubicBezTo>
                <a:cubicBezTo>
                  <a:pt x="2897757" y="1588037"/>
                  <a:pt x="3214842" y="-115981"/>
                  <a:pt x="3847526" y="6271"/>
                </a:cubicBezTo>
                <a:cubicBezTo>
                  <a:pt x="4480210" y="128523"/>
                  <a:pt x="5312571" y="2430213"/>
                  <a:pt x="6052608" y="2443226"/>
                </a:cubicBezTo>
                <a:cubicBezTo>
                  <a:pt x="6792645" y="2456240"/>
                  <a:pt x="7607826" y="179638"/>
                  <a:pt x="8287748" y="84352"/>
                </a:cubicBezTo>
                <a:cubicBezTo>
                  <a:pt x="8967670" y="-10934"/>
                  <a:pt x="9633014" y="1748101"/>
                  <a:pt x="10132142" y="1871510"/>
                </a:cubicBezTo>
                <a:cubicBezTo>
                  <a:pt x="10631270" y="1994919"/>
                  <a:pt x="10967884" y="1207037"/>
                  <a:pt x="11282516" y="824808"/>
                </a:cubicBezTo>
              </a:path>
            </a:pathLst>
          </a:custGeom>
          <a:noFill/>
          <a:ln w="12600">
            <a:solidFill>
              <a:srgbClr val="00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28"/>
          <p:cNvSpPr/>
          <p:nvPr/>
        </p:nvSpPr>
        <p:spPr>
          <a:xfrm>
            <a:off x="4709520" y="2990880"/>
            <a:ext cx="317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boto Th"/>
                <a:ea typeface="Roboto Th"/>
              </a:rPr>
              <a:t>Feb 1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Roboto Th"/>
                <a:ea typeface="Roboto Th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Roboto Th"/>
                <a:ea typeface="Roboto Th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9"/>
          <p:cNvSpPr/>
          <p:nvPr/>
        </p:nvSpPr>
        <p:spPr>
          <a:xfrm>
            <a:off x="3547440" y="4600440"/>
            <a:ext cx="581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egoe UI Light"/>
                <a:ea typeface="宋体"/>
              </a:rPr>
              <a:t>Our Valentine's 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30"/>
          <p:cNvSpPr/>
          <p:nvPr/>
        </p:nvSpPr>
        <p:spPr>
          <a:xfrm>
            <a:off x="3142440" y="971640"/>
            <a:ext cx="63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boto Th"/>
                <a:ea typeface="Roboto Th"/>
              </a:rPr>
              <a:t>Today is our memorabl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31"/>
          <p:cNvSpPr/>
          <p:nvPr/>
        </p:nvSpPr>
        <p:spPr>
          <a:xfrm>
            <a:off x="1856160" y="995400"/>
            <a:ext cx="91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boto Th"/>
                <a:ea typeface="Roboto Th"/>
              </a:rPr>
              <a:t>Today is a day we can celebrate te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32"/>
          <p:cNvSpPr/>
          <p:nvPr/>
        </p:nvSpPr>
        <p:spPr>
          <a:xfrm>
            <a:off x="1945440" y="982800"/>
            <a:ext cx="83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boto Th"/>
                <a:ea typeface="Roboto Th"/>
              </a:rPr>
              <a:t>Today is a day I expect to be count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7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7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7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7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7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7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7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7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mph" presetID="21">
                                  <p:stCondLst>
                                    <p:cond delay="3000"/>
                                  </p:stCondLst>
                                  <p:childTnLst>
                                    <p:animClr clrSpc="hsl" dir="cw">
                                      <p:cBhvr>
                                        <p:cTn id="153" dur="1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4" dur="1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1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56" dur="1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mph" presetID="21">
                                  <p:stCondLst>
                                    <p:cond delay="3000"/>
                                  </p:stCondLst>
                                  <p:childTnLst>
                                    <p:animClr clrSpc="hsl" dir="cw">
                                      <p:cBhvr>
                                        <p:cTn id="158" dur="1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9" dur="1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0" dur="1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1" dur="1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mph" presetID="21">
                                  <p:stCondLst>
                                    <p:cond delay="3000"/>
                                  </p:stCondLst>
                                  <p:childTnLst>
                                    <p:animClr clrSpc="hsl" dir="cw">
                                      <p:cBhvr>
                                        <p:cTn id="163" dur="1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" dur="1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5" dur="1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6" dur="1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mph" presetID="21">
                                  <p:stCondLst>
                                    <p:cond delay="3000"/>
                                  </p:stCondLst>
                                  <p:childTnLst>
                                    <p:animClr clrSpc="hsl" dir="cw">
                                      <p:cBhvr>
                                        <p:cTn id="168" dur="1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" dur="1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0" dur="1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71" dur="1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mph" presetID="21">
                                  <p:stCondLst>
                                    <p:cond delay="3000"/>
                                  </p:stCondLst>
                                  <p:childTnLst>
                                    <p:animClr clrSpc="hsl" dir="cw">
                                      <p:cBhvr>
                                        <p:cTn id="173" dur="1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4" dur="1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" dur="1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76" dur="1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mph" presetID="21">
                                  <p:stCondLst>
                                    <p:cond delay="3000"/>
                                  </p:stCondLst>
                                  <p:childTnLst>
                                    <p:animClr clrSpc="hsl" dir="cw">
                                      <p:cBhvr>
                                        <p:cTn id="178" dur="17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9" dur="17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0" dur="17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81" dur="17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mph" presetID="21">
                                  <p:stCondLst>
                                    <p:cond delay="3000"/>
                                  </p:stCondLst>
                                  <p:childTnLst>
                                    <p:animClr clrSpc="hsl" dir="cw">
                                      <p:cBhvr>
                                        <p:cTn id="183" dur="1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4" dur="1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5" dur="1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86" dur="1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mph" presetID="21">
                                  <p:stCondLst>
                                    <p:cond delay="3000"/>
                                  </p:stCondLst>
                                  <p:childTnLst>
                                    <p:animClr clrSpc="hsl" dir="cw">
                                      <p:cBhvr>
                                        <p:cTn id="193" dur="1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4" dur="1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5" dur="1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96" dur="1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mph" presetID="21">
                                  <p:stCondLst>
                                    <p:cond delay="4500"/>
                                  </p:stCondLst>
                                  <p:childTnLst>
                                    <p:animClr clrSpc="hsl" dir="cw">
                                      <p:cBhvr>
                                        <p:cTn id="198" dur="1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9" dur="1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0" dur="1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01" dur="1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mph" presetID="21">
                                  <p:stCondLst>
                                    <p:cond delay="4500"/>
                                  </p:stCondLst>
                                  <p:childTnLst>
                                    <p:animClr clrSpc="hsl" dir="cw">
                                      <p:cBhvr>
                                        <p:cTn id="203" dur="1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4" dur="1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5" dur="1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06" dur="1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mph" presetID="21">
                                  <p:stCondLst>
                                    <p:cond delay="4500"/>
                                  </p:stCondLst>
                                  <p:childTnLst>
                                    <p:animClr clrSpc="hsl" dir="cw">
                                      <p:cBhvr>
                                        <p:cTn id="208" dur="1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9" dur="1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0" dur="1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11" dur="1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mph" presetID="21">
                                  <p:stCondLst>
                                    <p:cond delay="4500"/>
                                  </p:stCondLst>
                                  <p:childTnLst>
                                    <p:animClr clrSpc="hsl" dir="cw">
                                      <p:cBhvr>
                                        <p:cTn id="213" dur="1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4" dur="1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5" dur="1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16" dur="1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0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mph" presetID="21">
                                  <p:stCondLst>
                                    <p:cond delay="4500"/>
                                  </p:stCondLst>
                                  <p:childTnLst>
                                    <p:animClr clrSpc="hsl" dir="cw">
                                      <p:cBhvr>
                                        <p:cTn id="223" dur="1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" dur="1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5" dur="1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26" dur="1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mph" presetID="21">
                                  <p:stCondLst>
                                    <p:cond delay="4500"/>
                                  </p:stCondLst>
                                  <p:childTnLst>
                                    <p:animClr clrSpc="hsl" dir="cw">
                                      <p:cBhvr>
                                        <p:cTn id="228" dur="17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9" dur="17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0" dur="17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1" dur="17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mph" presetID="21">
                                  <p:stCondLst>
                                    <p:cond delay="4500"/>
                                  </p:stCondLst>
                                  <p:childTnLst>
                                    <p:animClr clrSpc="hsl" dir="cw">
                                      <p:cBhvr>
                                        <p:cTn id="233" dur="1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4" dur="1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5" dur="1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6" dur="1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mph" presetID="21">
                                  <p:stCondLst>
                                    <p:cond delay="4500"/>
                                  </p:stCondLst>
                                  <p:childTnLst>
                                    <p:animClr clrSpc="hsl" dir="cw">
                                      <p:cBhvr>
                                        <p:cTn id="238" dur="1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9" dur="1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0" dur="1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41" dur="1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47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任意多边形 120"/>
          <p:cNvSpPr/>
          <p:nvPr/>
        </p:nvSpPr>
        <p:spPr>
          <a:xfrm>
            <a:off x="4073400" y="2309760"/>
            <a:ext cx="114480" cy="500040"/>
          </a:xfrm>
          <a:custGeom>
            <a:avLst/>
            <a:gdLst/>
            <a:ahLst/>
            <a:rect l="l" t="t" r="r" b="b"/>
            <a:pathLst>
              <a:path w="113388" h="499979">
                <a:moveTo>
                  <a:pt x="0" y="0"/>
                </a:moveTo>
                <a:lnTo>
                  <a:pt x="113388" y="0"/>
                </a:lnTo>
                <a:lnTo>
                  <a:pt x="113388" y="378636"/>
                </a:lnTo>
                <a:lnTo>
                  <a:pt x="77874" y="412979"/>
                </a:lnTo>
                <a:cubicBezTo>
                  <a:pt x="52345" y="439426"/>
                  <a:pt x="28155" y="466225"/>
                  <a:pt x="6049" y="492320"/>
                </a:cubicBezTo>
                <a:lnTo>
                  <a:pt x="0" y="499979"/>
                </a:lnTo>
                <a:lnTo>
                  <a:pt x="0" y="0"/>
                </a:ln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118"/>
          <p:cNvSpPr/>
          <p:nvPr/>
        </p:nvSpPr>
        <p:spPr>
          <a:xfrm>
            <a:off x="2430360" y="2409840"/>
            <a:ext cx="419040" cy="879480"/>
          </a:xfrm>
          <a:custGeom>
            <a:avLst/>
            <a:gdLst/>
            <a:ahLst/>
            <a:rect l="l" t="t" r="r" b="b"/>
            <a:pathLst>
              <a:path w="419297" h="879729">
                <a:moveTo>
                  <a:pt x="288654" y="0"/>
                </a:moveTo>
                <a:lnTo>
                  <a:pt x="419297" y="0"/>
                </a:lnTo>
                <a:lnTo>
                  <a:pt x="77589" y="879729"/>
                </a:lnTo>
                <a:lnTo>
                  <a:pt x="76382" y="877611"/>
                </a:lnTo>
                <a:lnTo>
                  <a:pt x="0" y="754690"/>
                </a:lnTo>
                <a:lnTo>
                  <a:pt x="28865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117"/>
          <p:cNvSpPr/>
          <p:nvPr/>
        </p:nvSpPr>
        <p:spPr>
          <a:xfrm>
            <a:off x="7931160" y="2409840"/>
            <a:ext cx="189000" cy="187200"/>
          </a:xfrm>
          <a:custGeom>
            <a:avLst/>
            <a:gdLst/>
            <a:ahLst/>
            <a:rect l="l" t="t" r="r" b="b"/>
            <a:pathLst>
              <a:path w="189803" h="187337">
                <a:moveTo>
                  <a:pt x="93669" y="0"/>
                </a:moveTo>
                <a:cubicBezTo>
                  <a:pt x="119141" y="0"/>
                  <a:pt x="141531" y="8216"/>
                  <a:pt x="160839" y="24649"/>
                </a:cubicBezTo>
                <a:cubicBezTo>
                  <a:pt x="180149" y="41083"/>
                  <a:pt x="189803" y="63267"/>
                  <a:pt x="189803" y="91203"/>
                </a:cubicBezTo>
                <a:cubicBezTo>
                  <a:pt x="189803" y="117496"/>
                  <a:pt x="180354" y="140092"/>
                  <a:pt x="161456" y="158990"/>
                </a:cubicBezTo>
                <a:cubicBezTo>
                  <a:pt x="142558" y="177888"/>
                  <a:pt x="119962" y="187337"/>
                  <a:pt x="93669" y="187337"/>
                </a:cubicBezTo>
                <a:cubicBezTo>
                  <a:pt x="69019" y="187337"/>
                  <a:pt x="47246" y="178299"/>
                  <a:pt x="28347" y="160222"/>
                </a:cubicBezTo>
                <a:cubicBezTo>
                  <a:pt x="9450" y="142146"/>
                  <a:pt x="0" y="119140"/>
                  <a:pt x="0" y="91203"/>
                </a:cubicBezTo>
                <a:cubicBezTo>
                  <a:pt x="0" y="64089"/>
                  <a:pt x="9655" y="42109"/>
                  <a:pt x="28964" y="25266"/>
                </a:cubicBezTo>
                <a:cubicBezTo>
                  <a:pt x="48273" y="8422"/>
                  <a:pt x="69841" y="0"/>
                  <a:pt x="93669" y="0"/>
                </a:cubicBez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116"/>
          <p:cNvSpPr/>
          <p:nvPr/>
        </p:nvSpPr>
        <p:spPr>
          <a:xfrm>
            <a:off x="1527120" y="2452680"/>
            <a:ext cx="390600" cy="1182600"/>
          </a:xfrm>
          <a:custGeom>
            <a:avLst/>
            <a:gdLst/>
            <a:ahLst/>
            <a:rect l="l" t="t" r="r" b="b"/>
            <a:pathLst>
              <a:path w="390268" h="1183402">
                <a:moveTo>
                  <a:pt x="51629" y="0"/>
                </a:moveTo>
                <a:lnTo>
                  <a:pt x="390268" y="942476"/>
                </a:lnTo>
                <a:lnTo>
                  <a:pt x="390024" y="945693"/>
                </a:lnTo>
                <a:cubicBezTo>
                  <a:pt x="381333" y="1048965"/>
                  <a:pt x="369783" y="1135786"/>
                  <a:pt x="349662" y="1180201"/>
                </a:cubicBezTo>
                <a:lnTo>
                  <a:pt x="347509" y="1183402"/>
                </a:lnTo>
                <a:lnTo>
                  <a:pt x="0" y="232396"/>
                </a:lnTo>
                <a:lnTo>
                  <a:pt x="22925" y="123801"/>
                </a:lnTo>
                <a:lnTo>
                  <a:pt x="51629" y="0"/>
                </a:ln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任意多边形 115"/>
          <p:cNvSpPr/>
          <p:nvPr/>
        </p:nvSpPr>
        <p:spPr>
          <a:xfrm>
            <a:off x="7269120" y="2549520"/>
            <a:ext cx="114480" cy="158760"/>
          </a:xfrm>
          <a:custGeom>
            <a:avLst/>
            <a:gdLst/>
            <a:ahLst/>
            <a:rect l="l" t="t" r="r" b="b"/>
            <a:pathLst>
              <a:path w="113388" h="158420">
                <a:moveTo>
                  <a:pt x="113388" y="0"/>
                </a:moveTo>
                <a:lnTo>
                  <a:pt x="113388" y="158420"/>
                </a:lnTo>
                <a:lnTo>
                  <a:pt x="108460" y="154176"/>
                </a:lnTo>
                <a:cubicBezTo>
                  <a:pt x="80232" y="131137"/>
                  <a:pt x="53265" y="110579"/>
                  <a:pt x="28301" y="93514"/>
                </a:cubicBezTo>
                <a:lnTo>
                  <a:pt x="0" y="77021"/>
                </a:lnTo>
                <a:lnTo>
                  <a:pt x="0" y="38207"/>
                </a:lnTo>
                <a:cubicBezTo>
                  <a:pt x="18076" y="31634"/>
                  <a:pt x="36974" y="25061"/>
                  <a:pt x="56694" y="18488"/>
                </a:cubicBezTo>
                <a:cubicBezTo>
                  <a:pt x="76414" y="12736"/>
                  <a:pt x="95312" y="6574"/>
                  <a:pt x="113388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107"/>
          <p:cNvSpPr/>
          <p:nvPr/>
        </p:nvSpPr>
        <p:spPr>
          <a:xfrm>
            <a:off x="4897440" y="2884320"/>
            <a:ext cx="393840" cy="131760"/>
          </a:xfrm>
          <a:custGeom>
            <a:avLst/>
            <a:gdLst/>
            <a:ahLst/>
            <a:rect l="l" t="t" r="r" b="b"/>
            <a:pathLst>
              <a:path w="394291" h="131690">
                <a:moveTo>
                  <a:pt x="164773" y="0"/>
                </a:moveTo>
                <a:cubicBezTo>
                  <a:pt x="243241" y="0"/>
                  <a:pt x="312568" y="13763"/>
                  <a:pt x="372754" y="41288"/>
                </a:cubicBezTo>
                <a:lnTo>
                  <a:pt x="394291" y="54612"/>
                </a:lnTo>
                <a:lnTo>
                  <a:pt x="386585" y="56075"/>
                </a:lnTo>
                <a:cubicBezTo>
                  <a:pt x="378197" y="59377"/>
                  <a:pt x="369496" y="64506"/>
                  <a:pt x="360447" y="71650"/>
                </a:cubicBezTo>
                <a:cubicBezTo>
                  <a:pt x="351398" y="78794"/>
                  <a:pt x="341516" y="88517"/>
                  <a:pt x="330925" y="100528"/>
                </a:cubicBezTo>
                <a:lnTo>
                  <a:pt x="306222" y="131690"/>
                </a:lnTo>
                <a:lnTo>
                  <a:pt x="240878" y="111077"/>
                </a:lnTo>
                <a:cubicBezTo>
                  <a:pt x="215407" y="106044"/>
                  <a:pt x="188395" y="103528"/>
                  <a:pt x="159842" y="103528"/>
                </a:cubicBezTo>
                <a:cubicBezTo>
                  <a:pt x="130263" y="103528"/>
                  <a:pt x="101954" y="106006"/>
                  <a:pt x="74916" y="110961"/>
                </a:cubicBezTo>
                <a:lnTo>
                  <a:pt x="31721" y="123423"/>
                </a:lnTo>
                <a:lnTo>
                  <a:pt x="27861" y="107190"/>
                </a:lnTo>
                <a:lnTo>
                  <a:pt x="0" y="26584"/>
                </a:lnTo>
                <a:lnTo>
                  <a:pt x="44952" y="11824"/>
                </a:lnTo>
                <a:cubicBezTo>
                  <a:pt x="82929" y="3942"/>
                  <a:pt x="122869" y="0"/>
                  <a:pt x="164773" y="0"/>
                </a:cubicBez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任意多边形 106"/>
          <p:cNvSpPr/>
          <p:nvPr/>
        </p:nvSpPr>
        <p:spPr>
          <a:xfrm>
            <a:off x="6303960" y="2884320"/>
            <a:ext cx="531720" cy="671760"/>
          </a:xfrm>
          <a:custGeom>
            <a:avLst/>
            <a:gdLst/>
            <a:ahLst/>
            <a:rect l="l" t="t" r="r" b="b"/>
            <a:pathLst>
              <a:path w="530836" h="670587">
                <a:moveTo>
                  <a:pt x="109327" y="0"/>
                </a:moveTo>
                <a:cubicBezTo>
                  <a:pt x="245721" y="0"/>
                  <a:pt x="350072" y="45396"/>
                  <a:pt x="422377" y="136189"/>
                </a:cubicBezTo>
                <a:cubicBezTo>
                  <a:pt x="494683" y="226982"/>
                  <a:pt x="530836" y="356598"/>
                  <a:pt x="530836" y="525037"/>
                </a:cubicBezTo>
                <a:lnTo>
                  <a:pt x="530836" y="670587"/>
                </a:lnTo>
                <a:lnTo>
                  <a:pt x="483884" y="645710"/>
                </a:lnTo>
                <a:lnTo>
                  <a:pt x="417447" y="590588"/>
                </a:lnTo>
                <a:lnTo>
                  <a:pt x="417447" y="558314"/>
                </a:lnTo>
                <a:cubicBezTo>
                  <a:pt x="417447" y="255124"/>
                  <a:pt x="308167" y="103528"/>
                  <a:pt x="89607" y="103528"/>
                </a:cubicBezTo>
                <a:lnTo>
                  <a:pt x="64561" y="105931"/>
                </a:lnTo>
                <a:lnTo>
                  <a:pt x="0" y="11154"/>
                </a:lnTo>
                <a:lnTo>
                  <a:pt x="38421" y="4063"/>
                </a:lnTo>
                <a:cubicBezTo>
                  <a:pt x="61248" y="1355"/>
                  <a:pt x="84883" y="0"/>
                  <a:pt x="109327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105"/>
          <p:cNvSpPr/>
          <p:nvPr/>
        </p:nvSpPr>
        <p:spPr>
          <a:xfrm>
            <a:off x="8483760" y="2884320"/>
            <a:ext cx="777600" cy="460440"/>
          </a:xfrm>
          <a:custGeom>
            <a:avLst/>
            <a:gdLst/>
            <a:ahLst/>
            <a:rect l="l" t="t" r="r" b="b"/>
            <a:pathLst>
              <a:path w="777408" h="460195">
                <a:moveTo>
                  <a:pt x="549688" y="0"/>
                </a:moveTo>
                <a:cubicBezTo>
                  <a:pt x="583786" y="0"/>
                  <a:pt x="615882" y="2837"/>
                  <a:pt x="645975" y="8512"/>
                </a:cubicBezTo>
                <a:lnTo>
                  <a:pt x="687881" y="21210"/>
                </a:lnTo>
                <a:lnTo>
                  <a:pt x="706153" y="64551"/>
                </a:lnTo>
                <a:cubicBezTo>
                  <a:pt x="722430" y="100086"/>
                  <a:pt x="740587" y="138087"/>
                  <a:pt x="758764" y="177378"/>
                </a:cubicBezTo>
                <a:lnTo>
                  <a:pt x="777408" y="220007"/>
                </a:lnTo>
                <a:lnTo>
                  <a:pt x="775848" y="217225"/>
                </a:lnTo>
                <a:cubicBezTo>
                  <a:pt x="721208" y="141427"/>
                  <a:pt x="639248" y="103528"/>
                  <a:pt x="529968" y="103528"/>
                </a:cubicBezTo>
                <a:cubicBezTo>
                  <a:pt x="408362" y="103528"/>
                  <a:pt x="308531" y="148103"/>
                  <a:pt x="230474" y="237253"/>
                </a:cubicBezTo>
                <a:lnTo>
                  <a:pt x="224551" y="245443"/>
                </a:lnTo>
                <a:lnTo>
                  <a:pt x="218696" y="239290"/>
                </a:lnTo>
                <a:cubicBezTo>
                  <a:pt x="147576" y="165630"/>
                  <a:pt x="231396" y="188490"/>
                  <a:pt x="112016" y="330730"/>
                </a:cubicBezTo>
                <a:cubicBezTo>
                  <a:pt x="97094" y="348510"/>
                  <a:pt x="77726" y="370973"/>
                  <a:pt x="55089" y="397018"/>
                </a:cubicBezTo>
                <a:lnTo>
                  <a:pt x="0" y="460195"/>
                </a:lnTo>
                <a:lnTo>
                  <a:pt x="0" y="30812"/>
                </a:lnTo>
                <a:lnTo>
                  <a:pt x="113388" y="30812"/>
                </a:lnTo>
                <a:lnTo>
                  <a:pt x="113388" y="260054"/>
                </a:lnTo>
                <a:lnTo>
                  <a:pt x="118318" y="260054"/>
                </a:lnTo>
                <a:cubicBezTo>
                  <a:pt x="210344" y="86684"/>
                  <a:pt x="354133" y="0"/>
                  <a:pt x="549688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104"/>
          <p:cNvSpPr/>
          <p:nvPr/>
        </p:nvSpPr>
        <p:spPr>
          <a:xfrm>
            <a:off x="10299600" y="2884320"/>
            <a:ext cx="498600" cy="667080"/>
          </a:xfrm>
          <a:custGeom>
            <a:avLst/>
            <a:gdLst/>
            <a:ahLst/>
            <a:rect l="l" t="t" r="r" b="b"/>
            <a:pathLst>
              <a:path w="498330" h="666773">
                <a:moveTo>
                  <a:pt x="11499" y="0"/>
                </a:moveTo>
                <a:cubicBezTo>
                  <a:pt x="168435" y="0"/>
                  <a:pt x="288808" y="55051"/>
                  <a:pt x="372616" y="165152"/>
                </a:cubicBezTo>
                <a:cubicBezTo>
                  <a:pt x="456425" y="275254"/>
                  <a:pt x="498330" y="425617"/>
                  <a:pt x="498330" y="616241"/>
                </a:cubicBezTo>
                <a:lnTo>
                  <a:pt x="498330" y="646658"/>
                </a:lnTo>
                <a:lnTo>
                  <a:pt x="483997" y="666773"/>
                </a:lnTo>
                <a:lnTo>
                  <a:pt x="120150" y="666773"/>
                </a:lnTo>
                <a:lnTo>
                  <a:pt x="109349" y="587250"/>
                </a:lnTo>
                <a:lnTo>
                  <a:pt x="105650" y="563244"/>
                </a:lnTo>
                <a:lnTo>
                  <a:pt x="380011" y="563244"/>
                </a:lnTo>
                <a:cubicBezTo>
                  <a:pt x="375081" y="417811"/>
                  <a:pt x="340161" y="304834"/>
                  <a:pt x="275250" y="224312"/>
                </a:cubicBezTo>
                <a:cubicBezTo>
                  <a:pt x="226567" y="163920"/>
                  <a:pt x="164019" y="126175"/>
                  <a:pt x="87605" y="111077"/>
                </a:cubicBezTo>
                <a:lnTo>
                  <a:pt x="25971" y="105336"/>
                </a:lnTo>
                <a:lnTo>
                  <a:pt x="18579" y="71650"/>
                </a:lnTo>
                <a:lnTo>
                  <a:pt x="0" y="1135"/>
                </a:lnTo>
                <a:lnTo>
                  <a:pt x="1149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任意多边形 103"/>
          <p:cNvSpPr/>
          <p:nvPr/>
        </p:nvSpPr>
        <p:spPr>
          <a:xfrm>
            <a:off x="3343320" y="2889360"/>
            <a:ext cx="349200" cy="814320"/>
          </a:xfrm>
          <a:custGeom>
            <a:avLst/>
            <a:gdLst/>
            <a:ahLst/>
            <a:rect l="l" t="t" r="r" b="b"/>
            <a:pathLst>
              <a:path w="350162" h="814242">
                <a:moveTo>
                  <a:pt x="0" y="0"/>
                </a:moveTo>
                <a:lnTo>
                  <a:pt x="34069" y="2800"/>
                </a:lnTo>
                <a:cubicBezTo>
                  <a:pt x="120420" y="17898"/>
                  <a:pt x="190248" y="55643"/>
                  <a:pt x="243553" y="116034"/>
                </a:cubicBezTo>
                <a:cubicBezTo>
                  <a:pt x="314626" y="196556"/>
                  <a:pt x="350162" y="313642"/>
                  <a:pt x="350162" y="467292"/>
                </a:cubicBezTo>
                <a:lnTo>
                  <a:pt x="350162" y="814242"/>
                </a:lnTo>
                <a:lnTo>
                  <a:pt x="318010" y="729110"/>
                </a:lnTo>
                <a:cubicBezTo>
                  <a:pt x="304601" y="694596"/>
                  <a:pt x="290182" y="658374"/>
                  <a:pt x="274952" y="620899"/>
                </a:cubicBezTo>
                <a:lnTo>
                  <a:pt x="227723" y="506850"/>
                </a:lnTo>
                <a:lnTo>
                  <a:pt x="236774" y="505499"/>
                </a:lnTo>
                <a:cubicBezTo>
                  <a:pt x="236774" y="302139"/>
                  <a:pt x="179464" y="175039"/>
                  <a:pt x="64843" y="124199"/>
                </a:cubicBezTo>
                <a:lnTo>
                  <a:pt x="57420" y="121920"/>
                </a:lnTo>
                <a:lnTo>
                  <a:pt x="10550" y="21800"/>
                </a:lnTo>
                <a:lnTo>
                  <a:pt x="0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102"/>
          <p:cNvSpPr/>
          <p:nvPr/>
        </p:nvSpPr>
        <p:spPr>
          <a:xfrm>
            <a:off x="2868480" y="2911320"/>
            <a:ext cx="255600" cy="244800"/>
          </a:xfrm>
          <a:custGeom>
            <a:avLst/>
            <a:gdLst/>
            <a:ahLst/>
            <a:rect l="l" t="t" r="r" b="b"/>
            <a:pathLst>
              <a:path w="254505" h="243816">
                <a:moveTo>
                  <a:pt x="238163" y="0"/>
                </a:moveTo>
                <a:lnTo>
                  <a:pt x="239377" y="7172"/>
                </a:lnTo>
                <a:lnTo>
                  <a:pt x="254505" y="101310"/>
                </a:lnTo>
                <a:lnTo>
                  <a:pt x="199971" y="118103"/>
                </a:lnTo>
                <a:cubicBezTo>
                  <a:pt x="132390" y="146039"/>
                  <a:pt x="65733" y="187944"/>
                  <a:pt x="0" y="243816"/>
                </a:cubicBezTo>
                <a:lnTo>
                  <a:pt x="0" y="107010"/>
                </a:lnTo>
                <a:cubicBezTo>
                  <a:pt x="46835" y="70036"/>
                  <a:pt x="110308" y="38402"/>
                  <a:pt x="190419" y="12109"/>
                </a:cubicBezTo>
                <a:lnTo>
                  <a:pt x="238163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101"/>
          <p:cNvSpPr/>
          <p:nvPr/>
        </p:nvSpPr>
        <p:spPr>
          <a:xfrm>
            <a:off x="5864400" y="2916360"/>
            <a:ext cx="382320" cy="969840"/>
          </a:xfrm>
          <a:custGeom>
            <a:avLst/>
            <a:gdLst/>
            <a:ahLst/>
            <a:rect l="l" t="t" r="r" b="b"/>
            <a:pathLst>
              <a:path w="382012" h="970478">
                <a:moveTo>
                  <a:pt x="0" y="0"/>
                </a:moveTo>
                <a:lnTo>
                  <a:pt x="113388" y="0"/>
                </a:lnTo>
                <a:lnTo>
                  <a:pt x="113388" y="229242"/>
                </a:lnTo>
                <a:lnTo>
                  <a:pt x="118318" y="229242"/>
                </a:lnTo>
                <a:cubicBezTo>
                  <a:pt x="164331" y="142557"/>
                  <a:pt x="223285" y="77544"/>
                  <a:pt x="295180" y="34201"/>
                </a:cubicBezTo>
                <a:lnTo>
                  <a:pt x="344161" y="9477"/>
                </a:lnTo>
                <a:lnTo>
                  <a:pt x="352045" y="27503"/>
                </a:lnTo>
                <a:lnTo>
                  <a:pt x="382012" y="100392"/>
                </a:lnTo>
                <a:lnTo>
                  <a:pt x="363890" y="106147"/>
                </a:lnTo>
                <a:cubicBezTo>
                  <a:pt x="313974" y="128435"/>
                  <a:pt x="269503" y="161866"/>
                  <a:pt x="230474" y="206441"/>
                </a:cubicBezTo>
                <a:cubicBezTo>
                  <a:pt x="152417" y="295590"/>
                  <a:pt x="113388" y="405897"/>
                  <a:pt x="113388" y="537362"/>
                </a:cubicBezTo>
                <a:lnTo>
                  <a:pt x="113388" y="937020"/>
                </a:lnTo>
                <a:lnTo>
                  <a:pt x="73945" y="957962"/>
                </a:lnTo>
                <a:cubicBezTo>
                  <a:pt x="53556" y="966073"/>
                  <a:pt x="34863" y="970478"/>
                  <a:pt x="18670" y="970478"/>
                </a:cubicBezTo>
                <a:lnTo>
                  <a:pt x="0" y="967517"/>
                </a:lnTo>
                <a:lnTo>
                  <a:pt x="0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100"/>
          <p:cNvSpPr/>
          <p:nvPr/>
        </p:nvSpPr>
        <p:spPr>
          <a:xfrm>
            <a:off x="7042320" y="2916360"/>
            <a:ext cx="72720" cy="102960"/>
          </a:xfrm>
          <a:custGeom>
            <a:avLst/>
            <a:gdLst/>
            <a:ahLst/>
            <a:rect l="l" t="t" r="r" b="b"/>
            <a:pathLst>
              <a:path w="71829" h="103528">
                <a:moveTo>
                  <a:pt x="0" y="0"/>
                </a:moveTo>
                <a:lnTo>
                  <a:pt x="64320" y="0"/>
                </a:lnTo>
                <a:lnTo>
                  <a:pt x="64533" y="7858"/>
                </a:lnTo>
                <a:cubicBezTo>
                  <a:pt x="66215" y="39370"/>
                  <a:pt x="68606" y="70366"/>
                  <a:pt x="71364" y="99417"/>
                </a:cubicBezTo>
                <a:lnTo>
                  <a:pt x="71829" y="103528"/>
                </a:lnTo>
                <a:lnTo>
                  <a:pt x="0" y="103528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99"/>
          <p:cNvSpPr/>
          <p:nvPr/>
        </p:nvSpPr>
        <p:spPr>
          <a:xfrm>
            <a:off x="7610400" y="2916360"/>
            <a:ext cx="104760" cy="102960"/>
          </a:xfrm>
          <a:custGeom>
            <a:avLst/>
            <a:gdLst/>
            <a:ahLst/>
            <a:rect l="l" t="t" r="r" b="b"/>
            <a:pathLst>
              <a:path w="105790" h="103528">
                <a:moveTo>
                  <a:pt x="0" y="0"/>
                </a:moveTo>
                <a:lnTo>
                  <a:pt x="105790" y="0"/>
                </a:lnTo>
                <a:lnTo>
                  <a:pt x="105790" y="103528"/>
                </a:lnTo>
                <a:lnTo>
                  <a:pt x="104355" y="103528"/>
                </a:lnTo>
                <a:lnTo>
                  <a:pt x="36071" y="3512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98"/>
          <p:cNvSpPr/>
          <p:nvPr/>
        </p:nvSpPr>
        <p:spPr>
          <a:xfrm>
            <a:off x="7969320" y="2916360"/>
            <a:ext cx="114120" cy="479160"/>
          </a:xfrm>
          <a:custGeom>
            <a:avLst/>
            <a:gdLst/>
            <a:ahLst/>
            <a:rect l="l" t="t" r="r" b="b"/>
            <a:pathLst>
              <a:path w="113389" h="480372">
                <a:moveTo>
                  <a:pt x="0" y="0"/>
                </a:moveTo>
                <a:lnTo>
                  <a:pt x="113389" y="0"/>
                </a:lnTo>
                <a:lnTo>
                  <a:pt x="113389" y="480372"/>
                </a:lnTo>
                <a:lnTo>
                  <a:pt x="104396" y="469463"/>
                </a:lnTo>
                <a:lnTo>
                  <a:pt x="0" y="35982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91"/>
          <p:cNvSpPr/>
          <p:nvPr/>
        </p:nvSpPr>
        <p:spPr>
          <a:xfrm>
            <a:off x="5400720" y="3027240"/>
            <a:ext cx="138240" cy="328680"/>
          </a:xfrm>
          <a:custGeom>
            <a:avLst/>
            <a:gdLst/>
            <a:ahLst/>
            <a:rect l="l" t="t" r="r" b="b"/>
            <a:pathLst>
              <a:path w="137885" h="328007">
                <a:moveTo>
                  <a:pt x="0" y="0"/>
                </a:moveTo>
                <a:lnTo>
                  <a:pt x="22099" y="22905"/>
                </a:lnTo>
                <a:cubicBezTo>
                  <a:pt x="64004" y="77956"/>
                  <a:pt x="95432" y="143072"/>
                  <a:pt x="116384" y="218254"/>
                </a:cubicBezTo>
                <a:lnTo>
                  <a:pt x="137885" y="328007"/>
                </a:lnTo>
                <a:lnTo>
                  <a:pt x="124398" y="303200"/>
                </a:lnTo>
                <a:cubicBezTo>
                  <a:pt x="89066" y="226464"/>
                  <a:pt x="58110" y="128476"/>
                  <a:pt x="24296" y="49418"/>
                </a:cubicBezTo>
                <a:lnTo>
                  <a:pt x="0" y="0"/>
                </a:lnTo>
                <a:close/>
              </a:path>
            </a:pathLst>
          </a:custGeom>
          <a:solidFill>
            <a:srgbClr val="e55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90"/>
          <p:cNvSpPr/>
          <p:nvPr/>
        </p:nvSpPr>
        <p:spPr>
          <a:xfrm>
            <a:off x="9261360" y="3105000"/>
            <a:ext cx="63720" cy="165240"/>
          </a:xfrm>
          <a:custGeom>
            <a:avLst/>
            <a:gdLst/>
            <a:ahLst/>
            <a:rect l="l" t="t" r="r" b="b"/>
            <a:pathLst>
              <a:path w="64330" h="165905">
                <a:moveTo>
                  <a:pt x="0" y="0"/>
                </a:moveTo>
                <a:lnTo>
                  <a:pt x="34298" y="61172"/>
                </a:lnTo>
                <a:cubicBezTo>
                  <a:pt x="44542" y="84859"/>
                  <a:pt x="53080" y="110914"/>
                  <a:pt x="59910" y="139338"/>
                </a:cubicBezTo>
                <a:lnTo>
                  <a:pt x="64330" y="165905"/>
                </a:lnTo>
                <a:lnTo>
                  <a:pt x="34085" y="7793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任意多边形 89"/>
          <p:cNvSpPr/>
          <p:nvPr/>
        </p:nvSpPr>
        <p:spPr>
          <a:xfrm>
            <a:off x="9744120" y="3147840"/>
            <a:ext cx="347760" cy="982800"/>
          </a:xfrm>
          <a:custGeom>
            <a:avLst/>
            <a:gdLst/>
            <a:ahLst/>
            <a:rect l="l" t="t" r="r" b="b"/>
            <a:pathLst>
              <a:path w="347311" h="982225">
                <a:moveTo>
                  <a:pt x="106271" y="0"/>
                </a:moveTo>
                <a:lnTo>
                  <a:pt x="113447" y="32407"/>
                </a:lnTo>
                <a:cubicBezTo>
                  <a:pt x="122059" y="64454"/>
                  <a:pt x="132199" y="97326"/>
                  <a:pt x="143242" y="130499"/>
                </a:cubicBezTo>
                <a:lnTo>
                  <a:pt x="153904" y="160750"/>
                </a:lnTo>
                <a:lnTo>
                  <a:pt x="142391" y="195553"/>
                </a:lnTo>
                <a:cubicBezTo>
                  <a:pt x="134149" y="228239"/>
                  <a:pt x="127768" y="263070"/>
                  <a:pt x="123249" y="300044"/>
                </a:cubicBezTo>
                <a:lnTo>
                  <a:pt x="204502" y="300044"/>
                </a:lnTo>
                <a:lnTo>
                  <a:pt x="215335" y="329006"/>
                </a:lnTo>
                <a:lnTo>
                  <a:pt x="242889" y="403573"/>
                </a:lnTo>
                <a:lnTo>
                  <a:pt x="118319" y="403573"/>
                </a:lnTo>
                <a:cubicBezTo>
                  <a:pt x="118319" y="576942"/>
                  <a:pt x="158374" y="712515"/>
                  <a:pt x="238486" y="810292"/>
                </a:cubicBezTo>
                <a:cubicBezTo>
                  <a:pt x="258514" y="834736"/>
                  <a:pt x="280403" y="856125"/>
                  <a:pt x="304154" y="874458"/>
                </a:cubicBezTo>
                <a:lnTo>
                  <a:pt x="347311" y="900201"/>
                </a:lnTo>
                <a:lnTo>
                  <a:pt x="346333" y="906444"/>
                </a:lnTo>
                <a:cubicBezTo>
                  <a:pt x="338792" y="930654"/>
                  <a:pt x="323870" y="950815"/>
                  <a:pt x="298470" y="966690"/>
                </a:cubicBezTo>
                <a:lnTo>
                  <a:pt x="265625" y="982225"/>
                </a:lnTo>
                <a:lnTo>
                  <a:pt x="231399" y="962042"/>
                </a:lnTo>
                <a:cubicBezTo>
                  <a:pt x="202435" y="940166"/>
                  <a:pt x="175424" y="914643"/>
                  <a:pt x="150363" y="885474"/>
                </a:cubicBezTo>
                <a:cubicBezTo>
                  <a:pt x="50122" y="768799"/>
                  <a:pt x="0" y="604057"/>
                  <a:pt x="0" y="391248"/>
                </a:cubicBezTo>
                <a:cubicBezTo>
                  <a:pt x="0" y="253210"/>
                  <a:pt x="29464" y="131464"/>
                  <a:pt x="88393" y="26010"/>
                </a:cubicBezTo>
                <a:lnTo>
                  <a:pt x="106271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任意多边形 88"/>
          <p:cNvSpPr/>
          <p:nvPr/>
        </p:nvSpPr>
        <p:spPr>
          <a:xfrm>
            <a:off x="9328320" y="3240000"/>
            <a:ext cx="126720" cy="882720"/>
          </a:xfrm>
          <a:custGeom>
            <a:avLst/>
            <a:gdLst/>
            <a:ahLst/>
            <a:rect l="l" t="t" r="r" b="b"/>
            <a:pathLst>
              <a:path w="127156" h="882659">
                <a:moveTo>
                  <a:pt x="110534" y="0"/>
                </a:moveTo>
                <a:lnTo>
                  <a:pt x="120377" y="50577"/>
                </a:lnTo>
                <a:cubicBezTo>
                  <a:pt x="124896" y="87834"/>
                  <a:pt x="127156" y="127517"/>
                  <a:pt x="127156" y="169627"/>
                </a:cubicBezTo>
                <a:lnTo>
                  <a:pt x="127156" y="882659"/>
                </a:lnTo>
                <a:lnTo>
                  <a:pt x="106176" y="874480"/>
                </a:lnTo>
                <a:cubicBezTo>
                  <a:pt x="81094" y="862098"/>
                  <a:pt x="51764" y="846342"/>
                  <a:pt x="19796" y="827897"/>
                </a:cubicBezTo>
                <a:lnTo>
                  <a:pt x="13768" y="824199"/>
                </a:lnTo>
                <a:lnTo>
                  <a:pt x="13768" y="282154"/>
                </a:lnTo>
                <a:lnTo>
                  <a:pt x="14736" y="280120"/>
                </a:lnTo>
                <a:cubicBezTo>
                  <a:pt x="37596" y="218525"/>
                  <a:pt x="30770" y="143278"/>
                  <a:pt x="9140" y="63783"/>
                </a:cubicBezTo>
                <a:lnTo>
                  <a:pt x="0" y="37198"/>
                </a:lnTo>
                <a:lnTo>
                  <a:pt x="55694" y="18182"/>
                </a:lnTo>
                <a:lnTo>
                  <a:pt x="110534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任意多边形 87"/>
          <p:cNvSpPr/>
          <p:nvPr/>
        </p:nvSpPr>
        <p:spPr>
          <a:xfrm>
            <a:off x="9325080" y="3270240"/>
            <a:ext cx="3240" cy="7920"/>
          </a:xfrm>
          <a:custGeom>
            <a:avLst/>
            <a:gdLst/>
            <a:ahLst/>
            <a:rect l="l" t="t" r="r" b="b"/>
            <a:pathLst>
              <a:path w="2302" h="7080">
                <a:moveTo>
                  <a:pt x="0" y="0"/>
                </a:moveTo>
                <a:lnTo>
                  <a:pt x="2302" y="6696"/>
                </a:lnTo>
                <a:lnTo>
                  <a:pt x="1177" y="708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任意多边形 85"/>
          <p:cNvSpPr/>
          <p:nvPr/>
        </p:nvSpPr>
        <p:spPr>
          <a:xfrm>
            <a:off x="7269120" y="3289320"/>
            <a:ext cx="119160" cy="709560"/>
          </a:xfrm>
          <a:custGeom>
            <a:avLst/>
            <a:gdLst/>
            <a:ahLst/>
            <a:rect l="l" t="t" r="r" b="b"/>
            <a:pathLst>
              <a:path w="119669" h="709039">
                <a:moveTo>
                  <a:pt x="0" y="0"/>
                </a:moveTo>
                <a:lnTo>
                  <a:pt x="17615" y="14093"/>
                </a:lnTo>
                <a:cubicBezTo>
                  <a:pt x="27071" y="23226"/>
                  <a:pt x="36477" y="34140"/>
                  <a:pt x="45684" y="47475"/>
                </a:cubicBezTo>
                <a:cubicBezTo>
                  <a:pt x="54892" y="60810"/>
                  <a:pt x="67711" y="75455"/>
                  <a:pt x="82861" y="91186"/>
                </a:cubicBezTo>
                <a:lnTo>
                  <a:pt x="113388" y="121154"/>
                </a:lnTo>
                <a:lnTo>
                  <a:pt x="113388" y="562324"/>
                </a:lnTo>
                <a:cubicBezTo>
                  <a:pt x="113388" y="584098"/>
                  <a:pt x="114248" y="604370"/>
                  <a:pt x="115969" y="623139"/>
                </a:cubicBezTo>
                <a:lnTo>
                  <a:pt x="119669" y="647901"/>
                </a:lnTo>
                <a:lnTo>
                  <a:pt x="112359" y="652551"/>
                </a:lnTo>
                <a:cubicBezTo>
                  <a:pt x="89539" y="666461"/>
                  <a:pt x="65468" y="680585"/>
                  <a:pt x="40482" y="694784"/>
                </a:cubicBezTo>
                <a:lnTo>
                  <a:pt x="14647" y="709039"/>
                </a:lnTo>
                <a:lnTo>
                  <a:pt x="4371" y="655684"/>
                </a:lnTo>
                <a:cubicBezTo>
                  <a:pt x="1457" y="631240"/>
                  <a:pt x="0" y="605050"/>
                  <a:pt x="0" y="577113"/>
                </a:cubicBezTo>
                <a:lnTo>
                  <a:pt x="0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83"/>
          <p:cNvSpPr/>
          <p:nvPr/>
        </p:nvSpPr>
        <p:spPr>
          <a:xfrm>
            <a:off x="4908600" y="3448080"/>
            <a:ext cx="65160" cy="103320"/>
          </a:xfrm>
          <a:custGeom>
            <a:avLst/>
            <a:gdLst/>
            <a:ahLst/>
            <a:rect l="l" t="t" r="r" b="b"/>
            <a:pathLst>
              <a:path w="65610" h="103529">
                <a:moveTo>
                  <a:pt x="49283" y="0"/>
                </a:moveTo>
                <a:lnTo>
                  <a:pt x="65610" y="0"/>
                </a:lnTo>
                <a:lnTo>
                  <a:pt x="63751" y="103529"/>
                </a:lnTo>
                <a:lnTo>
                  <a:pt x="0" y="103529"/>
                </a:lnTo>
                <a:lnTo>
                  <a:pt x="36349" y="25614"/>
                </a:lnTo>
                <a:lnTo>
                  <a:pt x="4928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82"/>
          <p:cNvSpPr/>
          <p:nvPr/>
        </p:nvSpPr>
        <p:spPr>
          <a:xfrm>
            <a:off x="2754360" y="3456000"/>
            <a:ext cx="428400" cy="663480"/>
          </a:xfrm>
          <a:custGeom>
            <a:avLst/>
            <a:gdLst/>
            <a:ahLst/>
            <a:rect l="l" t="t" r="r" b="b"/>
            <a:pathLst>
              <a:path w="428515" h="663412">
                <a:moveTo>
                  <a:pt x="425306" y="0"/>
                </a:moveTo>
                <a:lnTo>
                  <a:pt x="428515" y="86496"/>
                </a:lnTo>
                <a:lnTo>
                  <a:pt x="427967" y="102546"/>
                </a:lnTo>
                <a:lnTo>
                  <a:pt x="386383" y="109959"/>
                </a:lnTo>
                <a:cubicBezTo>
                  <a:pt x="301958" y="128523"/>
                  <a:pt x="239717" y="153674"/>
                  <a:pt x="199662" y="185410"/>
                </a:cubicBezTo>
                <a:cubicBezTo>
                  <a:pt x="146254" y="227725"/>
                  <a:pt x="119550" y="296539"/>
                  <a:pt x="119550" y="391851"/>
                </a:cubicBezTo>
                <a:cubicBezTo>
                  <a:pt x="119550" y="466621"/>
                  <a:pt x="144405" y="528245"/>
                  <a:pt x="194116" y="576723"/>
                </a:cubicBezTo>
                <a:lnTo>
                  <a:pt x="202664" y="583365"/>
                </a:lnTo>
                <a:lnTo>
                  <a:pt x="141589" y="644884"/>
                </a:lnTo>
                <a:lnTo>
                  <a:pt x="119615" y="663412"/>
                </a:lnTo>
                <a:lnTo>
                  <a:pt x="104761" y="651905"/>
                </a:lnTo>
                <a:cubicBezTo>
                  <a:pt x="34920" y="584529"/>
                  <a:pt x="0" y="499487"/>
                  <a:pt x="0" y="396781"/>
                </a:cubicBezTo>
                <a:cubicBezTo>
                  <a:pt x="0" y="204103"/>
                  <a:pt x="111661" y="78107"/>
                  <a:pt x="334984" y="18793"/>
                </a:cubicBezTo>
                <a:lnTo>
                  <a:pt x="42530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81"/>
          <p:cNvSpPr/>
          <p:nvPr/>
        </p:nvSpPr>
        <p:spPr>
          <a:xfrm>
            <a:off x="4073400" y="3459240"/>
            <a:ext cx="114480" cy="461880"/>
          </a:xfrm>
          <a:custGeom>
            <a:avLst/>
            <a:gdLst/>
            <a:ahLst/>
            <a:rect l="l" t="t" r="r" b="b"/>
            <a:pathLst>
              <a:path w="113388" h="460963">
                <a:moveTo>
                  <a:pt x="0" y="0"/>
                </a:moveTo>
                <a:lnTo>
                  <a:pt x="47602" y="40780"/>
                </a:lnTo>
                <a:lnTo>
                  <a:pt x="113388" y="87064"/>
                </a:lnTo>
                <a:lnTo>
                  <a:pt x="113388" y="424117"/>
                </a:lnTo>
                <a:lnTo>
                  <a:pt x="44923" y="447571"/>
                </a:lnTo>
                <a:lnTo>
                  <a:pt x="0" y="460963"/>
                </a:lnTo>
                <a:lnTo>
                  <a:pt x="0" y="0"/>
                </a:lnTo>
                <a:close/>
              </a:path>
            </a:pathLst>
          </a:custGeom>
          <a:solidFill>
            <a:srgbClr val="e55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75"/>
          <p:cNvSpPr/>
          <p:nvPr/>
        </p:nvSpPr>
        <p:spPr>
          <a:xfrm>
            <a:off x="7969320" y="3828960"/>
            <a:ext cx="114120" cy="349200"/>
          </a:xfrm>
          <a:custGeom>
            <a:avLst/>
            <a:gdLst/>
            <a:ahLst/>
            <a:rect l="l" t="t" r="r" b="b"/>
            <a:pathLst>
              <a:path w="113389" h="348688">
                <a:moveTo>
                  <a:pt x="113389" y="0"/>
                </a:moveTo>
                <a:lnTo>
                  <a:pt x="113389" y="348688"/>
                </a:lnTo>
                <a:lnTo>
                  <a:pt x="621" y="348688"/>
                </a:lnTo>
                <a:lnTo>
                  <a:pt x="0" y="346913"/>
                </a:lnTo>
                <a:lnTo>
                  <a:pt x="0" y="197596"/>
                </a:lnTo>
                <a:lnTo>
                  <a:pt x="16766" y="148544"/>
                </a:lnTo>
                <a:cubicBezTo>
                  <a:pt x="27561" y="126319"/>
                  <a:pt x="43317" y="99967"/>
                  <a:pt x="62858" y="70588"/>
                </a:cubicBezTo>
                <a:lnTo>
                  <a:pt x="113389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4"/>
          <p:cNvSpPr/>
          <p:nvPr/>
        </p:nvSpPr>
        <p:spPr>
          <a:xfrm>
            <a:off x="4695840" y="3959280"/>
            <a:ext cx="241200" cy="237960"/>
          </a:xfrm>
          <a:custGeom>
            <a:avLst/>
            <a:gdLst/>
            <a:ahLst/>
            <a:rect l="l" t="t" r="r" b="b"/>
            <a:pathLst>
              <a:path w="241428" h="238991">
                <a:moveTo>
                  <a:pt x="39509" y="0"/>
                </a:moveTo>
                <a:lnTo>
                  <a:pt x="39566" y="88"/>
                </a:lnTo>
                <a:cubicBezTo>
                  <a:pt x="79622" y="48977"/>
                  <a:pt x="127124" y="85643"/>
                  <a:pt x="182072" y="110087"/>
                </a:cubicBezTo>
                <a:lnTo>
                  <a:pt x="241428" y="128634"/>
                </a:lnTo>
                <a:lnTo>
                  <a:pt x="232662" y="206849"/>
                </a:lnTo>
                <a:lnTo>
                  <a:pt x="228552" y="238991"/>
                </a:lnTo>
                <a:lnTo>
                  <a:pt x="125224" y="206529"/>
                </a:lnTo>
                <a:cubicBezTo>
                  <a:pt x="92358" y="191945"/>
                  <a:pt x="61443" y="173715"/>
                  <a:pt x="32480" y="151838"/>
                </a:cubicBezTo>
                <a:lnTo>
                  <a:pt x="0" y="121149"/>
                </a:lnTo>
                <a:lnTo>
                  <a:pt x="13373" y="75250"/>
                </a:lnTo>
                <a:cubicBezTo>
                  <a:pt x="19380" y="56433"/>
                  <a:pt x="26424" y="35814"/>
                  <a:pt x="34378" y="13685"/>
                </a:cubicBezTo>
                <a:lnTo>
                  <a:pt x="3950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73"/>
          <p:cNvSpPr/>
          <p:nvPr/>
        </p:nvSpPr>
        <p:spPr>
          <a:xfrm>
            <a:off x="3579840" y="4032360"/>
            <a:ext cx="112680" cy="145800"/>
          </a:xfrm>
          <a:custGeom>
            <a:avLst/>
            <a:gdLst/>
            <a:ahLst/>
            <a:rect l="l" t="t" r="r" b="b"/>
            <a:pathLst>
              <a:path w="113388" h="144774">
                <a:moveTo>
                  <a:pt x="113388" y="0"/>
                </a:moveTo>
                <a:lnTo>
                  <a:pt x="113388" y="144774"/>
                </a:lnTo>
                <a:lnTo>
                  <a:pt x="0" y="144774"/>
                </a:lnTo>
                <a:lnTo>
                  <a:pt x="0" y="42688"/>
                </a:lnTo>
                <a:lnTo>
                  <a:pt x="27165" y="30608"/>
                </a:lnTo>
                <a:cubicBezTo>
                  <a:pt x="42316" y="24504"/>
                  <a:pt x="58930" y="18343"/>
                  <a:pt x="76747" y="12129"/>
                </a:cubicBezTo>
                <a:lnTo>
                  <a:pt x="113388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72"/>
          <p:cNvSpPr/>
          <p:nvPr/>
        </p:nvSpPr>
        <p:spPr>
          <a:xfrm>
            <a:off x="6721560" y="4051440"/>
            <a:ext cx="114120" cy="126720"/>
          </a:xfrm>
          <a:custGeom>
            <a:avLst/>
            <a:gdLst/>
            <a:ahLst/>
            <a:rect l="l" t="t" r="r" b="b"/>
            <a:pathLst>
              <a:path w="113389" h="127380">
                <a:moveTo>
                  <a:pt x="113389" y="0"/>
                </a:moveTo>
                <a:lnTo>
                  <a:pt x="113389" y="127380"/>
                </a:lnTo>
                <a:lnTo>
                  <a:pt x="0" y="127380"/>
                </a:lnTo>
                <a:lnTo>
                  <a:pt x="0" y="102117"/>
                </a:lnTo>
                <a:lnTo>
                  <a:pt x="8186" y="94623"/>
                </a:lnTo>
                <a:cubicBezTo>
                  <a:pt x="39326" y="66440"/>
                  <a:pt x="73596" y="35901"/>
                  <a:pt x="108601" y="4388"/>
                </a:cubicBezTo>
                <a:lnTo>
                  <a:pt x="11338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71"/>
          <p:cNvSpPr/>
          <p:nvPr/>
        </p:nvSpPr>
        <p:spPr>
          <a:xfrm>
            <a:off x="10223640" y="4078440"/>
            <a:ext cx="260280" cy="129960"/>
          </a:xfrm>
          <a:custGeom>
            <a:avLst/>
            <a:gdLst/>
            <a:ahLst/>
            <a:rect l="l" t="t" r="r" b="b"/>
            <a:pathLst>
              <a:path w="261048" h="130224">
                <a:moveTo>
                  <a:pt x="254643" y="0"/>
                </a:moveTo>
                <a:lnTo>
                  <a:pt x="259889" y="77259"/>
                </a:lnTo>
                <a:lnTo>
                  <a:pt x="261048" y="103538"/>
                </a:lnTo>
                <a:lnTo>
                  <a:pt x="183763" y="121520"/>
                </a:lnTo>
                <a:cubicBezTo>
                  <a:pt x="145402" y="127323"/>
                  <a:pt x="106091" y="130224"/>
                  <a:pt x="65830" y="130224"/>
                </a:cubicBezTo>
                <a:lnTo>
                  <a:pt x="0" y="124026"/>
                </a:lnTo>
                <a:lnTo>
                  <a:pt x="1470" y="119296"/>
                </a:lnTo>
                <a:lnTo>
                  <a:pt x="47858" y="22870"/>
                </a:lnTo>
                <a:lnTo>
                  <a:pt x="89247" y="26696"/>
                </a:lnTo>
                <a:cubicBezTo>
                  <a:pt x="124578" y="26696"/>
                  <a:pt x="159704" y="23435"/>
                  <a:pt x="194624" y="16913"/>
                </a:cubicBezTo>
                <a:lnTo>
                  <a:pt x="254643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69"/>
          <p:cNvSpPr/>
          <p:nvPr/>
        </p:nvSpPr>
        <p:spPr>
          <a:xfrm>
            <a:off x="1425600" y="2409840"/>
            <a:ext cx="152280" cy="274680"/>
          </a:xfrm>
          <a:custGeom>
            <a:avLst/>
            <a:gdLst/>
            <a:ahLst/>
            <a:rect l="l" t="t" r="r" b="b"/>
            <a:pathLst>
              <a:path w="151911" h="274436">
                <a:moveTo>
                  <a:pt x="0" y="0"/>
                </a:moveTo>
                <a:lnTo>
                  <a:pt x="136806" y="0"/>
                </a:lnTo>
                <a:lnTo>
                  <a:pt x="151911" y="42040"/>
                </a:lnTo>
                <a:lnTo>
                  <a:pt x="123207" y="165841"/>
                </a:lnTo>
                <a:lnTo>
                  <a:pt x="100282" y="274436"/>
                </a:lnTo>
                <a:lnTo>
                  <a:pt x="0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66"/>
          <p:cNvSpPr/>
          <p:nvPr/>
        </p:nvSpPr>
        <p:spPr>
          <a:xfrm>
            <a:off x="7107120" y="2627280"/>
            <a:ext cx="606600" cy="784080"/>
          </a:xfrm>
          <a:custGeom>
            <a:avLst/>
            <a:gdLst/>
            <a:ahLst/>
            <a:rect l="l" t="t" r="r" b="b"/>
            <a:pathLst>
              <a:path w="607181" h="784544">
                <a:moveTo>
                  <a:pt x="162457" y="0"/>
                </a:moveTo>
                <a:lnTo>
                  <a:pt x="190758" y="16493"/>
                </a:lnTo>
                <a:cubicBezTo>
                  <a:pt x="215722" y="33558"/>
                  <a:pt x="242689" y="54116"/>
                  <a:pt x="270917" y="77155"/>
                </a:cubicBezTo>
                <a:lnTo>
                  <a:pt x="275845" y="81399"/>
                </a:lnTo>
                <a:lnTo>
                  <a:pt x="275845" y="289027"/>
                </a:lnTo>
                <a:lnTo>
                  <a:pt x="502826" y="289027"/>
                </a:lnTo>
                <a:lnTo>
                  <a:pt x="538897" y="324150"/>
                </a:lnTo>
                <a:lnTo>
                  <a:pt x="607181" y="392555"/>
                </a:lnTo>
                <a:lnTo>
                  <a:pt x="275845" y="392555"/>
                </a:lnTo>
                <a:lnTo>
                  <a:pt x="275845" y="784544"/>
                </a:lnTo>
                <a:lnTo>
                  <a:pt x="245318" y="754576"/>
                </a:lnTo>
                <a:cubicBezTo>
                  <a:pt x="230168" y="738845"/>
                  <a:pt x="217349" y="724200"/>
                  <a:pt x="208141" y="710865"/>
                </a:cubicBezTo>
                <a:cubicBezTo>
                  <a:pt x="198934" y="697530"/>
                  <a:pt x="189528" y="686616"/>
                  <a:pt x="180072" y="677483"/>
                </a:cubicBezTo>
                <a:lnTo>
                  <a:pt x="162457" y="663390"/>
                </a:lnTo>
                <a:lnTo>
                  <a:pt x="162457" y="392555"/>
                </a:lnTo>
                <a:lnTo>
                  <a:pt x="7509" y="392555"/>
                </a:lnTo>
                <a:lnTo>
                  <a:pt x="7044" y="388444"/>
                </a:lnTo>
                <a:cubicBezTo>
                  <a:pt x="4286" y="359393"/>
                  <a:pt x="1895" y="328397"/>
                  <a:pt x="213" y="296885"/>
                </a:cubicBezTo>
                <a:lnTo>
                  <a:pt x="0" y="289027"/>
                </a:lnTo>
                <a:lnTo>
                  <a:pt x="162457" y="289027"/>
                </a:lnTo>
                <a:lnTo>
                  <a:pt x="162457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64"/>
          <p:cNvSpPr/>
          <p:nvPr/>
        </p:nvSpPr>
        <p:spPr>
          <a:xfrm>
            <a:off x="4073400" y="2687760"/>
            <a:ext cx="114480" cy="858600"/>
          </a:xfrm>
          <a:custGeom>
            <a:avLst/>
            <a:gdLst/>
            <a:ahLst/>
            <a:rect l="l" t="t" r="r" b="b"/>
            <a:pathLst>
              <a:path w="113388" h="858865">
                <a:moveTo>
                  <a:pt x="113388" y="0"/>
                </a:moveTo>
                <a:lnTo>
                  <a:pt x="113388" y="858865"/>
                </a:lnTo>
                <a:lnTo>
                  <a:pt x="47602" y="812581"/>
                </a:lnTo>
                <a:lnTo>
                  <a:pt x="0" y="771801"/>
                </a:lnTo>
                <a:lnTo>
                  <a:pt x="0" y="121343"/>
                </a:lnTo>
                <a:lnTo>
                  <a:pt x="6049" y="113684"/>
                </a:lnTo>
                <a:cubicBezTo>
                  <a:pt x="28155" y="87589"/>
                  <a:pt x="52345" y="60790"/>
                  <a:pt x="77874" y="34343"/>
                </a:cubicBezTo>
                <a:lnTo>
                  <a:pt x="113388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63"/>
          <p:cNvSpPr/>
          <p:nvPr/>
        </p:nvSpPr>
        <p:spPr>
          <a:xfrm>
            <a:off x="3106800" y="2884320"/>
            <a:ext cx="293760" cy="128880"/>
          </a:xfrm>
          <a:custGeom>
            <a:avLst/>
            <a:gdLst/>
            <a:ahLst/>
            <a:rect l="l" t="t" r="r" b="b"/>
            <a:pathLst>
              <a:path w="293626" h="128640">
                <a:moveTo>
                  <a:pt x="178417" y="0"/>
                </a:moveTo>
                <a:lnTo>
                  <a:pt x="236206" y="4749"/>
                </a:lnTo>
                <a:lnTo>
                  <a:pt x="246756" y="26549"/>
                </a:lnTo>
                <a:lnTo>
                  <a:pt x="293626" y="126669"/>
                </a:lnTo>
                <a:lnTo>
                  <a:pt x="238962" y="109883"/>
                </a:lnTo>
                <a:cubicBezTo>
                  <a:pt x="216675" y="105646"/>
                  <a:pt x="192796" y="103528"/>
                  <a:pt x="167324" y="103528"/>
                </a:cubicBezTo>
                <a:cubicBezTo>
                  <a:pt x="132609" y="103528"/>
                  <a:pt x="98126" y="107020"/>
                  <a:pt x="63873" y="114004"/>
                </a:cubicBezTo>
                <a:lnTo>
                  <a:pt x="16342" y="128640"/>
                </a:lnTo>
                <a:lnTo>
                  <a:pt x="1214" y="34502"/>
                </a:lnTo>
                <a:lnTo>
                  <a:pt x="0" y="27330"/>
                </a:lnTo>
                <a:lnTo>
                  <a:pt x="68880" y="9860"/>
                </a:lnTo>
                <a:cubicBezTo>
                  <a:pt x="106573" y="3287"/>
                  <a:pt x="143086" y="0"/>
                  <a:pt x="178417" y="0"/>
                </a:cubicBezTo>
                <a:close/>
              </a:path>
            </a:pathLst>
          </a:custGeom>
          <a:solidFill>
            <a:srgbClr val="e55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任意多边形 62"/>
          <p:cNvSpPr/>
          <p:nvPr/>
        </p:nvSpPr>
        <p:spPr>
          <a:xfrm>
            <a:off x="9850320" y="2886120"/>
            <a:ext cx="474840" cy="422280"/>
          </a:xfrm>
          <a:custGeom>
            <a:avLst/>
            <a:gdLst/>
            <a:ahLst/>
            <a:rect l="l" t="t" r="r" b="b"/>
            <a:pathLst>
              <a:path w="473911" h="422815">
                <a:moveTo>
                  <a:pt x="447940" y="0"/>
                </a:moveTo>
                <a:lnTo>
                  <a:pt x="466519" y="70515"/>
                </a:lnTo>
                <a:lnTo>
                  <a:pt x="473911" y="104201"/>
                </a:lnTo>
                <a:lnTo>
                  <a:pt x="454509" y="102393"/>
                </a:lnTo>
                <a:cubicBezTo>
                  <a:pt x="336191" y="102393"/>
                  <a:pt x="238208" y="142038"/>
                  <a:pt x="160562" y="221328"/>
                </a:cubicBezTo>
                <a:cubicBezTo>
                  <a:pt x="121739" y="260973"/>
                  <a:pt x="90361" y="309194"/>
                  <a:pt x="66431" y="365991"/>
                </a:cubicBezTo>
                <a:lnTo>
                  <a:pt x="47633" y="422815"/>
                </a:lnTo>
                <a:lnTo>
                  <a:pt x="36971" y="392564"/>
                </a:lnTo>
                <a:cubicBezTo>
                  <a:pt x="25928" y="359391"/>
                  <a:pt x="15788" y="326519"/>
                  <a:pt x="7176" y="294472"/>
                </a:cubicBezTo>
                <a:lnTo>
                  <a:pt x="0" y="262065"/>
                </a:lnTo>
                <a:lnTo>
                  <a:pt x="50871" y="188051"/>
                </a:lnTo>
                <a:cubicBezTo>
                  <a:pt x="129442" y="93458"/>
                  <a:pt x="225691" y="34338"/>
                  <a:pt x="339618" y="10689"/>
                </a:cubicBezTo>
                <a:lnTo>
                  <a:pt x="447940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任意多边形 61"/>
          <p:cNvSpPr/>
          <p:nvPr/>
        </p:nvSpPr>
        <p:spPr>
          <a:xfrm>
            <a:off x="6208560" y="2895480"/>
            <a:ext cx="160560" cy="120600"/>
          </a:xfrm>
          <a:custGeom>
            <a:avLst/>
            <a:gdLst/>
            <a:ahLst/>
            <a:rect l="l" t="t" r="r" b="b"/>
            <a:pathLst>
              <a:path w="160760" h="120050">
                <a:moveTo>
                  <a:pt x="96199" y="0"/>
                </a:moveTo>
                <a:lnTo>
                  <a:pt x="160760" y="94777"/>
                </a:lnTo>
                <a:lnTo>
                  <a:pt x="98684" y="100732"/>
                </a:lnTo>
                <a:lnTo>
                  <a:pt x="37851" y="120050"/>
                </a:lnTo>
                <a:lnTo>
                  <a:pt x="7884" y="47161"/>
                </a:lnTo>
                <a:lnTo>
                  <a:pt x="0" y="29135"/>
                </a:lnTo>
                <a:lnTo>
                  <a:pt x="7366" y="25416"/>
                </a:lnTo>
                <a:cubicBezTo>
                  <a:pt x="26958" y="17289"/>
                  <a:pt x="47358" y="10517"/>
                  <a:pt x="68566" y="5099"/>
                </a:cubicBezTo>
                <a:lnTo>
                  <a:pt x="9619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60"/>
          <p:cNvSpPr/>
          <p:nvPr/>
        </p:nvSpPr>
        <p:spPr>
          <a:xfrm>
            <a:off x="9171000" y="2906640"/>
            <a:ext cx="266760" cy="371520"/>
          </a:xfrm>
          <a:custGeom>
            <a:avLst/>
            <a:gdLst/>
            <a:ahLst/>
            <a:rect l="l" t="t" r="r" b="b"/>
            <a:pathLst>
              <a:path w="266693" h="371398">
                <a:moveTo>
                  <a:pt x="0" y="0"/>
                </a:moveTo>
                <a:lnTo>
                  <a:pt x="42365" y="12837"/>
                </a:lnTo>
                <a:cubicBezTo>
                  <a:pt x="94540" y="35535"/>
                  <a:pt x="138704" y="69583"/>
                  <a:pt x="174857" y="114979"/>
                </a:cubicBezTo>
                <a:cubicBezTo>
                  <a:pt x="211010" y="160376"/>
                  <a:pt x="238125" y="215478"/>
                  <a:pt x="256201" y="280286"/>
                </a:cubicBezTo>
                <a:lnTo>
                  <a:pt x="266693" y="334200"/>
                </a:lnTo>
                <a:lnTo>
                  <a:pt x="211853" y="352382"/>
                </a:lnTo>
                <a:lnTo>
                  <a:pt x="156159" y="371398"/>
                </a:lnTo>
                <a:lnTo>
                  <a:pt x="153857" y="364702"/>
                </a:lnTo>
                <a:lnTo>
                  <a:pt x="149437" y="338135"/>
                </a:lnTo>
                <a:cubicBezTo>
                  <a:pt x="142607" y="309711"/>
                  <a:pt x="134069" y="283656"/>
                  <a:pt x="123825" y="259969"/>
                </a:cubicBezTo>
                <a:lnTo>
                  <a:pt x="89527" y="198797"/>
                </a:lnTo>
                <a:lnTo>
                  <a:pt x="70883" y="156168"/>
                </a:lnTo>
                <a:cubicBezTo>
                  <a:pt x="52706" y="116877"/>
                  <a:pt x="34549" y="78876"/>
                  <a:pt x="18272" y="43341"/>
                </a:cubicBezTo>
                <a:lnTo>
                  <a:pt x="0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59"/>
          <p:cNvSpPr/>
          <p:nvPr/>
        </p:nvSpPr>
        <p:spPr>
          <a:xfrm>
            <a:off x="4495680" y="2911320"/>
            <a:ext cx="462240" cy="1168560"/>
          </a:xfrm>
          <a:custGeom>
            <a:avLst/>
            <a:gdLst/>
            <a:ahLst/>
            <a:rect l="l" t="t" r="r" b="b"/>
            <a:pathLst>
              <a:path w="460946" h="1167969">
                <a:moveTo>
                  <a:pt x="400937" y="0"/>
                </a:moveTo>
                <a:lnTo>
                  <a:pt x="428798" y="80606"/>
                </a:lnTo>
                <a:lnTo>
                  <a:pt x="432658" y="96839"/>
                </a:lnTo>
                <a:lnTo>
                  <a:pt x="398554" y="106678"/>
                </a:lnTo>
                <a:cubicBezTo>
                  <a:pt x="349563" y="126500"/>
                  <a:pt x="305656" y="156234"/>
                  <a:pt x="266832" y="195879"/>
                </a:cubicBezTo>
                <a:cubicBezTo>
                  <a:pt x="189186" y="275169"/>
                  <a:pt x="141324" y="388762"/>
                  <a:pt x="123248" y="536660"/>
                </a:cubicBezTo>
                <a:lnTo>
                  <a:pt x="460946" y="536660"/>
                </a:lnTo>
                <a:lnTo>
                  <a:pt x="448012" y="562274"/>
                </a:lnTo>
                <a:lnTo>
                  <a:pt x="411663" y="640189"/>
                </a:lnTo>
                <a:lnTo>
                  <a:pt x="118318" y="640189"/>
                </a:lnTo>
                <a:cubicBezTo>
                  <a:pt x="118318" y="770216"/>
                  <a:pt x="140850" y="878982"/>
                  <a:pt x="185912" y="966488"/>
                </a:cubicBezTo>
                <a:lnTo>
                  <a:pt x="238428" y="1046820"/>
                </a:lnTo>
                <a:lnTo>
                  <a:pt x="233297" y="1060505"/>
                </a:lnTo>
                <a:cubicBezTo>
                  <a:pt x="225343" y="1082634"/>
                  <a:pt x="218299" y="1103253"/>
                  <a:pt x="212292" y="1122070"/>
                </a:cubicBezTo>
                <a:lnTo>
                  <a:pt x="198919" y="1167969"/>
                </a:lnTo>
                <a:lnTo>
                  <a:pt x="150363" y="1122090"/>
                </a:lnTo>
                <a:cubicBezTo>
                  <a:pt x="50121" y="1005415"/>
                  <a:pt x="0" y="840673"/>
                  <a:pt x="0" y="627864"/>
                </a:cubicBezTo>
                <a:cubicBezTo>
                  <a:pt x="0" y="443813"/>
                  <a:pt x="52380" y="288726"/>
                  <a:pt x="157141" y="162602"/>
                </a:cubicBezTo>
                <a:cubicBezTo>
                  <a:pt x="209522" y="99540"/>
                  <a:pt x="269760" y="52244"/>
                  <a:pt x="337854" y="20712"/>
                </a:cubicBezTo>
                <a:lnTo>
                  <a:pt x="400937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57"/>
          <p:cNvSpPr/>
          <p:nvPr/>
        </p:nvSpPr>
        <p:spPr>
          <a:xfrm>
            <a:off x="4971960" y="2940120"/>
            <a:ext cx="577800" cy="611280"/>
          </a:xfrm>
          <a:custGeom>
            <a:avLst/>
            <a:gdLst/>
            <a:ahLst/>
            <a:rect l="l" t="t" r="r" b="b"/>
            <a:pathLst>
              <a:path w="577126" h="612161">
                <a:moveTo>
                  <a:pt x="319814" y="0"/>
                </a:moveTo>
                <a:lnTo>
                  <a:pt x="381701" y="38286"/>
                </a:lnTo>
                <a:lnTo>
                  <a:pt x="429314" y="87635"/>
                </a:lnTo>
                <a:lnTo>
                  <a:pt x="453610" y="137053"/>
                </a:lnTo>
                <a:cubicBezTo>
                  <a:pt x="487424" y="216111"/>
                  <a:pt x="518380" y="314099"/>
                  <a:pt x="553712" y="390835"/>
                </a:cubicBezTo>
                <a:lnTo>
                  <a:pt x="567199" y="415642"/>
                </a:lnTo>
                <a:lnTo>
                  <a:pt x="569269" y="426210"/>
                </a:lnTo>
                <a:cubicBezTo>
                  <a:pt x="574507" y="468833"/>
                  <a:pt x="577126" y="513973"/>
                  <a:pt x="577126" y="561629"/>
                </a:cubicBezTo>
                <a:lnTo>
                  <a:pt x="577126" y="612161"/>
                </a:lnTo>
                <a:lnTo>
                  <a:pt x="0" y="612161"/>
                </a:lnTo>
                <a:lnTo>
                  <a:pt x="1859" y="508632"/>
                </a:lnTo>
                <a:lnTo>
                  <a:pt x="458808" y="508632"/>
                </a:lnTo>
                <a:cubicBezTo>
                  <a:pt x="453878" y="363199"/>
                  <a:pt x="418958" y="250222"/>
                  <a:pt x="354047" y="169700"/>
                </a:cubicBezTo>
                <a:cubicBezTo>
                  <a:pt x="321592" y="129439"/>
                  <a:pt x="282974" y="99243"/>
                  <a:pt x="238194" y="79112"/>
                </a:cubicBezTo>
                <a:lnTo>
                  <a:pt x="231745" y="77078"/>
                </a:lnTo>
                <a:lnTo>
                  <a:pt x="256448" y="45916"/>
                </a:lnTo>
                <a:cubicBezTo>
                  <a:pt x="267039" y="33905"/>
                  <a:pt x="276921" y="24182"/>
                  <a:pt x="285970" y="17038"/>
                </a:cubicBezTo>
                <a:cubicBezTo>
                  <a:pt x="295019" y="9894"/>
                  <a:pt x="303720" y="4765"/>
                  <a:pt x="312108" y="1463"/>
                </a:cubicBezTo>
                <a:lnTo>
                  <a:pt x="319814" y="0"/>
                </a:lnTo>
                <a:close/>
              </a:path>
            </a:pathLst>
          </a:custGeom>
          <a:solidFill>
            <a:srgbClr val="e55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50"/>
          <p:cNvSpPr/>
          <p:nvPr/>
        </p:nvSpPr>
        <p:spPr>
          <a:xfrm>
            <a:off x="8483760" y="3083040"/>
            <a:ext cx="225360" cy="1095120"/>
          </a:xfrm>
          <a:custGeom>
            <a:avLst/>
            <a:gdLst/>
            <a:ahLst/>
            <a:rect l="l" t="t" r="r" b="b"/>
            <a:pathLst>
              <a:path w="224551" h="1094554">
                <a:moveTo>
                  <a:pt x="185165" y="27"/>
                </a:moveTo>
                <a:cubicBezTo>
                  <a:pt x="187144" y="-702"/>
                  <a:pt x="192026" y="13348"/>
                  <a:pt x="218696" y="40970"/>
                </a:cubicBezTo>
                <a:lnTo>
                  <a:pt x="224551" y="47123"/>
                </a:lnTo>
                <a:lnTo>
                  <a:pt x="179249" y="109762"/>
                </a:lnTo>
                <a:cubicBezTo>
                  <a:pt x="135342" y="184558"/>
                  <a:pt x="113388" y="271255"/>
                  <a:pt x="113388" y="369854"/>
                </a:cubicBezTo>
                <a:lnTo>
                  <a:pt x="113388" y="1094554"/>
                </a:lnTo>
                <a:lnTo>
                  <a:pt x="0" y="1094554"/>
                </a:lnTo>
                <a:lnTo>
                  <a:pt x="0" y="261875"/>
                </a:lnTo>
                <a:lnTo>
                  <a:pt x="55089" y="198698"/>
                </a:lnTo>
                <a:cubicBezTo>
                  <a:pt x="77726" y="172653"/>
                  <a:pt x="97094" y="150190"/>
                  <a:pt x="112016" y="132410"/>
                </a:cubicBezTo>
                <a:cubicBezTo>
                  <a:pt x="186628" y="43510"/>
                  <a:pt x="181866" y="1243"/>
                  <a:pt x="185165" y="27"/>
                </a:cubicBez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48"/>
          <p:cNvSpPr/>
          <p:nvPr/>
        </p:nvSpPr>
        <p:spPr>
          <a:xfrm>
            <a:off x="1873080" y="3165480"/>
            <a:ext cx="635040" cy="1012680"/>
          </a:xfrm>
          <a:custGeom>
            <a:avLst/>
            <a:gdLst/>
            <a:ahLst/>
            <a:rect l="l" t="t" r="r" b="b"/>
            <a:pathLst>
              <a:path w="634019" h="1012690">
                <a:moveTo>
                  <a:pt x="556430" y="0"/>
                </a:moveTo>
                <a:lnTo>
                  <a:pt x="632812" y="122921"/>
                </a:lnTo>
                <a:lnTo>
                  <a:pt x="634019" y="125039"/>
                </a:lnTo>
                <a:lnTo>
                  <a:pt x="289234" y="1012690"/>
                </a:lnTo>
                <a:lnTo>
                  <a:pt x="198030" y="1012690"/>
                </a:lnTo>
                <a:lnTo>
                  <a:pt x="0" y="470752"/>
                </a:lnTo>
                <a:lnTo>
                  <a:pt x="2153" y="467551"/>
                </a:lnTo>
                <a:cubicBezTo>
                  <a:pt x="22274" y="423136"/>
                  <a:pt x="33824" y="336315"/>
                  <a:pt x="42515" y="233043"/>
                </a:cubicBezTo>
                <a:lnTo>
                  <a:pt x="42759" y="229826"/>
                </a:lnTo>
                <a:lnTo>
                  <a:pt x="200495" y="668827"/>
                </a:lnTo>
                <a:cubicBezTo>
                  <a:pt x="221858" y="727987"/>
                  <a:pt x="237059" y="783859"/>
                  <a:pt x="246097" y="836445"/>
                </a:cubicBezTo>
                <a:lnTo>
                  <a:pt x="251027" y="836445"/>
                </a:lnTo>
                <a:cubicBezTo>
                  <a:pt x="259243" y="794541"/>
                  <a:pt x="276087" y="737846"/>
                  <a:pt x="301559" y="666363"/>
                </a:cubicBezTo>
                <a:lnTo>
                  <a:pt x="556430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47"/>
          <p:cNvSpPr/>
          <p:nvPr/>
        </p:nvSpPr>
        <p:spPr>
          <a:xfrm>
            <a:off x="7969320" y="3274920"/>
            <a:ext cx="114120" cy="750960"/>
          </a:xfrm>
          <a:custGeom>
            <a:avLst/>
            <a:gdLst/>
            <a:ahLst/>
            <a:rect l="l" t="t" r="r" b="b"/>
            <a:pathLst>
              <a:path w="113389" h="751141">
                <a:moveTo>
                  <a:pt x="0" y="0"/>
                </a:moveTo>
                <a:lnTo>
                  <a:pt x="104396" y="109634"/>
                </a:lnTo>
                <a:lnTo>
                  <a:pt x="113389" y="120543"/>
                </a:lnTo>
                <a:lnTo>
                  <a:pt x="113389" y="553545"/>
                </a:lnTo>
                <a:lnTo>
                  <a:pt x="62858" y="624133"/>
                </a:lnTo>
                <a:cubicBezTo>
                  <a:pt x="43317" y="653512"/>
                  <a:pt x="27561" y="679864"/>
                  <a:pt x="16766" y="702089"/>
                </a:cubicBezTo>
                <a:lnTo>
                  <a:pt x="0" y="751141"/>
                </a:lnTo>
                <a:lnTo>
                  <a:pt x="0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任意多边形 46"/>
          <p:cNvSpPr/>
          <p:nvPr/>
        </p:nvSpPr>
        <p:spPr>
          <a:xfrm>
            <a:off x="9326520" y="3276720"/>
            <a:ext cx="30240" cy="245880"/>
          </a:xfrm>
          <a:custGeom>
            <a:avLst/>
            <a:gdLst/>
            <a:ahLst/>
            <a:rect l="l" t="t" r="r" b="b"/>
            <a:pathLst>
              <a:path w="30067" h="244956">
                <a:moveTo>
                  <a:pt x="1125" y="0"/>
                </a:moveTo>
                <a:lnTo>
                  <a:pt x="10265" y="26585"/>
                </a:lnTo>
                <a:cubicBezTo>
                  <a:pt x="31895" y="106080"/>
                  <a:pt x="38721" y="181327"/>
                  <a:pt x="15861" y="242922"/>
                </a:cubicBezTo>
                <a:lnTo>
                  <a:pt x="14893" y="244956"/>
                </a:lnTo>
                <a:lnTo>
                  <a:pt x="14893" y="165706"/>
                </a:lnTo>
                <a:cubicBezTo>
                  <a:pt x="14893" y="127807"/>
                  <a:pt x="13185" y="92277"/>
                  <a:pt x="9771" y="59116"/>
                </a:cubicBezTo>
                <a:lnTo>
                  <a:pt x="0" y="384"/>
                </a:lnTo>
                <a:lnTo>
                  <a:pt x="1125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任意多边形 44"/>
          <p:cNvSpPr/>
          <p:nvPr/>
        </p:nvSpPr>
        <p:spPr>
          <a:xfrm>
            <a:off x="2873520" y="3397320"/>
            <a:ext cx="819000" cy="811080"/>
          </a:xfrm>
          <a:custGeom>
            <a:avLst/>
            <a:gdLst/>
            <a:ahLst/>
            <a:rect l="l" t="t" r="r" b="b"/>
            <a:pathLst>
              <a:path w="819536" h="812087">
                <a:moveTo>
                  <a:pt x="697097" y="0"/>
                </a:moveTo>
                <a:lnTo>
                  <a:pt x="744326" y="114049"/>
                </a:lnTo>
                <a:cubicBezTo>
                  <a:pt x="759556" y="151524"/>
                  <a:pt x="773975" y="187746"/>
                  <a:pt x="787384" y="222260"/>
                </a:cubicBezTo>
                <a:lnTo>
                  <a:pt x="819536" y="307392"/>
                </a:lnTo>
                <a:lnTo>
                  <a:pt x="819536" y="636501"/>
                </a:lnTo>
                <a:lnTo>
                  <a:pt x="782895" y="648630"/>
                </a:lnTo>
                <a:cubicBezTo>
                  <a:pt x="765078" y="654844"/>
                  <a:pt x="748464" y="661005"/>
                  <a:pt x="733313" y="667109"/>
                </a:cubicBezTo>
                <a:lnTo>
                  <a:pt x="706148" y="679189"/>
                </a:lnTo>
                <a:lnTo>
                  <a:pt x="706148" y="528616"/>
                </a:lnTo>
                <a:lnTo>
                  <a:pt x="701218" y="528616"/>
                </a:lnTo>
                <a:cubicBezTo>
                  <a:pt x="660957" y="614890"/>
                  <a:pt x="602414" y="683703"/>
                  <a:pt x="525589" y="735057"/>
                </a:cubicBezTo>
                <a:cubicBezTo>
                  <a:pt x="448765" y="786410"/>
                  <a:pt x="363518" y="812087"/>
                  <a:pt x="269849" y="812087"/>
                </a:cubicBezTo>
                <a:cubicBezTo>
                  <a:pt x="179878" y="812087"/>
                  <a:pt x="104003" y="793138"/>
                  <a:pt x="42225" y="755239"/>
                </a:cubicBezTo>
                <a:lnTo>
                  <a:pt x="0" y="722531"/>
                </a:lnTo>
                <a:lnTo>
                  <a:pt x="21974" y="704003"/>
                </a:lnTo>
                <a:lnTo>
                  <a:pt x="83049" y="642484"/>
                </a:lnTo>
                <a:lnTo>
                  <a:pt x="115442" y="667656"/>
                </a:lnTo>
                <a:cubicBezTo>
                  <a:pt x="160043" y="694925"/>
                  <a:pt x="215620" y="708559"/>
                  <a:pt x="282174" y="708559"/>
                </a:cubicBezTo>
                <a:cubicBezTo>
                  <a:pt x="403779" y="708559"/>
                  <a:pt x="504843" y="663573"/>
                  <a:pt x="585365" y="573602"/>
                </a:cubicBezTo>
                <a:cubicBezTo>
                  <a:pt x="665887" y="483631"/>
                  <a:pt x="706148" y="367572"/>
                  <a:pt x="706148" y="225425"/>
                </a:cubicBezTo>
                <a:lnTo>
                  <a:pt x="706148" y="102177"/>
                </a:lnTo>
                <a:lnTo>
                  <a:pt x="358588" y="152709"/>
                </a:lnTo>
                <a:lnTo>
                  <a:pt x="308352" y="161665"/>
                </a:lnTo>
                <a:lnTo>
                  <a:pt x="308900" y="145615"/>
                </a:lnTo>
                <a:lnTo>
                  <a:pt x="305691" y="59119"/>
                </a:lnTo>
                <a:lnTo>
                  <a:pt x="317916" y="56575"/>
                </a:lnTo>
                <a:lnTo>
                  <a:pt x="697097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任意多边形 40"/>
          <p:cNvSpPr/>
          <p:nvPr/>
        </p:nvSpPr>
        <p:spPr>
          <a:xfrm>
            <a:off x="9948960" y="3448080"/>
            <a:ext cx="469800" cy="103320"/>
          </a:xfrm>
          <a:custGeom>
            <a:avLst/>
            <a:gdLst/>
            <a:ahLst/>
            <a:rect l="l" t="t" r="r" b="b"/>
            <a:pathLst>
              <a:path w="469859" h="103529">
                <a:moveTo>
                  <a:pt x="0" y="0"/>
                </a:moveTo>
                <a:lnTo>
                  <a:pt x="455359" y="0"/>
                </a:lnTo>
                <a:lnTo>
                  <a:pt x="459058" y="24006"/>
                </a:lnTo>
                <a:lnTo>
                  <a:pt x="469859" y="103529"/>
                </a:lnTo>
                <a:lnTo>
                  <a:pt x="38387" y="103529"/>
                </a:lnTo>
                <a:lnTo>
                  <a:pt x="10833" y="28962"/>
                </a:lnTo>
                <a:lnTo>
                  <a:pt x="0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39"/>
          <p:cNvSpPr/>
          <p:nvPr/>
        </p:nvSpPr>
        <p:spPr>
          <a:xfrm>
            <a:off x="6721560" y="3475080"/>
            <a:ext cx="114120" cy="677880"/>
          </a:xfrm>
          <a:custGeom>
            <a:avLst/>
            <a:gdLst/>
            <a:ahLst/>
            <a:rect l="l" t="t" r="r" b="b"/>
            <a:pathLst>
              <a:path w="113389" h="677023">
                <a:moveTo>
                  <a:pt x="0" y="0"/>
                </a:moveTo>
                <a:lnTo>
                  <a:pt x="66437" y="55122"/>
                </a:lnTo>
                <a:lnTo>
                  <a:pt x="113389" y="79999"/>
                </a:lnTo>
                <a:lnTo>
                  <a:pt x="113389" y="574906"/>
                </a:lnTo>
                <a:lnTo>
                  <a:pt x="108601" y="579294"/>
                </a:lnTo>
                <a:cubicBezTo>
                  <a:pt x="73596" y="610807"/>
                  <a:pt x="39326" y="641346"/>
                  <a:pt x="8186" y="669529"/>
                </a:cubicBezTo>
                <a:lnTo>
                  <a:pt x="0" y="677023"/>
                </a:lnTo>
                <a:lnTo>
                  <a:pt x="0" y="0"/>
                </a:lnTo>
                <a:close/>
              </a:path>
            </a:pathLst>
          </a:custGeom>
          <a:solidFill>
            <a:srgbClr val="e55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任意多边形 37"/>
          <p:cNvSpPr/>
          <p:nvPr/>
        </p:nvSpPr>
        <p:spPr>
          <a:xfrm>
            <a:off x="10782360" y="3532320"/>
            <a:ext cx="15840" cy="20520"/>
          </a:xfrm>
          <a:custGeom>
            <a:avLst/>
            <a:gdLst/>
            <a:ahLst/>
            <a:rect l="l" t="t" r="r" b="b"/>
            <a:pathLst>
              <a:path w="14333" h="20115">
                <a:moveTo>
                  <a:pt x="14333" y="0"/>
                </a:moveTo>
                <a:lnTo>
                  <a:pt x="14333" y="20115"/>
                </a:lnTo>
                <a:lnTo>
                  <a:pt x="0" y="20115"/>
                </a:lnTo>
                <a:lnTo>
                  <a:pt x="14333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29"/>
          <p:cNvSpPr/>
          <p:nvPr/>
        </p:nvSpPr>
        <p:spPr>
          <a:xfrm>
            <a:off x="5864400" y="3852720"/>
            <a:ext cx="114120" cy="325440"/>
          </a:xfrm>
          <a:custGeom>
            <a:avLst/>
            <a:gdLst/>
            <a:ahLst/>
            <a:rect l="l" t="t" r="r" b="b"/>
            <a:pathLst>
              <a:path w="113388" h="325042">
                <a:moveTo>
                  <a:pt x="113388" y="0"/>
                </a:moveTo>
                <a:lnTo>
                  <a:pt x="113388" y="325042"/>
                </a:lnTo>
                <a:lnTo>
                  <a:pt x="0" y="325042"/>
                </a:lnTo>
                <a:lnTo>
                  <a:pt x="0" y="30497"/>
                </a:lnTo>
                <a:lnTo>
                  <a:pt x="18670" y="33458"/>
                </a:lnTo>
                <a:cubicBezTo>
                  <a:pt x="34863" y="33458"/>
                  <a:pt x="53556" y="29053"/>
                  <a:pt x="73945" y="20942"/>
                </a:cubicBezTo>
                <a:lnTo>
                  <a:pt x="113388" y="0"/>
                </a:ln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27"/>
          <p:cNvSpPr/>
          <p:nvPr/>
        </p:nvSpPr>
        <p:spPr>
          <a:xfrm>
            <a:off x="4073400" y="3882960"/>
            <a:ext cx="114480" cy="295200"/>
          </a:xfrm>
          <a:custGeom>
            <a:avLst/>
            <a:gdLst/>
            <a:ahLst/>
            <a:rect l="l" t="t" r="r" b="b"/>
            <a:pathLst>
              <a:path w="113388" h="293890">
                <a:moveTo>
                  <a:pt x="113388" y="0"/>
                </a:moveTo>
                <a:lnTo>
                  <a:pt x="113388" y="293890"/>
                </a:lnTo>
                <a:lnTo>
                  <a:pt x="0" y="293890"/>
                </a:lnTo>
                <a:lnTo>
                  <a:pt x="0" y="36846"/>
                </a:lnTo>
                <a:lnTo>
                  <a:pt x="44923" y="23454"/>
                </a:lnTo>
                <a:lnTo>
                  <a:pt x="113388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任意多边形 26"/>
          <p:cNvSpPr/>
          <p:nvPr/>
        </p:nvSpPr>
        <p:spPr>
          <a:xfrm>
            <a:off x="7283520" y="3938760"/>
            <a:ext cx="431640" cy="263520"/>
          </a:xfrm>
          <a:custGeom>
            <a:avLst/>
            <a:gdLst/>
            <a:ahLst/>
            <a:rect l="l" t="t" r="r" b="b"/>
            <a:pathLst>
              <a:path w="431512" h="264448">
                <a:moveTo>
                  <a:pt x="105022" y="0"/>
                </a:moveTo>
                <a:lnTo>
                  <a:pt x="109063" y="27041"/>
                </a:lnTo>
                <a:cubicBezTo>
                  <a:pt x="115945" y="58572"/>
                  <a:pt x="126267" y="84095"/>
                  <a:pt x="140030" y="103609"/>
                </a:cubicBezTo>
                <a:cubicBezTo>
                  <a:pt x="167555" y="142637"/>
                  <a:pt x="214184" y="162152"/>
                  <a:pt x="279916" y="162152"/>
                </a:cubicBezTo>
                <a:cubicBezTo>
                  <a:pt x="326751" y="162152"/>
                  <a:pt x="377283" y="146951"/>
                  <a:pt x="431512" y="116550"/>
                </a:cubicBezTo>
                <a:lnTo>
                  <a:pt x="431512" y="222543"/>
                </a:lnTo>
                <a:cubicBezTo>
                  <a:pt x="372353" y="250480"/>
                  <a:pt x="316891" y="264448"/>
                  <a:pt x="265127" y="264448"/>
                </a:cubicBezTo>
                <a:cubicBezTo>
                  <a:pt x="125240" y="264448"/>
                  <a:pt x="37811" y="201592"/>
                  <a:pt x="2839" y="75878"/>
                </a:cubicBezTo>
                <a:lnTo>
                  <a:pt x="0" y="61138"/>
                </a:lnTo>
                <a:lnTo>
                  <a:pt x="25835" y="46883"/>
                </a:lnTo>
                <a:cubicBezTo>
                  <a:pt x="50821" y="32684"/>
                  <a:pt x="74892" y="18560"/>
                  <a:pt x="97712" y="4650"/>
                </a:cubicBezTo>
                <a:lnTo>
                  <a:pt x="10502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25"/>
          <p:cNvSpPr/>
          <p:nvPr/>
        </p:nvSpPr>
        <p:spPr>
          <a:xfrm>
            <a:off x="4924440" y="3948120"/>
            <a:ext cx="554040" cy="260280"/>
          </a:xfrm>
          <a:custGeom>
            <a:avLst/>
            <a:gdLst/>
            <a:ahLst/>
            <a:rect l="l" t="t" r="r" b="b"/>
            <a:pathLst>
              <a:path w="554818" h="260054">
                <a:moveTo>
                  <a:pt x="554818" y="0"/>
                </a:moveTo>
                <a:lnTo>
                  <a:pt x="554818" y="120784"/>
                </a:lnTo>
                <a:cubicBezTo>
                  <a:pt x="424175" y="213631"/>
                  <a:pt x="278331" y="260054"/>
                  <a:pt x="117286" y="260054"/>
                </a:cubicBezTo>
                <a:cubicBezTo>
                  <a:pt x="76614" y="260054"/>
                  <a:pt x="37894" y="256408"/>
                  <a:pt x="1124" y="249116"/>
                </a:cubicBezTo>
                <a:lnTo>
                  <a:pt x="0" y="248763"/>
                </a:lnTo>
                <a:lnTo>
                  <a:pt x="4110" y="216621"/>
                </a:lnTo>
                <a:lnTo>
                  <a:pt x="12876" y="138406"/>
                </a:lnTo>
                <a:lnTo>
                  <a:pt x="41527" y="147359"/>
                </a:lnTo>
                <a:cubicBezTo>
                  <a:pt x="72725" y="153471"/>
                  <a:pt x="105784" y="156526"/>
                  <a:pt x="140704" y="156526"/>
                </a:cubicBezTo>
                <a:cubicBezTo>
                  <a:pt x="282028" y="156526"/>
                  <a:pt x="420066" y="104351"/>
                  <a:pt x="554818" y="0"/>
                </a:cubicBez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24"/>
          <p:cNvSpPr/>
          <p:nvPr/>
        </p:nvSpPr>
        <p:spPr>
          <a:xfrm>
            <a:off x="10477440" y="3948120"/>
            <a:ext cx="249120" cy="233280"/>
          </a:xfrm>
          <a:custGeom>
            <a:avLst/>
            <a:gdLst/>
            <a:ahLst/>
            <a:rect l="l" t="t" r="r" b="b"/>
            <a:pathLst>
              <a:path w="248718" h="233368">
                <a:moveTo>
                  <a:pt x="248718" y="0"/>
                </a:moveTo>
                <a:lnTo>
                  <a:pt x="248718" y="120784"/>
                </a:lnTo>
                <a:cubicBezTo>
                  <a:pt x="183397" y="167208"/>
                  <a:pt x="114275" y="202025"/>
                  <a:pt x="41353" y="225237"/>
                </a:cubicBezTo>
                <a:lnTo>
                  <a:pt x="6405" y="233368"/>
                </a:lnTo>
                <a:lnTo>
                  <a:pt x="5246" y="207089"/>
                </a:lnTo>
                <a:lnTo>
                  <a:pt x="0" y="129830"/>
                </a:lnTo>
                <a:lnTo>
                  <a:pt x="44126" y="117395"/>
                </a:lnTo>
                <a:cubicBezTo>
                  <a:pt x="113145" y="91307"/>
                  <a:pt x="181343" y="52176"/>
                  <a:pt x="248718" y="0"/>
                </a:cubicBez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22"/>
          <p:cNvSpPr/>
          <p:nvPr/>
        </p:nvSpPr>
        <p:spPr>
          <a:xfrm>
            <a:off x="7956720" y="4025880"/>
            <a:ext cx="12600" cy="149400"/>
          </a:xfrm>
          <a:custGeom>
            <a:avLst/>
            <a:gdLst/>
            <a:ahLst/>
            <a:rect l="l" t="t" r="r" b="b"/>
            <a:pathLst>
              <a:path w="11562" h="149317">
                <a:moveTo>
                  <a:pt x="11562" y="0"/>
                </a:moveTo>
                <a:lnTo>
                  <a:pt x="11562" y="149317"/>
                </a:lnTo>
                <a:lnTo>
                  <a:pt x="7924" y="138918"/>
                </a:lnTo>
                <a:cubicBezTo>
                  <a:pt x="-936" y="102505"/>
                  <a:pt x="-3308" y="60734"/>
                  <a:pt x="5691" y="17177"/>
                </a:cubicBezTo>
                <a:lnTo>
                  <a:pt x="1156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任意多边形 21"/>
          <p:cNvSpPr/>
          <p:nvPr/>
        </p:nvSpPr>
        <p:spPr>
          <a:xfrm>
            <a:off x="10010880" y="4048200"/>
            <a:ext cx="260280" cy="154080"/>
          </a:xfrm>
          <a:custGeom>
            <a:avLst/>
            <a:gdLst/>
            <a:ahLst/>
            <a:rect l="l" t="t" r="r" b="b"/>
            <a:pathLst>
              <a:path w="261161" h="154087">
                <a:moveTo>
                  <a:pt x="81686" y="0"/>
                </a:moveTo>
                <a:lnTo>
                  <a:pt x="115367" y="20090"/>
                </a:lnTo>
                <a:cubicBezTo>
                  <a:pt x="142841" y="32313"/>
                  <a:pt x="172177" y="41479"/>
                  <a:pt x="203374" y="47590"/>
                </a:cubicBezTo>
                <a:lnTo>
                  <a:pt x="261161" y="52931"/>
                </a:lnTo>
                <a:lnTo>
                  <a:pt x="214773" y="149357"/>
                </a:lnTo>
                <a:lnTo>
                  <a:pt x="213303" y="154087"/>
                </a:lnTo>
                <a:lnTo>
                  <a:pt x="162971" y="149347"/>
                </a:lnTo>
                <a:cubicBezTo>
                  <a:pt x="126202" y="142055"/>
                  <a:pt x="91385" y="131117"/>
                  <a:pt x="58518" y="116532"/>
                </a:cubicBezTo>
                <a:lnTo>
                  <a:pt x="0" y="82024"/>
                </a:lnTo>
                <a:lnTo>
                  <a:pt x="32845" y="66489"/>
                </a:lnTo>
                <a:cubicBezTo>
                  <a:pt x="58245" y="50614"/>
                  <a:pt x="73167" y="30453"/>
                  <a:pt x="80708" y="6243"/>
                </a:cubicBezTo>
                <a:lnTo>
                  <a:pt x="8168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任意多边形 20"/>
          <p:cNvSpPr/>
          <p:nvPr/>
        </p:nvSpPr>
        <p:spPr>
          <a:xfrm>
            <a:off x="9340920" y="4064040"/>
            <a:ext cx="114120" cy="114120"/>
          </a:xfrm>
          <a:custGeom>
            <a:avLst/>
            <a:gdLst/>
            <a:ahLst/>
            <a:rect l="l" t="t" r="r" b="b"/>
            <a:pathLst>
              <a:path w="113388" h="113265">
                <a:moveTo>
                  <a:pt x="0" y="0"/>
                </a:moveTo>
                <a:lnTo>
                  <a:pt x="6028" y="3698"/>
                </a:lnTo>
                <a:cubicBezTo>
                  <a:pt x="37996" y="22143"/>
                  <a:pt x="67326" y="37899"/>
                  <a:pt x="92408" y="50281"/>
                </a:cubicBezTo>
                <a:lnTo>
                  <a:pt x="113388" y="58460"/>
                </a:lnTo>
                <a:lnTo>
                  <a:pt x="113388" y="113265"/>
                </a:lnTo>
                <a:lnTo>
                  <a:pt x="0" y="113265"/>
                </a:lnTo>
                <a:lnTo>
                  <a:pt x="0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任意多边形 18"/>
          <p:cNvSpPr/>
          <p:nvPr/>
        </p:nvSpPr>
        <p:spPr>
          <a:xfrm>
            <a:off x="7969320" y="4175280"/>
            <a:ext cx="360" cy="2880"/>
          </a:xfrm>
          <a:custGeom>
            <a:avLst/>
            <a:gdLst/>
            <a:ahLst/>
            <a:rect l="l" t="t" r="r" b="b"/>
            <a:pathLst>
              <a:path w="621" h="1775">
                <a:moveTo>
                  <a:pt x="0" y="0"/>
                </a:moveTo>
                <a:lnTo>
                  <a:pt x="621" y="1775"/>
                </a:lnTo>
                <a:lnTo>
                  <a:pt x="0" y="177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"/>
          <p:cNvSpPr/>
          <p:nvPr/>
        </p:nvSpPr>
        <p:spPr>
          <a:xfrm>
            <a:off x="4822560" y="1547640"/>
            <a:ext cx="23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Th"/>
                <a:ea typeface="Roboto Th"/>
              </a:rPr>
              <a:t>You are 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4DC6-774A-4CC1-B5E1-7D42B84B521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7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7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7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7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7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7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7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7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7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7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7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7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7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2" presetSubtype="8">
                                  <p:stCondLst>
                                    <p:cond delay="32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7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7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75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75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2" presetSubtype="8">
                                  <p:stCondLst>
                                    <p:cond delay="19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" presetSubtype="8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7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7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2" presetSubtype="8">
                                  <p:stCondLst>
                                    <p:cond delay="39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7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7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7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7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7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7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2" presetSubtype="8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7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7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7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7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7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7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7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7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2" presetSubtype="8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7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7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ntr" presetID="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7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7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7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7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7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7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7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7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7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7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7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7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7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7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7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7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7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7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7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7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2" presetSubtype="8">
                                  <p:stCondLst>
                                    <p:cond delay="49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7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7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2" presetSubtype="8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2" presetSubtype="8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7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7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7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7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2" presetSubtype="8">
                                  <p:stCondLst>
                                    <p:cond delay="27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2" presetSubtype="8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75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75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2" presetSubtype="8">
                                  <p:stCondLst>
                                    <p:cond delay="43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7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7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7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7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7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8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mph" presetID="8">
                                  <p:stCondLst>
                                    <p:cond delay="325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48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8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8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9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9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9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9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49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mph" presetID="8">
                                  <p:stCondLst>
                                    <p:cond delay="325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50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0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0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mph" presetID="8">
                                  <p:stCondLst>
                                    <p:cond delay="325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50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1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mph" presetID="8">
                                  <p:stCondLst>
                                    <p:cond delay="325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51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1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1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1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2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2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2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2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2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3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3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3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3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4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4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4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4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5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5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mph" presetID="8">
                                  <p:stCondLst>
                                    <p:cond delay="325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55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5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6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6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mph" presetID="8">
                                  <p:stCondLst>
                                    <p:cond delay="325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56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6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7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7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7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mph" presetID="8">
                                  <p:stCondLst>
                                    <p:cond delay="325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57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mph" presetID="8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58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mph" presetID="8">
                                  <p:stCondLst>
                                    <p:cond delay="325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58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任意多边形 64"/>
          <p:cNvSpPr/>
          <p:nvPr/>
        </p:nvSpPr>
        <p:spPr>
          <a:xfrm>
            <a:off x="4073400" y="2309760"/>
            <a:ext cx="114480" cy="500040"/>
          </a:xfrm>
          <a:custGeom>
            <a:avLst/>
            <a:gdLst/>
            <a:ahLst/>
            <a:rect l="l" t="t" r="r" b="b"/>
            <a:pathLst>
              <a:path w="113388" h="499979">
                <a:moveTo>
                  <a:pt x="0" y="0"/>
                </a:moveTo>
                <a:lnTo>
                  <a:pt x="113388" y="0"/>
                </a:lnTo>
                <a:lnTo>
                  <a:pt x="113388" y="378636"/>
                </a:lnTo>
                <a:lnTo>
                  <a:pt x="77874" y="412979"/>
                </a:lnTo>
                <a:cubicBezTo>
                  <a:pt x="52345" y="439426"/>
                  <a:pt x="28155" y="466225"/>
                  <a:pt x="6049" y="492320"/>
                </a:cubicBezTo>
                <a:lnTo>
                  <a:pt x="0" y="499979"/>
                </a:lnTo>
                <a:lnTo>
                  <a:pt x="0" y="0"/>
                </a:ln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任意多边形 66"/>
          <p:cNvSpPr/>
          <p:nvPr/>
        </p:nvSpPr>
        <p:spPr>
          <a:xfrm>
            <a:off x="7931160" y="2409840"/>
            <a:ext cx="189000" cy="187200"/>
          </a:xfrm>
          <a:custGeom>
            <a:avLst/>
            <a:gdLst/>
            <a:ahLst/>
            <a:rect l="l" t="t" r="r" b="b"/>
            <a:pathLst>
              <a:path w="189803" h="187337">
                <a:moveTo>
                  <a:pt x="93669" y="0"/>
                </a:moveTo>
                <a:cubicBezTo>
                  <a:pt x="119141" y="0"/>
                  <a:pt x="141531" y="8216"/>
                  <a:pt x="160839" y="24649"/>
                </a:cubicBezTo>
                <a:cubicBezTo>
                  <a:pt x="180149" y="41083"/>
                  <a:pt x="189803" y="63267"/>
                  <a:pt x="189803" y="91203"/>
                </a:cubicBezTo>
                <a:cubicBezTo>
                  <a:pt x="189803" y="117496"/>
                  <a:pt x="180354" y="140092"/>
                  <a:pt x="161456" y="158990"/>
                </a:cubicBezTo>
                <a:cubicBezTo>
                  <a:pt x="142558" y="177888"/>
                  <a:pt x="119962" y="187337"/>
                  <a:pt x="93669" y="187337"/>
                </a:cubicBezTo>
                <a:cubicBezTo>
                  <a:pt x="69019" y="187337"/>
                  <a:pt x="47246" y="178299"/>
                  <a:pt x="28347" y="160222"/>
                </a:cubicBezTo>
                <a:cubicBezTo>
                  <a:pt x="9450" y="142146"/>
                  <a:pt x="0" y="119140"/>
                  <a:pt x="0" y="91203"/>
                </a:cubicBezTo>
                <a:cubicBezTo>
                  <a:pt x="0" y="64089"/>
                  <a:pt x="9655" y="42109"/>
                  <a:pt x="28964" y="25266"/>
                </a:cubicBezTo>
                <a:cubicBezTo>
                  <a:pt x="48273" y="8422"/>
                  <a:pt x="69841" y="0"/>
                  <a:pt x="93669" y="0"/>
                </a:cubicBez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任意多边形 68"/>
          <p:cNvSpPr/>
          <p:nvPr/>
        </p:nvSpPr>
        <p:spPr>
          <a:xfrm>
            <a:off x="7269120" y="2549520"/>
            <a:ext cx="114480" cy="158760"/>
          </a:xfrm>
          <a:custGeom>
            <a:avLst/>
            <a:gdLst/>
            <a:ahLst/>
            <a:rect l="l" t="t" r="r" b="b"/>
            <a:pathLst>
              <a:path w="113388" h="158420">
                <a:moveTo>
                  <a:pt x="113388" y="0"/>
                </a:moveTo>
                <a:lnTo>
                  <a:pt x="113388" y="158420"/>
                </a:lnTo>
                <a:lnTo>
                  <a:pt x="108460" y="154176"/>
                </a:lnTo>
                <a:cubicBezTo>
                  <a:pt x="80232" y="131137"/>
                  <a:pt x="53265" y="110579"/>
                  <a:pt x="28301" y="93514"/>
                </a:cubicBezTo>
                <a:lnTo>
                  <a:pt x="0" y="77021"/>
                </a:lnTo>
                <a:lnTo>
                  <a:pt x="0" y="38207"/>
                </a:lnTo>
                <a:cubicBezTo>
                  <a:pt x="18076" y="31634"/>
                  <a:pt x="36974" y="25061"/>
                  <a:pt x="56694" y="18488"/>
                </a:cubicBezTo>
                <a:cubicBezTo>
                  <a:pt x="76414" y="12736"/>
                  <a:pt x="95312" y="6574"/>
                  <a:pt x="113388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69"/>
          <p:cNvSpPr/>
          <p:nvPr/>
        </p:nvSpPr>
        <p:spPr>
          <a:xfrm>
            <a:off x="4897440" y="2884320"/>
            <a:ext cx="393840" cy="131760"/>
          </a:xfrm>
          <a:custGeom>
            <a:avLst/>
            <a:gdLst/>
            <a:ahLst/>
            <a:rect l="l" t="t" r="r" b="b"/>
            <a:pathLst>
              <a:path w="394291" h="131690">
                <a:moveTo>
                  <a:pt x="164773" y="0"/>
                </a:moveTo>
                <a:cubicBezTo>
                  <a:pt x="243241" y="0"/>
                  <a:pt x="312568" y="13763"/>
                  <a:pt x="372754" y="41288"/>
                </a:cubicBezTo>
                <a:lnTo>
                  <a:pt x="394291" y="54612"/>
                </a:lnTo>
                <a:lnTo>
                  <a:pt x="386585" y="56075"/>
                </a:lnTo>
                <a:cubicBezTo>
                  <a:pt x="378197" y="59377"/>
                  <a:pt x="369496" y="64506"/>
                  <a:pt x="360447" y="71650"/>
                </a:cubicBezTo>
                <a:cubicBezTo>
                  <a:pt x="351398" y="78794"/>
                  <a:pt x="341516" y="88517"/>
                  <a:pt x="330925" y="100528"/>
                </a:cubicBezTo>
                <a:lnTo>
                  <a:pt x="306222" y="131690"/>
                </a:lnTo>
                <a:lnTo>
                  <a:pt x="240878" y="111077"/>
                </a:lnTo>
                <a:cubicBezTo>
                  <a:pt x="215407" y="106044"/>
                  <a:pt x="188395" y="103528"/>
                  <a:pt x="159842" y="103528"/>
                </a:cubicBezTo>
                <a:cubicBezTo>
                  <a:pt x="130263" y="103528"/>
                  <a:pt x="101954" y="106006"/>
                  <a:pt x="74916" y="110961"/>
                </a:cubicBezTo>
                <a:lnTo>
                  <a:pt x="31721" y="123423"/>
                </a:lnTo>
                <a:lnTo>
                  <a:pt x="27861" y="107190"/>
                </a:lnTo>
                <a:lnTo>
                  <a:pt x="0" y="26584"/>
                </a:lnTo>
                <a:lnTo>
                  <a:pt x="44952" y="11824"/>
                </a:lnTo>
                <a:cubicBezTo>
                  <a:pt x="82929" y="3942"/>
                  <a:pt x="122869" y="0"/>
                  <a:pt x="164773" y="0"/>
                </a:cubicBez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任意多边形 70"/>
          <p:cNvSpPr/>
          <p:nvPr/>
        </p:nvSpPr>
        <p:spPr>
          <a:xfrm>
            <a:off x="6303960" y="2884320"/>
            <a:ext cx="531720" cy="671760"/>
          </a:xfrm>
          <a:custGeom>
            <a:avLst/>
            <a:gdLst/>
            <a:ahLst/>
            <a:rect l="l" t="t" r="r" b="b"/>
            <a:pathLst>
              <a:path w="530836" h="670587">
                <a:moveTo>
                  <a:pt x="109327" y="0"/>
                </a:moveTo>
                <a:cubicBezTo>
                  <a:pt x="245721" y="0"/>
                  <a:pt x="350072" y="45396"/>
                  <a:pt x="422377" y="136189"/>
                </a:cubicBezTo>
                <a:cubicBezTo>
                  <a:pt x="494683" y="226982"/>
                  <a:pt x="530836" y="356598"/>
                  <a:pt x="530836" y="525037"/>
                </a:cubicBezTo>
                <a:lnTo>
                  <a:pt x="530836" y="670587"/>
                </a:lnTo>
                <a:lnTo>
                  <a:pt x="483884" y="645710"/>
                </a:lnTo>
                <a:lnTo>
                  <a:pt x="417447" y="590588"/>
                </a:lnTo>
                <a:lnTo>
                  <a:pt x="417447" y="558314"/>
                </a:lnTo>
                <a:cubicBezTo>
                  <a:pt x="417447" y="255124"/>
                  <a:pt x="308167" y="103528"/>
                  <a:pt x="89607" y="103528"/>
                </a:cubicBezTo>
                <a:lnTo>
                  <a:pt x="64561" y="105931"/>
                </a:lnTo>
                <a:lnTo>
                  <a:pt x="0" y="11154"/>
                </a:lnTo>
                <a:lnTo>
                  <a:pt x="38421" y="4063"/>
                </a:lnTo>
                <a:cubicBezTo>
                  <a:pt x="61248" y="1355"/>
                  <a:pt x="84883" y="0"/>
                  <a:pt x="109327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任意多边形 71"/>
          <p:cNvSpPr/>
          <p:nvPr/>
        </p:nvSpPr>
        <p:spPr>
          <a:xfrm>
            <a:off x="8483760" y="2884320"/>
            <a:ext cx="777600" cy="460440"/>
          </a:xfrm>
          <a:custGeom>
            <a:avLst/>
            <a:gdLst/>
            <a:ahLst/>
            <a:rect l="l" t="t" r="r" b="b"/>
            <a:pathLst>
              <a:path w="777408" h="460195">
                <a:moveTo>
                  <a:pt x="549688" y="0"/>
                </a:moveTo>
                <a:cubicBezTo>
                  <a:pt x="583786" y="0"/>
                  <a:pt x="615882" y="2837"/>
                  <a:pt x="645975" y="8512"/>
                </a:cubicBezTo>
                <a:lnTo>
                  <a:pt x="687881" y="21210"/>
                </a:lnTo>
                <a:lnTo>
                  <a:pt x="706153" y="64551"/>
                </a:lnTo>
                <a:cubicBezTo>
                  <a:pt x="722430" y="100086"/>
                  <a:pt x="740587" y="138087"/>
                  <a:pt x="758764" y="177378"/>
                </a:cubicBezTo>
                <a:lnTo>
                  <a:pt x="777408" y="220007"/>
                </a:lnTo>
                <a:lnTo>
                  <a:pt x="775848" y="217225"/>
                </a:lnTo>
                <a:cubicBezTo>
                  <a:pt x="721208" y="141427"/>
                  <a:pt x="639248" y="103528"/>
                  <a:pt x="529968" y="103528"/>
                </a:cubicBezTo>
                <a:cubicBezTo>
                  <a:pt x="408362" y="103528"/>
                  <a:pt x="308531" y="148103"/>
                  <a:pt x="230474" y="237253"/>
                </a:cubicBezTo>
                <a:lnTo>
                  <a:pt x="224551" y="245443"/>
                </a:lnTo>
                <a:lnTo>
                  <a:pt x="218696" y="239290"/>
                </a:lnTo>
                <a:cubicBezTo>
                  <a:pt x="147576" y="165630"/>
                  <a:pt x="231396" y="188490"/>
                  <a:pt x="112016" y="330730"/>
                </a:cubicBezTo>
                <a:cubicBezTo>
                  <a:pt x="97094" y="348510"/>
                  <a:pt x="77726" y="370973"/>
                  <a:pt x="55089" y="397018"/>
                </a:cubicBezTo>
                <a:lnTo>
                  <a:pt x="0" y="460195"/>
                </a:lnTo>
                <a:lnTo>
                  <a:pt x="0" y="30812"/>
                </a:lnTo>
                <a:lnTo>
                  <a:pt x="113388" y="30812"/>
                </a:lnTo>
                <a:lnTo>
                  <a:pt x="113388" y="260054"/>
                </a:lnTo>
                <a:lnTo>
                  <a:pt x="118318" y="260054"/>
                </a:lnTo>
                <a:cubicBezTo>
                  <a:pt x="210344" y="86684"/>
                  <a:pt x="354133" y="0"/>
                  <a:pt x="549688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任意多边形 72"/>
          <p:cNvSpPr/>
          <p:nvPr/>
        </p:nvSpPr>
        <p:spPr>
          <a:xfrm>
            <a:off x="10299600" y="2884320"/>
            <a:ext cx="498600" cy="667080"/>
          </a:xfrm>
          <a:custGeom>
            <a:avLst/>
            <a:gdLst/>
            <a:ahLst/>
            <a:rect l="l" t="t" r="r" b="b"/>
            <a:pathLst>
              <a:path w="498330" h="666773">
                <a:moveTo>
                  <a:pt x="11499" y="0"/>
                </a:moveTo>
                <a:cubicBezTo>
                  <a:pt x="168435" y="0"/>
                  <a:pt x="288808" y="55051"/>
                  <a:pt x="372616" y="165152"/>
                </a:cubicBezTo>
                <a:cubicBezTo>
                  <a:pt x="456425" y="275254"/>
                  <a:pt x="498330" y="425617"/>
                  <a:pt x="498330" y="616241"/>
                </a:cubicBezTo>
                <a:lnTo>
                  <a:pt x="498330" y="646658"/>
                </a:lnTo>
                <a:lnTo>
                  <a:pt x="483997" y="666773"/>
                </a:lnTo>
                <a:lnTo>
                  <a:pt x="120150" y="666773"/>
                </a:lnTo>
                <a:lnTo>
                  <a:pt x="109349" y="587250"/>
                </a:lnTo>
                <a:lnTo>
                  <a:pt x="105650" y="563244"/>
                </a:lnTo>
                <a:lnTo>
                  <a:pt x="380011" y="563244"/>
                </a:lnTo>
                <a:cubicBezTo>
                  <a:pt x="375081" y="417811"/>
                  <a:pt x="340161" y="304834"/>
                  <a:pt x="275250" y="224312"/>
                </a:cubicBezTo>
                <a:cubicBezTo>
                  <a:pt x="226567" y="163920"/>
                  <a:pt x="164019" y="126175"/>
                  <a:pt x="87605" y="111077"/>
                </a:cubicBezTo>
                <a:lnTo>
                  <a:pt x="25971" y="105336"/>
                </a:lnTo>
                <a:lnTo>
                  <a:pt x="18579" y="71650"/>
                </a:lnTo>
                <a:lnTo>
                  <a:pt x="0" y="1135"/>
                </a:lnTo>
                <a:lnTo>
                  <a:pt x="1149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任意多边形 73"/>
          <p:cNvSpPr/>
          <p:nvPr/>
        </p:nvSpPr>
        <p:spPr>
          <a:xfrm>
            <a:off x="3343320" y="2889360"/>
            <a:ext cx="349200" cy="814320"/>
          </a:xfrm>
          <a:custGeom>
            <a:avLst/>
            <a:gdLst/>
            <a:ahLst/>
            <a:rect l="l" t="t" r="r" b="b"/>
            <a:pathLst>
              <a:path w="350162" h="814242">
                <a:moveTo>
                  <a:pt x="0" y="0"/>
                </a:moveTo>
                <a:lnTo>
                  <a:pt x="34069" y="2800"/>
                </a:lnTo>
                <a:cubicBezTo>
                  <a:pt x="120420" y="17898"/>
                  <a:pt x="190248" y="55643"/>
                  <a:pt x="243553" y="116034"/>
                </a:cubicBezTo>
                <a:cubicBezTo>
                  <a:pt x="314626" y="196556"/>
                  <a:pt x="350162" y="313642"/>
                  <a:pt x="350162" y="467292"/>
                </a:cubicBezTo>
                <a:lnTo>
                  <a:pt x="350162" y="814242"/>
                </a:lnTo>
                <a:lnTo>
                  <a:pt x="318010" y="729110"/>
                </a:lnTo>
                <a:cubicBezTo>
                  <a:pt x="304601" y="694596"/>
                  <a:pt x="290182" y="658374"/>
                  <a:pt x="274952" y="620899"/>
                </a:cubicBezTo>
                <a:lnTo>
                  <a:pt x="227723" y="506850"/>
                </a:lnTo>
                <a:lnTo>
                  <a:pt x="236774" y="505499"/>
                </a:lnTo>
                <a:cubicBezTo>
                  <a:pt x="236774" y="302139"/>
                  <a:pt x="179464" y="175039"/>
                  <a:pt x="64843" y="124199"/>
                </a:cubicBezTo>
                <a:lnTo>
                  <a:pt x="57420" y="121920"/>
                </a:lnTo>
                <a:lnTo>
                  <a:pt x="10550" y="21800"/>
                </a:lnTo>
                <a:lnTo>
                  <a:pt x="0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任意多边形 74"/>
          <p:cNvSpPr/>
          <p:nvPr/>
        </p:nvSpPr>
        <p:spPr>
          <a:xfrm>
            <a:off x="2868480" y="2911320"/>
            <a:ext cx="255600" cy="244800"/>
          </a:xfrm>
          <a:custGeom>
            <a:avLst/>
            <a:gdLst/>
            <a:ahLst/>
            <a:rect l="l" t="t" r="r" b="b"/>
            <a:pathLst>
              <a:path w="254505" h="243816">
                <a:moveTo>
                  <a:pt x="238163" y="0"/>
                </a:moveTo>
                <a:lnTo>
                  <a:pt x="239377" y="7172"/>
                </a:lnTo>
                <a:lnTo>
                  <a:pt x="254505" y="101310"/>
                </a:lnTo>
                <a:lnTo>
                  <a:pt x="199971" y="118103"/>
                </a:lnTo>
                <a:cubicBezTo>
                  <a:pt x="132390" y="146039"/>
                  <a:pt x="65733" y="187944"/>
                  <a:pt x="0" y="243816"/>
                </a:cubicBezTo>
                <a:lnTo>
                  <a:pt x="0" y="107010"/>
                </a:lnTo>
                <a:cubicBezTo>
                  <a:pt x="46835" y="70036"/>
                  <a:pt x="110308" y="38402"/>
                  <a:pt x="190419" y="12109"/>
                </a:cubicBezTo>
                <a:lnTo>
                  <a:pt x="238163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任意多边形 75"/>
          <p:cNvSpPr/>
          <p:nvPr/>
        </p:nvSpPr>
        <p:spPr>
          <a:xfrm>
            <a:off x="5864400" y="2916360"/>
            <a:ext cx="382320" cy="969840"/>
          </a:xfrm>
          <a:custGeom>
            <a:avLst/>
            <a:gdLst/>
            <a:ahLst/>
            <a:rect l="l" t="t" r="r" b="b"/>
            <a:pathLst>
              <a:path w="382012" h="970478">
                <a:moveTo>
                  <a:pt x="0" y="0"/>
                </a:moveTo>
                <a:lnTo>
                  <a:pt x="113388" y="0"/>
                </a:lnTo>
                <a:lnTo>
                  <a:pt x="113388" y="229242"/>
                </a:lnTo>
                <a:lnTo>
                  <a:pt x="118318" y="229242"/>
                </a:lnTo>
                <a:cubicBezTo>
                  <a:pt x="164331" y="142557"/>
                  <a:pt x="223285" y="77544"/>
                  <a:pt x="295180" y="34201"/>
                </a:cubicBezTo>
                <a:lnTo>
                  <a:pt x="344161" y="9477"/>
                </a:lnTo>
                <a:lnTo>
                  <a:pt x="352045" y="27503"/>
                </a:lnTo>
                <a:lnTo>
                  <a:pt x="382012" y="100392"/>
                </a:lnTo>
                <a:lnTo>
                  <a:pt x="363890" y="106147"/>
                </a:lnTo>
                <a:cubicBezTo>
                  <a:pt x="313974" y="128435"/>
                  <a:pt x="269503" y="161866"/>
                  <a:pt x="230474" y="206441"/>
                </a:cubicBezTo>
                <a:cubicBezTo>
                  <a:pt x="152417" y="295590"/>
                  <a:pt x="113388" y="405897"/>
                  <a:pt x="113388" y="537362"/>
                </a:cubicBezTo>
                <a:lnTo>
                  <a:pt x="113388" y="937020"/>
                </a:lnTo>
                <a:lnTo>
                  <a:pt x="73945" y="957962"/>
                </a:lnTo>
                <a:cubicBezTo>
                  <a:pt x="53556" y="966073"/>
                  <a:pt x="34863" y="970478"/>
                  <a:pt x="18670" y="970478"/>
                </a:cubicBezTo>
                <a:lnTo>
                  <a:pt x="0" y="967517"/>
                </a:lnTo>
                <a:lnTo>
                  <a:pt x="0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76"/>
          <p:cNvSpPr/>
          <p:nvPr/>
        </p:nvSpPr>
        <p:spPr>
          <a:xfrm>
            <a:off x="7042320" y="2916360"/>
            <a:ext cx="72720" cy="102960"/>
          </a:xfrm>
          <a:custGeom>
            <a:avLst/>
            <a:gdLst/>
            <a:ahLst/>
            <a:rect l="l" t="t" r="r" b="b"/>
            <a:pathLst>
              <a:path w="71829" h="103528">
                <a:moveTo>
                  <a:pt x="0" y="0"/>
                </a:moveTo>
                <a:lnTo>
                  <a:pt x="64320" y="0"/>
                </a:lnTo>
                <a:lnTo>
                  <a:pt x="64533" y="7858"/>
                </a:lnTo>
                <a:cubicBezTo>
                  <a:pt x="66215" y="39370"/>
                  <a:pt x="68606" y="70366"/>
                  <a:pt x="71364" y="99417"/>
                </a:cubicBezTo>
                <a:lnTo>
                  <a:pt x="71829" y="103528"/>
                </a:lnTo>
                <a:lnTo>
                  <a:pt x="0" y="103528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任意多边形 77"/>
          <p:cNvSpPr/>
          <p:nvPr/>
        </p:nvSpPr>
        <p:spPr>
          <a:xfrm>
            <a:off x="7610400" y="2916360"/>
            <a:ext cx="104760" cy="102960"/>
          </a:xfrm>
          <a:custGeom>
            <a:avLst/>
            <a:gdLst/>
            <a:ahLst/>
            <a:rect l="l" t="t" r="r" b="b"/>
            <a:pathLst>
              <a:path w="105790" h="103528">
                <a:moveTo>
                  <a:pt x="0" y="0"/>
                </a:moveTo>
                <a:lnTo>
                  <a:pt x="105790" y="0"/>
                </a:lnTo>
                <a:lnTo>
                  <a:pt x="105790" y="103528"/>
                </a:lnTo>
                <a:lnTo>
                  <a:pt x="104355" y="103528"/>
                </a:lnTo>
                <a:lnTo>
                  <a:pt x="36071" y="3512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78"/>
          <p:cNvSpPr/>
          <p:nvPr/>
        </p:nvSpPr>
        <p:spPr>
          <a:xfrm>
            <a:off x="7969320" y="2916360"/>
            <a:ext cx="114120" cy="479160"/>
          </a:xfrm>
          <a:custGeom>
            <a:avLst/>
            <a:gdLst/>
            <a:ahLst/>
            <a:rect l="l" t="t" r="r" b="b"/>
            <a:pathLst>
              <a:path w="113389" h="480372">
                <a:moveTo>
                  <a:pt x="0" y="0"/>
                </a:moveTo>
                <a:lnTo>
                  <a:pt x="113389" y="0"/>
                </a:lnTo>
                <a:lnTo>
                  <a:pt x="113389" y="480372"/>
                </a:lnTo>
                <a:lnTo>
                  <a:pt x="104396" y="469463"/>
                </a:lnTo>
                <a:lnTo>
                  <a:pt x="0" y="35982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79"/>
          <p:cNvSpPr/>
          <p:nvPr/>
        </p:nvSpPr>
        <p:spPr>
          <a:xfrm>
            <a:off x="5400720" y="3027240"/>
            <a:ext cx="138240" cy="328680"/>
          </a:xfrm>
          <a:custGeom>
            <a:avLst/>
            <a:gdLst/>
            <a:ahLst/>
            <a:rect l="l" t="t" r="r" b="b"/>
            <a:pathLst>
              <a:path w="137885" h="328007">
                <a:moveTo>
                  <a:pt x="0" y="0"/>
                </a:moveTo>
                <a:lnTo>
                  <a:pt x="22099" y="22905"/>
                </a:lnTo>
                <a:cubicBezTo>
                  <a:pt x="64004" y="77956"/>
                  <a:pt x="95432" y="143072"/>
                  <a:pt x="116384" y="218254"/>
                </a:cubicBezTo>
                <a:lnTo>
                  <a:pt x="137885" y="328007"/>
                </a:lnTo>
                <a:lnTo>
                  <a:pt x="124398" y="303200"/>
                </a:lnTo>
                <a:cubicBezTo>
                  <a:pt x="89066" y="226464"/>
                  <a:pt x="58110" y="128476"/>
                  <a:pt x="24296" y="49418"/>
                </a:cubicBezTo>
                <a:lnTo>
                  <a:pt x="0" y="0"/>
                </a:lnTo>
                <a:close/>
              </a:path>
            </a:pathLst>
          </a:custGeom>
          <a:solidFill>
            <a:srgbClr val="e55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80"/>
          <p:cNvSpPr/>
          <p:nvPr/>
        </p:nvSpPr>
        <p:spPr>
          <a:xfrm>
            <a:off x="9261360" y="3105000"/>
            <a:ext cx="63720" cy="165240"/>
          </a:xfrm>
          <a:custGeom>
            <a:avLst/>
            <a:gdLst/>
            <a:ahLst/>
            <a:rect l="l" t="t" r="r" b="b"/>
            <a:pathLst>
              <a:path w="64330" h="165905">
                <a:moveTo>
                  <a:pt x="0" y="0"/>
                </a:moveTo>
                <a:lnTo>
                  <a:pt x="34298" y="61172"/>
                </a:lnTo>
                <a:cubicBezTo>
                  <a:pt x="44542" y="84859"/>
                  <a:pt x="53080" y="110914"/>
                  <a:pt x="59910" y="139338"/>
                </a:cubicBezTo>
                <a:lnTo>
                  <a:pt x="64330" y="165905"/>
                </a:lnTo>
                <a:lnTo>
                  <a:pt x="34085" y="7793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81"/>
          <p:cNvSpPr/>
          <p:nvPr/>
        </p:nvSpPr>
        <p:spPr>
          <a:xfrm>
            <a:off x="9744120" y="3147840"/>
            <a:ext cx="347760" cy="982800"/>
          </a:xfrm>
          <a:custGeom>
            <a:avLst/>
            <a:gdLst/>
            <a:ahLst/>
            <a:rect l="l" t="t" r="r" b="b"/>
            <a:pathLst>
              <a:path w="347311" h="982225">
                <a:moveTo>
                  <a:pt x="106271" y="0"/>
                </a:moveTo>
                <a:lnTo>
                  <a:pt x="113447" y="32407"/>
                </a:lnTo>
                <a:cubicBezTo>
                  <a:pt x="122059" y="64454"/>
                  <a:pt x="132199" y="97326"/>
                  <a:pt x="143242" y="130499"/>
                </a:cubicBezTo>
                <a:lnTo>
                  <a:pt x="153904" y="160750"/>
                </a:lnTo>
                <a:lnTo>
                  <a:pt x="142391" y="195553"/>
                </a:lnTo>
                <a:cubicBezTo>
                  <a:pt x="134149" y="228239"/>
                  <a:pt x="127768" y="263070"/>
                  <a:pt x="123249" y="300044"/>
                </a:cubicBezTo>
                <a:lnTo>
                  <a:pt x="204502" y="300044"/>
                </a:lnTo>
                <a:lnTo>
                  <a:pt x="215335" y="329006"/>
                </a:lnTo>
                <a:lnTo>
                  <a:pt x="242889" y="403573"/>
                </a:lnTo>
                <a:lnTo>
                  <a:pt x="118319" y="403573"/>
                </a:lnTo>
                <a:cubicBezTo>
                  <a:pt x="118319" y="576942"/>
                  <a:pt x="158374" y="712515"/>
                  <a:pt x="238486" y="810292"/>
                </a:cubicBezTo>
                <a:cubicBezTo>
                  <a:pt x="258514" y="834736"/>
                  <a:pt x="280403" y="856125"/>
                  <a:pt x="304154" y="874458"/>
                </a:cubicBezTo>
                <a:lnTo>
                  <a:pt x="347311" y="900201"/>
                </a:lnTo>
                <a:lnTo>
                  <a:pt x="346333" y="906444"/>
                </a:lnTo>
                <a:cubicBezTo>
                  <a:pt x="338792" y="930654"/>
                  <a:pt x="323870" y="950815"/>
                  <a:pt x="298470" y="966690"/>
                </a:cubicBezTo>
                <a:lnTo>
                  <a:pt x="265625" y="982225"/>
                </a:lnTo>
                <a:lnTo>
                  <a:pt x="231399" y="962042"/>
                </a:lnTo>
                <a:cubicBezTo>
                  <a:pt x="202435" y="940166"/>
                  <a:pt x="175424" y="914643"/>
                  <a:pt x="150363" y="885474"/>
                </a:cubicBezTo>
                <a:cubicBezTo>
                  <a:pt x="50122" y="768799"/>
                  <a:pt x="0" y="604057"/>
                  <a:pt x="0" y="391248"/>
                </a:cubicBezTo>
                <a:cubicBezTo>
                  <a:pt x="0" y="253210"/>
                  <a:pt x="29464" y="131464"/>
                  <a:pt x="88393" y="26010"/>
                </a:cubicBezTo>
                <a:lnTo>
                  <a:pt x="106271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任意多边形 82"/>
          <p:cNvSpPr/>
          <p:nvPr/>
        </p:nvSpPr>
        <p:spPr>
          <a:xfrm>
            <a:off x="9328320" y="3240000"/>
            <a:ext cx="126720" cy="882720"/>
          </a:xfrm>
          <a:custGeom>
            <a:avLst/>
            <a:gdLst/>
            <a:ahLst/>
            <a:rect l="l" t="t" r="r" b="b"/>
            <a:pathLst>
              <a:path w="127156" h="882659">
                <a:moveTo>
                  <a:pt x="110534" y="0"/>
                </a:moveTo>
                <a:lnTo>
                  <a:pt x="120377" y="50577"/>
                </a:lnTo>
                <a:cubicBezTo>
                  <a:pt x="124896" y="87834"/>
                  <a:pt x="127156" y="127517"/>
                  <a:pt x="127156" y="169627"/>
                </a:cubicBezTo>
                <a:lnTo>
                  <a:pt x="127156" y="882659"/>
                </a:lnTo>
                <a:lnTo>
                  <a:pt x="106176" y="874480"/>
                </a:lnTo>
                <a:cubicBezTo>
                  <a:pt x="81094" y="862098"/>
                  <a:pt x="51764" y="846342"/>
                  <a:pt x="19796" y="827897"/>
                </a:cubicBezTo>
                <a:lnTo>
                  <a:pt x="13768" y="824199"/>
                </a:lnTo>
                <a:lnTo>
                  <a:pt x="13768" y="282154"/>
                </a:lnTo>
                <a:lnTo>
                  <a:pt x="14736" y="280120"/>
                </a:lnTo>
                <a:cubicBezTo>
                  <a:pt x="37596" y="218525"/>
                  <a:pt x="30770" y="143278"/>
                  <a:pt x="9140" y="63783"/>
                </a:cubicBezTo>
                <a:lnTo>
                  <a:pt x="0" y="37198"/>
                </a:lnTo>
                <a:lnTo>
                  <a:pt x="55694" y="18182"/>
                </a:lnTo>
                <a:lnTo>
                  <a:pt x="110534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任意多边形 83"/>
          <p:cNvSpPr/>
          <p:nvPr/>
        </p:nvSpPr>
        <p:spPr>
          <a:xfrm>
            <a:off x="9325080" y="3270240"/>
            <a:ext cx="3240" cy="7920"/>
          </a:xfrm>
          <a:custGeom>
            <a:avLst/>
            <a:gdLst/>
            <a:ahLst/>
            <a:rect l="l" t="t" r="r" b="b"/>
            <a:pathLst>
              <a:path w="2302" h="7080">
                <a:moveTo>
                  <a:pt x="0" y="0"/>
                </a:moveTo>
                <a:lnTo>
                  <a:pt x="2302" y="6696"/>
                </a:lnTo>
                <a:lnTo>
                  <a:pt x="1177" y="708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任意多边形 84"/>
          <p:cNvSpPr/>
          <p:nvPr/>
        </p:nvSpPr>
        <p:spPr>
          <a:xfrm>
            <a:off x="7269120" y="3289320"/>
            <a:ext cx="119160" cy="709560"/>
          </a:xfrm>
          <a:custGeom>
            <a:avLst/>
            <a:gdLst/>
            <a:ahLst/>
            <a:rect l="l" t="t" r="r" b="b"/>
            <a:pathLst>
              <a:path w="119669" h="709039">
                <a:moveTo>
                  <a:pt x="0" y="0"/>
                </a:moveTo>
                <a:lnTo>
                  <a:pt x="17615" y="14093"/>
                </a:lnTo>
                <a:cubicBezTo>
                  <a:pt x="27071" y="23226"/>
                  <a:pt x="36477" y="34140"/>
                  <a:pt x="45684" y="47475"/>
                </a:cubicBezTo>
                <a:cubicBezTo>
                  <a:pt x="54892" y="60810"/>
                  <a:pt x="67711" y="75455"/>
                  <a:pt x="82861" y="91186"/>
                </a:cubicBezTo>
                <a:lnTo>
                  <a:pt x="113388" y="121154"/>
                </a:lnTo>
                <a:lnTo>
                  <a:pt x="113388" y="562324"/>
                </a:lnTo>
                <a:cubicBezTo>
                  <a:pt x="113388" y="584098"/>
                  <a:pt x="114248" y="604370"/>
                  <a:pt x="115969" y="623139"/>
                </a:cubicBezTo>
                <a:lnTo>
                  <a:pt x="119669" y="647901"/>
                </a:lnTo>
                <a:lnTo>
                  <a:pt x="112359" y="652551"/>
                </a:lnTo>
                <a:cubicBezTo>
                  <a:pt x="89539" y="666461"/>
                  <a:pt x="65468" y="680585"/>
                  <a:pt x="40482" y="694784"/>
                </a:cubicBezTo>
                <a:lnTo>
                  <a:pt x="14647" y="709039"/>
                </a:lnTo>
                <a:lnTo>
                  <a:pt x="4371" y="655684"/>
                </a:lnTo>
                <a:cubicBezTo>
                  <a:pt x="1457" y="631240"/>
                  <a:pt x="0" y="605050"/>
                  <a:pt x="0" y="577113"/>
                </a:cubicBezTo>
                <a:lnTo>
                  <a:pt x="0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任意多边形 85"/>
          <p:cNvSpPr/>
          <p:nvPr/>
        </p:nvSpPr>
        <p:spPr>
          <a:xfrm>
            <a:off x="4908600" y="3448080"/>
            <a:ext cx="65160" cy="103320"/>
          </a:xfrm>
          <a:custGeom>
            <a:avLst/>
            <a:gdLst/>
            <a:ahLst/>
            <a:rect l="l" t="t" r="r" b="b"/>
            <a:pathLst>
              <a:path w="65610" h="103529">
                <a:moveTo>
                  <a:pt x="49283" y="0"/>
                </a:moveTo>
                <a:lnTo>
                  <a:pt x="65610" y="0"/>
                </a:lnTo>
                <a:lnTo>
                  <a:pt x="63751" y="103529"/>
                </a:lnTo>
                <a:lnTo>
                  <a:pt x="0" y="103529"/>
                </a:lnTo>
                <a:lnTo>
                  <a:pt x="36349" y="25614"/>
                </a:lnTo>
                <a:lnTo>
                  <a:pt x="4928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任意多边形 86"/>
          <p:cNvSpPr/>
          <p:nvPr/>
        </p:nvSpPr>
        <p:spPr>
          <a:xfrm>
            <a:off x="2754360" y="3456000"/>
            <a:ext cx="428400" cy="663480"/>
          </a:xfrm>
          <a:custGeom>
            <a:avLst/>
            <a:gdLst/>
            <a:ahLst/>
            <a:rect l="l" t="t" r="r" b="b"/>
            <a:pathLst>
              <a:path w="428515" h="663412">
                <a:moveTo>
                  <a:pt x="425306" y="0"/>
                </a:moveTo>
                <a:lnTo>
                  <a:pt x="428515" y="86496"/>
                </a:lnTo>
                <a:lnTo>
                  <a:pt x="427967" y="102546"/>
                </a:lnTo>
                <a:lnTo>
                  <a:pt x="386383" y="109959"/>
                </a:lnTo>
                <a:cubicBezTo>
                  <a:pt x="301958" y="128523"/>
                  <a:pt x="239717" y="153674"/>
                  <a:pt x="199662" y="185410"/>
                </a:cubicBezTo>
                <a:cubicBezTo>
                  <a:pt x="146254" y="227725"/>
                  <a:pt x="119550" y="296539"/>
                  <a:pt x="119550" y="391851"/>
                </a:cubicBezTo>
                <a:cubicBezTo>
                  <a:pt x="119550" y="466621"/>
                  <a:pt x="144405" y="528245"/>
                  <a:pt x="194116" y="576723"/>
                </a:cubicBezTo>
                <a:lnTo>
                  <a:pt x="202664" y="583365"/>
                </a:lnTo>
                <a:lnTo>
                  <a:pt x="141589" y="644884"/>
                </a:lnTo>
                <a:lnTo>
                  <a:pt x="119615" y="663412"/>
                </a:lnTo>
                <a:lnTo>
                  <a:pt x="104761" y="651905"/>
                </a:lnTo>
                <a:cubicBezTo>
                  <a:pt x="34920" y="584529"/>
                  <a:pt x="0" y="499487"/>
                  <a:pt x="0" y="396781"/>
                </a:cubicBezTo>
                <a:cubicBezTo>
                  <a:pt x="0" y="204103"/>
                  <a:pt x="111661" y="78107"/>
                  <a:pt x="334984" y="18793"/>
                </a:cubicBezTo>
                <a:lnTo>
                  <a:pt x="42530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任意多边形 87"/>
          <p:cNvSpPr/>
          <p:nvPr/>
        </p:nvSpPr>
        <p:spPr>
          <a:xfrm>
            <a:off x="4073400" y="3459240"/>
            <a:ext cx="114480" cy="461880"/>
          </a:xfrm>
          <a:custGeom>
            <a:avLst/>
            <a:gdLst/>
            <a:ahLst/>
            <a:rect l="l" t="t" r="r" b="b"/>
            <a:pathLst>
              <a:path w="113388" h="460963">
                <a:moveTo>
                  <a:pt x="0" y="0"/>
                </a:moveTo>
                <a:lnTo>
                  <a:pt x="47602" y="40780"/>
                </a:lnTo>
                <a:lnTo>
                  <a:pt x="113388" y="87064"/>
                </a:lnTo>
                <a:lnTo>
                  <a:pt x="113388" y="424117"/>
                </a:lnTo>
                <a:lnTo>
                  <a:pt x="44923" y="447571"/>
                </a:lnTo>
                <a:lnTo>
                  <a:pt x="0" y="460963"/>
                </a:lnTo>
                <a:lnTo>
                  <a:pt x="0" y="0"/>
                </a:lnTo>
                <a:close/>
              </a:path>
            </a:pathLst>
          </a:custGeom>
          <a:solidFill>
            <a:srgbClr val="e55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任意多边形 88"/>
          <p:cNvSpPr/>
          <p:nvPr/>
        </p:nvSpPr>
        <p:spPr>
          <a:xfrm>
            <a:off x="7969320" y="3828960"/>
            <a:ext cx="114120" cy="349200"/>
          </a:xfrm>
          <a:custGeom>
            <a:avLst/>
            <a:gdLst/>
            <a:ahLst/>
            <a:rect l="l" t="t" r="r" b="b"/>
            <a:pathLst>
              <a:path w="113389" h="348688">
                <a:moveTo>
                  <a:pt x="113389" y="0"/>
                </a:moveTo>
                <a:lnTo>
                  <a:pt x="113389" y="348688"/>
                </a:lnTo>
                <a:lnTo>
                  <a:pt x="621" y="348688"/>
                </a:lnTo>
                <a:lnTo>
                  <a:pt x="0" y="346913"/>
                </a:lnTo>
                <a:lnTo>
                  <a:pt x="0" y="197596"/>
                </a:lnTo>
                <a:lnTo>
                  <a:pt x="16766" y="148544"/>
                </a:lnTo>
                <a:cubicBezTo>
                  <a:pt x="27561" y="126319"/>
                  <a:pt x="43317" y="99967"/>
                  <a:pt x="62858" y="70588"/>
                </a:cubicBezTo>
                <a:lnTo>
                  <a:pt x="113389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任意多边形 89"/>
          <p:cNvSpPr/>
          <p:nvPr/>
        </p:nvSpPr>
        <p:spPr>
          <a:xfrm>
            <a:off x="4695840" y="3959280"/>
            <a:ext cx="241200" cy="237960"/>
          </a:xfrm>
          <a:custGeom>
            <a:avLst/>
            <a:gdLst/>
            <a:ahLst/>
            <a:rect l="l" t="t" r="r" b="b"/>
            <a:pathLst>
              <a:path w="241428" h="238991">
                <a:moveTo>
                  <a:pt x="39509" y="0"/>
                </a:moveTo>
                <a:lnTo>
                  <a:pt x="39566" y="88"/>
                </a:lnTo>
                <a:cubicBezTo>
                  <a:pt x="79622" y="48977"/>
                  <a:pt x="127124" y="85643"/>
                  <a:pt x="182072" y="110087"/>
                </a:cubicBezTo>
                <a:lnTo>
                  <a:pt x="241428" y="128634"/>
                </a:lnTo>
                <a:lnTo>
                  <a:pt x="232662" y="206849"/>
                </a:lnTo>
                <a:lnTo>
                  <a:pt x="228552" y="238991"/>
                </a:lnTo>
                <a:lnTo>
                  <a:pt x="125224" y="206529"/>
                </a:lnTo>
                <a:cubicBezTo>
                  <a:pt x="92358" y="191945"/>
                  <a:pt x="61443" y="173715"/>
                  <a:pt x="32480" y="151838"/>
                </a:cubicBezTo>
                <a:lnTo>
                  <a:pt x="0" y="121149"/>
                </a:lnTo>
                <a:lnTo>
                  <a:pt x="13373" y="75250"/>
                </a:lnTo>
                <a:cubicBezTo>
                  <a:pt x="19380" y="56433"/>
                  <a:pt x="26424" y="35814"/>
                  <a:pt x="34378" y="13685"/>
                </a:cubicBezTo>
                <a:lnTo>
                  <a:pt x="3950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任意多边形 90"/>
          <p:cNvSpPr/>
          <p:nvPr/>
        </p:nvSpPr>
        <p:spPr>
          <a:xfrm>
            <a:off x="3579840" y="4032360"/>
            <a:ext cx="112680" cy="145800"/>
          </a:xfrm>
          <a:custGeom>
            <a:avLst/>
            <a:gdLst/>
            <a:ahLst/>
            <a:rect l="l" t="t" r="r" b="b"/>
            <a:pathLst>
              <a:path w="113388" h="144774">
                <a:moveTo>
                  <a:pt x="113388" y="0"/>
                </a:moveTo>
                <a:lnTo>
                  <a:pt x="113388" y="144774"/>
                </a:lnTo>
                <a:lnTo>
                  <a:pt x="0" y="144774"/>
                </a:lnTo>
                <a:lnTo>
                  <a:pt x="0" y="42688"/>
                </a:lnTo>
                <a:lnTo>
                  <a:pt x="27165" y="30608"/>
                </a:lnTo>
                <a:cubicBezTo>
                  <a:pt x="42316" y="24504"/>
                  <a:pt x="58930" y="18343"/>
                  <a:pt x="76747" y="12129"/>
                </a:cubicBezTo>
                <a:lnTo>
                  <a:pt x="113388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任意多边形 91"/>
          <p:cNvSpPr/>
          <p:nvPr/>
        </p:nvSpPr>
        <p:spPr>
          <a:xfrm>
            <a:off x="6721560" y="4051440"/>
            <a:ext cx="114120" cy="126720"/>
          </a:xfrm>
          <a:custGeom>
            <a:avLst/>
            <a:gdLst/>
            <a:ahLst/>
            <a:rect l="l" t="t" r="r" b="b"/>
            <a:pathLst>
              <a:path w="113389" h="127380">
                <a:moveTo>
                  <a:pt x="113389" y="0"/>
                </a:moveTo>
                <a:lnTo>
                  <a:pt x="113389" y="127380"/>
                </a:lnTo>
                <a:lnTo>
                  <a:pt x="0" y="127380"/>
                </a:lnTo>
                <a:lnTo>
                  <a:pt x="0" y="102117"/>
                </a:lnTo>
                <a:lnTo>
                  <a:pt x="8186" y="94623"/>
                </a:lnTo>
                <a:cubicBezTo>
                  <a:pt x="39326" y="66440"/>
                  <a:pt x="73596" y="35901"/>
                  <a:pt x="108601" y="4388"/>
                </a:cubicBezTo>
                <a:lnTo>
                  <a:pt x="11338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任意多边形 92"/>
          <p:cNvSpPr/>
          <p:nvPr/>
        </p:nvSpPr>
        <p:spPr>
          <a:xfrm>
            <a:off x="10223640" y="4078440"/>
            <a:ext cx="260280" cy="129960"/>
          </a:xfrm>
          <a:custGeom>
            <a:avLst/>
            <a:gdLst/>
            <a:ahLst/>
            <a:rect l="l" t="t" r="r" b="b"/>
            <a:pathLst>
              <a:path w="261048" h="130224">
                <a:moveTo>
                  <a:pt x="254643" y="0"/>
                </a:moveTo>
                <a:lnTo>
                  <a:pt x="259889" y="77259"/>
                </a:lnTo>
                <a:lnTo>
                  <a:pt x="261048" y="103538"/>
                </a:lnTo>
                <a:lnTo>
                  <a:pt x="183763" y="121520"/>
                </a:lnTo>
                <a:cubicBezTo>
                  <a:pt x="145402" y="127323"/>
                  <a:pt x="106091" y="130224"/>
                  <a:pt x="65830" y="130224"/>
                </a:cubicBezTo>
                <a:lnTo>
                  <a:pt x="0" y="124026"/>
                </a:lnTo>
                <a:lnTo>
                  <a:pt x="1470" y="119296"/>
                </a:lnTo>
                <a:lnTo>
                  <a:pt x="47858" y="22870"/>
                </a:lnTo>
                <a:lnTo>
                  <a:pt x="89247" y="26696"/>
                </a:lnTo>
                <a:cubicBezTo>
                  <a:pt x="124578" y="26696"/>
                  <a:pt x="159704" y="23435"/>
                  <a:pt x="194624" y="16913"/>
                </a:cubicBezTo>
                <a:lnTo>
                  <a:pt x="254643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94"/>
          <p:cNvSpPr/>
          <p:nvPr/>
        </p:nvSpPr>
        <p:spPr>
          <a:xfrm>
            <a:off x="7107120" y="2627280"/>
            <a:ext cx="606600" cy="784080"/>
          </a:xfrm>
          <a:custGeom>
            <a:avLst/>
            <a:gdLst/>
            <a:ahLst/>
            <a:rect l="l" t="t" r="r" b="b"/>
            <a:pathLst>
              <a:path w="607181" h="784544">
                <a:moveTo>
                  <a:pt x="162457" y="0"/>
                </a:moveTo>
                <a:lnTo>
                  <a:pt x="190758" y="16493"/>
                </a:lnTo>
                <a:cubicBezTo>
                  <a:pt x="215722" y="33558"/>
                  <a:pt x="242689" y="54116"/>
                  <a:pt x="270917" y="77155"/>
                </a:cubicBezTo>
                <a:lnTo>
                  <a:pt x="275845" y="81399"/>
                </a:lnTo>
                <a:lnTo>
                  <a:pt x="275845" y="289027"/>
                </a:lnTo>
                <a:lnTo>
                  <a:pt x="502826" y="289027"/>
                </a:lnTo>
                <a:lnTo>
                  <a:pt x="538897" y="324150"/>
                </a:lnTo>
                <a:lnTo>
                  <a:pt x="607181" y="392555"/>
                </a:lnTo>
                <a:lnTo>
                  <a:pt x="275845" y="392555"/>
                </a:lnTo>
                <a:lnTo>
                  <a:pt x="275845" y="784544"/>
                </a:lnTo>
                <a:lnTo>
                  <a:pt x="245318" y="754576"/>
                </a:lnTo>
                <a:cubicBezTo>
                  <a:pt x="230168" y="738845"/>
                  <a:pt x="217349" y="724200"/>
                  <a:pt x="208141" y="710865"/>
                </a:cubicBezTo>
                <a:cubicBezTo>
                  <a:pt x="198934" y="697530"/>
                  <a:pt x="189528" y="686616"/>
                  <a:pt x="180072" y="677483"/>
                </a:cubicBezTo>
                <a:lnTo>
                  <a:pt x="162457" y="663390"/>
                </a:lnTo>
                <a:lnTo>
                  <a:pt x="162457" y="392555"/>
                </a:lnTo>
                <a:lnTo>
                  <a:pt x="7509" y="392555"/>
                </a:lnTo>
                <a:lnTo>
                  <a:pt x="7044" y="388444"/>
                </a:lnTo>
                <a:cubicBezTo>
                  <a:pt x="4286" y="359393"/>
                  <a:pt x="1895" y="328397"/>
                  <a:pt x="213" y="296885"/>
                </a:cubicBezTo>
                <a:lnTo>
                  <a:pt x="0" y="289027"/>
                </a:lnTo>
                <a:lnTo>
                  <a:pt x="162457" y="289027"/>
                </a:lnTo>
                <a:lnTo>
                  <a:pt x="162457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95"/>
          <p:cNvSpPr/>
          <p:nvPr/>
        </p:nvSpPr>
        <p:spPr>
          <a:xfrm>
            <a:off x="4073400" y="2687760"/>
            <a:ext cx="114480" cy="858600"/>
          </a:xfrm>
          <a:custGeom>
            <a:avLst/>
            <a:gdLst/>
            <a:ahLst/>
            <a:rect l="l" t="t" r="r" b="b"/>
            <a:pathLst>
              <a:path w="113388" h="858865">
                <a:moveTo>
                  <a:pt x="113388" y="0"/>
                </a:moveTo>
                <a:lnTo>
                  <a:pt x="113388" y="858865"/>
                </a:lnTo>
                <a:lnTo>
                  <a:pt x="47602" y="812581"/>
                </a:lnTo>
                <a:lnTo>
                  <a:pt x="0" y="771801"/>
                </a:lnTo>
                <a:lnTo>
                  <a:pt x="0" y="121343"/>
                </a:lnTo>
                <a:lnTo>
                  <a:pt x="6049" y="113684"/>
                </a:lnTo>
                <a:cubicBezTo>
                  <a:pt x="28155" y="87589"/>
                  <a:pt x="52345" y="60790"/>
                  <a:pt x="77874" y="34343"/>
                </a:cubicBezTo>
                <a:lnTo>
                  <a:pt x="113388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96"/>
          <p:cNvSpPr/>
          <p:nvPr/>
        </p:nvSpPr>
        <p:spPr>
          <a:xfrm>
            <a:off x="3106800" y="2884320"/>
            <a:ext cx="293760" cy="128880"/>
          </a:xfrm>
          <a:custGeom>
            <a:avLst/>
            <a:gdLst/>
            <a:ahLst/>
            <a:rect l="l" t="t" r="r" b="b"/>
            <a:pathLst>
              <a:path w="293626" h="128640">
                <a:moveTo>
                  <a:pt x="178417" y="0"/>
                </a:moveTo>
                <a:lnTo>
                  <a:pt x="236206" y="4749"/>
                </a:lnTo>
                <a:lnTo>
                  <a:pt x="246756" y="26549"/>
                </a:lnTo>
                <a:lnTo>
                  <a:pt x="293626" y="126669"/>
                </a:lnTo>
                <a:lnTo>
                  <a:pt x="238962" y="109883"/>
                </a:lnTo>
                <a:cubicBezTo>
                  <a:pt x="216675" y="105646"/>
                  <a:pt x="192796" y="103528"/>
                  <a:pt x="167324" y="103528"/>
                </a:cubicBezTo>
                <a:cubicBezTo>
                  <a:pt x="132609" y="103528"/>
                  <a:pt x="98126" y="107020"/>
                  <a:pt x="63873" y="114004"/>
                </a:cubicBezTo>
                <a:lnTo>
                  <a:pt x="16342" y="128640"/>
                </a:lnTo>
                <a:lnTo>
                  <a:pt x="1214" y="34502"/>
                </a:lnTo>
                <a:lnTo>
                  <a:pt x="0" y="27330"/>
                </a:lnTo>
                <a:lnTo>
                  <a:pt x="68880" y="9860"/>
                </a:lnTo>
                <a:cubicBezTo>
                  <a:pt x="106573" y="3287"/>
                  <a:pt x="143086" y="0"/>
                  <a:pt x="178417" y="0"/>
                </a:cubicBezTo>
                <a:close/>
              </a:path>
            </a:pathLst>
          </a:custGeom>
          <a:solidFill>
            <a:srgbClr val="e55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97"/>
          <p:cNvSpPr/>
          <p:nvPr/>
        </p:nvSpPr>
        <p:spPr>
          <a:xfrm>
            <a:off x="9850320" y="2886120"/>
            <a:ext cx="474840" cy="422280"/>
          </a:xfrm>
          <a:custGeom>
            <a:avLst/>
            <a:gdLst/>
            <a:ahLst/>
            <a:rect l="l" t="t" r="r" b="b"/>
            <a:pathLst>
              <a:path w="473911" h="422815">
                <a:moveTo>
                  <a:pt x="447940" y="0"/>
                </a:moveTo>
                <a:lnTo>
                  <a:pt x="466519" y="70515"/>
                </a:lnTo>
                <a:lnTo>
                  <a:pt x="473911" y="104201"/>
                </a:lnTo>
                <a:lnTo>
                  <a:pt x="454509" y="102393"/>
                </a:lnTo>
                <a:cubicBezTo>
                  <a:pt x="336191" y="102393"/>
                  <a:pt x="238208" y="142038"/>
                  <a:pt x="160562" y="221328"/>
                </a:cubicBezTo>
                <a:cubicBezTo>
                  <a:pt x="121739" y="260973"/>
                  <a:pt x="90361" y="309194"/>
                  <a:pt x="66431" y="365991"/>
                </a:cubicBezTo>
                <a:lnTo>
                  <a:pt x="47633" y="422815"/>
                </a:lnTo>
                <a:lnTo>
                  <a:pt x="36971" y="392564"/>
                </a:lnTo>
                <a:cubicBezTo>
                  <a:pt x="25928" y="359391"/>
                  <a:pt x="15788" y="326519"/>
                  <a:pt x="7176" y="294472"/>
                </a:cubicBezTo>
                <a:lnTo>
                  <a:pt x="0" y="262065"/>
                </a:lnTo>
                <a:lnTo>
                  <a:pt x="50871" y="188051"/>
                </a:lnTo>
                <a:cubicBezTo>
                  <a:pt x="129442" y="93458"/>
                  <a:pt x="225691" y="34338"/>
                  <a:pt x="339618" y="10689"/>
                </a:cubicBezTo>
                <a:lnTo>
                  <a:pt x="447940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98"/>
          <p:cNvSpPr/>
          <p:nvPr/>
        </p:nvSpPr>
        <p:spPr>
          <a:xfrm>
            <a:off x="6208560" y="2895480"/>
            <a:ext cx="160560" cy="120600"/>
          </a:xfrm>
          <a:custGeom>
            <a:avLst/>
            <a:gdLst/>
            <a:ahLst/>
            <a:rect l="l" t="t" r="r" b="b"/>
            <a:pathLst>
              <a:path w="160760" h="120050">
                <a:moveTo>
                  <a:pt x="96199" y="0"/>
                </a:moveTo>
                <a:lnTo>
                  <a:pt x="160760" y="94777"/>
                </a:lnTo>
                <a:lnTo>
                  <a:pt x="98684" y="100732"/>
                </a:lnTo>
                <a:lnTo>
                  <a:pt x="37851" y="120050"/>
                </a:lnTo>
                <a:lnTo>
                  <a:pt x="7884" y="47161"/>
                </a:lnTo>
                <a:lnTo>
                  <a:pt x="0" y="29135"/>
                </a:lnTo>
                <a:lnTo>
                  <a:pt x="7366" y="25416"/>
                </a:lnTo>
                <a:cubicBezTo>
                  <a:pt x="26958" y="17289"/>
                  <a:pt x="47358" y="10517"/>
                  <a:pt x="68566" y="5099"/>
                </a:cubicBezTo>
                <a:lnTo>
                  <a:pt x="9619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任意多边形 99"/>
          <p:cNvSpPr/>
          <p:nvPr/>
        </p:nvSpPr>
        <p:spPr>
          <a:xfrm>
            <a:off x="9171000" y="2906640"/>
            <a:ext cx="266760" cy="371520"/>
          </a:xfrm>
          <a:custGeom>
            <a:avLst/>
            <a:gdLst/>
            <a:ahLst/>
            <a:rect l="l" t="t" r="r" b="b"/>
            <a:pathLst>
              <a:path w="266693" h="371398">
                <a:moveTo>
                  <a:pt x="0" y="0"/>
                </a:moveTo>
                <a:lnTo>
                  <a:pt x="42365" y="12837"/>
                </a:lnTo>
                <a:cubicBezTo>
                  <a:pt x="94540" y="35535"/>
                  <a:pt x="138704" y="69583"/>
                  <a:pt x="174857" y="114979"/>
                </a:cubicBezTo>
                <a:cubicBezTo>
                  <a:pt x="211010" y="160376"/>
                  <a:pt x="238125" y="215478"/>
                  <a:pt x="256201" y="280286"/>
                </a:cubicBezTo>
                <a:lnTo>
                  <a:pt x="266693" y="334200"/>
                </a:lnTo>
                <a:lnTo>
                  <a:pt x="211853" y="352382"/>
                </a:lnTo>
                <a:lnTo>
                  <a:pt x="156159" y="371398"/>
                </a:lnTo>
                <a:lnTo>
                  <a:pt x="153857" y="364702"/>
                </a:lnTo>
                <a:lnTo>
                  <a:pt x="149437" y="338135"/>
                </a:lnTo>
                <a:cubicBezTo>
                  <a:pt x="142607" y="309711"/>
                  <a:pt x="134069" y="283656"/>
                  <a:pt x="123825" y="259969"/>
                </a:cubicBezTo>
                <a:lnTo>
                  <a:pt x="89527" y="198797"/>
                </a:lnTo>
                <a:lnTo>
                  <a:pt x="70883" y="156168"/>
                </a:lnTo>
                <a:cubicBezTo>
                  <a:pt x="52706" y="116877"/>
                  <a:pt x="34549" y="78876"/>
                  <a:pt x="18272" y="43341"/>
                </a:cubicBezTo>
                <a:lnTo>
                  <a:pt x="0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任意多边形 100"/>
          <p:cNvSpPr/>
          <p:nvPr/>
        </p:nvSpPr>
        <p:spPr>
          <a:xfrm>
            <a:off x="4495680" y="2911320"/>
            <a:ext cx="462240" cy="1168560"/>
          </a:xfrm>
          <a:custGeom>
            <a:avLst/>
            <a:gdLst/>
            <a:ahLst/>
            <a:rect l="l" t="t" r="r" b="b"/>
            <a:pathLst>
              <a:path w="460946" h="1167969">
                <a:moveTo>
                  <a:pt x="400937" y="0"/>
                </a:moveTo>
                <a:lnTo>
                  <a:pt x="428798" y="80606"/>
                </a:lnTo>
                <a:lnTo>
                  <a:pt x="432658" y="96839"/>
                </a:lnTo>
                <a:lnTo>
                  <a:pt x="398554" y="106678"/>
                </a:lnTo>
                <a:cubicBezTo>
                  <a:pt x="349563" y="126500"/>
                  <a:pt x="305656" y="156234"/>
                  <a:pt x="266832" y="195879"/>
                </a:cubicBezTo>
                <a:cubicBezTo>
                  <a:pt x="189186" y="275169"/>
                  <a:pt x="141324" y="388762"/>
                  <a:pt x="123248" y="536660"/>
                </a:cubicBezTo>
                <a:lnTo>
                  <a:pt x="460946" y="536660"/>
                </a:lnTo>
                <a:lnTo>
                  <a:pt x="448012" y="562274"/>
                </a:lnTo>
                <a:lnTo>
                  <a:pt x="411663" y="640189"/>
                </a:lnTo>
                <a:lnTo>
                  <a:pt x="118318" y="640189"/>
                </a:lnTo>
                <a:cubicBezTo>
                  <a:pt x="118318" y="770216"/>
                  <a:pt x="140850" y="878982"/>
                  <a:pt x="185912" y="966488"/>
                </a:cubicBezTo>
                <a:lnTo>
                  <a:pt x="238428" y="1046820"/>
                </a:lnTo>
                <a:lnTo>
                  <a:pt x="233297" y="1060505"/>
                </a:lnTo>
                <a:cubicBezTo>
                  <a:pt x="225343" y="1082634"/>
                  <a:pt x="218299" y="1103253"/>
                  <a:pt x="212292" y="1122070"/>
                </a:cubicBezTo>
                <a:lnTo>
                  <a:pt x="198919" y="1167969"/>
                </a:lnTo>
                <a:lnTo>
                  <a:pt x="150363" y="1122090"/>
                </a:lnTo>
                <a:cubicBezTo>
                  <a:pt x="50121" y="1005415"/>
                  <a:pt x="0" y="840673"/>
                  <a:pt x="0" y="627864"/>
                </a:cubicBezTo>
                <a:cubicBezTo>
                  <a:pt x="0" y="443813"/>
                  <a:pt x="52380" y="288726"/>
                  <a:pt x="157141" y="162602"/>
                </a:cubicBezTo>
                <a:cubicBezTo>
                  <a:pt x="209522" y="99540"/>
                  <a:pt x="269760" y="52244"/>
                  <a:pt x="337854" y="20712"/>
                </a:cubicBezTo>
                <a:lnTo>
                  <a:pt x="400937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任意多边形 101"/>
          <p:cNvSpPr/>
          <p:nvPr/>
        </p:nvSpPr>
        <p:spPr>
          <a:xfrm>
            <a:off x="4971960" y="2940120"/>
            <a:ext cx="577800" cy="611280"/>
          </a:xfrm>
          <a:custGeom>
            <a:avLst/>
            <a:gdLst/>
            <a:ahLst/>
            <a:rect l="l" t="t" r="r" b="b"/>
            <a:pathLst>
              <a:path w="577126" h="612161">
                <a:moveTo>
                  <a:pt x="319814" y="0"/>
                </a:moveTo>
                <a:lnTo>
                  <a:pt x="381701" y="38286"/>
                </a:lnTo>
                <a:lnTo>
                  <a:pt x="429314" y="87635"/>
                </a:lnTo>
                <a:lnTo>
                  <a:pt x="453610" y="137053"/>
                </a:lnTo>
                <a:cubicBezTo>
                  <a:pt x="487424" y="216111"/>
                  <a:pt x="518380" y="314099"/>
                  <a:pt x="553712" y="390835"/>
                </a:cubicBezTo>
                <a:lnTo>
                  <a:pt x="567199" y="415642"/>
                </a:lnTo>
                <a:lnTo>
                  <a:pt x="569269" y="426210"/>
                </a:lnTo>
                <a:cubicBezTo>
                  <a:pt x="574507" y="468833"/>
                  <a:pt x="577126" y="513973"/>
                  <a:pt x="577126" y="561629"/>
                </a:cubicBezTo>
                <a:lnTo>
                  <a:pt x="577126" y="612161"/>
                </a:lnTo>
                <a:lnTo>
                  <a:pt x="0" y="612161"/>
                </a:lnTo>
                <a:lnTo>
                  <a:pt x="1859" y="508632"/>
                </a:lnTo>
                <a:lnTo>
                  <a:pt x="458808" y="508632"/>
                </a:lnTo>
                <a:cubicBezTo>
                  <a:pt x="453878" y="363199"/>
                  <a:pt x="418958" y="250222"/>
                  <a:pt x="354047" y="169700"/>
                </a:cubicBezTo>
                <a:cubicBezTo>
                  <a:pt x="321592" y="129439"/>
                  <a:pt x="282974" y="99243"/>
                  <a:pt x="238194" y="79112"/>
                </a:cubicBezTo>
                <a:lnTo>
                  <a:pt x="231745" y="77078"/>
                </a:lnTo>
                <a:lnTo>
                  <a:pt x="256448" y="45916"/>
                </a:lnTo>
                <a:cubicBezTo>
                  <a:pt x="267039" y="33905"/>
                  <a:pt x="276921" y="24182"/>
                  <a:pt x="285970" y="17038"/>
                </a:cubicBezTo>
                <a:cubicBezTo>
                  <a:pt x="295019" y="9894"/>
                  <a:pt x="303720" y="4765"/>
                  <a:pt x="312108" y="1463"/>
                </a:cubicBezTo>
                <a:lnTo>
                  <a:pt x="319814" y="0"/>
                </a:lnTo>
                <a:close/>
              </a:path>
            </a:pathLst>
          </a:custGeom>
          <a:solidFill>
            <a:srgbClr val="e55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102"/>
          <p:cNvSpPr/>
          <p:nvPr/>
        </p:nvSpPr>
        <p:spPr>
          <a:xfrm>
            <a:off x="8483760" y="3083040"/>
            <a:ext cx="225360" cy="1095120"/>
          </a:xfrm>
          <a:custGeom>
            <a:avLst/>
            <a:gdLst/>
            <a:ahLst/>
            <a:rect l="l" t="t" r="r" b="b"/>
            <a:pathLst>
              <a:path w="224551" h="1094554">
                <a:moveTo>
                  <a:pt x="185165" y="27"/>
                </a:moveTo>
                <a:cubicBezTo>
                  <a:pt x="187144" y="-702"/>
                  <a:pt x="192026" y="13348"/>
                  <a:pt x="218696" y="40970"/>
                </a:cubicBezTo>
                <a:lnTo>
                  <a:pt x="224551" y="47123"/>
                </a:lnTo>
                <a:lnTo>
                  <a:pt x="179249" y="109762"/>
                </a:lnTo>
                <a:cubicBezTo>
                  <a:pt x="135342" y="184558"/>
                  <a:pt x="113388" y="271255"/>
                  <a:pt x="113388" y="369854"/>
                </a:cubicBezTo>
                <a:lnTo>
                  <a:pt x="113388" y="1094554"/>
                </a:lnTo>
                <a:lnTo>
                  <a:pt x="0" y="1094554"/>
                </a:lnTo>
                <a:lnTo>
                  <a:pt x="0" y="261875"/>
                </a:lnTo>
                <a:lnTo>
                  <a:pt x="55089" y="198698"/>
                </a:lnTo>
                <a:cubicBezTo>
                  <a:pt x="77726" y="172653"/>
                  <a:pt x="97094" y="150190"/>
                  <a:pt x="112016" y="132410"/>
                </a:cubicBezTo>
                <a:cubicBezTo>
                  <a:pt x="186628" y="43510"/>
                  <a:pt x="181866" y="1243"/>
                  <a:pt x="185165" y="27"/>
                </a:cubicBez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120"/>
          <p:cNvGrpSpPr/>
          <p:nvPr/>
        </p:nvGrpSpPr>
        <p:grpSpPr>
          <a:xfrm>
            <a:off x="1425600" y="2409840"/>
            <a:ext cx="1423800" cy="1768320"/>
            <a:chOff x="1425600" y="2409840"/>
            <a:chExt cx="1423800" cy="1768320"/>
          </a:xfrm>
        </p:grpSpPr>
        <p:sp>
          <p:nvSpPr>
            <p:cNvPr id="209" name="任意多边形 65"/>
            <p:cNvSpPr/>
            <p:nvPr/>
          </p:nvSpPr>
          <p:spPr>
            <a:xfrm>
              <a:off x="2430000" y="2409840"/>
              <a:ext cx="419400" cy="880200"/>
            </a:xfrm>
            <a:custGeom>
              <a:avLst/>
              <a:gdLst/>
              <a:ahLst/>
              <a:rect l="l" t="t" r="r" b="b"/>
              <a:pathLst>
                <a:path w="419297" h="879729">
                  <a:moveTo>
                    <a:pt x="288654" y="0"/>
                  </a:moveTo>
                  <a:lnTo>
                    <a:pt x="419297" y="0"/>
                  </a:lnTo>
                  <a:lnTo>
                    <a:pt x="77589" y="879729"/>
                  </a:lnTo>
                  <a:lnTo>
                    <a:pt x="76382" y="877611"/>
                  </a:lnTo>
                  <a:lnTo>
                    <a:pt x="0" y="754690"/>
                  </a:lnTo>
                  <a:lnTo>
                    <a:pt x="28865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任意多边形 67"/>
            <p:cNvSpPr/>
            <p:nvPr/>
          </p:nvSpPr>
          <p:spPr>
            <a:xfrm>
              <a:off x="1525680" y="2451600"/>
              <a:ext cx="390240" cy="1184040"/>
            </a:xfrm>
            <a:custGeom>
              <a:avLst/>
              <a:gdLst/>
              <a:ahLst/>
              <a:rect l="l" t="t" r="r" b="b"/>
              <a:pathLst>
                <a:path w="390268" h="1183402">
                  <a:moveTo>
                    <a:pt x="51629" y="0"/>
                  </a:moveTo>
                  <a:lnTo>
                    <a:pt x="390268" y="942476"/>
                  </a:lnTo>
                  <a:lnTo>
                    <a:pt x="390024" y="945693"/>
                  </a:lnTo>
                  <a:cubicBezTo>
                    <a:pt x="381333" y="1048965"/>
                    <a:pt x="369783" y="1135786"/>
                    <a:pt x="349662" y="1180201"/>
                  </a:cubicBezTo>
                  <a:lnTo>
                    <a:pt x="347509" y="1183402"/>
                  </a:lnTo>
                  <a:lnTo>
                    <a:pt x="0" y="232396"/>
                  </a:lnTo>
                  <a:lnTo>
                    <a:pt x="22925" y="123801"/>
                  </a:lnTo>
                  <a:lnTo>
                    <a:pt x="51629" y="0"/>
                  </a:lnTo>
                  <a:close/>
                </a:path>
              </a:pathLst>
            </a:custGeom>
            <a:solidFill>
              <a:srgbClr val="e5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任意多边形 93"/>
            <p:cNvSpPr/>
            <p:nvPr/>
          </p:nvSpPr>
          <p:spPr>
            <a:xfrm>
              <a:off x="1425600" y="2409840"/>
              <a:ext cx="151920" cy="274320"/>
            </a:xfrm>
            <a:custGeom>
              <a:avLst/>
              <a:gdLst/>
              <a:ahLst/>
              <a:rect l="l" t="t" r="r" b="b"/>
              <a:pathLst>
                <a:path w="151911" h="274436">
                  <a:moveTo>
                    <a:pt x="0" y="0"/>
                  </a:moveTo>
                  <a:lnTo>
                    <a:pt x="136806" y="0"/>
                  </a:lnTo>
                  <a:lnTo>
                    <a:pt x="151911" y="42040"/>
                  </a:lnTo>
                  <a:lnTo>
                    <a:pt x="123207" y="165841"/>
                  </a:lnTo>
                  <a:lnTo>
                    <a:pt x="100282" y="2744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1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103"/>
            <p:cNvSpPr/>
            <p:nvPr/>
          </p:nvSpPr>
          <p:spPr>
            <a:xfrm>
              <a:off x="1873440" y="3164760"/>
              <a:ext cx="633960" cy="1013400"/>
            </a:xfrm>
            <a:custGeom>
              <a:avLst/>
              <a:gdLst/>
              <a:ahLst/>
              <a:rect l="l" t="t" r="r" b="b"/>
              <a:pathLst>
                <a:path w="634019" h="1012690">
                  <a:moveTo>
                    <a:pt x="556430" y="0"/>
                  </a:moveTo>
                  <a:lnTo>
                    <a:pt x="632812" y="122921"/>
                  </a:lnTo>
                  <a:lnTo>
                    <a:pt x="634019" y="125039"/>
                  </a:lnTo>
                  <a:lnTo>
                    <a:pt x="289234" y="1012690"/>
                  </a:lnTo>
                  <a:lnTo>
                    <a:pt x="198030" y="1012690"/>
                  </a:lnTo>
                  <a:lnTo>
                    <a:pt x="0" y="470752"/>
                  </a:lnTo>
                  <a:lnTo>
                    <a:pt x="2153" y="467551"/>
                  </a:lnTo>
                  <a:cubicBezTo>
                    <a:pt x="22274" y="423136"/>
                    <a:pt x="33824" y="336315"/>
                    <a:pt x="42515" y="233043"/>
                  </a:cubicBezTo>
                  <a:lnTo>
                    <a:pt x="42759" y="229826"/>
                  </a:lnTo>
                  <a:lnTo>
                    <a:pt x="200495" y="668827"/>
                  </a:lnTo>
                  <a:cubicBezTo>
                    <a:pt x="221858" y="727987"/>
                    <a:pt x="237059" y="783859"/>
                    <a:pt x="246097" y="836445"/>
                  </a:cubicBezTo>
                  <a:lnTo>
                    <a:pt x="251027" y="836445"/>
                  </a:lnTo>
                  <a:cubicBezTo>
                    <a:pt x="259243" y="794541"/>
                    <a:pt x="276087" y="737846"/>
                    <a:pt x="301559" y="666363"/>
                  </a:cubicBezTo>
                  <a:lnTo>
                    <a:pt x="556430" y="0"/>
                  </a:lnTo>
                  <a:close/>
                </a:path>
              </a:pathLst>
            </a:custGeom>
            <a:solidFill>
              <a:srgbClr val="ea1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任意多边形 104"/>
          <p:cNvSpPr/>
          <p:nvPr/>
        </p:nvSpPr>
        <p:spPr>
          <a:xfrm>
            <a:off x="7969320" y="3274920"/>
            <a:ext cx="114120" cy="750960"/>
          </a:xfrm>
          <a:custGeom>
            <a:avLst/>
            <a:gdLst/>
            <a:ahLst/>
            <a:rect l="l" t="t" r="r" b="b"/>
            <a:pathLst>
              <a:path w="113389" h="751141">
                <a:moveTo>
                  <a:pt x="0" y="0"/>
                </a:moveTo>
                <a:lnTo>
                  <a:pt x="104396" y="109634"/>
                </a:lnTo>
                <a:lnTo>
                  <a:pt x="113389" y="120543"/>
                </a:lnTo>
                <a:lnTo>
                  <a:pt x="113389" y="553545"/>
                </a:lnTo>
                <a:lnTo>
                  <a:pt x="62858" y="624133"/>
                </a:lnTo>
                <a:cubicBezTo>
                  <a:pt x="43317" y="653512"/>
                  <a:pt x="27561" y="679864"/>
                  <a:pt x="16766" y="702089"/>
                </a:cubicBezTo>
                <a:lnTo>
                  <a:pt x="0" y="751141"/>
                </a:lnTo>
                <a:lnTo>
                  <a:pt x="0" y="0"/>
                </a:lnTo>
                <a:close/>
              </a:path>
            </a:pathLst>
          </a:custGeom>
          <a:solidFill>
            <a:srgbClr val="ea1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105"/>
          <p:cNvSpPr/>
          <p:nvPr/>
        </p:nvSpPr>
        <p:spPr>
          <a:xfrm>
            <a:off x="9326520" y="3276720"/>
            <a:ext cx="30240" cy="245880"/>
          </a:xfrm>
          <a:custGeom>
            <a:avLst/>
            <a:gdLst/>
            <a:ahLst/>
            <a:rect l="l" t="t" r="r" b="b"/>
            <a:pathLst>
              <a:path w="30067" h="244956">
                <a:moveTo>
                  <a:pt x="1125" y="0"/>
                </a:moveTo>
                <a:lnTo>
                  <a:pt x="10265" y="26585"/>
                </a:lnTo>
                <a:cubicBezTo>
                  <a:pt x="31895" y="106080"/>
                  <a:pt x="38721" y="181327"/>
                  <a:pt x="15861" y="242922"/>
                </a:cubicBezTo>
                <a:lnTo>
                  <a:pt x="14893" y="244956"/>
                </a:lnTo>
                <a:lnTo>
                  <a:pt x="14893" y="165706"/>
                </a:lnTo>
                <a:cubicBezTo>
                  <a:pt x="14893" y="127807"/>
                  <a:pt x="13185" y="92277"/>
                  <a:pt x="9771" y="59116"/>
                </a:cubicBezTo>
                <a:lnTo>
                  <a:pt x="0" y="384"/>
                </a:lnTo>
                <a:lnTo>
                  <a:pt x="1125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106"/>
          <p:cNvSpPr/>
          <p:nvPr/>
        </p:nvSpPr>
        <p:spPr>
          <a:xfrm>
            <a:off x="2873520" y="3397320"/>
            <a:ext cx="819000" cy="811080"/>
          </a:xfrm>
          <a:custGeom>
            <a:avLst/>
            <a:gdLst/>
            <a:ahLst/>
            <a:rect l="l" t="t" r="r" b="b"/>
            <a:pathLst>
              <a:path w="819536" h="812087">
                <a:moveTo>
                  <a:pt x="697097" y="0"/>
                </a:moveTo>
                <a:lnTo>
                  <a:pt x="744326" y="114049"/>
                </a:lnTo>
                <a:cubicBezTo>
                  <a:pt x="759556" y="151524"/>
                  <a:pt x="773975" y="187746"/>
                  <a:pt x="787384" y="222260"/>
                </a:cubicBezTo>
                <a:lnTo>
                  <a:pt x="819536" y="307392"/>
                </a:lnTo>
                <a:lnTo>
                  <a:pt x="819536" y="636501"/>
                </a:lnTo>
                <a:lnTo>
                  <a:pt x="782895" y="648630"/>
                </a:lnTo>
                <a:cubicBezTo>
                  <a:pt x="765078" y="654844"/>
                  <a:pt x="748464" y="661005"/>
                  <a:pt x="733313" y="667109"/>
                </a:cubicBezTo>
                <a:lnTo>
                  <a:pt x="706148" y="679189"/>
                </a:lnTo>
                <a:lnTo>
                  <a:pt x="706148" y="528616"/>
                </a:lnTo>
                <a:lnTo>
                  <a:pt x="701218" y="528616"/>
                </a:lnTo>
                <a:cubicBezTo>
                  <a:pt x="660957" y="614890"/>
                  <a:pt x="602414" y="683703"/>
                  <a:pt x="525589" y="735057"/>
                </a:cubicBezTo>
                <a:cubicBezTo>
                  <a:pt x="448765" y="786410"/>
                  <a:pt x="363518" y="812087"/>
                  <a:pt x="269849" y="812087"/>
                </a:cubicBezTo>
                <a:cubicBezTo>
                  <a:pt x="179878" y="812087"/>
                  <a:pt x="104003" y="793138"/>
                  <a:pt x="42225" y="755239"/>
                </a:cubicBezTo>
                <a:lnTo>
                  <a:pt x="0" y="722531"/>
                </a:lnTo>
                <a:lnTo>
                  <a:pt x="21974" y="704003"/>
                </a:lnTo>
                <a:lnTo>
                  <a:pt x="83049" y="642484"/>
                </a:lnTo>
                <a:lnTo>
                  <a:pt x="115442" y="667656"/>
                </a:lnTo>
                <a:cubicBezTo>
                  <a:pt x="160043" y="694925"/>
                  <a:pt x="215620" y="708559"/>
                  <a:pt x="282174" y="708559"/>
                </a:cubicBezTo>
                <a:cubicBezTo>
                  <a:pt x="403779" y="708559"/>
                  <a:pt x="504843" y="663573"/>
                  <a:pt x="585365" y="573602"/>
                </a:cubicBezTo>
                <a:cubicBezTo>
                  <a:pt x="665887" y="483631"/>
                  <a:pt x="706148" y="367572"/>
                  <a:pt x="706148" y="225425"/>
                </a:cubicBezTo>
                <a:lnTo>
                  <a:pt x="706148" y="102177"/>
                </a:lnTo>
                <a:lnTo>
                  <a:pt x="358588" y="152709"/>
                </a:lnTo>
                <a:lnTo>
                  <a:pt x="308352" y="161665"/>
                </a:lnTo>
                <a:lnTo>
                  <a:pt x="308900" y="145615"/>
                </a:lnTo>
                <a:lnTo>
                  <a:pt x="305691" y="59119"/>
                </a:lnTo>
                <a:lnTo>
                  <a:pt x="317916" y="56575"/>
                </a:lnTo>
                <a:lnTo>
                  <a:pt x="697097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107"/>
          <p:cNvSpPr/>
          <p:nvPr/>
        </p:nvSpPr>
        <p:spPr>
          <a:xfrm>
            <a:off x="9948960" y="3448080"/>
            <a:ext cx="469800" cy="103320"/>
          </a:xfrm>
          <a:custGeom>
            <a:avLst/>
            <a:gdLst/>
            <a:ahLst/>
            <a:rect l="l" t="t" r="r" b="b"/>
            <a:pathLst>
              <a:path w="469859" h="103529">
                <a:moveTo>
                  <a:pt x="0" y="0"/>
                </a:moveTo>
                <a:lnTo>
                  <a:pt x="455359" y="0"/>
                </a:lnTo>
                <a:lnTo>
                  <a:pt x="459058" y="24006"/>
                </a:lnTo>
                <a:lnTo>
                  <a:pt x="469859" y="103529"/>
                </a:lnTo>
                <a:lnTo>
                  <a:pt x="38387" y="103529"/>
                </a:lnTo>
                <a:lnTo>
                  <a:pt x="10833" y="28962"/>
                </a:lnTo>
                <a:lnTo>
                  <a:pt x="0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108"/>
          <p:cNvSpPr/>
          <p:nvPr/>
        </p:nvSpPr>
        <p:spPr>
          <a:xfrm>
            <a:off x="6721560" y="3475080"/>
            <a:ext cx="114120" cy="677880"/>
          </a:xfrm>
          <a:custGeom>
            <a:avLst/>
            <a:gdLst/>
            <a:ahLst/>
            <a:rect l="l" t="t" r="r" b="b"/>
            <a:pathLst>
              <a:path w="113389" h="677023">
                <a:moveTo>
                  <a:pt x="0" y="0"/>
                </a:moveTo>
                <a:lnTo>
                  <a:pt x="66437" y="55122"/>
                </a:lnTo>
                <a:lnTo>
                  <a:pt x="113389" y="79999"/>
                </a:lnTo>
                <a:lnTo>
                  <a:pt x="113389" y="574906"/>
                </a:lnTo>
                <a:lnTo>
                  <a:pt x="108601" y="579294"/>
                </a:lnTo>
                <a:cubicBezTo>
                  <a:pt x="73596" y="610807"/>
                  <a:pt x="39326" y="641346"/>
                  <a:pt x="8186" y="669529"/>
                </a:cubicBezTo>
                <a:lnTo>
                  <a:pt x="0" y="677023"/>
                </a:lnTo>
                <a:lnTo>
                  <a:pt x="0" y="0"/>
                </a:lnTo>
                <a:close/>
              </a:path>
            </a:pathLst>
          </a:custGeom>
          <a:solidFill>
            <a:srgbClr val="e55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109"/>
          <p:cNvSpPr/>
          <p:nvPr/>
        </p:nvSpPr>
        <p:spPr>
          <a:xfrm>
            <a:off x="10782360" y="3532320"/>
            <a:ext cx="15840" cy="20520"/>
          </a:xfrm>
          <a:custGeom>
            <a:avLst/>
            <a:gdLst/>
            <a:ahLst/>
            <a:rect l="l" t="t" r="r" b="b"/>
            <a:pathLst>
              <a:path w="14333" h="20115">
                <a:moveTo>
                  <a:pt x="14333" y="0"/>
                </a:moveTo>
                <a:lnTo>
                  <a:pt x="14333" y="20115"/>
                </a:lnTo>
                <a:lnTo>
                  <a:pt x="0" y="20115"/>
                </a:lnTo>
                <a:lnTo>
                  <a:pt x="14333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110"/>
          <p:cNvSpPr/>
          <p:nvPr/>
        </p:nvSpPr>
        <p:spPr>
          <a:xfrm>
            <a:off x="5864400" y="3852720"/>
            <a:ext cx="114120" cy="325440"/>
          </a:xfrm>
          <a:custGeom>
            <a:avLst/>
            <a:gdLst/>
            <a:ahLst/>
            <a:rect l="l" t="t" r="r" b="b"/>
            <a:pathLst>
              <a:path w="113388" h="325042">
                <a:moveTo>
                  <a:pt x="113388" y="0"/>
                </a:moveTo>
                <a:lnTo>
                  <a:pt x="113388" y="325042"/>
                </a:lnTo>
                <a:lnTo>
                  <a:pt x="0" y="325042"/>
                </a:lnTo>
                <a:lnTo>
                  <a:pt x="0" y="30497"/>
                </a:lnTo>
                <a:lnTo>
                  <a:pt x="18670" y="33458"/>
                </a:lnTo>
                <a:cubicBezTo>
                  <a:pt x="34863" y="33458"/>
                  <a:pt x="53556" y="29053"/>
                  <a:pt x="73945" y="20942"/>
                </a:cubicBezTo>
                <a:lnTo>
                  <a:pt x="113388" y="0"/>
                </a:ln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111"/>
          <p:cNvSpPr/>
          <p:nvPr/>
        </p:nvSpPr>
        <p:spPr>
          <a:xfrm>
            <a:off x="4073400" y="3882960"/>
            <a:ext cx="114480" cy="295200"/>
          </a:xfrm>
          <a:custGeom>
            <a:avLst/>
            <a:gdLst/>
            <a:ahLst/>
            <a:rect l="l" t="t" r="r" b="b"/>
            <a:pathLst>
              <a:path w="113388" h="293890">
                <a:moveTo>
                  <a:pt x="113388" y="0"/>
                </a:moveTo>
                <a:lnTo>
                  <a:pt x="113388" y="293890"/>
                </a:lnTo>
                <a:lnTo>
                  <a:pt x="0" y="293890"/>
                </a:lnTo>
                <a:lnTo>
                  <a:pt x="0" y="36846"/>
                </a:lnTo>
                <a:lnTo>
                  <a:pt x="44923" y="23454"/>
                </a:lnTo>
                <a:lnTo>
                  <a:pt x="113388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112"/>
          <p:cNvSpPr/>
          <p:nvPr/>
        </p:nvSpPr>
        <p:spPr>
          <a:xfrm>
            <a:off x="7283520" y="3938760"/>
            <a:ext cx="431640" cy="263520"/>
          </a:xfrm>
          <a:custGeom>
            <a:avLst/>
            <a:gdLst/>
            <a:ahLst/>
            <a:rect l="l" t="t" r="r" b="b"/>
            <a:pathLst>
              <a:path w="431512" h="264448">
                <a:moveTo>
                  <a:pt x="105022" y="0"/>
                </a:moveTo>
                <a:lnTo>
                  <a:pt x="109063" y="27041"/>
                </a:lnTo>
                <a:cubicBezTo>
                  <a:pt x="115945" y="58572"/>
                  <a:pt x="126267" y="84095"/>
                  <a:pt x="140030" y="103609"/>
                </a:cubicBezTo>
                <a:cubicBezTo>
                  <a:pt x="167555" y="142637"/>
                  <a:pt x="214184" y="162152"/>
                  <a:pt x="279916" y="162152"/>
                </a:cubicBezTo>
                <a:cubicBezTo>
                  <a:pt x="326751" y="162152"/>
                  <a:pt x="377283" y="146951"/>
                  <a:pt x="431512" y="116550"/>
                </a:cubicBezTo>
                <a:lnTo>
                  <a:pt x="431512" y="222543"/>
                </a:lnTo>
                <a:cubicBezTo>
                  <a:pt x="372353" y="250480"/>
                  <a:pt x="316891" y="264448"/>
                  <a:pt x="265127" y="264448"/>
                </a:cubicBezTo>
                <a:cubicBezTo>
                  <a:pt x="125240" y="264448"/>
                  <a:pt x="37811" y="201592"/>
                  <a:pt x="2839" y="75878"/>
                </a:cubicBezTo>
                <a:lnTo>
                  <a:pt x="0" y="61138"/>
                </a:lnTo>
                <a:lnTo>
                  <a:pt x="25835" y="46883"/>
                </a:lnTo>
                <a:cubicBezTo>
                  <a:pt x="50821" y="32684"/>
                  <a:pt x="74892" y="18560"/>
                  <a:pt x="97712" y="4650"/>
                </a:cubicBezTo>
                <a:lnTo>
                  <a:pt x="10502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113"/>
          <p:cNvSpPr/>
          <p:nvPr/>
        </p:nvSpPr>
        <p:spPr>
          <a:xfrm>
            <a:off x="4924440" y="3948120"/>
            <a:ext cx="554040" cy="260280"/>
          </a:xfrm>
          <a:custGeom>
            <a:avLst/>
            <a:gdLst/>
            <a:ahLst/>
            <a:rect l="l" t="t" r="r" b="b"/>
            <a:pathLst>
              <a:path w="554818" h="260054">
                <a:moveTo>
                  <a:pt x="554818" y="0"/>
                </a:moveTo>
                <a:lnTo>
                  <a:pt x="554818" y="120784"/>
                </a:lnTo>
                <a:cubicBezTo>
                  <a:pt x="424175" y="213631"/>
                  <a:pt x="278331" y="260054"/>
                  <a:pt x="117286" y="260054"/>
                </a:cubicBezTo>
                <a:cubicBezTo>
                  <a:pt x="76614" y="260054"/>
                  <a:pt x="37894" y="256408"/>
                  <a:pt x="1124" y="249116"/>
                </a:cubicBezTo>
                <a:lnTo>
                  <a:pt x="0" y="248763"/>
                </a:lnTo>
                <a:lnTo>
                  <a:pt x="4110" y="216621"/>
                </a:lnTo>
                <a:lnTo>
                  <a:pt x="12876" y="138406"/>
                </a:lnTo>
                <a:lnTo>
                  <a:pt x="41527" y="147359"/>
                </a:lnTo>
                <a:cubicBezTo>
                  <a:pt x="72725" y="153471"/>
                  <a:pt x="105784" y="156526"/>
                  <a:pt x="140704" y="156526"/>
                </a:cubicBezTo>
                <a:cubicBezTo>
                  <a:pt x="282028" y="156526"/>
                  <a:pt x="420066" y="104351"/>
                  <a:pt x="554818" y="0"/>
                </a:cubicBez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任意多边形 114"/>
          <p:cNvSpPr/>
          <p:nvPr/>
        </p:nvSpPr>
        <p:spPr>
          <a:xfrm>
            <a:off x="10477440" y="3948120"/>
            <a:ext cx="249120" cy="233280"/>
          </a:xfrm>
          <a:custGeom>
            <a:avLst/>
            <a:gdLst/>
            <a:ahLst/>
            <a:rect l="l" t="t" r="r" b="b"/>
            <a:pathLst>
              <a:path w="248718" h="233368">
                <a:moveTo>
                  <a:pt x="248718" y="0"/>
                </a:moveTo>
                <a:lnTo>
                  <a:pt x="248718" y="120784"/>
                </a:lnTo>
                <a:cubicBezTo>
                  <a:pt x="183397" y="167208"/>
                  <a:pt x="114275" y="202025"/>
                  <a:pt x="41353" y="225237"/>
                </a:cubicBezTo>
                <a:lnTo>
                  <a:pt x="6405" y="233368"/>
                </a:lnTo>
                <a:lnTo>
                  <a:pt x="5246" y="207089"/>
                </a:lnTo>
                <a:lnTo>
                  <a:pt x="0" y="129830"/>
                </a:lnTo>
                <a:lnTo>
                  <a:pt x="44126" y="117395"/>
                </a:lnTo>
                <a:cubicBezTo>
                  <a:pt x="113145" y="91307"/>
                  <a:pt x="181343" y="52176"/>
                  <a:pt x="248718" y="0"/>
                </a:cubicBez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115"/>
          <p:cNvSpPr/>
          <p:nvPr/>
        </p:nvSpPr>
        <p:spPr>
          <a:xfrm>
            <a:off x="7956720" y="4025880"/>
            <a:ext cx="12600" cy="149400"/>
          </a:xfrm>
          <a:custGeom>
            <a:avLst/>
            <a:gdLst/>
            <a:ahLst/>
            <a:rect l="l" t="t" r="r" b="b"/>
            <a:pathLst>
              <a:path w="11562" h="149317">
                <a:moveTo>
                  <a:pt x="11562" y="0"/>
                </a:moveTo>
                <a:lnTo>
                  <a:pt x="11562" y="149317"/>
                </a:lnTo>
                <a:lnTo>
                  <a:pt x="7924" y="138918"/>
                </a:lnTo>
                <a:cubicBezTo>
                  <a:pt x="-936" y="102505"/>
                  <a:pt x="-3308" y="60734"/>
                  <a:pt x="5691" y="17177"/>
                </a:cubicBezTo>
                <a:lnTo>
                  <a:pt x="1156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116"/>
          <p:cNvSpPr/>
          <p:nvPr/>
        </p:nvSpPr>
        <p:spPr>
          <a:xfrm>
            <a:off x="10010880" y="4048200"/>
            <a:ext cx="260280" cy="154080"/>
          </a:xfrm>
          <a:custGeom>
            <a:avLst/>
            <a:gdLst/>
            <a:ahLst/>
            <a:rect l="l" t="t" r="r" b="b"/>
            <a:pathLst>
              <a:path w="261161" h="154087">
                <a:moveTo>
                  <a:pt x="81686" y="0"/>
                </a:moveTo>
                <a:lnTo>
                  <a:pt x="115367" y="20090"/>
                </a:lnTo>
                <a:cubicBezTo>
                  <a:pt x="142841" y="32313"/>
                  <a:pt x="172177" y="41479"/>
                  <a:pt x="203374" y="47590"/>
                </a:cubicBezTo>
                <a:lnTo>
                  <a:pt x="261161" y="52931"/>
                </a:lnTo>
                <a:lnTo>
                  <a:pt x="214773" y="149357"/>
                </a:lnTo>
                <a:lnTo>
                  <a:pt x="213303" y="154087"/>
                </a:lnTo>
                <a:lnTo>
                  <a:pt x="162971" y="149347"/>
                </a:lnTo>
                <a:cubicBezTo>
                  <a:pt x="126202" y="142055"/>
                  <a:pt x="91385" y="131117"/>
                  <a:pt x="58518" y="116532"/>
                </a:cubicBezTo>
                <a:lnTo>
                  <a:pt x="0" y="82024"/>
                </a:lnTo>
                <a:lnTo>
                  <a:pt x="32845" y="66489"/>
                </a:lnTo>
                <a:cubicBezTo>
                  <a:pt x="58245" y="50614"/>
                  <a:pt x="73167" y="30453"/>
                  <a:pt x="80708" y="6243"/>
                </a:cubicBezTo>
                <a:lnTo>
                  <a:pt x="8168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117"/>
          <p:cNvSpPr/>
          <p:nvPr/>
        </p:nvSpPr>
        <p:spPr>
          <a:xfrm>
            <a:off x="9340920" y="4064040"/>
            <a:ext cx="114120" cy="114120"/>
          </a:xfrm>
          <a:custGeom>
            <a:avLst/>
            <a:gdLst/>
            <a:ahLst/>
            <a:rect l="l" t="t" r="r" b="b"/>
            <a:pathLst>
              <a:path w="113388" h="113265">
                <a:moveTo>
                  <a:pt x="0" y="0"/>
                </a:moveTo>
                <a:lnTo>
                  <a:pt x="6028" y="3698"/>
                </a:lnTo>
                <a:cubicBezTo>
                  <a:pt x="37996" y="22143"/>
                  <a:pt x="67326" y="37899"/>
                  <a:pt x="92408" y="50281"/>
                </a:cubicBezTo>
                <a:lnTo>
                  <a:pt x="113388" y="58460"/>
                </a:lnTo>
                <a:lnTo>
                  <a:pt x="113388" y="113265"/>
                </a:lnTo>
                <a:lnTo>
                  <a:pt x="0" y="113265"/>
                </a:lnTo>
                <a:lnTo>
                  <a:pt x="0" y="0"/>
                </a:lnTo>
                <a:close/>
              </a:path>
            </a:pathLst>
          </a:custGeom>
          <a:solidFill>
            <a:srgbClr val="e23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18"/>
          <p:cNvSpPr/>
          <p:nvPr/>
        </p:nvSpPr>
        <p:spPr>
          <a:xfrm>
            <a:off x="7969320" y="4175280"/>
            <a:ext cx="360" cy="2880"/>
          </a:xfrm>
          <a:custGeom>
            <a:avLst/>
            <a:gdLst/>
            <a:ahLst/>
            <a:rect l="l" t="t" r="r" b="b"/>
            <a:pathLst>
              <a:path w="621" h="1775">
                <a:moveTo>
                  <a:pt x="0" y="0"/>
                </a:moveTo>
                <a:lnTo>
                  <a:pt x="621" y="1775"/>
                </a:lnTo>
                <a:lnTo>
                  <a:pt x="0" y="177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19"/>
          <p:cNvSpPr/>
          <p:nvPr/>
        </p:nvSpPr>
        <p:spPr>
          <a:xfrm>
            <a:off x="11658600" y="0"/>
            <a:ext cx="533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内容占位符 4" descr=""/>
          <p:cNvPicPr/>
          <p:nvPr/>
        </p:nvPicPr>
        <p:blipFill>
          <a:blip r:embed="rId1"/>
          <a:stretch/>
        </p:blipFill>
        <p:spPr>
          <a:xfrm>
            <a:off x="3990960" y="2179800"/>
            <a:ext cx="4110120" cy="361152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130" descr=""/>
          <p:cNvPicPr/>
          <p:nvPr/>
        </p:nvPicPr>
        <p:blipFill>
          <a:blip r:embed="rId2"/>
          <a:stretch/>
        </p:blipFill>
        <p:spPr>
          <a:xfrm>
            <a:off x="3976560" y="2163600"/>
            <a:ext cx="4159440" cy="370368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131" descr=""/>
          <p:cNvPicPr/>
          <p:nvPr/>
        </p:nvPicPr>
        <p:blipFill>
          <a:blip r:embed="rId3"/>
          <a:stretch/>
        </p:blipFill>
        <p:spPr>
          <a:xfrm>
            <a:off x="3976560" y="2163600"/>
            <a:ext cx="4159440" cy="370368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132" descr=""/>
          <p:cNvPicPr/>
          <p:nvPr/>
        </p:nvPicPr>
        <p:blipFill>
          <a:blip r:embed="rId4"/>
          <a:stretch/>
        </p:blipFill>
        <p:spPr>
          <a:xfrm>
            <a:off x="3976560" y="2163600"/>
            <a:ext cx="4159440" cy="370368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136" descr=""/>
          <p:cNvPicPr/>
          <p:nvPr/>
        </p:nvPicPr>
        <p:blipFill>
          <a:blip r:embed="rId5"/>
          <a:stretch/>
        </p:blipFill>
        <p:spPr>
          <a:xfrm>
            <a:off x="3992400" y="2163600"/>
            <a:ext cx="4158000" cy="370368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137" descr=""/>
          <p:cNvPicPr/>
          <p:nvPr/>
        </p:nvPicPr>
        <p:blipFill>
          <a:blip r:embed="rId6"/>
          <a:stretch/>
        </p:blipFill>
        <p:spPr>
          <a:xfrm>
            <a:off x="3976560" y="2179800"/>
            <a:ext cx="4159440" cy="370332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138"/>
          <p:cNvSpPr/>
          <p:nvPr/>
        </p:nvSpPr>
        <p:spPr>
          <a:xfrm>
            <a:off x="-520920" y="2454120"/>
            <a:ext cx="1303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567c"/>
                </a:solidFill>
                <a:latin typeface="Roboto Th"/>
                <a:ea typeface="Roboto Th"/>
              </a:rPr>
              <a:t>You said</a:t>
            </a:r>
            <a:r>
              <a:rPr b="0" lang="en-US" sz="2400" spc="-1" strike="noStrike">
                <a:solidFill>
                  <a:srgbClr val="000000"/>
                </a:solidFill>
                <a:latin typeface="Roboto Th"/>
                <a:ea typeface="Roboto Th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boto Th"/>
                <a:ea typeface="Roboto Th"/>
              </a:rPr>
              <a:t>if i know i will meet you from my birth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boto Th"/>
                <a:ea typeface="Roboto Th"/>
              </a:rPr>
              <a:t>I'd rather my past years had passed in the time of one wink to fall in love with you earlier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片 139" descr=""/>
          <p:cNvPicPr/>
          <p:nvPr/>
        </p:nvPicPr>
        <p:blipFill>
          <a:blip r:embed="rId7"/>
          <a:srcRect l="44588" t="69631" r="46043" b="15556"/>
          <a:stretch/>
        </p:blipFill>
        <p:spPr>
          <a:xfrm>
            <a:off x="5559480" y="4927680"/>
            <a:ext cx="1143000" cy="101592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140" descr=""/>
          <p:cNvPicPr/>
          <p:nvPr/>
        </p:nvPicPr>
        <p:blipFill>
          <a:blip r:embed="rId8"/>
          <a:srcRect l="44588" t="69631" r="46043" b="15556"/>
          <a:stretch/>
        </p:blipFill>
        <p:spPr>
          <a:xfrm>
            <a:off x="5565600" y="4929120"/>
            <a:ext cx="1143000" cy="101592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141" descr=""/>
          <p:cNvPicPr/>
          <p:nvPr/>
        </p:nvPicPr>
        <p:blipFill>
          <a:blip r:embed="rId9"/>
          <a:srcRect l="44588" t="69631" r="46043" b="15556"/>
          <a:stretch/>
        </p:blipFill>
        <p:spPr>
          <a:xfrm>
            <a:off x="5553000" y="4929120"/>
            <a:ext cx="1143000" cy="101592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142" descr=""/>
          <p:cNvPicPr/>
          <p:nvPr/>
        </p:nvPicPr>
        <p:blipFill>
          <a:blip r:embed="rId10"/>
          <a:srcRect l="44588" t="69631" r="46043" b="15556"/>
          <a:stretch/>
        </p:blipFill>
        <p:spPr>
          <a:xfrm>
            <a:off x="5553000" y="4929120"/>
            <a:ext cx="1143000" cy="1015920"/>
          </a:xfrm>
          <a:prstGeom prst="rect">
            <a:avLst/>
          </a:prstGeom>
          <a:ln w="0">
            <a:noFill/>
          </a:ln>
        </p:spPr>
      </p:pic>
      <p:sp>
        <p:nvSpPr>
          <p:cNvPr id="240" name="文本框 143"/>
          <p:cNvSpPr/>
          <p:nvPr/>
        </p:nvSpPr>
        <p:spPr>
          <a:xfrm>
            <a:off x="-52200" y="2352600"/>
            <a:ext cx="1221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567c"/>
                </a:solidFill>
                <a:latin typeface="Roboto Th"/>
                <a:ea typeface="Roboto Th"/>
              </a:rPr>
              <a:t>And I said</a:t>
            </a:r>
            <a:r>
              <a:rPr b="0" lang="en-US" sz="2400" spc="-1" strike="noStrike">
                <a:solidFill>
                  <a:srgbClr val="000000"/>
                </a:solidFill>
                <a:latin typeface="Roboto Th"/>
                <a:ea typeface="Roboto Th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boto Th"/>
                <a:ea typeface="Roboto Th"/>
              </a:rPr>
              <a:t>someone you see her, you want to see her ag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boto Th"/>
                <a:ea typeface="Roboto Th"/>
              </a:rPr>
              <a:t>someone you meet her ,you expect to meet her agai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boto Th"/>
                <a:ea typeface="Roboto Th"/>
              </a:rPr>
              <a:t>but  there is someone you even just have a glimpse of her, you will never forget h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boto Th"/>
                <a:ea typeface="Roboto Th"/>
              </a:rPr>
              <a:t>and you want to stay with her perpetually.This person is you fore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596" dur="125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598" dur="125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path" presetID="0">
                                  <p:stCondLst>
                                    <p:cond delay="7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36875 -0.0044 E">
                                      <p:cBhvr>
                                        <p:cTn id="600" dur="125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602" dur="125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604" dur="125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36875 -0.0044 E">
                                      <p:cBhvr>
                                        <p:cTn id="606" dur="125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608" dur="12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610" dur="125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612" dur="125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614" dur="125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36875 -0.0044 E">
                                      <p:cBhvr>
                                        <p:cTn id="616" dur="125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618" dur="125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36875 -0.0044 E">
                                      <p:cBhvr>
                                        <p:cTn id="620" dur="125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622" dur="125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624" dur="125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.36875 -0.0044 E">
                                      <p:cBhvr>
                                        <p:cTn id="626" dur="125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28" dur="125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path" presetID="0">
                                  <p:stCondLst>
                                    <p:cond delay="75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25743 0.07778 L 0.51628 0.00209 E">
                                      <p:cBhvr>
                                        <p:cTn id="630" dur="125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32" dur="125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path" presetID="0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34" dur="125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36" dur="125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path" presetID="0">
                                  <p:stCondLst>
                                    <p:cond delay="75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25743 0.07778 L 0.51628 0.00209 E">
                                      <p:cBhvr>
                                        <p:cTn id="638" dur="125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40" dur="125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42" dur="125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dur="indefinite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44" dur="125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path" presetID="0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46" dur="125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48" dur="125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path" presetID="0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50" dur="125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52" dur="125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54" dur="125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56" dur="125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.25743 0.07778 L 0.51628 0.00209 E">
                                      <p:cBhvr>
                                        <p:cTn id="658" dur="125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path" presetID="0">
                                  <p:stCondLst>
                                    <p:cond delay="14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25743 0.07778 L 0.51628 0.00209 E">
                                      <p:cBhvr>
                                        <p:cTn id="660" dur="125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path" presetID="0">
                                  <p:stCondLst>
                                    <p:cond delay="21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25743 0.07778 L 0.51628 0.00209 E">
                                      <p:cBhvr>
                                        <p:cTn id="662" dur="125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 0 L 0.68373 0.02431 E">
                                      <p:cBhvr>
                                        <p:cTn id="664" dur="125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path" presetID="0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0 0 L 0.68373 0.02431 E">
                                      <p:cBhvr>
                                        <p:cTn id="666" dur="125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path" presetID="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 0 L 0.68373 0.02431 E">
                                      <p:cBhvr>
                                        <p:cTn id="668" dur="125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path" presetID="0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0 0 L 0.68373 0.02431 E">
                                      <p:cBhvr>
                                        <p:cTn id="670" dur="125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path" presetID="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 0 L 0.68373 0.02431 E">
                                      <p:cBhvr>
                                        <p:cTn id="672" dur="125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path" presetID="0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0 0 L 0.68373 0.02431 E">
                                      <p:cBhvr>
                                        <p:cTn id="674" dur="12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path" presetID="0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0 0 L 0.68373 0.02431 E">
                                      <p:cBhvr>
                                        <p:cTn id="676" dur="125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.68373 0.02431 E">
                                      <p:cBhvr>
                                        <p:cTn id="678" dur="125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path" presetID="0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0 0 L 0.68373 0.02431 E">
                                      <p:cBhvr>
                                        <p:cTn id="680" dur="125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.68373 0.02431 E">
                                      <p:cBhvr>
                                        <p:cTn id="682" dur="125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 0 L 0.68373 0.02431 E">
                                      <p:cBhvr>
                                        <p:cTn id="684" dur="125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path" presetID="0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 0 C 0.08464 -0.05949 0.16927 -0.11921 0.29115 -0.10879 C 0.41302 -0.09861 0.57214 -0.01805 0.73125 0.0625 E">
                                      <p:cBhvr>
                                        <p:cTn id="686" dur="125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 0 C 0.08464 -0.05949 0.16927 -0.11921 0.29115 -0.10879 C 0.41302 -0.09861 0.57214 -0.01805 0.73125 0.0625 E">
                                      <p:cBhvr>
                                        <p:cTn id="688" dur="125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C 0.08464 -0.05949 0.16927 -0.11921 0.29115 -0.10879 C 0.41302 -0.09861 0.57214 -0.01805 0.73125 0.0625 E">
                                      <p:cBhvr>
                                        <p:cTn id="690" dur="125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path" presetID="0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 0 C 0.08464 -0.05949 0.16927 -0.11921 0.29115 -0.10879 C 0.41302 -0.09861 0.57214 -0.01805 0.73125 0.0625 E">
                                      <p:cBhvr>
                                        <p:cTn id="692" dur="125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C 0.08464 -0.05949 0.16927 -0.11921 0.29115 -0.10879 C 0.41302 -0.09861 0.57214 -0.01805 0.73125 0.0625 E">
                                      <p:cBhvr>
                                        <p:cTn id="694" dur="125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8464 -0.05949 0.16927 -0.11921 0.29115 -0.10879 C 0.41302 -0.09861 0.57214 -0.01805 0.73125 0.0625 E">
                                      <p:cBhvr>
                                        <p:cTn id="696" dur="125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69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0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70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0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0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70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1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1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1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1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71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2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72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2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2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2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3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73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3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3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3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74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4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4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4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4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5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5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5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5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5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6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76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76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6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6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7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7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7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7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7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8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8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8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8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8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9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9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9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9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79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9" dur="indefinite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4.16667E-007 -4.07407E-006 L 0.32135 0.01551 E">
                                      <p:cBhvr>
                                        <p:cTn id="800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4" dur="1000" fill="hold"/>
                                        <p:tgtEl>
                                          <p:spTgt spid="20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dur="indefinite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9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-1.48148E-006 L -0.00013 0.33889 E">
                                      <p:cBhvr>
                                        <p:cTn id="841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dur="indefinite" nodeType="after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013 0.33889 L 0.00612 0.20856 E">
                                      <p:cBhvr>
                                        <p:cTn id="852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3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854" dur="2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4.58333E-006 0.00371 L 0.11758 0.00232 E">
                                      <p:cBhvr>
                                        <p:cTn id="85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75E-006 -4.07407E-006 L -0.12317 0.00232 E">
                                      <p:cBhvr>
                                        <p:cTn id="862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0.00209 -4.07407E-006 L 0.24335 -4.07407E-006 E">
                                      <p:cBhvr>
                                        <p:cTn id="866" dur="1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0.00208 -4.07407E-006 L -0.26028 -0.00023 E">
                                      <p:cBhvr>
                                        <p:cTn id="870" dur="1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2925720" y="3427560"/>
            <a:ext cx="6507360" cy="1440"/>
            <a:chOff x="2925720" y="3427560"/>
            <a:chExt cx="6507360" cy="1440"/>
          </a:xfrm>
        </p:grpSpPr>
        <p:sp>
          <p:nvSpPr>
            <p:cNvPr id="242" name="直接连接符 30"/>
            <p:cNvSpPr/>
            <p:nvPr/>
          </p:nvSpPr>
          <p:spPr>
            <a:xfrm>
              <a:off x="2925720" y="3427560"/>
              <a:ext cx="6507360" cy="1440"/>
            </a:xfrm>
            <a:prstGeom prst="line">
              <a:avLst/>
            </a:prstGeom>
            <a:ln w="6480">
              <a:solidFill>
                <a:srgbClr val="333539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2925720" y="3427560"/>
              <a:ext cx="6507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849840" y="1244160"/>
            <a:ext cx="4440240" cy="4273560"/>
            <a:chOff x="3849840" y="1244160"/>
            <a:chExt cx="4440240" cy="4273560"/>
          </a:xfrm>
        </p:grpSpPr>
        <p:sp>
          <p:nvSpPr>
            <p:cNvPr id="245" name="直接连接符 31"/>
            <p:cNvSpPr/>
            <p:nvPr/>
          </p:nvSpPr>
          <p:spPr>
            <a:xfrm flipV="1">
              <a:off x="3849840" y="1244160"/>
              <a:ext cx="4440240" cy="4273560"/>
            </a:xfrm>
            <a:prstGeom prst="line">
              <a:avLst/>
            </a:prstGeom>
            <a:ln w="6480">
              <a:solidFill>
                <a:srgbClr val="333539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 rot="10800000">
              <a:off x="3849840" y="1244160"/>
              <a:ext cx="4440240" cy="4273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913360" y="549360"/>
            <a:ext cx="196920" cy="5643360"/>
            <a:chOff x="5913360" y="549360"/>
            <a:chExt cx="196920" cy="5643360"/>
          </a:xfrm>
        </p:grpSpPr>
        <p:sp>
          <p:nvSpPr>
            <p:cNvPr id="248" name="直接连接符 32"/>
            <p:cNvSpPr/>
            <p:nvPr/>
          </p:nvSpPr>
          <p:spPr>
            <a:xfrm>
              <a:off x="5913360" y="549360"/>
              <a:ext cx="196920" cy="5643360"/>
            </a:xfrm>
            <a:prstGeom prst="line">
              <a:avLst/>
            </a:prstGeom>
            <a:ln w="6480">
              <a:solidFill>
                <a:srgbClr val="333539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5913360" y="549360"/>
              <a:ext cx="196920" cy="564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695760" y="1482840"/>
            <a:ext cx="4473360" cy="3951000"/>
            <a:chOff x="3695760" y="1482840"/>
            <a:chExt cx="4473360" cy="3951000"/>
          </a:xfrm>
        </p:grpSpPr>
        <p:sp>
          <p:nvSpPr>
            <p:cNvPr id="251" name="直接连接符 42"/>
            <p:cNvSpPr/>
            <p:nvPr/>
          </p:nvSpPr>
          <p:spPr>
            <a:xfrm>
              <a:off x="3695760" y="1482840"/>
              <a:ext cx="4473360" cy="3951000"/>
            </a:xfrm>
            <a:prstGeom prst="line">
              <a:avLst/>
            </a:prstGeom>
            <a:ln w="6480">
              <a:solidFill>
                <a:srgbClr val="333539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3695760" y="1482840"/>
              <a:ext cx="4473360" cy="395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-7734240" y="6076800"/>
            <a:ext cx="14135040" cy="360"/>
            <a:chOff x="-7734240" y="6076800"/>
            <a:chExt cx="14135040" cy="360"/>
          </a:xfrm>
        </p:grpSpPr>
        <p:sp>
          <p:nvSpPr>
            <p:cNvPr id="254" name="直接连接符 4"/>
            <p:cNvSpPr/>
            <p:nvPr/>
          </p:nvSpPr>
          <p:spPr>
            <a:xfrm>
              <a:off x="-7734240" y="6076800"/>
              <a:ext cx="14135040" cy="0"/>
            </a:xfrm>
            <a:prstGeom prst="line">
              <a:avLst/>
            </a:prstGeom>
            <a:ln w="64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-7734240" y="6076800"/>
              <a:ext cx="1413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椭圆 5"/>
          <p:cNvSpPr/>
          <p:nvPr/>
        </p:nvSpPr>
        <p:spPr>
          <a:xfrm>
            <a:off x="3352680" y="704880"/>
            <a:ext cx="5429520" cy="5371920"/>
          </a:xfrm>
          <a:prstGeom prst="ellipse">
            <a:avLst/>
          </a:prstGeom>
          <a:noFill/>
          <a:ln w="12600">
            <a:solidFill>
              <a:srgbClr val="14151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6"/>
          <p:cNvSpPr/>
          <p:nvPr/>
        </p:nvSpPr>
        <p:spPr>
          <a:xfrm>
            <a:off x="648000" y="5430960"/>
            <a:ext cx="48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 Light"/>
                <a:ea typeface="Roboto Th"/>
              </a:rPr>
              <a:t>our love to be for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0"/>
          <p:cNvSpPr/>
          <p:nvPr/>
        </p:nvSpPr>
        <p:spPr>
          <a:xfrm>
            <a:off x="8697240" y="543096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 Light"/>
                <a:ea typeface="Roboto Th"/>
              </a:rPr>
              <a:t>we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组合 16"/>
          <p:cNvGrpSpPr/>
          <p:nvPr/>
        </p:nvGrpSpPr>
        <p:grpSpPr>
          <a:xfrm>
            <a:off x="3843360" y="717480"/>
            <a:ext cx="4449600" cy="4449960"/>
            <a:chOff x="3843360" y="717480"/>
            <a:chExt cx="4449600" cy="4449960"/>
          </a:xfrm>
        </p:grpSpPr>
        <p:sp>
          <p:nvSpPr>
            <p:cNvPr id="260" name="椭圆 13"/>
            <p:cNvSpPr/>
            <p:nvPr/>
          </p:nvSpPr>
          <p:spPr>
            <a:xfrm>
              <a:off x="4470480" y="730080"/>
              <a:ext cx="3035160" cy="3035520"/>
            </a:xfrm>
            <a:prstGeom prst="ellipse">
              <a:avLst/>
            </a:prstGeom>
            <a:noFill/>
            <a:ln w="12600">
              <a:solidFill>
                <a:srgbClr val="a620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 14"/>
            <p:cNvSpPr/>
            <p:nvPr/>
          </p:nvSpPr>
          <p:spPr>
            <a:xfrm>
              <a:off x="4019760" y="730080"/>
              <a:ext cx="3955680" cy="3956040"/>
            </a:xfrm>
            <a:prstGeom prst="ellipse">
              <a:avLst/>
            </a:prstGeom>
            <a:noFill/>
            <a:ln w="12600">
              <a:solidFill>
                <a:srgbClr val="a620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 15"/>
            <p:cNvSpPr/>
            <p:nvPr/>
          </p:nvSpPr>
          <p:spPr>
            <a:xfrm>
              <a:off x="3843360" y="717480"/>
              <a:ext cx="4449600" cy="4449960"/>
            </a:xfrm>
            <a:prstGeom prst="ellipse">
              <a:avLst/>
            </a:prstGeom>
            <a:noFill/>
            <a:ln w="12600">
              <a:solidFill>
                <a:srgbClr val="a620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心形 17"/>
          <p:cNvSpPr/>
          <p:nvPr/>
        </p:nvSpPr>
        <p:spPr>
          <a:xfrm>
            <a:off x="4673520" y="888840"/>
            <a:ext cx="2743200" cy="2527560"/>
          </a:xfrm>
          <a:prstGeom prst="pie">
            <a:avLst/>
          </a:prstGeom>
          <a:solidFill>
            <a:srgbClr val="e55974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UI Light"/>
                <a:ea typeface="宋体"/>
              </a:rPr>
              <a:t>bel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心形 18"/>
          <p:cNvSpPr/>
          <p:nvPr/>
        </p:nvSpPr>
        <p:spPr>
          <a:xfrm rot="4108800">
            <a:off x="5803920" y="1688760"/>
            <a:ext cx="2743200" cy="2527200"/>
          </a:xfrm>
          <a:prstGeom prst="pie">
            <a:avLst/>
          </a:prstGeom>
          <a:solidFill>
            <a:srgbClr val="ffff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Segoe UI Light"/>
                <a:ea typeface="宋体"/>
              </a:rPr>
              <a:t>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心形 19"/>
          <p:cNvSpPr/>
          <p:nvPr/>
        </p:nvSpPr>
        <p:spPr>
          <a:xfrm rot="7617600">
            <a:off x="5648040" y="2933280"/>
            <a:ext cx="2743200" cy="2527200"/>
          </a:xfrm>
          <a:prstGeom prst="pie">
            <a:avLst/>
          </a:prstGeom>
          <a:solidFill>
            <a:srgbClr val="59595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UI Light"/>
                <a:ea typeface="宋体"/>
              </a:rPr>
              <a:t>oa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心形 20"/>
          <p:cNvSpPr/>
          <p:nvPr/>
        </p:nvSpPr>
        <p:spPr>
          <a:xfrm rot="16962600">
            <a:off x="3510000" y="1962000"/>
            <a:ext cx="2743200" cy="2527200"/>
          </a:xfrm>
          <a:prstGeom prst="pie">
            <a:avLst/>
          </a:prstGeom>
          <a:solidFill>
            <a:srgbClr val="ea163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UI Light"/>
                <a:ea typeface="宋体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心形 21"/>
          <p:cNvSpPr/>
          <p:nvPr/>
        </p:nvSpPr>
        <p:spPr>
          <a:xfrm rot="12005400">
            <a:off x="4305240" y="3346200"/>
            <a:ext cx="2743200" cy="2527200"/>
          </a:xfrm>
          <a:prstGeom prst="pie">
            <a:avLst/>
          </a:prstGeom>
          <a:solidFill>
            <a:srgbClr val="8971e1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UI Light"/>
                <a:ea typeface="宋体"/>
              </a:rPr>
              <a:t>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组合 28"/>
          <p:cNvGrpSpPr/>
          <p:nvPr/>
        </p:nvGrpSpPr>
        <p:grpSpPr>
          <a:xfrm>
            <a:off x="3315600" y="885960"/>
            <a:ext cx="5506920" cy="5378400"/>
            <a:chOff x="3315600" y="885960"/>
            <a:chExt cx="5506920" cy="5378400"/>
          </a:xfrm>
        </p:grpSpPr>
        <p:sp>
          <p:nvSpPr>
            <p:cNvPr id="269" name="心形 22"/>
            <p:cNvSpPr/>
            <p:nvPr/>
          </p:nvSpPr>
          <p:spPr>
            <a:xfrm>
              <a:off x="4642200" y="885960"/>
              <a:ext cx="2742840" cy="2526840"/>
            </a:xfrm>
            <a:prstGeom prst="pie">
              <a:avLst/>
            </a:prstGeom>
            <a:solidFill>
              <a:srgbClr val="e5597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egoe UI Light"/>
                  <a:ea typeface="宋体"/>
                </a:rPr>
                <a:t>belie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心形 23"/>
            <p:cNvSpPr/>
            <p:nvPr/>
          </p:nvSpPr>
          <p:spPr>
            <a:xfrm rot="4108800">
              <a:off x="5772240" y="1685520"/>
              <a:ext cx="2742840" cy="2527200"/>
            </a:xfrm>
            <a:prstGeom prst="pie">
              <a:avLst/>
            </a:prstGeom>
            <a:solidFill>
              <a:srgbClr val="ffff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Segoe UI Light"/>
                  <a:ea typeface="宋体"/>
                </a:rPr>
                <a:t>toler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心形 24"/>
            <p:cNvSpPr/>
            <p:nvPr/>
          </p:nvSpPr>
          <p:spPr>
            <a:xfrm rot="7617600">
              <a:off x="5616720" y="2930040"/>
              <a:ext cx="2742840" cy="2527200"/>
            </a:xfrm>
            <a:prstGeom prst="pie">
              <a:avLst/>
            </a:prstGeom>
            <a:solidFill>
              <a:srgbClr val="59595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egoe UI Light"/>
                  <a:ea typeface="宋体"/>
                </a:rPr>
                <a:t>oa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心形 25"/>
            <p:cNvSpPr/>
            <p:nvPr/>
          </p:nvSpPr>
          <p:spPr>
            <a:xfrm rot="16962600">
              <a:off x="3478320" y="1958760"/>
              <a:ext cx="2742840" cy="2527200"/>
            </a:xfrm>
            <a:prstGeom prst="pie">
              <a:avLst/>
            </a:prstGeom>
            <a:solidFill>
              <a:srgbClr val="ea163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egoe UI Light"/>
                  <a:ea typeface="宋体"/>
                </a:rPr>
                <a:t>understan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心形 26"/>
            <p:cNvSpPr/>
            <p:nvPr/>
          </p:nvSpPr>
          <p:spPr>
            <a:xfrm rot="12005400">
              <a:off x="4272840" y="3342960"/>
              <a:ext cx="2742840" cy="2526840"/>
            </a:xfrm>
            <a:prstGeom prst="pie">
              <a:avLst/>
            </a:prstGeom>
            <a:solidFill>
              <a:srgbClr val="8971e1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egoe UI Light"/>
                  <a:ea typeface="宋体"/>
                </a:rPr>
                <a:t>compa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任意多边形 27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0" y="0"/>
                </a:moveTo>
                <a:lnTo>
                  <a:pt x="12192000" y="0"/>
                </a:lnTo>
                <a:lnTo>
                  <a:pt x="12192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6096000" y="2219325"/>
                </a:moveTo>
                <a:cubicBezTo>
                  <a:pt x="5427915" y="2219325"/>
                  <a:pt x="4886325" y="2760915"/>
                  <a:pt x="4886325" y="3429000"/>
                </a:cubicBezTo>
                <a:cubicBezTo>
                  <a:pt x="4886325" y="4097085"/>
                  <a:pt x="5427915" y="4638675"/>
                  <a:pt x="6096000" y="4638675"/>
                </a:cubicBezTo>
                <a:cubicBezTo>
                  <a:pt x="6764085" y="4638675"/>
                  <a:pt x="7305675" y="4097085"/>
                  <a:pt x="7305675" y="3429000"/>
                </a:cubicBezTo>
                <a:cubicBezTo>
                  <a:pt x="7305675" y="2760915"/>
                  <a:pt x="6764085" y="2219325"/>
                  <a:pt x="6096000" y="2219325"/>
                </a:cubicBezTo>
                <a:close/>
              </a:path>
            </a:pathLst>
          </a:cu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椭圆 29"/>
          <p:cNvSpPr/>
          <p:nvPr/>
        </p:nvSpPr>
        <p:spPr>
          <a:xfrm>
            <a:off x="4724280" y="2049480"/>
            <a:ext cx="2743200" cy="2759040"/>
          </a:xfrm>
          <a:prstGeom prst="ellipse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34"/>
          <p:cNvSpPr/>
          <p:nvPr/>
        </p:nvSpPr>
        <p:spPr>
          <a:xfrm>
            <a:off x="4327560" y="1635120"/>
            <a:ext cx="3537000" cy="35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35"/>
          <p:cNvSpPr/>
          <p:nvPr/>
        </p:nvSpPr>
        <p:spPr>
          <a:xfrm>
            <a:off x="3825720" y="1123920"/>
            <a:ext cx="4540320" cy="4610160"/>
          </a:xfrm>
          <a:prstGeom prst="ellipse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36"/>
          <p:cNvSpPr/>
          <p:nvPr/>
        </p:nvSpPr>
        <p:spPr>
          <a:xfrm>
            <a:off x="3330720" y="620640"/>
            <a:ext cx="5530680" cy="561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8221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b9f25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fade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5E-006 -1.11111E-006 L 1.05469 -1.11111E-006 E">
                                      <p:cBhvr>
                                        <p:cTn id="889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dur="indefinite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400"/>
                            </p:stCondLst>
                            <p:childTnLst>
                              <p:par>
                                <p:cTn id="898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3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dur="indefinite" nodeType="withEffect" fill="hold" presetClass="path" presetID="42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3.75E-006 4.81481E-006 L 0.00338 0.09513 E">
                                      <p:cBhvr>
                                        <p:cTn id="911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mph" presetID="8" repeatCount="indefinite">
                                  <p:stCondLst>
                                    <p:cond delay="1300"/>
                                  </p:stCondLst>
                                  <p:childTnLst>
                                    <p:animRot by="21600000">
                                      <p:cBhvr>
                                        <p:cTn id="91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4" dur="indefinite" nodeType="withEffect" fill="hold" presetClass="entr" presetID="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2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7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7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dur="indefinite" nodeType="withEffect" fill="hold" presetClass="entr" presetID="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7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7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2" presetSubtype="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7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7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0" dur="indefinite" nodeType="withEffect" fill="hold" presetClass="entr" presetID="2" presetSubtype="3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7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7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xit" presetID="31">
                                  <p:stCondLst>
                                    <p:cond delay="3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5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entr" presetID="35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7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entr" presetID="35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7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ntr" presetID="35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7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7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7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7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35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7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7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7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7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dur="indefinite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dur="indefinite" nodeType="withEffect" fill="hold" presetClass="emph" presetID="8" repeatCount="indefinite">
                                  <p:stCondLst>
                                    <p:cond delay="4500"/>
                                  </p:stCondLst>
                                  <p:childTnLst>
                                    <p:animRot by="21600000">
                                      <p:cBhvr>
                                        <p:cTn id="977" dur="92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21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8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21" presetSubtype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21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ntr" presetID="21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mph" presetID="6">
                                  <p:stCondLst>
                                    <p:cond delay="2750"/>
                                  </p:stCondLst>
                                  <p:childTnLst>
                                    <p:animScale>
                                      <p:cBhvr>
                                        <p:cTn id="1000" dur="1250" fill="hold"/>
                                        <p:tgtEl>
                                          <p:spTgt spid="27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椭圆 2"/>
          <p:cNvSpPr/>
          <p:nvPr/>
        </p:nvSpPr>
        <p:spPr>
          <a:xfrm>
            <a:off x="4389480" y="2041560"/>
            <a:ext cx="136440" cy="13824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11"/>
          <p:cNvSpPr/>
          <p:nvPr/>
        </p:nvSpPr>
        <p:spPr>
          <a:xfrm>
            <a:off x="4389480" y="4664160"/>
            <a:ext cx="136440" cy="13644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椭圆 12"/>
          <p:cNvSpPr/>
          <p:nvPr/>
        </p:nvSpPr>
        <p:spPr>
          <a:xfrm>
            <a:off x="7437600" y="2041560"/>
            <a:ext cx="136440" cy="13824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3"/>
          <p:cNvSpPr/>
          <p:nvPr/>
        </p:nvSpPr>
        <p:spPr>
          <a:xfrm>
            <a:off x="7437600" y="4664160"/>
            <a:ext cx="136440" cy="13644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5"/>
          <p:cNvSpPr/>
          <p:nvPr/>
        </p:nvSpPr>
        <p:spPr>
          <a:xfrm>
            <a:off x="5366520" y="3063960"/>
            <a:ext cx="11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  <a:ea typeface="宋体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4"/>
          <p:cNvSpPr/>
          <p:nvPr/>
        </p:nvSpPr>
        <p:spPr>
          <a:xfrm>
            <a:off x="4777560" y="3063960"/>
            <a:ext cx="23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  <a:ea typeface="宋体"/>
              </a:rPr>
              <a:t>I want to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525920" y="2095560"/>
            <a:ext cx="2652840" cy="360"/>
            <a:chOff x="4525920" y="2095560"/>
            <a:chExt cx="2652840" cy="360"/>
          </a:xfrm>
        </p:grpSpPr>
        <p:sp>
          <p:nvSpPr>
            <p:cNvPr id="287" name="直接连接符 17"/>
            <p:cNvSpPr/>
            <p:nvPr/>
          </p:nvSpPr>
          <p:spPr>
            <a:xfrm>
              <a:off x="4525920" y="2095560"/>
              <a:ext cx="2652840" cy="0"/>
            </a:xfrm>
            <a:prstGeom prst="line">
              <a:avLst/>
            </a:prstGeom>
            <a:ln w="6480">
              <a:solidFill>
                <a:srgbClr val="e5495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4525920" y="2095560"/>
              <a:ext cx="2652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505280" y="2179800"/>
            <a:ext cx="360" cy="2255760"/>
            <a:chOff x="7505280" y="2179800"/>
            <a:chExt cx="360" cy="2255760"/>
          </a:xfrm>
        </p:grpSpPr>
        <p:sp>
          <p:nvSpPr>
            <p:cNvPr id="290" name="直接连接符 18"/>
            <p:cNvSpPr/>
            <p:nvPr/>
          </p:nvSpPr>
          <p:spPr>
            <a:xfrm flipV="1">
              <a:off x="7505640" y="2179800"/>
              <a:ext cx="0" cy="2255760"/>
            </a:xfrm>
            <a:prstGeom prst="line">
              <a:avLst/>
            </a:prstGeom>
            <a:ln w="6480">
              <a:solidFill>
                <a:srgbClr val="e5495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 rot="10800000">
              <a:off x="7505280" y="2179800"/>
              <a:ext cx="360" cy="225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842000" y="4732200"/>
            <a:ext cx="2603520" cy="360"/>
            <a:chOff x="4842000" y="4732200"/>
            <a:chExt cx="2603520" cy="360"/>
          </a:xfrm>
        </p:grpSpPr>
        <p:sp>
          <p:nvSpPr>
            <p:cNvPr id="293" name="直接连接符 22"/>
            <p:cNvSpPr/>
            <p:nvPr/>
          </p:nvSpPr>
          <p:spPr>
            <a:xfrm>
              <a:off x="4842000" y="4732200"/>
              <a:ext cx="2603520" cy="0"/>
            </a:xfrm>
            <a:prstGeom prst="line">
              <a:avLst/>
            </a:prstGeom>
            <a:ln w="6480">
              <a:solidFill>
                <a:srgbClr val="e5495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4842000" y="4732200"/>
              <a:ext cx="260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457880" y="2611440"/>
            <a:ext cx="360" cy="2052720"/>
            <a:chOff x="4457880" y="2611440"/>
            <a:chExt cx="360" cy="2052720"/>
          </a:xfrm>
        </p:grpSpPr>
        <p:sp>
          <p:nvSpPr>
            <p:cNvPr id="296" name="直接连接符 25"/>
            <p:cNvSpPr/>
            <p:nvPr/>
          </p:nvSpPr>
          <p:spPr>
            <a:xfrm>
              <a:off x="4457880" y="2611440"/>
              <a:ext cx="0" cy="2052720"/>
            </a:xfrm>
            <a:prstGeom prst="line">
              <a:avLst/>
            </a:prstGeom>
            <a:ln w="6480">
              <a:solidFill>
                <a:srgbClr val="e5495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4457880" y="2611440"/>
              <a:ext cx="360" cy="20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椭圆 91"/>
          <p:cNvSpPr/>
          <p:nvPr/>
        </p:nvSpPr>
        <p:spPr>
          <a:xfrm>
            <a:off x="3436920" y="3324240"/>
            <a:ext cx="136440" cy="13824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93"/>
          <p:cNvSpPr/>
          <p:nvPr/>
        </p:nvSpPr>
        <p:spPr>
          <a:xfrm>
            <a:off x="8352000" y="3324240"/>
            <a:ext cx="137880" cy="13824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94"/>
          <p:cNvSpPr/>
          <p:nvPr/>
        </p:nvSpPr>
        <p:spPr>
          <a:xfrm>
            <a:off x="6006960" y="5681520"/>
            <a:ext cx="136800" cy="13824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95"/>
          <p:cNvSpPr/>
          <p:nvPr/>
        </p:nvSpPr>
        <p:spPr>
          <a:xfrm>
            <a:off x="5937120" y="880920"/>
            <a:ext cx="138240" cy="13824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552480" y="1127160"/>
            <a:ext cx="2298960" cy="2217600"/>
            <a:chOff x="3552480" y="1127160"/>
            <a:chExt cx="2298960" cy="2217600"/>
          </a:xfrm>
        </p:grpSpPr>
        <p:sp>
          <p:nvSpPr>
            <p:cNvPr id="303" name="直接连接符 96"/>
            <p:cNvSpPr/>
            <p:nvPr/>
          </p:nvSpPr>
          <p:spPr>
            <a:xfrm flipV="1">
              <a:off x="3552840" y="1127160"/>
              <a:ext cx="2298600" cy="2217600"/>
            </a:xfrm>
            <a:prstGeom prst="line">
              <a:avLst/>
            </a:prstGeom>
            <a:ln w="6480">
              <a:solidFill>
                <a:srgbClr val="e5495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 rot="10800000">
              <a:off x="3552480" y="1127160"/>
              <a:ext cx="2298600" cy="221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958000" y="901800"/>
            <a:ext cx="2195280" cy="2162160"/>
            <a:chOff x="5958000" y="901800"/>
            <a:chExt cx="2195280" cy="2162160"/>
          </a:xfrm>
        </p:grpSpPr>
        <p:sp>
          <p:nvSpPr>
            <p:cNvPr id="306" name="直接连接符 99"/>
            <p:cNvSpPr/>
            <p:nvPr/>
          </p:nvSpPr>
          <p:spPr>
            <a:xfrm>
              <a:off x="5958000" y="901800"/>
              <a:ext cx="2195280" cy="2162160"/>
            </a:xfrm>
            <a:prstGeom prst="line">
              <a:avLst/>
            </a:prstGeom>
            <a:ln w="6480">
              <a:solidFill>
                <a:srgbClr val="e5495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5958000" y="901800"/>
              <a:ext cx="2195280" cy="216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284520" y="3394080"/>
            <a:ext cx="2142000" cy="2108160"/>
            <a:chOff x="6284520" y="3394080"/>
            <a:chExt cx="2142000" cy="2108160"/>
          </a:xfrm>
        </p:grpSpPr>
        <p:sp>
          <p:nvSpPr>
            <p:cNvPr id="309" name="直接连接符 103"/>
            <p:cNvSpPr/>
            <p:nvPr/>
          </p:nvSpPr>
          <p:spPr>
            <a:xfrm flipH="1">
              <a:off x="6284520" y="3394080"/>
              <a:ext cx="2141640" cy="2108160"/>
            </a:xfrm>
            <a:prstGeom prst="line">
              <a:avLst/>
            </a:prstGeom>
            <a:ln w="6480">
              <a:solidFill>
                <a:srgbClr val="e5495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6284880" y="3394080"/>
              <a:ext cx="2141640" cy="210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782880" y="3586320"/>
            <a:ext cx="2275200" cy="2157120"/>
            <a:chOff x="3782880" y="3586320"/>
            <a:chExt cx="2275200" cy="2157120"/>
          </a:xfrm>
        </p:grpSpPr>
        <p:sp>
          <p:nvSpPr>
            <p:cNvPr id="312" name="直接连接符 106"/>
            <p:cNvSpPr/>
            <p:nvPr/>
          </p:nvSpPr>
          <p:spPr>
            <a:xfrm>
              <a:off x="3782880" y="3586320"/>
              <a:ext cx="2275200" cy="2157120"/>
            </a:xfrm>
            <a:prstGeom prst="line">
              <a:avLst/>
            </a:prstGeom>
            <a:ln w="6480">
              <a:solidFill>
                <a:srgbClr val="e5495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3782880" y="3586320"/>
              <a:ext cx="2275200" cy="215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椭圆 118"/>
          <p:cNvSpPr/>
          <p:nvPr/>
        </p:nvSpPr>
        <p:spPr>
          <a:xfrm>
            <a:off x="3978360" y="1539720"/>
            <a:ext cx="136440" cy="13680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119"/>
          <p:cNvSpPr/>
          <p:nvPr/>
        </p:nvSpPr>
        <p:spPr>
          <a:xfrm>
            <a:off x="3978360" y="5432400"/>
            <a:ext cx="136440" cy="13824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120"/>
          <p:cNvSpPr/>
          <p:nvPr/>
        </p:nvSpPr>
        <p:spPr>
          <a:xfrm>
            <a:off x="7908840" y="5432400"/>
            <a:ext cx="138240" cy="13824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121"/>
          <p:cNvSpPr/>
          <p:nvPr/>
        </p:nvSpPr>
        <p:spPr>
          <a:xfrm>
            <a:off x="7908840" y="1539720"/>
            <a:ext cx="138240" cy="136800"/>
          </a:xfrm>
          <a:prstGeom prst="ellipse">
            <a:avLst/>
          </a:prstGeom>
          <a:solidFill>
            <a:srgbClr val="e54954"/>
          </a:solidFill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23"/>
          <p:cNvSpPr/>
          <p:nvPr/>
        </p:nvSpPr>
        <p:spPr>
          <a:xfrm>
            <a:off x="3782880" y="1206360"/>
            <a:ext cx="4264200" cy="4224600"/>
          </a:xfrm>
          <a:prstGeom prst="ellipse">
            <a:avLst/>
          </a:prstGeom>
          <a:noFill/>
          <a:ln w="12600">
            <a:solidFill>
              <a:srgbClr val="e549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"/>
          <p:cNvSpPr/>
          <p:nvPr/>
        </p:nvSpPr>
        <p:spPr>
          <a:xfrm>
            <a:off x="5335560" y="2884320"/>
            <a:ext cx="12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539"/>
                </a:solidFill>
                <a:latin typeface="Segoe UI Light"/>
                <a:ea typeface="宋体"/>
              </a:rPr>
              <a:t>Ti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9"/>
          <p:cNvSpPr/>
          <p:nvPr/>
        </p:nvSpPr>
        <p:spPr>
          <a:xfrm>
            <a:off x="5908680" y="2193840"/>
            <a:ext cx="158760" cy="2305080"/>
          </a:xfrm>
          <a:prstGeom prst="rect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10"/>
          <p:cNvGrpSpPr/>
          <p:nvPr/>
        </p:nvGrpSpPr>
        <p:grpSpPr>
          <a:xfrm>
            <a:off x="5908680" y="2263680"/>
            <a:ext cx="6031080" cy="2305080"/>
            <a:chOff x="5908680" y="2263680"/>
            <a:chExt cx="6031080" cy="2305080"/>
          </a:xfrm>
        </p:grpSpPr>
        <p:sp>
          <p:nvSpPr>
            <p:cNvPr id="322" name="矩形 32"/>
            <p:cNvSpPr/>
            <p:nvPr/>
          </p:nvSpPr>
          <p:spPr>
            <a:xfrm flipH="1" flipV="1">
              <a:off x="5987520" y="4522320"/>
              <a:ext cx="5952240" cy="45720"/>
            </a:xfrm>
            <a:prstGeom prst="rect">
              <a:avLst/>
            </a:prstGeom>
            <a:solidFill>
              <a:srgbClr val="e5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34"/>
            <p:cNvSpPr/>
            <p:nvPr/>
          </p:nvSpPr>
          <p:spPr>
            <a:xfrm>
              <a:off x="5908680" y="2263680"/>
              <a:ext cx="158040" cy="2305080"/>
            </a:xfrm>
            <a:prstGeom prst="rect">
              <a:avLst/>
            </a:prstGeom>
            <a:solidFill>
              <a:srgbClr val="e5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23"/>
          <p:cNvGrpSpPr/>
          <p:nvPr/>
        </p:nvGrpSpPr>
        <p:grpSpPr>
          <a:xfrm>
            <a:off x="5410440" y="2966760"/>
            <a:ext cx="1659600" cy="1578600"/>
            <a:chOff x="5410440" y="2966760"/>
            <a:chExt cx="1659600" cy="1578600"/>
          </a:xfrm>
        </p:grpSpPr>
        <p:sp>
          <p:nvSpPr>
            <p:cNvPr id="325" name="矩形 33"/>
            <p:cNvSpPr/>
            <p:nvPr/>
          </p:nvSpPr>
          <p:spPr>
            <a:xfrm flipH="1" rot="14551200">
              <a:off x="4964400" y="3721680"/>
              <a:ext cx="1730160" cy="45720"/>
            </a:xfrm>
            <a:prstGeom prst="rect">
              <a:avLst/>
            </a:prstGeom>
            <a:solidFill>
              <a:srgbClr val="e5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39"/>
            <p:cNvSpPr/>
            <p:nvPr/>
          </p:nvSpPr>
          <p:spPr>
            <a:xfrm rot="7048800">
              <a:off x="5785200" y="3744360"/>
              <a:ext cx="1730160" cy="45720"/>
            </a:xfrm>
            <a:prstGeom prst="rect">
              <a:avLst/>
            </a:prstGeom>
            <a:solidFill>
              <a:srgbClr val="e5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矩形 40"/>
          <p:cNvSpPr/>
          <p:nvPr/>
        </p:nvSpPr>
        <p:spPr>
          <a:xfrm flipH="1" rot="16200000">
            <a:off x="7243560" y="3794040"/>
            <a:ext cx="1455840" cy="46080"/>
          </a:xfrm>
          <a:prstGeom prst="rect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41"/>
          <p:cNvSpPr/>
          <p:nvPr/>
        </p:nvSpPr>
        <p:spPr>
          <a:xfrm flipH="1" rot="16200000">
            <a:off x="8431200" y="2570040"/>
            <a:ext cx="44640" cy="990720"/>
          </a:xfrm>
          <a:prstGeom prst="rect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42"/>
          <p:cNvSpPr/>
          <p:nvPr/>
        </p:nvSpPr>
        <p:spPr>
          <a:xfrm flipH="1" rot="16200000">
            <a:off x="8430480" y="3253680"/>
            <a:ext cx="46080" cy="990720"/>
          </a:xfrm>
          <a:prstGeom prst="rect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心形 21"/>
          <p:cNvSpPr/>
          <p:nvPr/>
        </p:nvSpPr>
        <p:spPr>
          <a:xfrm>
            <a:off x="3666960" y="2967120"/>
            <a:ext cx="1314720" cy="153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28440">
            <a:solidFill>
              <a:srgbClr val="e54954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51"/>
          <p:cNvSpPr/>
          <p:nvPr/>
        </p:nvSpPr>
        <p:spPr>
          <a:xfrm rot="7048800">
            <a:off x="3483720" y="4471920"/>
            <a:ext cx="1730520" cy="47880"/>
          </a:xfrm>
          <a:prstGeom prst="rect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52"/>
          <p:cNvSpPr/>
          <p:nvPr/>
        </p:nvSpPr>
        <p:spPr>
          <a:xfrm flipH="1" rot="16200000">
            <a:off x="8443800" y="4014720"/>
            <a:ext cx="44640" cy="990720"/>
          </a:xfrm>
          <a:prstGeom prst="rect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53"/>
          <p:cNvSpPr/>
          <p:nvPr/>
        </p:nvSpPr>
        <p:spPr>
          <a:xfrm flipH="1" rot="16200000">
            <a:off x="7225200" y="3748680"/>
            <a:ext cx="1457640" cy="46080"/>
          </a:xfrm>
          <a:prstGeom prst="rect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ntr" presetID="2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dur="indefinite" nodeType="withEffect" fill="hold" presetClass="entr" presetID="2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dur="indefinite" nodeType="withEffect" fill="hold" presetClass="path" presetID="42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5E-006 4.07407E-006 L 0.08685 4.07407E-006 E">
                                      <p:cBhvr>
                                        <p:cTn id="1039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path" presetID="42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0.0056 -0.0074 L -0.0819 -0.0074 E">
                                      <p:cBhvr>
                                        <p:cTn id="1041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path" presetID="42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2.08333E-006 4.44444E-006 L 2.08333E-006 -0.11899 E">
                                      <p:cBhvr>
                                        <p:cTn id="1043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4" dur="indefinite" nodeType="withEffect" fill="hold" presetClass="path" presetID="42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3.75E-006 3.7037E-006 L 0.00104 0.15 E">
                                      <p:cBhvr>
                                        <p:cTn id="1045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6" dur="indefinite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47" dur="1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50" dur="17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53" dur="17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dur="indefinite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56" dur="17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59" dur="17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dur="indefinite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62" dur="17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65" dur="17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dur="indefinite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68" dur="175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dur="indefinite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071" dur="175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073" dur="1750" fill="hold"/>
                                        <p:tgtEl>
                                          <p:spTgt spid="2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075" dur="1750" fill="hold"/>
                                        <p:tgtEl>
                                          <p:spTgt spid="2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077" dur="175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8" dur="indefinite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079" dur="1750" fill="hold"/>
                                        <p:tgtEl>
                                          <p:spTgt spid="2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081" dur="1750" fill="hold"/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083" dur="1750" fill="hold"/>
                                        <p:tgtEl>
                                          <p:spTgt spid="2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84" dur="indefinite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085" dur="1750" fill="hold"/>
                                        <p:tgtEl>
                                          <p:spTgt spid="2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86" dur="indefinite" nodeType="withEffect" fill="hold" presetClass="entr" presetID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dur="indefinite" nodeType="withEffect" fill="hold" presetClass="entr" presetID="22" presetSubtype="8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22" presetSubtype="8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dur="indefinite" nodeType="withEffect" fill="hold" presetClass="path" presetID="42">
                                  <p:stCondLst>
                                    <p:cond delay="3250"/>
                                  </p:stCondLst>
                                  <p:childTnLst>
                                    <p:animMotion origin="layout" path="M 2.91667E-006 4.07407E-006 L -0.05886 -0.10186 E">
                                      <p:cBhvr>
                                        <p:cTn id="1111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2" dur="indefinite" nodeType="withEffect" fill="hold" presetClass="path" presetID="42">
                                  <p:stCondLst>
                                    <p:cond delay="3250"/>
                                  </p:stCondLst>
                                  <p:childTnLst>
                                    <p:animMotion origin="layout" path="M 4.16667E-006 -3.7037E-007 L 0.05885 -0.10347 E">
                                      <p:cBhvr>
                                        <p:cTn id="1113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4" dur="indefinite" nodeType="withEffect" fill="hold" presetClass="path" presetID="42">
                                  <p:stCondLst>
                                    <p:cond delay="3250"/>
                                  </p:stCondLst>
                                  <p:childTnLst>
                                    <p:animMotion origin="layout" path="M 4.79167E-006 -1.11111E-006 L 0.04296 0.0669 E">
                                      <p:cBhvr>
                                        <p:cTn id="1115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path" presetID="42">
                                  <p:stCondLst>
                                    <p:cond delay="3250"/>
                                  </p:stCondLst>
                                  <p:childTnLst>
                                    <p:animMotion origin="layout" path="M 4.375E-006 -2.59259E-006 L -0.04349 0.07616 E">
                                      <p:cBhvr>
                                        <p:cTn id="1117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8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2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31" dur="175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34" dur="17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37" dur="17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40" dur="17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dur="indefinite" nodeType="withEffect" fill="hold" presetClass="emph" presetID="6">
                                  <p:stCondLst>
                                    <p:cond delay="3250"/>
                                  </p:stCondLst>
                                  <p:childTnLst>
                                    <p:animScale>
                                      <p:cBhvr>
                                        <p:cTn id="1143" dur="2000" fill="hold"/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44" dur="indefinite" nodeType="withEffect" fill="hold" presetClass="emph" presetID="6">
                                  <p:stCondLst>
                                    <p:cond delay="3250"/>
                                  </p:stCondLst>
                                  <p:childTnLst>
                                    <p:animScale>
                                      <p:cBhvr>
                                        <p:cTn id="1145" dur="2000" fill="hold"/>
                                        <p:tgtEl>
                                          <p:spTgt spid="2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46" dur="indefinite" nodeType="withEffect" fill="hold" presetClass="emph" presetID="6">
                                  <p:stCondLst>
                                    <p:cond delay="3250"/>
                                  </p:stCondLst>
                                  <p:childTnLst>
                                    <p:animScale>
                                      <p:cBhvr>
                                        <p:cTn id="1147" dur="20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emph" presetID="6">
                                  <p:stCondLst>
                                    <p:cond delay="3250"/>
                                  </p:stCondLst>
                                  <p:childTnLst>
                                    <p:animScale>
                                      <p:cBhvr>
                                        <p:cTn id="1149" dur="2000" fill="hold"/>
                                        <p:tgtEl>
                                          <p:spTgt spid="3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50" dur="indefinite" nodeType="withEffect" fill="hold" presetClass="emph" presetID="6">
                                  <p:stCondLst>
                                    <p:cond delay="3250"/>
                                  </p:stCondLst>
                                  <p:childTnLst>
                                    <p:animScale>
                                      <p:cBhvr>
                                        <p:cTn id="1151" dur="1750" fill="hold"/>
                                        <p:tgtEl>
                                          <p:spTgt spid="3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52" dur="indefinite" nodeType="withEffect" fill="hold" presetClass="emph" presetID="6">
                                  <p:stCondLst>
                                    <p:cond delay="3250"/>
                                  </p:stCondLst>
                                  <p:childTnLst>
                                    <p:animScale>
                                      <p:cBhvr>
                                        <p:cTn id="1153" dur="1750" fill="hold"/>
                                        <p:tgtEl>
                                          <p:spTgt spid="3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emph" presetID="6">
                                  <p:stCondLst>
                                    <p:cond delay="3250"/>
                                  </p:stCondLst>
                                  <p:childTnLst>
                                    <p:animScale>
                                      <p:cBhvr>
                                        <p:cTn id="1155" dur="1750" fill="hold"/>
                                        <p:tgtEl>
                                          <p:spTgt spid="3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56" dur="indefinite" nodeType="withEffect" fill="hold" presetClass="emph" presetID="6">
                                  <p:stCondLst>
                                    <p:cond delay="3250"/>
                                  </p:stCondLst>
                                  <p:childTnLst>
                                    <p:animScale>
                                      <p:cBhvr>
                                        <p:cTn id="1157" dur="1750" fill="hold"/>
                                        <p:tgtEl>
                                          <p:spTgt spid="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58" dur="indefinite" nodeType="withEffect" fill="hold" presetClass="entr" presetID="21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0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dur="indefinite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1162" dur="2000" fill="hold"/>
                                        <p:tgtEl>
                                          <p:spTgt spid="3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63" dur="indefinite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64" dur="1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dur="indefinite" nodeType="withEffect" fill="hold" presetClass="path" presetID="42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2.08333E-006 -2.22222E-006 L -0.00052 0.10347 E">
                                      <p:cBhvr>
                                        <p:cTn id="1167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8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10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dur="indefinite" nodeType="withEffect" fill="hold" presetClass="entr" presetID="10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dur="indefinite" nodeType="withEffect" fill="hold" presetClass="entr" presetID="10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dur="indefinite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dur="indefinite" nodeType="withEffect" fill="hold" presetClass="path" presetID="42">
                                  <p:stCondLst>
                                    <p:cond delay="6250"/>
                                  </p:stCondLst>
                                  <p:childTnLst>
                                    <p:animMotion origin="layout" path="M -1.04167E-006 -7.40741E-007 L 0.15703 0.24745 E">
                                      <p:cBhvr>
                                        <p:cTn id="1190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path" presetID="42">
                                  <p:stCondLst>
                                    <p:cond delay="6250"/>
                                  </p:stCondLst>
                                  <p:childTnLst>
                                    <p:animMotion origin="layout" path="M -1.04167E-006 -3.33333E-006 L 0.1599 -0.32523 E">
                                      <p:cBhvr>
                                        <p:cTn id="1192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3" dur="indefinite" nodeType="withEffect" fill="hold" presetClass="path" presetID="42">
                                  <p:stCondLst>
                                    <p:cond delay="6250"/>
                                  </p:stCondLst>
                                  <p:childTnLst>
                                    <p:animMotion origin="layout" path="M 3.125E-006 -3.33333E-006 L -0.16537 -0.32268 E">
                                      <p:cBhvr>
                                        <p:cTn id="1194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path" presetID="42">
                                  <p:stCondLst>
                                    <p:cond delay="6250"/>
                                  </p:stCondLst>
                                  <p:childTnLst>
                                    <p:animMotion origin="layout" path="M 3.125E-006 -7.40741E-007 L -0.1625 0.24745 E">
                                      <p:cBhvr>
                                        <p:cTn id="1196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7" dur="indefinite" nodeType="withEffect" fill="hold" presetClass="entr" presetID="16" presetSubtype="42">
                                  <p:stCondLst>
                                    <p:cond delay="825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dur="indefinite" nodeType="withEffect" fill="hold" presetClass="exit" presetID="1">
                                  <p:stCondLst>
                                    <p:cond delay="825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dur="indefinite" nodeType="withEffect" fill="hold" presetClass="exit" presetID="1">
                                  <p:stCondLst>
                                    <p:cond delay="825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dur="indefinite" nodeType="withEffect" fill="hold" presetClass="exit" presetID="1">
                                  <p:stCondLst>
                                    <p:cond delay="825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exit" presetID="1">
                                  <p:stCondLst>
                                    <p:cond delay="825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dur="indefinite" nodeType="withEffect" fill="hold" presetClass="entr" presetID="22" presetSubtype="8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dur="indefinite" nodeType="withEffect" fill="hold" presetClass="exit" presetID="1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dur="indefinite" nodeType="withEffect" fill="hold" presetClass="path" presetID="42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-1.04167E-006 1.85185E-006 L -0.24583 0.00185 E">
                                      <p:cBhvr>
                                        <p:cTn id="1214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5" dur="indefinite" nodeType="withEffect" fill="hold" presetClass="entr" presetID="22" presetSubtype="4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ntr" presetID="22" presetSubtype="8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dur="indefinite" nodeType="withEffect" fill="hold" presetClass="entr" presetID="22" presetSubtype="8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entr" presetID="22" presetSubtype="4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22" presetSubtype="4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1600"/>
                            </p:stCondLst>
                            <p:childTnLst>
                              <p:par>
                                <p:cTn id="1231" dur="indefinite" nodeType="after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0.17057 0.00301 E">
                                      <p:cBhvr>
                                        <p:cTn id="1235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4167E-006 4.81481E-006 L -0.15716 -0.00347 E">
                                      <p:cBhvr>
                                        <p:cTn id="1237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8" dur="indefinite" nodeType="withEffect" fill="hold" presetClass="entr" presetID="2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5400000">
                                      <p:cBhvr>
                                        <p:cTn id="124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8" dur="indefinite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95833E-006 -1.48148E-006 L 0.08164 -0.00046 E">
                                      <p:cBhvr>
                                        <p:cTn id="1254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椭圆 3"/>
          <p:cNvSpPr/>
          <p:nvPr/>
        </p:nvSpPr>
        <p:spPr>
          <a:xfrm>
            <a:off x="5238720" y="2533680"/>
            <a:ext cx="1505160" cy="1504800"/>
          </a:xfrm>
          <a:prstGeom prst="ellipse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5"/>
          <p:cNvSpPr/>
          <p:nvPr/>
        </p:nvSpPr>
        <p:spPr>
          <a:xfrm>
            <a:off x="5810400" y="3105000"/>
            <a:ext cx="361800" cy="362160"/>
          </a:xfrm>
          <a:prstGeom prst="ellipse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6"/>
          <p:cNvSpPr/>
          <p:nvPr/>
        </p:nvSpPr>
        <p:spPr>
          <a:xfrm>
            <a:off x="5810400" y="3105000"/>
            <a:ext cx="361800" cy="362160"/>
          </a:xfrm>
          <a:prstGeom prst="ellipse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838760" y="3276720"/>
            <a:ext cx="2286000" cy="360"/>
            <a:chOff x="4838760" y="3276720"/>
            <a:chExt cx="2286000" cy="360"/>
          </a:xfrm>
        </p:grpSpPr>
        <p:sp>
          <p:nvSpPr>
            <p:cNvPr id="338" name="直接连接符 8"/>
            <p:cNvSpPr/>
            <p:nvPr/>
          </p:nvSpPr>
          <p:spPr>
            <a:xfrm>
              <a:off x="4838760" y="3276720"/>
              <a:ext cx="2286000" cy="0"/>
            </a:xfrm>
            <a:prstGeom prst="line">
              <a:avLst/>
            </a:prstGeom>
            <a:ln w="28440">
              <a:solidFill>
                <a:srgbClr val="e5495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4838760" y="327672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椭圆 10"/>
          <p:cNvSpPr/>
          <p:nvPr/>
        </p:nvSpPr>
        <p:spPr>
          <a:xfrm>
            <a:off x="4838760" y="2133720"/>
            <a:ext cx="2286000" cy="2286000"/>
          </a:xfrm>
          <a:prstGeom prst="ellipse">
            <a:avLst/>
          </a:prstGeom>
          <a:solidFill>
            <a:srgbClr val="e54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1"/>
          <p:cNvSpPr/>
          <p:nvPr/>
        </p:nvSpPr>
        <p:spPr>
          <a:xfrm>
            <a:off x="4946040" y="2994120"/>
            <a:ext cx="20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UI Light"/>
                <a:ea typeface="宋体"/>
              </a:rPr>
              <a:t>I am A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12"/>
          <p:cNvSpPr/>
          <p:nvPr/>
        </p:nvSpPr>
        <p:spPr>
          <a:xfrm>
            <a:off x="4254480" y="395280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 Light"/>
                <a:ea typeface="宋体"/>
              </a:rPr>
              <a:t>Our hearts are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3"/>
          <p:cNvSpPr/>
          <p:nvPr/>
        </p:nvSpPr>
        <p:spPr>
          <a:xfrm>
            <a:off x="3487320" y="3119400"/>
            <a:ext cx="49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goe UI Light"/>
                <a:ea typeface="宋体"/>
              </a:rPr>
              <a:t>Happy Valentine`s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0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65" dur="750" fill="hold"/>
                                        <p:tgtEl>
                                          <p:spTgt spid="33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266" dur="indefinite" nodeType="withEffect" fill="hold" presetClass="exit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dur="indefinite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dur="indefinite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dur="indefinite" nodeType="withEffect" fill="hold" presetClass="path" presetID="42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3.75E-006 3.33333E-006 L 0.09609 -0.00139 E">
                                      <p:cBhvr>
                                        <p:cTn id="1273" dur="125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path" presetID="42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3.75E-006 3.33333E-006 L -0.09141 -0.00139 E">
                                      <p:cBhvr>
                                        <p:cTn id="1275" dur="125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6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dur="indefinite" nodeType="withEffect" fill="hold" presetClass="exit" presetID="42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dur="indefinite" nodeType="withEffect" fill="hold" presetClass="entr" presetID="16" presetSubtype="37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exit" presetID="16" presetSubtype="26">
                                  <p:stCondLst>
                                    <p:cond delay="2250"/>
                                  </p:stCondLst>
                                  <p:childTnLst>
                                    <p:animEffect filter="barn(inHorizontal)" transition="in">
                                      <p:cBhvr additive="repl">
                                        <p:cTn id="12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dur="indefinite" nodeType="withEffect" fill="hold" presetClass="exit" presetID="16" presetSubtype="26">
                                  <p:stCondLst>
                                    <p:cond delay="2250"/>
                                  </p:stCondLst>
                                  <p:childTnLs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emph" presetID="8">
                                  <p:stCondLst>
                                    <p:cond delay="2700"/>
                                  </p:stCondLst>
                                  <p:childTnLst>
                                    <p:animRot by="5400000">
                                      <p:cBhvr>
                                        <p:cTn id="1294" dur="75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entr" presetID="21" presetSubtype="2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97" dur="7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4150"/>
                            </p:stCondLst>
                            <p:childTnLst>
                              <p:par>
                                <p:cTn id="1302" dur="indefinite" nodeType="afterEffect" fill="hold" presetClass="exit" presetID="10">
                                  <p:stCondLst>
                                    <p:cond delay="3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dur="indefinite" nodeType="withEffect" fill="hold" presetClass="emph" presetID="6">
                                  <p:stCondLst>
                                    <p:cond delay="650"/>
                                  </p:stCondLst>
                                  <p:childTnLst>
                                    <p:animScale>
                                      <p:cBhvr>
                                        <p:cTn id="1306" dur="1500" fill="hold"/>
                                        <p:tgtEl>
                                          <p:spTgt spid="340"/>
                                        </p:tgtEl>
                                      </p:cBhvr>
                                      <p:to x="700000" y="700000"/>
                                    </p:animScale>
                                  </p:childTnLst>
                                </p:cTn>
                              </p:par>
                              <p:par>
                                <p:cTn id="1307" dur="indefinite" nodeType="withEffect" fill="hold" presetClass="entr" presetID="50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1B37-4B2E-4A60-81D9-F3F4A4EEE26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9T08:3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28Z</dcterms:modified>
  <cp:revision>9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