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EAF-8BBC-408F-83A8-AC1B1D45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9BB-2A21-4E47-8D7B-65A69209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A8D8E-845D-4D44-8E53-46061F81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2B3DB-B129-4F26-8FFD-BBBFE9B5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CBC68-14B7-4C11-9B4E-365A3FAC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C201D-79AE-4580-913E-159CB582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DFCCF-8452-4402-B9F8-436FB6E9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45956-8D92-4C9E-8886-DF0C4E80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37D17-D041-4D52-9401-0FA01D03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DA0BBD-12DB-4A78-B0B1-CDA609A2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7AA200-9C77-44B9-855F-19FFAF70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93DDD4-C92F-441D-921D-F6643170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0B08-92C2-470E-8EEF-CF2DEB88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FF94C-26A1-498E-997D-83BCDD7B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1ED61-99A6-437B-B3FE-814E66A1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645A2-4FA3-44D2-B6B4-6D742F72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390F5-C5A1-44E2-8E0A-1AF4D805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C8C3D-3B8F-4BC9-9790-C037FF0F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D15C4-681E-4261-B149-D2B5AC04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68C14-A015-42BA-A7AA-E062F93C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E08D6-8C61-46C4-BE37-BD570793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B6B891-60D5-451B-BEDE-FD1533ED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D63C7-8042-46DE-9D87-F22BA50D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3EF-5BF1-4187-87FE-9D93AA34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0EBFC0-EE29-43B3-B0AE-2849DFC72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326BD-0A99-4CC2-8DBA-BB1B8152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D94E0-10BB-48F0-8139-CC9CC7DC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0AEE88-D6FE-40A3-A794-9735674D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13E34-5BD0-4740-A7D1-A32D063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1957F-8686-4BA3-B127-C7C17EDA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F0C12-8013-49AE-81D1-CF957031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6451D-4A2C-4BB1-ADFD-C0F4A123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980DA-BC0C-4BDD-A019-A58BE33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25F74-EB4D-4266-9CBB-27B4DFE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5004-4452-461A-A6D3-17EB4004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FA1E7-4270-4E4B-BC4A-40A26107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12E0F-4C50-40F5-B9A4-87803686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DA109-8352-4C8E-9738-042435A7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CEC7B-AEB2-45F2-A071-60A07E72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1553F-A53E-4E54-A7E5-99A3FCD1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FFF72-7812-4379-B3D4-61ED9833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0A83D-FE09-47BD-83F6-7B66DF34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47A50-2C80-4827-9A38-CC65AA1E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3233A-760C-4270-A4EB-277BEBF0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AF7E5-6676-4BC7-926F-7C4D02AF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54F7-15BE-4FDC-848D-09A5F934C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444A08-81E5-4B6C-9099-EF88BD54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90A6E-D334-48C2-89BF-9A73777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60979-0FC9-44F8-B965-01DDB4C3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88AE2-F38B-46FB-A3DD-BC442E2F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3432A-ED5E-4CC5-AC60-FD2AA67A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0DE5E2-9CD1-474A-9489-BA9D794F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48E4A-A2D8-46F2-B77F-4F252D0B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6228ED-AB9B-4759-B201-49943FA2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AC59C2-D8E4-459B-BEC4-B87F0EEF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959BCA-7F4E-4707-BB2B-6516F6EC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9469-F5F0-4631-8E0F-BA31C5DE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062A2-1B7C-4D9B-96DC-23198E61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CD396-D1B8-4FEB-9770-A770D5C5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7D8CE2-1383-4235-B937-08A607B1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34FCE-769F-41D0-A05E-4A347C4D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F5541-B72F-4291-9429-3EF6D705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30552-ACD9-4131-AFC3-8135244E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3267C-C22F-49AE-B406-9DD2BA4EA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7AD2-7F71-4145-8E3B-B679850E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574A-C618-4848-9CC5-B4F297EF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D51D-0828-49E1-9C50-3AAB2B5B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5C5A-1CE7-4E49-A311-6325A8C9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674-4E6D-4E11-8637-3AD6DC9B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039F-13BF-4B82-A161-FE1783BE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1E02-2A1A-4FF7-8596-F34D2295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3800-29EB-40C4-B0EC-D3252490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B1FD-50BA-4496-B498-5D3475E62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5625-EA81-4394-954F-0BAF5253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DB2C0-A2F3-423E-AA38-114A3CA0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3E8E-D7C7-4757-861E-E4427B79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9FB8-CEBE-420E-A506-7038B67E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E65DC-D6FD-41B4-814B-20CFCBCF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378A-8B33-479E-9AAA-06D97E91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C26C-8064-4371-9E70-078E91C3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55E68-76FE-4F98-9CB5-EAE0D1E9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A80E8-FC39-4AD1-8769-EFF7ECFC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7D65-0A6A-4E8C-B248-423E18A8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BDAEC-0AF9-4C43-8618-4CC58FB0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78A7E-4776-48FB-BA16-6E9D98DF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63B6-9BA2-436D-B576-98C87DBC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F9DC0-12AD-4348-9FFC-8498D33FC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B5E3-DF73-4969-868D-AB4F58CB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04CBE-095D-42EE-A8EA-E5108322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77BD-329E-4691-929D-B30B82FD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7D5-731B-4A28-B2A6-B0C44E92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61B9E-C15D-43DD-8DA4-A3A785AA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46830-8A7C-4D5F-9081-A8169898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7F9F8-72F9-4A02-8887-5E5872B9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40A89-806B-42DF-8C04-3B62BC18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1B136-3292-43FA-B32E-2BFAF607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E39BC-B8E2-4660-AE38-EF821EB5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5FF98-E023-49B2-AE74-6CD3E105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46CF0-D2B3-42D2-BF83-700CBB12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3EA7F-AF67-4FA8-BE00-8ED8D50F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B70F8-2981-41AA-B190-4177BAF7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A1C-4641-434C-9FCD-EFFB139C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F0D80-9286-4FBF-8E29-3A9F8FB8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C9FEE-FD04-4ED6-B328-13BCAA1A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66B6E-A782-4D8A-AA60-02C6EC8C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81295-52EB-4647-A06D-0F8ECE74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D10E2-7498-405E-80AC-BC565A0A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5FBD6-683E-4C96-8E38-9EFF7DE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2C8E-8952-4CB6-8A11-60963A45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E4901-FE40-436A-BCEC-EE1D6474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A51DE-713B-41B4-ACD2-F8F8E373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C75B2-044D-4B1A-99A2-F06FFADF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F8B-45E8-49C6-929A-15C426D2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88BF8-FA43-4EB1-BC11-BC241DD1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D81F0-8AC5-4488-8168-F4936F7F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9B72E-CAC2-41EE-9482-16FD8269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1522F-1447-412F-88FD-2EE26F80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E27C5-04A9-4AD3-A6B8-BE608A6B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71106-B8E8-40CC-ACEA-69B432C4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6191A-16B3-4B09-974E-CA1854A9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7DE35-686C-4F5D-82F6-64E3C359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9E59E-E442-42E2-8BF7-6356E5F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76994-24BD-4261-B58B-BC3B65C7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62BA-C047-40F1-8360-F1A2EEE9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DF892-4B34-4A5C-9A02-9957B377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0A08A-1695-4BFB-9AA0-48FF6954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790F7-2167-4247-AB3C-186CEBB9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BC71F-C7A3-4220-AB79-8803E7D3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5384A-B5FB-413A-AAD9-7DD72A19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37C21-356B-40BF-B512-1AE4CCFE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79E37-059C-4E5A-BF07-A736FC49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201F3-86FE-4251-A730-DC0722F1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F59E2-01CA-413C-A1CC-510F00ED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F4CCA-43B7-4566-8D5F-44E26876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CBD-68B1-4981-B954-97BE2C96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940CC-B69A-4818-A4FF-86B494C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FBC11-3CC4-4B2C-8D19-44F82F4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100E9-D192-4B18-B3ED-12338411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F9DFA-D70C-455C-A0D3-2A6406A3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08B40-4E0C-450F-932B-905A63FB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0C21F-4311-4C62-8980-B5385EF9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13BBE-D863-4D80-9BEE-0E91938E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406D9-D98D-4223-A6C9-17647B61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C5315-5AC0-4F80-A8B1-6E95D539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258C1-92F9-4C37-AC21-E8B60A3D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FC67-0E8C-4D15-A80B-EDC55C3F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77CBC-25B5-4401-A0B3-C7653443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284A-E009-4FAC-B7E3-8FACA316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36A05-4892-4E84-8D80-C91A9FA9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65BDD-1392-42C8-ABDD-13F42E14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C9E9-B928-4F2E-A398-305AD11E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DD1BC-6C95-4AE9-96AE-D8BA57222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BDFCB-C6FB-4A5A-96FA-E9E9BD12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721CC-016F-458B-93AE-1FD0106A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84089-2D0F-4C5E-A76A-845AAE19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42D98-96F0-4CE9-A6C3-8533838F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9C75-5923-46FE-8C89-9F491115B6F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CC8A-365E-4F22-9252-9ACD3E94A0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4708-2A73-4C14-B048-4DD75DCA40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D949-7395-41C8-AD02-DF80DDD8FB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DF7C-FD9A-4604-BAD6-61308829972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0F7E-8C4B-4E0A-8725-1B6B1432BE3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601D-D500-43A1-A840-12FBB635124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E789-50F7-493E-A483-F3E75EEA2C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A013-5E2C-4D19-8500-1AF1348FCF1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C9B4-DC4A-4030-951D-5097AB0FE8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1E5-20FF-470A-B4F1-597582C1A6F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F841-76D6-46D7-A45E-742B58579D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460D-2D91-43B7-890A-E83E20AE471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9250-D4C0-4671-B3C0-39C3644348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961D-687E-4B0E-897F-BC6F198E5C8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7441-80DF-449D-A5F7-A1CAA5A862F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429B-E3B5-4F89-9F25-417967A02A3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9E59-7F1E-470E-A09C-B1376B79B2F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0951-019F-4CC4-BCAF-4A0D23B370F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EB38-7E54-468A-94ED-EAC920B309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B65F-10CF-4B98-8A15-B6D2079187F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1D07-E6BB-4E7D-8FDA-AA1A1786C99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D8BD-0546-4975-8C2C-7598E981E38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057D-7842-4FAA-B56D-BD8A1B2D7E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1F1B-336E-4CAE-9B8F-909FD683694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8FD6-60F7-4000-A404-BC3CB867AC5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11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hyperlink" Target="http://www.eeppt.com" TargetMode="External"/><Relationship Id="rId26" Type="http://schemas.openxmlformats.org/officeDocument/2006/relationships/hyperlink" Target="http://www.eeppt.com" TargetMode="External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2.png"/><Relationship Id="rId14" Type="http://schemas.openxmlformats.org/officeDocument/2006/relationships/image" Target="../media/image5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9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30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31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32" descr="1.1.1.4.png"/>
          <p:cNvPicPr/>
          <p:nvPr/>
        </p:nvPicPr>
        <p:blipFill>
          <a:blip r:embed="rId4"/>
          <a:srcRect l="30469" t="33333" r="46094" b="25002"/>
          <a:stretch/>
        </p:blipFill>
        <p:spPr>
          <a:xfrm>
            <a:off x="2786040" y="2571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33" descr="1.1.1.5.png"/>
          <p:cNvPicPr/>
          <p:nvPr/>
        </p:nvPicPr>
        <p:blipFill>
          <a:blip r:embed="rId5"/>
          <a:srcRect l="50001" t="51389" r="30469" b="5557"/>
          <a:stretch/>
        </p:blipFill>
        <p:spPr>
          <a:xfrm>
            <a:off x="4572000" y="3500280"/>
            <a:ext cx="1785960" cy="221472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34" descr="1.1.1.5.png"/>
          <p:cNvPicPr/>
          <p:nvPr/>
        </p:nvPicPr>
        <p:blipFill>
          <a:blip r:embed="rId6"/>
          <a:srcRect l="67188" t="51389" r="0" b="0"/>
          <a:stretch/>
        </p:blipFill>
        <p:spPr>
          <a:xfrm>
            <a:off x="6143760" y="3500280"/>
            <a:ext cx="3000240" cy="250056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35" descr="1.1.1.7.png"/>
          <p:cNvPicPr/>
          <p:nvPr/>
        </p:nvPicPr>
        <p:blipFill>
          <a:blip r:embed="rId7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36" descr="1.1.1.8.png"/>
          <p:cNvPicPr/>
          <p:nvPr/>
        </p:nvPicPr>
        <p:blipFill>
          <a:blip r:embed="rId8"/>
          <a:srcRect l="41407" t="81947" r="53906" b="9721"/>
          <a:stretch/>
        </p:blipFill>
        <p:spPr>
          <a:xfrm>
            <a:off x="5143680" y="5072040"/>
            <a:ext cx="428400" cy="428760"/>
          </a:xfrm>
          <a:prstGeom prst="rect">
            <a:avLst/>
          </a:prstGeom>
          <a:ln w="0">
            <a:noFill/>
          </a:ln>
        </p:spPr>
      </p:pic>
      <p:pic>
        <p:nvPicPr>
          <p:cNvPr id="541" name="锐得PPT1" descr="1.1.1.9.png"/>
          <p:cNvPicPr/>
          <p:nvPr/>
        </p:nvPicPr>
        <p:blipFill>
          <a:blip r:embed="rId9"/>
          <a:srcRect l="36719" t="44447" r="36719" b="20834"/>
          <a:stretch/>
        </p:blipFill>
        <p:spPr>
          <a:xfrm>
            <a:off x="3357720" y="3143160"/>
            <a:ext cx="2428560" cy="1785960"/>
          </a:xfrm>
          <a:prstGeom prst="rect">
            <a:avLst/>
          </a:prstGeom>
          <a:ln w="0">
            <a:noFill/>
          </a:ln>
        </p:spPr>
      </p:pic>
      <p:pic>
        <p:nvPicPr>
          <p:cNvPr id="542" name="锐得PPT" descr="1.1.2.2.png"/>
          <p:cNvPicPr/>
          <p:nvPr/>
        </p:nvPicPr>
        <p:blipFill>
          <a:blip r:embed="rId10"/>
          <a:srcRect l="37500" t="38890" r="35937" b="18056"/>
          <a:stretch/>
        </p:blipFill>
        <p:spPr>
          <a:xfrm>
            <a:off x="3429000" y="2857680"/>
            <a:ext cx="2428920" cy="22143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39" descr="1.1.2.1.png"/>
          <p:cNvPicPr/>
          <p:nvPr/>
        </p:nvPicPr>
        <p:blipFill>
          <a:blip r:embed="rId11"/>
          <a:srcRect l="36719" t="52778" r="56250" b="31944"/>
          <a:stretch/>
        </p:blipFill>
        <p:spPr>
          <a:xfrm>
            <a:off x="3357720" y="3571920"/>
            <a:ext cx="642960" cy="78588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40" descr="1.1.1.7.png"/>
          <p:cNvPicPr/>
          <p:nvPr/>
        </p:nvPicPr>
        <p:blipFill>
          <a:blip r:embed="rId12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41" descr="1.1.1.7.png"/>
          <p:cNvPicPr/>
          <p:nvPr/>
        </p:nvPicPr>
        <p:blipFill>
          <a:blip r:embed="rId13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42" descr="1.1.1.7.png"/>
          <p:cNvPicPr/>
          <p:nvPr/>
        </p:nvPicPr>
        <p:blipFill>
          <a:blip r:embed="rId14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3" descr="1.1.1.7.png"/>
          <p:cNvPicPr/>
          <p:nvPr/>
        </p:nvPicPr>
        <p:blipFill>
          <a:blip r:embed="rId15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4" descr="1.1.1.7.png"/>
          <p:cNvPicPr/>
          <p:nvPr/>
        </p:nvPicPr>
        <p:blipFill>
          <a:blip r:embed="rId16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5" descr="1.1.1.7.png"/>
          <p:cNvPicPr/>
          <p:nvPr/>
        </p:nvPicPr>
        <p:blipFill>
          <a:blip r:embed="rId17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46" descr="1.1.1.7.png"/>
          <p:cNvPicPr/>
          <p:nvPr/>
        </p:nvPicPr>
        <p:blipFill>
          <a:blip r:embed="rId18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551" name="图片 47" descr="1.1.1.7.png"/>
          <p:cNvPicPr/>
          <p:nvPr/>
        </p:nvPicPr>
        <p:blipFill>
          <a:blip r:embed="rId19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552" name="图片 48" descr="1.1.1.8.png"/>
          <p:cNvPicPr/>
          <p:nvPr/>
        </p:nvPicPr>
        <p:blipFill>
          <a:blip r:embed="rId20"/>
          <a:srcRect l="5468" t="66670" r="89845" b="22223"/>
          <a:stretch/>
        </p:blipFill>
        <p:spPr>
          <a:xfrm>
            <a:off x="500040" y="4286160"/>
            <a:ext cx="428760" cy="571680"/>
          </a:xfrm>
          <a:prstGeom prst="rect">
            <a:avLst/>
          </a:prstGeom>
          <a:ln w="0">
            <a:noFill/>
          </a:ln>
        </p:spPr>
      </p:pic>
      <p:pic>
        <p:nvPicPr>
          <p:cNvPr id="553" name="图片 49" descr="1.1.1.8.png"/>
          <p:cNvPicPr/>
          <p:nvPr/>
        </p:nvPicPr>
        <p:blipFill>
          <a:blip r:embed="rId21"/>
          <a:srcRect l="75789" t="45836" r="19524" b="45833"/>
          <a:stretch/>
        </p:blipFill>
        <p:spPr>
          <a:xfrm>
            <a:off x="3786120" y="507204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554" name="图片 50" descr="1.1.1.8.png"/>
          <p:cNvPicPr/>
          <p:nvPr/>
        </p:nvPicPr>
        <p:blipFill>
          <a:blip r:embed="rId22"/>
          <a:srcRect l="80477" t="66670" r="15617" b="26391"/>
          <a:stretch/>
        </p:blipFill>
        <p:spPr>
          <a:xfrm>
            <a:off x="7358040" y="4286160"/>
            <a:ext cx="357120" cy="357120"/>
          </a:xfrm>
          <a:prstGeom prst="rect">
            <a:avLst/>
          </a:prstGeom>
          <a:ln w="0">
            <a:noFill/>
          </a:ln>
        </p:spPr>
      </p:pic>
      <p:pic>
        <p:nvPicPr>
          <p:cNvPr id="555" name="图片 51" descr="1.1.1.8.png"/>
          <p:cNvPicPr/>
          <p:nvPr/>
        </p:nvPicPr>
        <p:blipFill>
          <a:blip r:embed="rId23"/>
          <a:srcRect l="22652" t="81947" r="71880" b="9721"/>
          <a:stretch/>
        </p:blipFill>
        <p:spPr>
          <a:xfrm>
            <a:off x="2071800" y="5072040"/>
            <a:ext cx="500040" cy="428760"/>
          </a:xfrm>
          <a:prstGeom prst="rect">
            <a:avLst/>
          </a:prstGeom>
          <a:ln w="0">
            <a:noFill/>
          </a:ln>
        </p:spPr>
      </p:pic>
      <p:pic>
        <p:nvPicPr>
          <p:cNvPr id="556" name="图片 52" descr="1.1.1.8.png"/>
          <p:cNvPicPr/>
          <p:nvPr/>
        </p:nvPicPr>
        <p:blipFill>
          <a:blip r:embed="rId24"/>
          <a:srcRect l="5468" t="66670" r="89845" b="22223"/>
          <a:stretch/>
        </p:blipFill>
        <p:spPr>
          <a:xfrm>
            <a:off x="1557360" y="5140440"/>
            <a:ext cx="503280" cy="671400"/>
          </a:xfrm>
          <a:prstGeom prst="rect">
            <a:avLst/>
          </a:prstGeom>
          <a:ln w="0">
            <a:noFill/>
          </a:ln>
        </p:spPr>
      </p:pic>
      <p:pic>
        <p:nvPicPr>
          <p:cNvPr id="557" name="图片 53" descr="1.1.1.8.png"/>
          <p:cNvPicPr/>
          <p:nvPr/>
        </p:nvPicPr>
        <p:blipFill>
          <a:blip r:embed="rId25"/>
          <a:srcRect l="22652" t="81947" r="71880" b="9721"/>
          <a:stretch/>
        </p:blipFill>
        <p:spPr>
          <a:xfrm>
            <a:off x="8448840" y="4540320"/>
            <a:ext cx="539640" cy="463320"/>
          </a:xfrm>
          <a:prstGeom prst="rect">
            <a:avLst/>
          </a:prstGeom>
          <a:ln w="0">
            <a:noFill/>
          </a:ln>
        </p:spPr>
      </p:pic>
      <p:pic>
        <p:nvPicPr>
          <p:cNvPr id="558" name="TextBox 55" descr=""/>
          <p:cNvPicPr/>
          <p:nvPr/>
        </p:nvPicPr>
        <p:blipFill>
          <a:blip r:embed="rId26"/>
          <a:stretch/>
        </p:blipFill>
        <p:spPr>
          <a:xfrm>
            <a:off x="3773520" y="3371760"/>
            <a:ext cx="1865160" cy="914400"/>
          </a:xfrm>
          <a:prstGeom prst="rect">
            <a:avLst/>
          </a:prstGeom>
          <a:ln w="0">
            <a:noFill/>
          </a:ln>
        </p:spPr>
      </p:pic>
      <p:sp>
        <p:nvSpPr>
          <p:cNvPr id="559" name="文本框 1436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文本框 14364"/>
          <p:cNvSpPr/>
          <p:nvPr/>
        </p:nvSpPr>
        <p:spPr>
          <a:xfrm>
            <a:off x="1582560" y="1173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献给最爱的你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9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9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9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9" presetSubtype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9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9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9" presetSubtype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9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19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path" presetID="0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0.27552 -0.64662 C -0.24306 -0.60823 -0.21059 -0.56961 -0.19393 -0.50809 C -0.17726 -0.44658 -0.19115 -0.33927 -0.17552 -0.27706 C -0.1599 -0.21508 -0.129 -0.18987 -0.1 -0.13575 C -0.07101 -0.08164 -0.02188 0.00948 -0.00139 0.04764 E">
                                      <p:cBhvr>
                                        <p:cTn id="57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20608 -0.54068 C 0.21337 -0.50069 0.22066 -0.46047 0.20608 -0.40199 C 0.19149 -0.3435 0.14635 -0.25774 0.1184 -0.19024 C 0.09045 -0.12274 0.05851 -0.02889 0.03872 0.00278 C 0.01892 0.03445 0.00938 0.01711 4.44444E-006 -6.14887E-007 E">
                                      <p:cBhvr>
                                        <p:cTn id="63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3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0.03889 -0.31753 C 0.03767 -0.32401 0.03646 -0.35384 0.03177 -0.35615 C 0.02708 -0.35846 0.01927 -0.33973 0.01024 -0.33094 C 0.00122 -0.32216 -0.01424 -0.31845 -0.0224 -0.30389 C -0.03056 -0.28932 -0.04149 -0.27613 -0.03872 -0.24399 C -0.03594 -0.21207 -0.01215 -0.14986 -0.00608 -0.11101 C 5.55111512312578E-017 -0.07216 -0.00104 -0.0414 -0.00191 -0.01041 E">
                                      <p:cBhvr>
                                        <p:cTn id="69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path" presetID="0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-0.3019 -0.47272 C -0.30017 -0.38627 -0.29843 -0.29958 -0.28558 -0.24988 C -0.27274 -0.20018 -0.24322 -0.20897 -0.22447 -0.17383 C -0.20572 -0.13892 -0.19444 -0.07004 -0.17343 -0.04068 C -0.15242 -0.01132 -0.12673 -0.00393 -0.09791 0.00278 C -0.06909 0.00948 -0.03454 0.00463 6.38889E-006 -4.43828E-007 E">
                                      <p:cBhvr>
                                        <p:cTn id="75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3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16128 -0.64678 C 0.16684 -0.59292 0.17239 -0.53906 0.1592 -0.47827 C 0.14601 -0.41747 0.10104 -0.34188 0.0816 -0.28248 C 0.06215 -0.22307 0.05642 -0.16944 0.04288 -0.12228 C 0.02934 -0.07512 0.01458 -0.03768 1.38889E-006 1.33148E-006 E">
                                      <p:cBhvr>
                                        <p:cTn id="81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3" presetSubtype="16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path" presetID="0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 -0.6864 C 0.29098 -0.62257 0.28212 -0.55805 0.25591 -0.49769 C 0.22952 -0.43756 0.16858 -0.38529 0.14219 -0.32539 C 0.11563 -0.26619 0.12101 -0.19334 0.09723 -0.13899 C 0.07344 -0.08464 0.02032 -0.02914 -3.05556E-006 -1.07308E-006 E">
                                      <p:cBhvr>
                                        <p:cTn id="87" dur="2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path" presetID="0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46336 -0.55456 C -0.41632 -0.49608 -0.36909 -0.43759 -0.33264 -0.36686 C -0.29618 -0.29612 -0.28402 -0.18863 -0.24496 -0.13061 C -0.2059 -0.07259 -0.13889 -0.04092 -0.09809 -0.01919 C -0.05729 0.00254 -0.02864 0.00115 -2.22222E-006 -7.40638E-006 E">
                                      <p:cBhvr>
                                        <p:cTn id="93" dur="20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6" presetSubtype="4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500"/>
                            </p:stCondLst>
                            <p:childTnLst>
                              <p:par>
                                <p:cTn id="1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67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68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69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570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571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572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573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574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575" name="图片 4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581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grpSp>
        <p:nvGrpSpPr>
          <p:cNvPr id="582" name="锐得PPT"/>
          <p:cNvGrpSpPr/>
          <p:nvPr/>
        </p:nvGrpSpPr>
        <p:grpSpPr>
          <a:xfrm>
            <a:off x="2387520" y="2259000"/>
            <a:ext cx="4229280" cy="3643200"/>
            <a:chOff x="2387520" y="2259000"/>
            <a:chExt cx="4229280" cy="3643200"/>
          </a:xfrm>
        </p:grpSpPr>
        <p:pic>
          <p:nvPicPr>
            <p:cNvPr id="583" name="Picture 2" descr="D:\Backup\我的文档\My Pictures\1791507_123936051_2.jpg"/>
            <p:cNvPicPr/>
            <p:nvPr/>
          </p:nvPicPr>
          <p:blipFill>
            <a:blip r:embed="rId22"/>
            <a:stretch/>
          </p:blipFill>
          <p:spPr>
            <a:xfrm>
              <a:off x="2700360" y="2682000"/>
              <a:ext cx="3584880" cy="30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图片 8" descr="2.1.1.5.png"/>
            <p:cNvPicPr/>
            <p:nvPr/>
          </p:nvPicPr>
          <p:blipFill>
            <a:blip r:embed="rId23"/>
            <a:srcRect l="24220" t="22223" r="25001" b="0"/>
            <a:stretch/>
          </p:blipFill>
          <p:spPr>
            <a:xfrm>
              <a:off x="2387520" y="2259000"/>
              <a:ext cx="4229280" cy="364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5" name="TextBox 67" descr=""/>
          <p:cNvPicPr/>
          <p:nvPr/>
        </p:nvPicPr>
        <p:blipFill>
          <a:blip r:embed="rId24"/>
          <a:stretch/>
        </p:blipFill>
        <p:spPr>
          <a:xfrm>
            <a:off x="2919240" y="1500120"/>
            <a:ext cx="3445200" cy="809640"/>
          </a:xfrm>
          <a:prstGeom prst="rect">
            <a:avLst/>
          </a:prstGeom>
          <a:ln w="0">
            <a:noFill/>
          </a:ln>
        </p:spPr>
      </p:pic>
      <p:sp>
        <p:nvSpPr>
          <p:cNvPr id="586" name="文本框 15386"/>
          <p:cNvSpPr/>
          <p:nvPr/>
        </p:nvSpPr>
        <p:spPr>
          <a:xfrm>
            <a:off x="324000" y="40464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6"/>
              </a:rPr>
              <a:t>模板网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0800000">
                                      <p:cBhvr>
                                        <p:cTn id="143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163" dur="5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165" dur="3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167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169" dur="5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171" dur="5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173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81ED-0D17-490C-93C5-FC96D0B8A6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图片 43" descr="1.1.1.1.png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592" name="图片 64" descr="1.1.1.3.png"/>
          <p:cNvPicPr/>
          <p:nvPr/>
        </p:nvPicPr>
        <p:blipFill>
          <a:blip r:embed="rId2"/>
          <a:srcRect l="0" t="43057" r="0" b="0"/>
          <a:stretch/>
        </p:blipFill>
        <p:spPr>
          <a:xfrm>
            <a:off x="0" y="30718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65" descr="1.1.1.3.png"/>
          <p:cNvPicPr/>
          <p:nvPr/>
        </p:nvPicPr>
        <p:blipFill>
          <a:blip r:embed="rId3"/>
          <a:srcRect l="0" t="0" r="79689" b="76391"/>
          <a:stretch/>
        </p:blipFill>
        <p:spPr>
          <a:xfrm>
            <a:off x="0" y="857160"/>
            <a:ext cx="1857240" cy="121464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55" descr="1.1.1.7.png"/>
          <p:cNvPicPr/>
          <p:nvPr/>
        </p:nvPicPr>
        <p:blipFill>
          <a:blip r:embed="rId4"/>
          <a:srcRect l="90628" t="0" r="-2" b="54167"/>
          <a:stretch/>
        </p:blipFill>
        <p:spPr>
          <a:xfrm>
            <a:off x="8286840" y="857160"/>
            <a:ext cx="857160" cy="235764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56" descr="1.1.1.7.png"/>
          <p:cNvPicPr/>
          <p:nvPr/>
        </p:nvPicPr>
        <p:blipFill>
          <a:blip r:embed="rId5"/>
          <a:srcRect l="0" t="0" r="89064" b="43057"/>
          <a:stretch/>
        </p:blipFill>
        <p:spPr>
          <a:xfrm>
            <a:off x="0" y="857160"/>
            <a:ext cx="1000080" cy="2928960"/>
          </a:xfrm>
          <a:prstGeom prst="rect">
            <a:avLst/>
          </a:prstGeom>
          <a:ln w="0">
            <a:noFill/>
          </a:ln>
        </p:spPr>
      </p:pic>
      <p:pic>
        <p:nvPicPr>
          <p:cNvPr id="596" name="图片 57" descr="1.1.1.7.png"/>
          <p:cNvPicPr/>
          <p:nvPr/>
        </p:nvPicPr>
        <p:blipFill>
          <a:blip r:embed="rId6"/>
          <a:srcRect l="11719" t="0" r="78907" b="59724"/>
          <a:stretch/>
        </p:blipFill>
        <p:spPr>
          <a:xfrm>
            <a:off x="1071720" y="857160"/>
            <a:ext cx="857160" cy="207180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58" descr="1.1.1.7.png"/>
          <p:cNvPicPr/>
          <p:nvPr/>
        </p:nvPicPr>
        <p:blipFill>
          <a:blip r:embed="rId7"/>
          <a:srcRect l="25000" t="0" r="65627" b="52781"/>
          <a:stretch/>
        </p:blipFill>
        <p:spPr>
          <a:xfrm>
            <a:off x="2286000" y="857160"/>
            <a:ext cx="857160" cy="2428920"/>
          </a:xfrm>
          <a:prstGeom prst="rect">
            <a:avLst/>
          </a:prstGeom>
          <a:ln w="0">
            <a:noFill/>
          </a:ln>
        </p:spPr>
      </p:pic>
      <p:pic>
        <p:nvPicPr>
          <p:cNvPr id="598" name="图片 59" descr="1.1.1.7.png"/>
          <p:cNvPicPr/>
          <p:nvPr/>
        </p:nvPicPr>
        <p:blipFill>
          <a:blip r:embed="rId8"/>
          <a:srcRect l="36719" t="0" r="53128" b="62502"/>
          <a:stretch/>
        </p:blipFill>
        <p:spPr>
          <a:xfrm>
            <a:off x="3357720" y="857160"/>
            <a:ext cx="928440" cy="1928880"/>
          </a:xfrm>
          <a:prstGeom prst="rect">
            <a:avLst/>
          </a:prstGeom>
          <a:ln w="0">
            <a:noFill/>
          </a:ln>
        </p:spPr>
      </p:pic>
      <p:pic>
        <p:nvPicPr>
          <p:cNvPr id="599" name="图片 60" descr="1.1.1.7.png"/>
          <p:cNvPicPr/>
          <p:nvPr/>
        </p:nvPicPr>
        <p:blipFill>
          <a:blip r:embed="rId9"/>
          <a:srcRect l="49999" t="0" r="43751" b="59724"/>
          <a:stretch/>
        </p:blipFill>
        <p:spPr>
          <a:xfrm>
            <a:off x="4572000" y="857160"/>
            <a:ext cx="571680" cy="2071800"/>
          </a:xfrm>
          <a:prstGeom prst="rect">
            <a:avLst/>
          </a:prstGeom>
          <a:ln w="0">
            <a:noFill/>
          </a:ln>
        </p:spPr>
      </p:pic>
      <p:pic>
        <p:nvPicPr>
          <p:cNvPr id="600" name="图片 61" descr="1.1.1.7.png"/>
          <p:cNvPicPr/>
          <p:nvPr/>
        </p:nvPicPr>
        <p:blipFill>
          <a:blip r:embed="rId10"/>
          <a:srcRect l="60939" t="0" r="30469" b="55557"/>
          <a:stretch/>
        </p:blipFill>
        <p:spPr>
          <a:xfrm>
            <a:off x="5572080" y="857160"/>
            <a:ext cx="785880" cy="228600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62" descr="1.1.1.7.png"/>
          <p:cNvPicPr/>
          <p:nvPr/>
        </p:nvPicPr>
        <p:blipFill>
          <a:blip r:embed="rId11"/>
          <a:srcRect l="71095" t="0" r="22657" b="66670"/>
          <a:stretch/>
        </p:blipFill>
        <p:spPr>
          <a:xfrm>
            <a:off x="6500880" y="857160"/>
            <a:ext cx="571320" cy="17146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63" descr="1.1.1.7.png"/>
          <p:cNvPicPr/>
          <p:nvPr/>
        </p:nvPicPr>
        <p:blipFill>
          <a:blip r:embed="rId12"/>
          <a:srcRect l="79689" t="0" r="11717" b="56946"/>
          <a:stretch/>
        </p:blipFill>
        <p:spPr>
          <a:xfrm>
            <a:off x="7286760" y="857160"/>
            <a:ext cx="785520" cy="221472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44" descr="1.1.1.3.png"/>
          <p:cNvPicPr/>
          <p:nvPr/>
        </p:nvPicPr>
        <p:blipFill>
          <a:blip r:embed="rId13"/>
          <a:srcRect l="0" t="43057" r="0" b="0"/>
          <a:stretch/>
        </p:blipFill>
        <p:spPr>
          <a:xfrm>
            <a:off x="0" y="3070080"/>
            <a:ext cx="9144000" cy="292896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2" descr="1.1.1.6.png"/>
          <p:cNvPicPr/>
          <p:nvPr/>
        </p:nvPicPr>
        <p:blipFill>
          <a:blip r:embed="rId14"/>
          <a:srcRect l="67188" t="52781" r="0" b="0"/>
          <a:stretch/>
        </p:blipFill>
        <p:spPr>
          <a:xfrm>
            <a:off x="6143760" y="3571920"/>
            <a:ext cx="3000240" cy="2428920"/>
          </a:xfrm>
          <a:prstGeom prst="rect">
            <a:avLst/>
          </a:prstGeom>
          <a:ln w="0">
            <a:noFill/>
          </a:ln>
        </p:spPr>
      </p:pic>
      <p:pic>
        <p:nvPicPr>
          <p:cNvPr id="605" name="锐得PPT" descr="2.1.1.2.png"/>
          <p:cNvPicPr/>
          <p:nvPr/>
        </p:nvPicPr>
        <p:blipFill>
          <a:blip r:embed="rId15"/>
          <a:srcRect l="92193" t="33336" r="-4" b="52778"/>
          <a:stretch/>
        </p:blipFill>
        <p:spPr>
          <a:xfrm>
            <a:off x="8474040" y="2638440"/>
            <a:ext cx="571680" cy="57132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19" descr="2.1.1.2.png"/>
          <p:cNvPicPr/>
          <p:nvPr/>
        </p:nvPicPr>
        <p:blipFill>
          <a:blip r:embed="rId16"/>
          <a:srcRect l="2344" t="43057" r="91408" b="48614"/>
          <a:stretch/>
        </p:blipFill>
        <p:spPr>
          <a:xfrm>
            <a:off x="299880" y="3110040"/>
            <a:ext cx="397080" cy="39672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20" descr="2.1.1.2.png"/>
          <p:cNvPicPr/>
          <p:nvPr/>
        </p:nvPicPr>
        <p:blipFill>
          <a:blip r:embed="rId17"/>
          <a:srcRect l="14063" t="29169" r="80470" b="61113"/>
          <a:stretch/>
        </p:blipFill>
        <p:spPr>
          <a:xfrm>
            <a:off x="1324080" y="2398680"/>
            <a:ext cx="390600" cy="39060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21" descr="2.1.1.2.png"/>
          <p:cNvPicPr/>
          <p:nvPr/>
        </p:nvPicPr>
        <p:blipFill>
          <a:blip r:embed="rId18"/>
          <a:srcRect l="25781" t="34722" r="68751" b="54167"/>
          <a:stretch/>
        </p:blipFill>
        <p:spPr>
          <a:xfrm>
            <a:off x="2455920" y="2787480"/>
            <a:ext cx="342720" cy="34164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22" descr="2.1.1.2.png"/>
          <p:cNvPicPr/>
          <p:nvPr/>
        </p:nvPicPr>
        <p:blipFill>
          <a:blip r:embed="rId19"/>
          <a:srcRect l="61722" t="37504" r="32812" b="54167"/>
          <a:stretch/>
        </p:blipFill>
        <p:spPr>
          <a:xfrm>
            <a:off x="5722920" y="2633760"/>
            <a:ext cx="345960" cy="345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23" descr="2.1.1.2.png"/>
          <p:cNvPicPr/>
          <p:nvPr/>
        </p:nvPicPr>
        <p:blipFill>
          <a:blip r:embed="rId20"/>
          <a:srcRect l="71878" t="27780" r="23437" b="63888"/>
          <a:stretch/>
        </p:blipFill>
        <p:spPr>
          <a:xfrm>
            <a:off x="6572160" y="2071800"/>
            <a:ext cx="428760" cy="428400"/>
          </a:xfrm>
          <a:prstGeom prst="rect">
            <a:avLst/>
          </a:prstGeom>
          <a:ln w="0">
            <a:noFill/>
          </a:ln>
        </p:spPr>
      </p:pic>
      <p:pic>
        <p:nvPicPr>
          <p:cNvPr id="611" name="图片 24" descr="2.1.1.2.png"/>
          <p:cNvPicPr/>
          <p:nvPr/>
        </p:nvPicPr>
        <p:blipFill>
          <a:blip r:embed="rId21"/>
          <a:srcRect l="82035" t="31947" r="13280" b="61110"/>
          <a:stretch/>
        </p:blipFill>
        <p:spPr>
          <a:xfrm>
            <a:off x="7512120" y="250344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28" descr="2.1.1.2.png"/>
          <p:cNvPicPr/>
          <p:nvPr/>
        </p:nvPicPr>
        <p:blipFill>
          <a:blip r:embed="rId22"/>
          <a:srcRect l="92193" t="33336" r="-4" b="52778"/>
          <a:stretch/>
        </p:blipFill>
        <p:spPr>
          <a:xfrm>
            <a:off x="8523360" y="259236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29" descr="2.1.1.2.png"/>
          <p:cNvPicPr/>
          <p:nvPr/>
        </p:nvPicPr>
        <p:blipFill>
          <a:blip r:embed="rId23"/>
          <a:srcRect l="2344" t="43057" r="91408" b="48614"/>
          <a:stretch/>
        </p:blipFill>
        <p:spPr>
          <a:xfrm>
            <a:off x="301680" y="3078000"/>
            <a:ext cx="396720" cy="397080"/>
          </a:xfrm>
          <a:prstGeom prst="rect">
            <a:avLst/>
          </a:prstGeom>
          <a:ln w="0">
            <a:noFill/>
          </a:ln>
        </p:spPr>
      </p:pic>
      <p:pic>
        <p:nvPicPr>
          <p:cNvPr id="614" name="图片 30" descr="2.1.1.2.png"/>
          <p:cNvPicPr/>
          <p:nvPr/>
        </p:nvPicPr>
        <p:blipFill>
          <a:blip r:embed="rId24"/>
          <a:srcRect l="14063" t="29169" r="80470" b="61113"/>
          <a:stretch/>
        </p:blipFill>
        <p:spPr>
          <a:xfrm>
            <a:off x="1347840" y="2371680"/>
            <a:ext cx="392040" cy="392040"/>
          </a:xfrm>
          <a:prstGeom prst="rect">
            <a:avLst/>
          </a:prstGeom>
          <a:ln w="0">
            <a:noFill/>
          </a:ln>
        </p:spPr>
      </p:pic>
      <p:pic>
        <p:nvPicPr>
          <p:cNvPr id="615" name="图片 31" descr="2.1.1.2.png"/>
          <p:cNvPicPr/>
          <p:nvPr/>
        </p:nvPicPr>
        <p:blipFill>
          <a:blip r:embed="rId25"/>
          <a:srcRect l="25781" t="34722" r="68751" b="54167"/>
          <a:stretch/>
        </p:blipFill>
        <p:spPr>
          <a:xfrm>
            <a:off x="2468520" y="2754360"/>
            <a:ext cx="341280" cy="341280"/>
          </a:xfrm>
          <a:prstGeom prst="rect">
            <a:avLst/>
          </a:prstGeom>
          <a:ln w="0">
            <a:noFill/>
          </a:ln>
        </p:spPr>
      </p:pic>
      <p:pic>
        <p:nvPicPr>
          <p:cNvPr id="616" name="图片 32" descr="2.1.1.2.png"/>
          <p:cNvPicPr/>
          <p:nvPr/>
        </p:nvPicPr>
        <p:blipFill>
          <a:blip r:embed="rId26"/>
          <a:srcRect l="61722" t="37504" r="32812" b="54167"/>
          <a:stretch/>
        </p:blipFill>
        <p:spPr>
          <a:xfrm>
            <a:off x="5729400" y="2637000"/>
            <a:ext cx="344520" cy="344160"/>
          </a:xfrm>
          <a:prstGeom prst="rect">
            <a:avLst/>
          </a:prstGeom>
          <a:ln w="0">
            <a:noFill/>
          </a:ln>
        </p:spPr>
      </p:pic>
      <p:pic>
        <p:nvPicPr>
          <p:cNvPr id="617" name="图片 33" descr="2.1.1.2.png"/>
          <p:cNvPicPr/>
          <p:nvPr/>
        </p:nvPicPr>
        <p:blipFill>
          <a:blip r:embed="rId27"/>
          <a:srcRect l="82035" t="31947" r="13280" b="61110"/>
          <a:stretch/>
        </p:blipFill>
        <p:spPr>
          <a:xfrm>
            <a:off x="7521480" y="2492280"/>
            <a:ext cx="395280" cy="3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958E-006 C -0.00955 0.01203 -0.01893 0.02429 -0.01841 0.04094 C -0.01789 0.05759 0.00538 0.07655 0.00312 0.10037 C 0.00086 0.1242 -0.02796 0.15588 -0.0323 0.18432 C -0.03664 0.21277 -0.02066 0.24561 -0.02257 0.27082 C -0.02448 0.29603 -0.03959 0.32262 -0.0441 0.33627 E">
                                      <p:cBhvr>
                                        <p:cTn id="206" dur="5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61111E-006 -1.06383E-006 C 0.00191 0.01249 0.00555 0.04232 0.01111 0.07539 C 0.01666 0.10847 0.03645 0.15773 0.03385 0.19866 C 0.03125 0.23959 0.01406 0.28053 -0.00469 0.32169 E">
                                      <p:cBhvr>
                                        <p:cTn id="208" dur="3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0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-3.88889E-006 -1.14709E-006 C 0.01042 0.02475 0.02101 0.04949 0.01997 0.07378 C 0.01893 0.09806 -0.00972 0.11448 -0.00607 0.14547 C -0.00243 0.17646 0.03125 0.22317 0.04167 0.26041 C 0.05209 0.29764 0.0533 0.34621 0.05625 0.36864 E">
                                      <p:cBhvr>
                                        <p:cTn id="210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66667E-006 -6.6605E-007 C -0.00521 0.01411 -0.02916 0.05805 -0.0309 0.08511 C -0.03264 0.11217 -0.0118 0.13182 -0.01094 0.16281 C -0.01007 0.1938 -0.02986 0.23427 -0.02621 0.27058 C -0.02257 0.30689 0.00295 0.35731 0.01059 0.3802 E">
                                      <p:cBhvr>
                                        <p:cTn id="212" dur="5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8.33333E-007 2.97872E-006 C -0.00434 0.01526 -0.02899 0.05666 -0.02639 0.09204 C -0.02379 0.12743 0.01649 0.17622 0.01528 0.21299 C 0.01406 0.24977 -0.02448 0.27891 -0.03403 0.31336 C -0.04358 0.34782 -0.0401 0.39778 -0.04167 0.41998 E">
                                      <p:cBhvr>
                                        <p:cTn id="214" dur="5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5E-006 8.51064E-007 C -0.0073 0.02313 -0.01442 0.04648 -0.01077 0.06961 C -0.00713 0.09274 0.01719 0.11286 0.02153 0.13945 C 0.02587 0.16605 0.02066 0.19773 0.01545 0.22965 E">
                                      <p:cBhvr>
                                        <p:cTn id="216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0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22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7:07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5:19Z</dcterms:modified>
  <cp:revision>6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