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808B-F7DD-4AD5-A265-723FFF973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FA88-3A2F-4A64-9CE1-1697A86F1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0B2F-435F-47D1-95FF-461CF11EE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75CF-AB10-4EFD-A54F-A59EFAB17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7232-0A4C-4B6F-BD42-2E6807800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6F0C-A199-401A-AC3F-DF6DCD696D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7260C-BDEA-4F17-8C1B-D814C554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D2577-10C5-4342-A662-E87A21B6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039F3-68D3-4312-B98E-65594935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AE75-9515-41CE-ACA3-123126C18E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41C8D-6542-4F9A-AE4F-5F8314E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B0180-E911-4BBF-B029-0965F78F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27B4A-853C-40FD-AFA0-CD797A00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F38BE-7F63-4014-9125-5037699C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93CF9-5F81-4F93-A1F9-35FE0A16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71C8A-0218-44AF-A0A5-1B651F3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4385C-0635-41A9-B50A-71D6CE3D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45A9D-8A11-40E8-B008-05FA358D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A8BC8-B562-4EFA-BC8B-D7B38543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4446-CDD1-46A8-A38E-BCF22627F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48FD-0B5A-4849-902E-27D430AFE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5F92-A8D8-4323-8F9D-DEDF9C03C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40D6-A2C2-40E8-AC86-95251E4C8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378B-C4C0-43F6-914D-CB9B1604C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bg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929AD45-89BC-49BD-B367-E1B2A953C06A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2952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5c1f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3349080" y="1486080"/>
              <a:ext cx="360" cy="576000"/>
              <a:chOff x="3349080" y="1486080"/>
              <a:chExt cx="360" cy="576000"/>
            </a:xfrm>
          </p:grpSpPr>
          <p:sp>
            <p:nvSpPr>
              <p:cNvPr id="63" name="Line 23"/>
              <p:cNvSpPr/>
              <p:nvPr/>
            </p:nvSpPr>
            <p:spPr>
              <a:xfrm>
                <a:off x="3349080" y="1486080"/>
                <a:ext cx="0" cy="57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349080" y="148608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4" descr="bg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BEAC-2769-40B0-92FE-53BE1201DEC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8F4F-2C8F-4C3E-826B-7F158E9EAC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800" y="1177560"/>
            <a:ext cx="8205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8000" y="2257200"/>
            <a:ext cx="8209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6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5c1f00"/>
                </a:solidFill>
                <a:latin typeface="Arial"/>
                <a:ea typeface="华文细黑"/>
              </a:rPr>
              <a:t>情人节快乐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文本框 512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文本框 5126"/>
          <p:cNvSpPr/>
          <p:nvPr/>
        </p:nvSpPr>
        <p:spPr>
          <a:xfrm>
            <a:off x="2457000" y="12430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模板在线下载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A309EC04-769C-434C-8B31-33D1BE64B3EC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c1f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54440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FDFA378-4B33-4A7A-BC41-77179DE9400F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5c1f00"/>
              </a:solidFill>
              <a:latin typeface="Arial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679320" y="1319040"/>
            <a:ext cx="8769600" cy="370548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7172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ppt</a:t>
            </a:r>
            <a:r>
              <a:rPr b="0" i="1" lang="zh-CN" sz="16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模板网站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29AD-846C-4E5B-AD2E-0CEE94569E49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0" descr="bg3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468360" y="4219560"/>
            <a:ext cx="82072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3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        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17Z</dcterms:modified>
  <cp:revision>1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