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5BB-9831-4811-BBA9-D393B10D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EB6-CAF9-40A8-96DD-1BA9A3CA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258-DC0E-40CA-B3DB-FACB2B4D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0EF-4F5D-4976-A214-152284FC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965C-05FE-4500-AD37-3D3FC0E8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3CDB-61B7-48F9-B637-7CA269C6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A8E2-7B6B-4A44-BD75-4E8063C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3F19-7353-4471-AA91-2D387AD7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DD1B-A588-47D0-A7DF-36FBA829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5727-FE8B-43F0-B563-24718700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94D0-A54D-4BD5-9878-7AE06D63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6A8-8BE5-4545-830C-E2610CB1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7C13-34C1-4E1C-BCCD-F2A05236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F074-F78C-429E-BF38-AB7D22E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4215-D532-4518-ACCC-252944A8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8C98-10AB-42E4-B9B7-1A8D350B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13AA-604D-42D1-AB91-3E282C05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472-7662-467A-A7AF-2222D43B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27C-BE2C-4A9F-85B8-D07DFE88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FB6-E3DA-43B5-85F3-946A7492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6A3-1E99-4B01-8B96-ADD78A85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E9D-223F-4799-B2EE-42791194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DDF-AD02-44A0-8965-5819DFF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738-0E50-4E1F-A3AB-A8C5562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FED0-7FD3-4FCC-A43B-58B5DCF526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5580-A34C-4CC7-9047-0146520428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4908-9B42-47A4-AF49-EAED59029D5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5291-C511-4E6D-AE02-70A5B230E1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854760" y="1917720"/>
            <a:ext cx="1521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718a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7776000" y="1413000"/>
            <a:ext cx="109512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718a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884240" y="404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爽绿色笔记本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5782-BE57-418A-ADA0-B446F79B3B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185724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6212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071880" y="564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1711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640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414072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3786120" y="1000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4140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069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200016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997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7173"/>
          <p:cNvSpPr/>
          <p:nvPr/>
        </p:nvSpPr>
        <p:spPr>
          <a:xfrm>
            <a:off x="104472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578628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35690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28600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671256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2783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5783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142884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99796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199764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246"/>
          <p:cNvSpPr/>
          <p:nvPr/>
        </p:nvSpPr>
        <p:spPr>
          <a:xfrm>
            <a:off x="1332000" y="47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5426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2354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3640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514080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36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