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6AFF-300D-4D2C-9832-97155B549C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557E-E0EC-467F-B390-0AA5EFD6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69E75-585C-4EAE-9704-3428A896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89CDD-B879-414C-A1B5-ECFB9B1C50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128F0-5BCE-4137-A2F4-77BC5982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5BAF4-EC55-4A5D-BAC0-2CD4498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921F3-0AA5-4632-8199-53326F31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9BE5B-9E8B-4CF6-98BD-44FDF890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76C79-8203-445C-B2FB-9AB00900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8483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693CA-F73A-4D95-8876-4FAACD39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871C1-B5AC-4353-B7AD-1264BC5B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5EC6-6F31-4CDA-840A-CCDD56AE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58A75-C47C-4739-9925-234815D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8AE4B-6481-4F68-BC0E-5DF5431C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73FEC-C93B-499E-AF04-7DB83A31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1F718-B7C4-4785-8793-53AD6D4F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0AC65-03E7-419F-A022-D9ABBE15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52D6E2-5BA5-4F05-B74A-C1105C9DAF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7B2A84-F698-4AB9-BAEA-B29D7047B6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9DCAD4-507F-473C-91BB-9A1C533C78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C75D08-9AD0-40E7-B208-B787EB9526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B4073E-1753-491C-9EFC-96159F4C54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1C389-98EE-4E12-9E03-CE4BB648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8483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7473C-D739-4EC2-8261-1190ED32BD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A073E2-DF1D-4650-B423-89B4265293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EDFAA-F00B-498D-93DC-7652629EFF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0A51E-2968-4943-9E42-4E500F996A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1B1823-6F4F-4F5A-9130-7ACC29D869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9ED41B-DF4C-4800-95FE-8DB2C52CDC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E250D-FE5A-42BE-B83A-7B7ED097B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B71D-2F15-4880-A3EC-50A305B9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AEF6-E967-4CE0-BE87-D6C46BB5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78483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2FD7-FC10-46DB-83AD-B0B7437E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E416-5D13-4E34-9502-E77C3128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70C1-DE43-484A-84E4-F19E048F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CFE3-D1A4-4EC9-8F09-9C96C3CC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矩形 1026"/>
            <p:cNvSpPr/>
            <p:nvPr/>
          </p:nvSpPr>
          <p:spPr>
            <a:xfrm>
              <a:off x="0" y="0"/>
              <a:ext cx="9144000" cy="3112920"/>
            </a:xfrm>
            <a:prstGeom prst="rect">
              <a:avLst/>
            </a:prstGeom>
            <a:gradFill rotWithShape="0">
              <a:gsLst>
                <a:gs pos="0">
                  <a:srgbClr val="689a69"/>
                </a:gs>
                <a:gs pos="100000">
                  <a:srgbClr val="d2ec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" name="矩形 1027"/>
            <p:cNvSpPr/>
            <p:nvPr/>
          </p:nvSpPr>
          <p:spPr>
            <a:xfrm>
              <a:off x="0" y="3111480"/>
              <a:ext cx="9144000" cy="3746520"/>
            </a:xfrm>
            <a:prstGeom prst="rect">
              <a:avLst/>
            </a:prstGeom>
            <a:gradFill rotWithShape="0">
              <a:gsLst>
                <a:gs pos="0">
                  <a:srgbClr val="d2ecd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sp>
        <p:nvSpPr>
          <p:cNvPr id="3" name="圆角矩形 1028"/>
          <p:cNvSpPr/>
          <p:nvPr/>
        </p:nvSpPr>
        <p:spPr>
          <a:xfrm>
            <a:off x="257040" y="785880"/>
            <a:ext cx="8672760" cy="570060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ab2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8b8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ab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52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ab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ab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669840" y="645120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52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4859-E824-41A6-80A7-DA3F00EC0EF4}" type="slidenum">
              <a:rPr b="0" lang="ko-KR" sz="1200" spc="-1" strike="noStrike">
                <a:solidFill>
                  <a:srgbClr val="0052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矩形 1033"/>
          <p:cNvSpPr/>
          <p:nvPr/>
        </p:nvSpPr>
        <p:spPr>
          <a:xfrm>
            <a:off x="7896240" y="6451560"/>
            <a:ext cx="1020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200"/>
                </a:solidFill>
                <a:latin typeface="Verdana"/>
                <a:ea typeface="굴림"/>
              </a:rPr>
              <a:t>LOGO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pic>
        <p:nvPicPr>
          <p:cNvPr id="9" name="图片 1034" descr="family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116760" y="2786040"/>
            <a:ext cx="3027240" cy="406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AC00-440C-4FD6-B7FF-E144255DB42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7691-D410-4BC6-8642-FFB7A36A7D6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204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矩形 2050"/>
            <p:cNvSpPr/>
            <p:nvPr/>
          </p:nvSpPr>
          <p:spPr>
            <a:xfrm>
              <a:off x="0" y="0"/>
              <a:ext cx="9144000" cy="3112920"/>
            </a:xfrm>
            <a:prstGeom prst="rect">
              <a:avLst/>
            </a:prstGeom>
            <a:gradFill rotWithShape="0">
              <a:gsLst>
                <a:gs pos="0">
                  <a:srgbClr val="689a69"/>
                </a:gs>
                <a:gs pos="100000">
                  <a:srgbClr val="d2ecd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89" name="矩形 2051"/>
            <p:cNvSpPr/>
            <p:nvPr/>
          </p:nvSpPr>
          <p:spPr>
            <a:xfrm>
              <a:off x="0" y="3111480"/>
              <a:ext cx="9144000" cy="3746520"/>
            </a:xfrm>
            <a:prstGeom prst="rect">
              <a:avLst/>
            </a:prstGeom>
            <a:gradFill rotWithShape="0">
              <a:gsLst>
                <a:gs pos="0">
                  <a:srgbClr val="d2ecd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sp>
        <p:nvSpPr>
          <p:cNvPr id="90" name="文本框 2054"/>
          <p:cNvSpPr/>
          <p:nvPr/>
        </p:nvSpPr>
        <p:spPr>
          <a:xfrm>
            <a:off x="3611520" y="6400800"/>
            <a:ext cx="103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200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grpSp>
        <p:nvGrpSpPr>
          <p:cNvPr id="91" name="组合 2055"/>
          <p:cNvGrpSpPr/>
          <p:nvPr/>
        </p:nvGrpSpPr>
        <p:grpSpPr>
          <a:xfrm>
            <a:off x="0" y="-8280"/>
            <a:ext cx="5330880" cy="4970880"/>
            <a:chOff x="0" y="-8280"/>
            <a:chExt cx="5330880" cy="4970880"/>
          </a:xfrm>
        </p:grpSpPr>
        <p:sp>
          <p:nvSpPr>
            <p:cNvPr id="92" name="椭圆 2056"/>
            <p:cNvSpPr/>
            <p:nvPr/>
          </p:nvSpPr>
          <p:spPr>
            <a:xfrm>
              <a:off x="0" y="-7920"/>
              <a:ext cx="5330880" cy="497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93" name="直角三角形 2057"/>
            <p:cNvSpPr/>
            <p:nvPr/>
          </p:nvSpPr>
          <p:spPr>
            <a:xfrm flipV="1">
              <a:off x="0" y="-8640"/>
              <a:ext cx="2820960" cy="26384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sp>
        <p:nvSpPr>
          <p:cNvPr id="94" name="矩形 2058"/>
          <p:cNvSpPr/>
          <p:nvPr/>
        </p:nvSpPr>
        <p:spPr>
          <a:xfrm>
            <a:off x="0" y="73080"/>
            <a:ext cx="9144000" cy="322200"/>
          </a:xfrm>
          <a:prstGeom prst="rect">
            <a:avLst/>
          </a:prstGeom>
          <a:solidFill>
            <a:srgbClr val="d2ecd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95" name="矩形 2059"/>
          <p:cNvSpPr/>
          <p:nvPr/>
        </p:nvSpPr>
        <p:spPr>
          <a:xfrm>
            <a:off x="0" y="3240"/>
            <a:ext cx="9144000" cy="274680"/>
          </a:xfrm>
          <a:prstGeom prst="rect">
            <a:avLst/>
          </a:prstGeom>
          <a:solidFill>
            <a:srgbClr val="ffab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pic>
        <p:nvPicPr>
          <p:cNvPr id="96" name="图片 2061" descr="family"/>
          <p:cNvPicPr/>
          <p:nvPr/>
        </p:nvPicPr>
        <p:blipFill>
          <a:blip r:embed="rId2"/>
          <a:stretch/>
        </p:blipFill>
        <p:spPr>
          <a:xfrm>
            <a:off x="5148360" y="1488960"/>
            <a:ext cx="3995640" cy="5369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ab2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8b8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ab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52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ab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ab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6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7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5200"/>
                </a:solidFill>
                <a:latin typeface="Times New Roman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C7B-BD47-4CDA-AD38-A6C4C1BCF667}" type="slidenum">
              <a:rPr b="0" lang="ko-KR" sz="1400" spc="-1" strike="noStrike">
                <a:solidFill>
                  <a:srgbClr val="0052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4097"/>
          <p:cNvSpPr/>
          <p:nvPr/>
        </p:nvSpPr>
        <p:spPr>
          <a:xfrm>
            <a:off x="214200" y="13906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89a69"/>
                </a:solidFill>
                <a:latin typeface="Verdana"/>
                <a:ea typeface="굴림"/>
              </a:rPr>
              <a:t>PowerPoint</a:t>
            </a:r>
            <a:r>
              <a:rPr b="0" lang="en-US" sz="5400" spc="-1" strike="noStrike">
                <a:solidFill>
                  <a:srgbClr val="689a69"/>
                </a:solidFill>
                <a:latin typeface="Verdana"/>
                <a:ea typeface="굴림"/>
              </a:rPr>
              <a:t>                 </a:t>
            </a:r>
            <a:br>
              <a:rPr sz="5400"/>
            </a:br>
            <a:r>
              <a:rPr b="1" lang="en-US" sz="6600" spc="-1" strike="noStrike">
                <a:solidFill>
                  <a:srgbClr val="ffab2f"/>
                </a:solidFill>
                <a:latin typeface="Verdana"/>
                <a:ea typeface="굴림"/>
              </a:rPr>
              <a:t>Template</a:t>
            </a:r>
            <a:endParaRPr b="0" lang="en-US" sz="66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38" name="矩形 4098"/>
          <p:cNvSpPr/>
          <p:nvPr/>
        </p:nvSpPr>
        <p:spPr>
          <a:xfrm>
            <a:off x="474840" y="3311640"/>
            <a:ext cx="4414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Verdana"/>
                <a:ea typeface="굴림"/>
              </a:rPr>
              <a:t>Add Your Company Slogan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39" name="矩形 4099"/>
          <p:cNvSpPr/>
          <p:nvPr/>
        </p:nvSpPr>
        <p:spPr>
          <a:xfrm>
            <a:off x="812880" y="3705120"/>
            <a:ext cx="36208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굴림"/>
              </a:rPr>
              <a:t>Your Site Here</a:t>
            </a:r>
            <a:endParaRPr b="0" lang="en-US" sz="16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40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ab2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ab2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41" name="文本框 4101"/>
          <p:cNvSpPr/>
          <p:nvPr/>
        </p:nvSpPr>
        <p:spPr>
          <a:xfrm>
            <a:off x="1975320" y="731880"/>
            <a:ext cx="480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ab2f"/>
                </a:solidFill>
                <a:latin typeface="Times New Roman"/>
                <a:ea typeface="Arial"/>
              </a:rPr>
              <a:t>青色企业</a:t>
            </a:r>
            <a:r>
              <a:rPr b="0" lang="zh-CN" sz="4000" spc="-1" strike="noStrike">
                <a:solidFill>
                  <a:srgbClr val="ffab2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ab2f"/>
                </a:solidFill>
                <a:latin typeface="Times New Roman"/>
                <a:ea typeface="Arial"/>
              </a:rPr>
              <a:t>模板</a:t>
            </a:r>
            <a:r>
              <a:rPr b="0" lang="zh-CN" sz="4000" spc="-1" strike="noStrike">
                <a:solidFill>
                  <a:srgbClr val="ffab2f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ffab2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ab2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0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3245-C859-4E3A-8AE7-CEB1FD500EC1}" type="slidenum">
              <a:rPr b="0" lang="zh-CN" sz="1400" spc="-1" strike="noStrike">
                <a:solidFill>
                  <a:srgbClr val="ffab2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ab2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上箭头 13313"/>
          <p:cNvSpPr/>
          <p:nvPr/>
        </p:nvSpPr>
        <p:spPr>
          <a:xfrm>
            <a:off x="1655640" y="2063880"/>
            <a:ext cx="5815080" cy="2514600"/>
          </a:xfrm>
          <a:prstGeom prst="upArrow">
            <a:avLst>
              <a:gd name="adj1" fmla="val 69917"/>
              <a:gd name="adj2" fmla="val 45704"/>
            </a:avLst>
          </a:prstGeom>
          <a:gradFill rotWithShape="0">
            <a:gsLst>
              <a:gs pos="0">
                <a:srgbClr val="ffab2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11" name="椭圆 13314"/>
          <p:cNvSpPr/>
          <p:nvPr/>
        </p:nvSpPr>
        <p:spPr>
          <a:xfrm>
            <a:off x="880920" y="3860640"/>
            <a:ext cx="1828800" cy="1828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45929" dir="19571123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ext 1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12" name="椭圆 13315"/>
          <p:cNvSpPr/>
          <p:nvPr/>
        </p:nvSpPr>
        <p:spPr>
          <a:xfrm>
            <a:off x="2752560" y="3860640"/>
            <a:ext cx="1828800" cy="18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40186" dir="17296359" blurRad="0" rotWithShape="0">
              <a:srgbClr val="98b88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ext 2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13" name="椭圆 13316"/>
          <p:cNvSpPr/>
          <p:nvPr/>
        </p:nvSpPr>
        <p:spPr>
          <a:xfrm>
            <a:off x="4597560" y="3873600"/>
            <a:ext cx="1828800" cy="1828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45929" dir="19571123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ext 3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14" name="椭圆 13317"/>
          <p:cNvSpPr/>
          <p:nvPr/>
        </p:nvSpPr>
        <p:spPr>
          <a:xfrm>
            <a:off x="6454800" y="3860640"/>
            <a:ext cx="1828800" cy="1828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40186" dir="17296359" blurRad="0" rotWithShape="0">
              <a:srgbClr val="98b88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ext 4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15" name="圆角矩形 13318"/>
          <p:cNvSpPr/>
          <p:nvPr/>
        </p:nvSpPr>
        <p:spPr>
          <a:xfrm>
            <a:off x="2335320" y="1457280"/>
            <a:ext cx="4441680" cy="5716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ext here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5680" y="139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Click to edit Title style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Click to edit Master title style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52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b2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ab2f"/>
                </a:solidFill>
                <a:latin typeface="Arial"/>
                <a:ea typeface="굴림"/>
              </a:rPr>
              <a:t>Strengths 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52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89a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a69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52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89a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圆角矩形 6145"/>
          <p:cNvSpPr/>
          <p:nvPr/>
        </p:nvSpPr>
        <p:spPr>
          <a:xfrm>
            <a:off x="1889280" y="1674720"/>
            <a:ext cx="5337000" cy="857520"/>
          </a:xfrm>
          <a:prstGeom prst="roundRect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5680" y="139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46" name="圆角矩形 6147"/>
          <p:cNvSpPr/>
          <p:nvPr/>
        </p:nvSpPr>
        <p:spPr>
          <a:xfrm>
            <a:off x="1987560" y="1760400"/>
            <a:ext cx="5143320" cy="67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ab2f"/>
              </a:gs>
              <a:gs pos="100000">
                <a:srgbClr val="764f1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47" name="矩形 6148"/>
          <p:cNvSpPr/>
          <p:nvPr/>
        </p:nvSpPr>
        <p:spPr>
          <a:xfrm>
            <a:off x="2600280" y="187956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1. Introduction</a:t>
            </a:r>
            <a:endParaRPr b="0" lang="en-US" sz="2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48" name="圆角矩形 6149"/>
          <p:cNvSpPr/>
          <p:nvPr/>
        </p:nvSpPr>
        <p:spPr>
          <a:xfrm>
            <a:off x="1898640" y="2674800"/>
            <a:ext cx="5337360" cy="85752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49" name="圆角矩形 6150"/>
          <p:cNvSpPr/>
          <p:nvPr/>
        </p:nvSpPr>
        <p:spPr>
          <a:xfrm>
            <a:off x="1996920" y="2760840"/>
            <a:ext cx="5143680" cy="67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50" name="圆角矩形 6151"/>
          <p:cNvSpPr/>
          <p:nvPr/>
        </p:nvSpPr>
        <p:spPr>
          <a:xfrm>
            <a:off x="1908000" y="3713040"/>
            <a:ext cx="5337360" cy="85752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51" name="圆角矩形 6152"/>
          <p:cNvSpPr/>
          <p:nvPr/>
        </p:nvSpPr>
        <p:spPr>
          <a:xfrm>
            <a:off x="2006640" y="3798720"/>
            <a:ext cx="5143320" cy="67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100000">
                <a:srgbClr val="595959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52" name="圆角矩形 6153"/>
          <p:cNvSpPr/>
          <p:nvPr/>
        </p:nvSpPr>
        <p:spPr>
          <a:xfrm>
            <a:off x="1903320" y="4737240"/>
            <a:ext cx="5337360" cy="857160"/>
          </a:xfrm>
          <a:prstGeom prst="roundRect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53" name="圆角矩形 6154"/>
          <p:cNvSpPr/>
          <p:nvPr/>
        </p:nvSpPr>
        <p:spPr>
          <a:xfrm>
            <a:off x="2001960" y="4822920"/>
            <a:ext cx="5143320" cy="67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9a69"/>
              </a:gs>
              <a:gs pos="100000">
                <a:srgbClr val="304731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54" name="矩形 6155"/>
          <p:cNvSpPr/>
          <p:nvPr/>
        </p:nvSpPr>
        <p:spPr>
          <a:xfrm>
            <a:off x="2567160" y="28670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2. Strategy</a:t>
            </a:r>
            <a:endParaRPr b="0" lang="en-US" sz="2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55" name="矩形 6156"/>
          <p:cNvSpPr/>
          <p:nvPr/>
        </p:nvSpPr>
        <p:spPr>
          <a:xfrm>
            <a:off x="2579760" y="3916440"/>
            <a:ext cx="3887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3. Challengers Forward</a:t>
            </a:r>
            <a:endParaRPr b="0" lang="en-US" sz="2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56" name="矩形 6157"/>
          <p:cNvSpPr/>
          <p:nvPr/>
        </p:nvSpPr>
        <p:spPr>
          <a:xfrm>
            <a:off x="2592360" y="494028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4. Conclusion</a:t>
            </a:r>
            <a:endParaRPr b="0" lang="en-US" sz="2200" spc="-1" strike="noStrike">
              <a:solidFill>
                <a:srgbClr val="ffab2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立方体 7169"/>
          <p:cNvSpPr/>
          <p:nvPr/>
        </p:nvSpPr>
        <p:spPr>
          <a:xfrm>
            <a:off x="471600" y="4757760"/>
            <a:ext cx="1252440" cy="784080"/>
          </a:xfrm>
          <a:prstGeom prst="cube">
            <a:avLst>
              <a:gd name="adj" fmla="val 15023"/>
            </a:avLst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58" name="立方体 7170"/>
          <p:cNvSpPr/>
          <p:nvPr/>
        </p:nvSpPr>
        <p:spPr>
          <a:xfrm>
            <a:off x="1843200" y="4757760"/>
            <a:ext cx="1252440" cy="784080"/>
          </a:xfrm>
          <a:prstGeom prst="cube">
            <a:avLst>
              <a:gd name="adj" fmla="val 15023"/>
            </a:avLst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59" name="立方体 7171"/>
          <p:cNvSpPr/>
          <p:nvPr/>
        </p:nvSpPr>
        <p:spPr>
          <a:xfrm>
            <a:off x="3227400" y="4757760"/>
            <a:ext cx="1252440" cy="784080"/>
          </a:xfrm>
          <a:prstGeom prst="cube">
            <a:avLst>
              <a:gd name="adj" fmla="val 15023"/>
            </a:avLst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60" name="立方体 7172"/>
          <p:cNvSpPr/>
          <p:nvPr/>
        </p:nvSpPr>
        <p:spPr>
          <a:xfrm>
            <a:off x="4757760" y="4757760"/>
            <a:ext cx="1252440" cy="784080"/>
          </a:xfrm>
          <a:prstGeom prst="cube">
            <a:avLst>
              <a:gd name="adj" fmla="val 15023"/>
            </a:avLst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61" name="立方体 7173"/>
          <p:cNvSpPr/>
          <p:nvPr/>
        </p:nvSpPr>
        <p:spPr>
          <a:xfrm>
            <a:off x="6129360" y="4757760"/>
            <a:ext cx="1252440" cy="784080"/>
          </a:xfrm>
          <a:prstGeom prst="cube">
            <a:avLst>
              <a:gd name="adj" fmla="val 15259"/>
            </a:avLst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62" name="立方体 7174"/>
          <p:cNvSpPr/>
          <p:nvPr/>
        </p:nvSpPr>
        <p:spPr>
          <a:xfrm>
            <a:off x="7513560" y="4757760"/>
            <a:ext cx="1252440" cy="784080"/>
          </a:xfrm>
          <a:prstGeom prst="cube">
            <a:avLst>
              <a:gd name="adj" fmla="val 15023"/>
            </a:avLst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63" name="立方体 7175"/>
          <p:cNvSpPr/>
          <p:nvPr/>
        </p:nvSpPr>
        <p:spPr>
          <a:xfrm>
            <a:off x="3828960" y="1725480"/>
            <a:ext cx="1687680" cy="911520"/>
          </a:xfrm>
          <a:prstGeom prst="cube">
            <a:avLst>
              <a:gd name="adj" fmla="val 11671"/>
            </a:avLst>
          </a:prstGeom>
          <a:gradFill rotWithShape="0">
            <a:gsLst>
              <a:gs pos="0">
                <a:srgbClr val="304731"/>
              </a:gs>
              <a:gs pos="100000">
                <a:srgbClr val="689a69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64" name="立方体 7176"/>
          <p:cNvSpPr/>
          <p:nvPr/>
        </p:nvSpPr>
        <p:spPr>
          <a:xfrm>
            <a:off x="1860480" y="3114720"/>
            <a:ext cx="1420920" cy="766800"/>
          </a:xfrm>
          <a:prstGeom prst="cube">
            <a:avLst>
              <a:gd name="adj" fmla="val 12629"/>
            </a:avLst>
          </a:prstGeom>
          <a:gradFill rotWithShape="0">
            <a:gsLst>
              <a:gs pos="0">
                <a:srgbClr val="764f16"/>
              </a:gs>
              <a:gs pos="100000">
                <a:srgbClr val="ffab2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65" name="立方体 7177"/>
          <p:cNvSpPr/>
          <p:nvPr/>
        </p:nvSpPr>
        <p:spPr>
          <a:xfrm>
            <a:off x="6140520" y="3114720"/>
            <a:ext cx="1420920" cy="766800"/>
          </a:xfrm>
          <a:prstGeom prst="cube">
            <a:avLst>
              <a:gd name="adj" fmla="val 10763"/>
            </a:avLst>
          </a:prstGeom>
          <a:gradFill rotWithShape="0">
            <a:gsLst>
              <a:gs pos="0">
                <a:srgbClr val="764f16"/>
              </a:gs>
              <a:gs pos="100000">
                <a:srgbClr val="ffab2f"/>
              </a:gs>
            </a:gsLst>
            <a:lin ang="27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66" name="矩形 7178"/>
          <p:cNvSpPr/>
          <p:nvPr/>
        </p:nvSpPr>
        <p:spPr>
          <a:xfrm>
            <a:off x="547560" y="499752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4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67" name="矩形 7179"/>
          <p:cNvSpPr/>
          <p:nvPr/>
        </p:nvSpPr>
        <p:spPr>
          <a:xfrm>
            <a:off x="1922400" y="49957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5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68" name="矩形 7180"/>
          <p:cNvSpPr/>
          <p:nvPr/>
        </p:nvSpPr>
        <p:spPr>
          <a:xfrm>
            <a:off x="3317760" y="49957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6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69" name="矩形 7181"/>
          <p:cNvSpPr/>
          <p:nvPr/>
        </p:nvSpPr>
        <p:spPr>
          <a:xfrm>
            <a:off x="4848120" y="49957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7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70" name="矩形 7182"/>
          <p:cNvSpPr/>
          <p:nvPr/>
        </p:nvSpPr>
        <p:spPr>
          <a:xfrm>
            <a:off x="6219720" y="49957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8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71" name="矩形 7183"/>
          <p:cNvSpPr/>
          <p:nvPr/>
        </p:nvSpPr>
        <p:spPr>
          <a:xfrm>
            <a:off x="7605720" y="499572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9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72" name="矩形 7184"/>
          <p:cNvSpPr/>
          <p:nvPr/>
        </p:nvSpPr>
        <p:spPr>
          <a:xfrm>
            <a:off x="3983040" y="2021040"/>
            <a:ext cx="1352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ext 1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73" name="矩形 7185"/>
          <p:cNvSpPr/>
          <p:nvPr/>
        </p:nvSpPr>
        <p:spPr>
          <a:xfrm>
            <a:off x="2030400" y="333684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2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74" name="矩形 7186"/>
          <p:cNvSpPr/>
          <p:nvPr/>
        </p:nvSpPr>
        <p:spPr>
          <a:xfrm>
            <a:off x="6351480" y="3336840"/>
            <a:ext cx="990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3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cxnSp>
        <p:nvCxnSpPr>
          <p:cNvPr id="175" name="直接箭头连接符 7187"/>
          <p:cNvCxnSpPr>
            <a:stCxn id="164" idx="3"/>
            <a:endCxn id="158" idx="0"/>
          </p:cNvCxnSpPr>
          <p:nvPr/>
        </p:nvCxnSpPr>
        <p:spPr>
          <a:xfrm>
            <a:off x="2522520" y="3895200"/>
            <a:ext cx="7200" cy="848520"/>
          </a:xfrm>
          <a:prstGeom prst="straightConnector1">
            <a:avLst/>
          </a:prstGeom>
          <a:ln w="9360">
            <a:solidFill>
              <a:srgbClr val="005200"/>
            </a:solidFill>
            <a:round/>
          </a:ln>
        </p:spPr>
      </p:cxnSp>
      <p:cxnSp>
        <p:nvCxnSpPr>
          <p:cNvPr id="176" name="直接箭头连接符 7188"/>
          <p:cNvCxnSpPr>
            <a:stCxn id="165" idx="3"/>
            <a:endCxn id="161" idx="0"/>
          </p:cNvCxnSpPr>
          <p:nvPr/>
        </p:nvCxnSpPr>
        <p:spPr>
          <a:xfrm>
            <a:off x="6810120" y="3895200"/>
            <a:ext cx="5400" cy="848520"/>
          </a:xfrm>
          <a:prstGeom prst="straightConnector1">
            <a:avLst/>
          </a:prstGeom>
          <a:ln w="9360">
            <a:solidFill>
              <a:srgbClr val="005200"/>
            </a:solidFill>
            <a:round/>
          </a:ln>
        </p:spPr>
      </p:cxnSp>
      <p:cxnSp>
        <p:nvCxnSpPr>
          <p:cNvPr id="177" name="肘形连接符 7189"/>
          <p:cNvCxnSpPr>
            <a:stCxn id="157" idx="0"/>
            <a:endCxn id="159" idx="0"/>
          </p:cNvCxnSpPr>
          <p:nvPr/>
        </p:nvCxnSpPr>
        <p:spPr>
          <a:xfrm>
            <a:off x="1157040" y="4740840"/>
            <a:ext cx="2756520" cy="3960"/>
          </a:xfrm>
          <a:prstGeom prst="straightConnector1">
            <a:avLst/>
          </a:prstGeom>
          <a:ln w="9360">
            <a:solidFill>
              <a:srgbClr val="005200"/>
            </a:solidFill>
            <a:miter/>
          </a:ln>
        </p:spPr>
      </p:cxnSp>
      <p:cxnSp>
        <p:nvCxnSpPr>
          <p:cNvPr id="178" name="肘形连接符 7190"/>
          <p:cNvCxnSpPr>
            <a:stCxn id="160" idx="0"/>
            <a:endCxn id="162" idx="0"/>
          </p:cNvCxnSpPr>
          <p:nvPr/>
        </p:nvCxnSpPr>
        <p:spPr>
          <a:xfrm>
            <a:off x="5443200" y="4740840"/>
            <a:ext cx="2756520" cy="3960"/>
          </a:xfrm>
          <a:prstGeom prst="straightConnector1">
            <a:avLst/>
          </a:prstGeom>
          <a:ln w="9360">
            <a:solidFill>
              <a:srgbClr val="005200"/>
            </a:solidFill>
            <a:miter/>
          </a:ln>
        </p:spPr>
      </p:cxnSp>
      <p:cxnSp>
        <p:nvCxnSpPr>
          <p:cNvPr id="179" name="肘形连接符 7191"/>
          <p:cNvCxnSpPr>
            <a:stCxn id="164" idx="0"/>
            <a:endCxn id="163" idx="2"/>
          </p:cNvCxnSpPr>
          <p:nvPr/>
        </p:nvCxnSpPr>
        <p:spPr>
          <a:xfrm flipV="1">
            <a:off x="2617920" y="2231640"/>
            <a:ext cx="1195920" cy="867600"/>
          </a:xfrm>
          <a:prstGeom prst="straightConnector1">
            <a:avLst/>
          </a:prstGeom>
          <a:ln w="9360">
            <a:solidFill>
              <a:srgbClr val="005200"/>
            </a:solidFill>
            <a:miter/>
          </a:ln>
        </p:spPr>
      </p:cxnSp>
      <p:cxnSp>
        <p:nvCxnSpPr>
          <p:cNvPr id="180" name="肘形连接符 7192"/>
          <p:cNvCxnSpPr>
            <a:stCxn id="165" idx="0"/>
            <a:endCxn id="163" idx="5"/>
          </p:cNvCxnSpPr>
          <p:nvPr/>
        </p:nvCxnSpPr>
        <p:spPr>
          <a:xfrm flipH="1" flipV="1">
            <a:off x="5528880" y="2127960"/>
            <a:ext cx="1362960" cy="972360"/>
          </a:xfrm>
          <a:prstGeom prst="straightConnector1">
            <a:avLst/>
          </a:prstGeom>
          <a:ln w="9360">
            <a:solidFill>
              <a:srgbClr val="005200"/>
            </a:solidFill>
            <a:miter/>
          </a:ln>
        </p:spPr>
      </p:cxn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5680" y="139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Organization 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182" name="文本框 7194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5200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5200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ab2f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ffab2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上下箭头 8193"/>
          <p:cNvSpPr/>
          <p:nvPr/>
        </p:nvSpPr>
        <p:spPr>
          <a:xfrm rot="18757800">
            <a:off x="4451400" y="3352320"/>
            <a:ext cx="368280" cy="1600200"/>
          </a:xfrm>
          <a:prstGeom prst="upDownArrow">
            <a:avLst>
              <a:gd name="adj1" fmla="val 43102"/>
              <a:gd name="adj2" fmla="val 66363"/>
            </a:avLst>
          </a:prstGeom>
          <a:gradFill rotWithShape="0">
            <a:gsLst>
              <a:gs pos="0">
                <a:srgbClr val="465542"/>
              </a:gs>
              <a:gs pos="50000">
                <a:srgbClr val="98b88e"/>
              </a:gs>
              <a:gs pos="100000">
                <a:srgbClr val="465542"/>
              </a:gs>
            </a:gsLst>
            <a:lin ang="82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84" name="上下箭头 8194"/>
          <p:cNvSpPr/>
          <p:nvPr/>
        </p:nvSpPr>
        <p:spPr>
          <a:xfrm flipH="1" rot="2842200">
            <a:off x="4438080" y="3352320"/>
            <a:ext cx="368280" cy="1600200"/>
          </a:xfrm>
          <a:prstGeom prst="upDownArrow">
            <a:avLst>
              <a:gd name="adj1" fmla="val 43102"/>
              <a:gd name="adj2" fmla="val 66363"/>
            </a:avLst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82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85" name="椭圆 8195"/>
          <p:cNvSpPr/>
          <p:nvPr/>
        </p:nvSpPr>
        <p:spPr>
          <a:xfrm>
            <a:off x="1219320" y="1573200"/>
            <a:ext cx="2631960" cy="1833480"/>
          </a:xfrm>
          <a:prstGeom prst="ellipse">
            <a:avLst/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0">
            <a:noFill/>
          </a:ln>
          <a:effectLst>
            <a:outerShdw dist="45929" dir="19571123" blurRad="0" rotWithShape="0">
              <a:srgbClr val="98b8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86" name="椭圆 8196"/>
          <p:cNvSpPr/>
          <p:nvPr/>
        </p:nvSpPr>
        <p:spPr>
          <a:xfrm>
            <a:off x="5397480" y="1585800"/>
            <a:ext cx="2631960" cy="1833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0">
            <a:noFill/>
          </a:ln>
          <a:effectLst>
            <a:outerShdw dist="45929" dir="19571123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87" name="椭圆 8197"/>
          <p:cNvSpPr/>
          <p:nvPr/>
        </p:nvSpPr>
        <p:spPr>
          <a:xfrm>
            <a:off x="1219320" y="3973680"/>
            <a:ext cx="2631960" cy="1833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0">
            <a:noFill/>
          </a:ln>
          <a:effectLst>
            <a:outerShdw dist="45929" dir="19571123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88" name="椭圆 8198"/>
          <p:cNvSpPr/>
          <p:nvPr/>
        </p:nvSpPr>
        <p:spPr>
          <a:xfrm>
            <a:off x="5397480" y="3986280"/>
            <a:ext cx="2631960" cy="1833480"/>
          </a:xfrm>
          <a:prstGeom prst="ellipse">
            <a:avLst/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0">
            <a:noFill/>
          </a:ln>
          <a:effectLst>
            <a:outerShdw dist="45929" dir="19571123" blurRad="0" rotWithShape="0">
              <a:srgbClr val="98b8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89" name="圆角矩形 8199"/>
          <p:cNvSpPr/>
          <p:nvPr/>
        </p:nvSpPr>
        <p:spPr>
          <a:xfrm>
            <a:off x="2203560" y="2925720"/>
            <a:ext cx="199368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90" name="圆角矩形 8200"/>
          <p:cNvSpPr/>
          <p:nvPr/>
        </p:nvSpPr>
        <p:spPr>
          <a:xfrm>
            <a:off x="4921200" y="2925720"/>
            <a:ext cx="19940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91" name="圆角矩形 8201"/>
          <p:cNvSpPr/>
          <p:nvPr/>
        </p:nvSpPr>
        <p:spPr>
          <a:xfrm>
            <a:off x="2203560" y="5329080"/>
            <a:ext cx="199368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27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92" name="圆角矩形 8202"/>
          <p:cNvSpPr/>
          <p:nvPr/>
        </p:nvSpPr>
        <p:spPr>
          <a:xfrm>
            <a:off x="4921200" y="5329080"/>
            <a:ext cx="19940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93" name="矩形 8203"/>
          <p:cNvSpPr/>
          <p:nvPr/>
        </p:nvSpPr>
        <p:spPr>
          <a:xfrm>
            <a:off x="2635200" y="2951280"/>
            <a:ext cx="135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Text 1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94" name="矩形 8204"/>
          <p:cNvSpPr/>
          <p:nvPr/>
        </p:nvSpPr>
        <p:spPr>
          <a:xfrm>
            <a:off x="5391000" y="2951280"/>
            <a:ext cx="1359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굴림"/>
              </a:rPr>
              <a:t>Text 4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95" name="矩形 8205"/>
          <p:cNvSpPr/>
          <p:nvPr/>
        </p:nvSpPr>
        <p:spPr>
          <a:xfrm>
            <a:off x="2635200" y="5367240"/>
            <a:ext cx="13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굴림"/>
              </a:rPr>
              <a:t>Text 2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96" name="矩形 8206"/>
          <p:cNvSpPr/>
          <p:nvPr/>
        </p:nvSpPr>
        <p:spPr>
          <a:xfrm>
            <a:off x="5391000" y="5367240"/>
            <a:ext cx="13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Text 3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97" name="矩形 8207"/>
          <p:cNvSpPr/>
          <p:nvPr/>
        </p:nvSpPr>
        <p:spPr>
          <a:xfrm>
            <a:off x="3892680" y="3924360"/>
            <a:ext cx="1511280" cy="469800"/>
          </a:xfrm>
          <a:prstGeom prst="rect">
            <a:avLst/>
          </a:prstGeom>
          <a:solidFill>
            <a:srgbClr val="d2ec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굴림"/>
              </a:rPr>
              <a:t>Text 5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5680" y="139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Click to edit Title style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9217"/>
          <p:cNvSpPr/>
          <p:nvPr/>
        </p:nvSpPr>
        <p:spPr>
          <a:xfrm>
            <a:off x="909720" y="3957480"/>
            <a:ext cx="746100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00" name="矩形 9218"/>
          <p:cNvSpPr/>
          <p:nvPr/>
        </p:nvSpPr>
        <p:spPr>
          <a:xfrm>
            <a:off x="905040" y="1973160"/>
            <a:ext cx="746100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01" name="矩形 9219"/>
          <p:cNvSpPr/>
          <p:nvPr/>
        </p:nvSpPr>
        <p:spPr>
          <a:xfrm>
            <a:off x="900000" y="2957400"/>
            <a:ext cx="74613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02" name="矩形 9220"/>
          <p:cNvSpPr/>
          <p:nvPr/>
        </p:nvSpPr>
        <p:spPr>
          <a:xfrm>
            <a:off x="900000" y="4948200"/>
            <a:ext cx="746136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03" name="矩形 9221"/>
          <p:cNvSpPr/>
          <p:nvPr/>
        </p:nvSpPr>
        <p:spPr>
          <a:xfrm>
            <a:off x="2144880" y="5446800"/>
            <a:ext cx="6211800" cy="495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04" name="矩形 9222"/>
          <p:cNvSpPr/>
          <p:nvPr/>
        </p:nvSpPr>
        <p:spPr>
          <a:xfrm>
            <a:off x="2144880" y="2454120"/>
            <a:ext cx="6211800" cy="495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05" name="矩形 9223"/>
          <p:cNvSpPr/>
          <p:nvPr/>
        </p:nvSpPr>
        <p:spPr>
          <a:xfrm>
            <a:off x="2144880" y="3456000"/>
            <a:ext cx="6211800" cy="495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06" name="矩形 9224"/>
          <p:cNvSpPr/>
          <p:nvPr/>
        </p:nvSpPr>
        <p:spPr>
          <a:xfrm>
            <a:off x="2144880" y="4459320"/>
            <a:ext cx="6211800" cy="495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07" name="矩形 9225"/>
          <p:cNvSpPr/>
          <p:nvPr/>
        </p:nvSpPr>
        <p:spPr>
          <a:xfrm>
            <a:off x="919080" y="1465200"/>
            <a:ext cx="7442280" cy="495360"/>
          </a:xfrm>
          <a:prstGeom prst="rect">
            <a:avLst/>
          </a:prstGeom>
          <a:solidFill>
            <a:srgbClr val="689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09720" y="4454640"/>
            <a:ext cx="7429320" cy="360"/>
            <a:chOff x="909720" y="4454640"/>
            <a:chExt cx="7429320" cy="360"/>
          </a:xfrm>
        </p:grpSpPr>
        <p:sp>
          <p:nvSpPr>
            <p:cNvPr id="209" name="直接连接符 9226"/>
            <p:cNvSpPr/>
            <p:nvPr/>
          </p:nvSpPr>
          <p:spPr>
            <a:xfrm>
              <a:off x="909720" y="4454640"/>
              <a:ext cx="7429320" cy="0"/>
            </a:xfrm>
            <a:prstGeom prst="line">
              <a:avLst/>
            </a:prstGeom>
            <a:ln w="0">
              <a:solidFill>
                <a:srgbClr val="d2ec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909720" y="445464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922320" y="1467000"/>
            <a:ext cx="7429680" cy="360"/>
            <a:chOff x="922320" y="1467000"/>
            <a:chExt cx="7429680" cy="360"/>
          </a:xfrm>
        </p:grpSpPr>
        <p:sp>
          <p:nvSpPr>
            <p:cNvPr id="212" name="直接连接符 9227"/>
            <p:cNvSpPr/>
            <p:nvPr/>
          </p:nvSpPr>
          <p:spPr>
            <a:xfrm>
              <a:off x="922320" y="1467000"/>
              <a:ext cx="7429680" cy="0"/>
            </a:xfrm>
            <a:prstGeom prst="line">
              <a:avLst/>
            </a:prstGeom>
            <a:ln w="12600">
              <a:solidFill>
                <a:srgbClr val="005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922320" y="1467000"/>
              <a:ext cx="742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922320" y="1952640"/>
            <a:ext cx="7429680" cy="360"/>
            <a:chOff x="922320" y="1952640"/>
            <a:chExt cx="7429680" cy="360"/>
          </a:xfrm>
        </p:grpSpPr>
        <p:sp>
          <p:nvSpPr>
            <p:cNvPr id="215" name="直接连接符 9228"/>
            <p:cNvSpPr/>
            <p:nvPr/>
          </p:nvSpPr>
          <p:spPr>
            <a:xfrm>
              <a:off x="922320" y="1952640"/>
              <a:ext cx="7429680" cy="0"/>
            </a:xfrm>
            <a:prstGeom prst="line">
              <a:avLst/>
            </a:prstGeom>
            <a:ln w="9360">
              <a:solidFill>
                <a:srgbClr val="0052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922320" y="1952640"/>
              <a:ext cx="742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151760" y="1477800"/>
            <a:ext cx="360" cy="493920"/>
            <a:chOff x="7151760" y="1477800"/>
            <a:chExt cx="360" cy="493920"/>
          </a:xfrm>
        </p:grpSpPr>
        <p:sp>
          <p:nvSpPr>
            <p:cNvPr id="218" name="直接连接符 9229"/>
            <p:cNvSpPr/>
            <p:nvPr/>
          </p:nvSpPr>
          <p:spPr>
            <a:xfrm>
              <a:off x="7151760" y="1477800"/>
              <a:ext cx="0" cy="493920"/>
            </a:xfrm>
            <a:prstGeom prst="line">
              <a:avLst/>
            </a:prstGeom>
            <a:ln w="0">
              <a:solidFill>
                <a:srgbClr val="0052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7151760" y="1477800"/>
              <a:ext cx="360" cy="49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907240" y="1477800"/>
            <a:ext cx="360" cy="493920"/>
            <a:chOff x="5907240" y="1477800"/>
            <a:chExt cx="360" cy="493920"/>
          </a:xfrm>
        </p:grpSpPr>
        <p:sp>
          <p:nvSpPr>
            <p:cNvPr id="221" name="直接连接符 9230"/>
            <p:cNvSpPr/>
            <p:nvPr/>
          </p:nvSpPr>
          <p:spPr>
            <a:xfrm>
              <a:off x="5907240" y="1477800"/>
              <a:ext cx="0" cy="493920"/>
            </a:xfrm>
            <a:prstGeom prst="line">
              <a:avLst/>
            </a:prstGeom>
            <a:ln w="0">
              <a:solidFill>
                <a:srgbClr val="0052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5907240" y="1477800"/>
              <a:ext cx="360" cy="49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662360" y="1469880"/>
            <a:ext cx="360" cy="493920"/>
            <a:chOff x="4662360" y="1469880"/>
            <a:chExt cx="360" cy="493920"/>
          </a:xfrm>
        </p:grpSpPr>
        <p:sp>
          <p:nvSpPr>
            <p:cNvPr id="224" name="直接连接符 9231"/>
            <p:cNvSpPr/>
            <p:nvPr/>
          </p:nvSpPr>
          <p:spPr>
            <a:xfrm>
              <a:off x="4662360" y="1469880"/>
              <a:ext cx="0" cy="493920"/>
            </a:xfrm>
            <a:prstGeom prst="line">
              <a:avLst/>
            </a:prstGeom>
            <a:ln w="0">
              <a:solidFill>
                <a:srgbClr val="0052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4662360" y="1469880"/>
              <a:ext cx="360" cy="49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417840" y="1467000"/>
            <a:ext cx="360" cy="493560"/>
            <a:chOff x="3417840" y="1467000"/>
            <a:chExt cx="360" cy="493560"/>
          </a:xfrm>
        </p:grpSpPr>
        <p:sp>
          <p:nvSpPr>
            <p:cNvPr id="227" name="直接连接符 9232"/>
            <p:cNvSpPr/>
            <p:nvPr/>
          </p:nvSpPr>
          <p:spPr>
            <a:xfrm>
              <a:off x="3417840" y="1467000"/>
              <a:ext cx="0" cy="493560"/>
            </a:xfrm>
            <a:prstGeom prst="line">
              <a:avLst/>
            </a:prstGeom>
            <a:ln w="0">
              <a:solidFill>
                <a:srgbClr val="0052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417840" y="1467000"/>
              <a:ext cx="360" cy="493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73320" y="1467000"/>
            <a:ext cx="360" cy="493560"/>
            <a:chOff x="2173320" y="1467000"/>
            <a:chExt cx="360" cy="493560"/>
          </a:xfrm>
        </p:grpSpPr>
        <p:sp>
          <p:nvSpPr>
            <p:cNvPr id="230" name="直接连接符 9233"/>
            <p:cNvSpPr/>
            <p:nvPr/>
          </p:nvSpPr>
          <p:spPr>
            <a:xfrm>
              <a:off x="2173320" y="1467000"/>
              <a:ext cx="0" cy="493560"/>
            </a:xfrm>
            <a:prstGeom prst="line">
              <a:avLst/>
            </a:prstGeom>
            <a:ln w="0">
              <a:solidFill>
                <a:srgbClr val="0052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173320" y="1467000"/>
              <a:ext cx="360" cy="493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sp>
        <p:nvSpPr>
          <p:cNvPr id="232" name="矩形 9234"/>
          <p:cNvSpPr/>
          <p:nvPr/>
        </p:nvSpPr>
        <p:spPr>
          <a:xfrm>
            <a:off x="2325600" y="151452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1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33" name="矩形 9235"/>
          <p:cNvSpPr/>
          <p:nvPr/>
        </p:nvSpPr>
        <p:spPr>
          <a:xfrm>
            <a:off x="3570120" y="151452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2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34" name="矩形 9236"/>
          <p:cNvSpPr/>
          <p:nvPr/>
        </p:nvSpPr>
        <p:spPr>
          <a:xfrm>
            <a:off x="4815000" y="1514520"/>
            <a:ext cx="990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3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35" name="矩形 9237"/>
          <p:cNvSpPr/>
          <p:nvPr/>
        </p:nvSpPr>
        <p:spPr>
          <a:xfrm>
            <a:off x="6059520" y="151452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4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36" name="矩形 9238"/>
          <p:cNvSpPr/>
          <p:nvPr/>
        </p:nvSpPr>
        <p:spPr>
          <a:xfrm>
            <a:off x="7304040" y="1514520"/>
            <a:ext cx="990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Text 5</a:t>
            </a: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37" name="矩形 9239"/>
          <p:cNvSpPr/>
          <p:nvPr/>
        </p:nvSpPr>
        <p:spPr>
          <a:xfrm>
            <a:off x="927000" y="5446800"/>
            <a:ext cx="1247760" cy="495360"/>
          </a:xfrm>
          <a:prstGeom prst="rect">
            <a:avLst/>
          </a:prstGeom>
          <a:solidFill>
            <a:srgbClr val="ffab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38" name="矩形 9240"/>
          <p:cNvSpPr/>
          <p:nvPr/>
        </p:nvSpPr>
        <p:spPr>
          <a:xfrm>
            <a:off x="927000" y="2454120"/>
            <a:ext cx="1247760" cy="495360"/>
          </a:xfrm>
          <a:prstGeom prst="rect">
            <a:avLst/>
          </a:prstGeom>
          <a:solidFill>
            <a:srgbClr val="ffab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39" name="矩形 9241"/>
          <p:cNvSpPr/>
          <p:nvPr/>
        </p:nvSpPr>
        <p:spPr>
          <a:xfrm>
            <a:off x="927000" y="3456000"/>
            <a:ext cx="1247760" cy="495360"/>
          </a:xfrm>
          <a:prstGeom prst="rect">
            <a:avLst/>
          </a:prstGeom>
          <a:solidFill>
            <a:srgbClr val="ffab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40" name="矩形 9242"/>
          <p:cNvSpPr/>
          <p:nvPr/>
        </p:nvSpPr>
        <p:spPr>
          <a:xfrm>
            <a:off x="927000" y="4459320"/>
            <a:ext cx="1247760" cy="495360"/>
          </a:xfrm>
          <a:prstGeom prst="rect">
            <a:avLst/>
          </a:prstGeom>
          <a:solidFill>
            <a:srgbClr val="ffab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41" name="矩形 9243"/>
          <p:cNvSpPr/>
          <p:nvPr/>
        </p:nvSpPr>
        <p:spPr>
          <a:xfrm>
            <a:off x="1347840" y="199692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굴림"/>
              </a:rPr>
              <a:t>A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42" name="矩形 9244"/>
          <p:cNvSpPr/>
          <p:nvPr/>
        </p:nvSpPr>
        <p:spPr>
          <a:xfrm>
            <a:off x="1347840" y="249876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굴림"/>
              </a:rPr>
              <a:t>B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43" name="矩形 9245"/>
          <p:cNvSpPr/>
          <p:nvPr/>
        </p:nvSpPr>
        <p:spPr>
          <a:xfrm>
            <a:off x="1347840" y="298116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굴림"/>
              </a:rPr>
              <a:t>C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44" name="矩形 9246"/>
          <p:cNvSpPr/>
          <p:nvPr/>
        </p:nvSpPr>
        <p:spPr>
          <a:xfrm>
            <a:off x="1347840" y="349236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굴림"/>
              </a:rPr>
              <a:t>D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45" name="矩形 9247"/>
          <p:cNvSpPr/>
          <p:nvPr/>
        </p:nvSpPr>
        <p:spPr>
          <a:xfrm>
            <a:off x="1347840" y="396540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굴림"/>
              </a:rPr>
              <a:t>E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46" name="矩形 9248"/>
          <p:cNvSpPr/>
          <p:nvPr/>
        </p:nvSpPr>
        <p:spPr>
          <a:xfrm>
            <a:off x="1347840" y="4505400"/>
            <a:ext cx="469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굴림"/>
              </a:rPr>
              <a:t>F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47" name="矩形 9249"/>
          <p:cNvSpPr/>
          <p:nvPr/>
        </p:nvSpPr>
        <p:spPr>
          <a:xfrm>
            <a:off x="1347840" y="498780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굴림"/>
              </a:rPr>
              <a:t>G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48" name="矩形 9250"/>
          <p:cNvSpPr/>
          <p:nvPr/>
        </p:nvSpPr>
        <p:spPr>
          <a:xfrm>
            <a:off x="1347840" y="5470560"/>
            <a:ext cx="46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Verdana"/>
                <a:ea typeface="굴림"/>
              </a:rPr>
              <a:t>H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909720" y="4454640"/>
            <a:ext cx="7429320" cy="360"/>
            <a:chOff x="909720" y="4454640"/>
            <a:chExt cx="7429320" cy="360"/>
          </a:xfrm>
        </p:grpSpPr>
        <p:sp>
          <p:nvSpPr>
            <p:cNvPr id="250" name="直接连接符 9251"/>
            <p:cNvSpPr/>
            <p:nvPr/>
          </p:nvSpPr>
          <p:spPr>
            <a:xfrm>
              <a:off x="909720" y="4454640"/>
              <a:ext cx="74293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909720" y="445464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912960" y="3456000"/>
            <a:ext cx="7429320" cy="360"/>
            <a:chOff x="912960" y="3456000"/>
            <a:chExt cx="7429320" cy="360"/>
          </a:xfrm>
        </p:grpSpPr>
        <p:sp>
          <p:nvSpPr>
            <p:cNvPr id="253" name="直接连接符 9252"/>
            <p:cNvSpPr/>
            <p:nvPr/>
          </p:nvSpPr>
          <p:spPr>
            <a:xfrm>
              <a:off x="912960" y="3456000"/>
              <a:ext cx="74293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912960" y="345600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909720" y="3949560"/>
            <a:ext cx="7429320" cy="360"/>
            <a:chOff x="909720" y="3949560"/>
            <a:chExt cx="7429320" cy="360"/>
          </a:xfrm>
        </p:grpSpPr>
        <p:sp>
          <p:nvSpPr>
            <p:cNvPr id="256" name="直接连接符 9253"/>
            <p:cNvSpPr/>
            <p:nvPr/>
          </p:nvSpPr>
          <p:spPr>
            <a:xfrm>
              <a:off x="909720" y="3949560"/>
              <a:ext cx="74293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909720" y="394956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912960" y="4944960"/>
            <a:ext cx="7429320" cy="360"/>
            <a:chOff x="912960" y="4944960"/>
            <a:chExt cx="7429320" cy="360"/>
          </a:xfrm>
        </p:grpSpPr>
        <p:sp>
          <p:nvSpPr>
            <p:cNvPr id="259" name="直接连接符 9254"/>
            <p:cNvSpPr/>
            <p:nvPr/>
          </p:nvSpPr>
          <p:spPr>
            <a:xfrm>
              <a:off x="912960" y="4944960"/>
              <a:ext cx="74293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912960" y="494496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912960" y="2943360"/>
            <a:ext cx="7429320" cy="360"/>
            <a:chOff x="912960" y="2943360"/>
            <a:chExt cx="7429320" cy="360"/>
          </a:xfrm>
        </p:grpSpPr>
        <p:sp>
          <p:nvSpPr>
            <p:cNvPr id="262" name="直接连接符 9255"/>
            <p:cNvSpPr/>
            <p:nvPr/>
          </p:nvSpPr>
          <p:spPr>
            <a:xfrm>
              <a:off x="912960" y="2943360"/>
              <a:ext cx="74293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912960" y="294336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12960" y="2438280"/>
            <a:ext cx="7429320" cy="360"/>
            <a:chOff x="912960" y="2438280"/>
            <a:chExt cx="7429320" cy="360"/>
          </a:xfrm>
        </p:grpSpPr>
        <p:sp>
          <p:nvSpPr>
            <p:cNvPr id="265" name="直接连接符 9256"/>
            <p:cNvSpPr/>
            <p:nvPr/>
          </p:nvSpPr>
          <p:spPr>
            <a:xfrm>
              <a:off x="912960" y="2438280"/>
              <a:ext cx="74293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912960" y="243828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12960" y="5443560"/>
            <a:ext cx="7429320" cy="360"/>
            <a:chOff x="912960" y="5443560"/>
            <a:chExt cx="7429320" cy="360"/>
          </a:xfrm>
        </p:grpSpPr>
        <p:sp>
          <p:nvSpPr>
            <p:cNvPr id="268" name="直接连接符 9257"/>
            <p:cNvSpPr/>
            <p:nvPr/>
          </p:nvSpPr>
          <p:spPr>
            <a:xfrm>
              <a:off x="912960" y="5443560"/>
              <a:ext cx="74293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912960" y="544356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912960" y="5935680"/>
            <a:ext cx="7429320" cy="360"/>
            <a:chOff x="912960" y="5935680"/>
            <a:chExt cx="7429320" cy="360"/>
          </a:xfrm>
        </p:grpSpPr>
        <p:sp>
          <p:nvSpPr>
            <p:cNvPr id="271" name="直接连接符 9258"/>
            <p:cNvSpPr/>
            <p:nvPr/>
          </p:nvSpPr>
          <p:spPr>
            <a:xfrm>
              <a:off x="912960" y="5935680"/>
              <a:ext cx="7429320" cy="0"/>
            </a:xfrm>
            <a:prstGeom prst="line">
              <a:avLst/>
            </a:prstGeom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912960" y="5935680"/>
              <a:ext cx="742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273" name="组合 9259"/>
          <p:cNvGrpSpPr/>
          <p:nvPr/>
        </p:nvGrpSpPr>
        <p:grpSpPr>
          <a:xfrm>
            <a:off x="2173320" y="1957320"/>
            <a:ext cx="4978800" cy="3993840"/>
            <a:chOff x="2173320" y="1957320"/>
            <a:chExt cx="4978800" cy="3993840"/>
          </a:xfrm>
        </p:grpSpPr>
        <p:grpSp>
          <p:nvGrpSpPr>
            <p:cNvPr id="274" name=""/>
            <p:cNvGrpSpPr/>
            <p:nvPr/>
          </p:nvGrpSpPr>
          <p:grpSpPr>
            <a:xfrm>
              <a:off x="7151760" y="1991880"/>
              <a:ext cx="360" cy="3959280"/>
              <a:chOff x="7151760" y="1991880"/>
              <a:chExt cx="360" cy="3959280"/>
            </a:xfrm>
          </p:grpSpPr>
          <p:sp>
            <p:nvSpPr>
              <p:cNvPr id="275" name="直接连接符 9260"/>
              <p:cNvSpPr/>
              <p:nvPr/>
            </p:nvSpPr>
            <p:spPr>
              <a:xfrm>
                <a:off x="7151760" y="1991880"/>
                <a:ext cx="0" cy="3959280"/>
              </a:xfrm>
              <a:prstGeom prst="line">
                <a:avLst/>
              </a:prstGeom>
              <a:ln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7151760" y="1991880"/>
                <a:ext cx="360" cy="395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5907240" y="1991880"/>
              <a:ext cx="360" cy="3959280"/>
              <a:chOff x="5907240" y="1991880"/>
              <a:chExt cx="360" cy="3959280"/>
            </a:xfrm>
          </p:grpSpPr>
          <p:sp>
            <p:nvSpPr>
              <p:cNvPr id="278" name="直接连接符 9261"/>
              <p:cNvSpPr/>
              <p:nvPr/>
            </p:nvSpPr>
            <p:spPr>
              <a:xfrm>
                <a:off x="5907240" y="1991880"/>
                <a:ext cx="0" cy="3959280"/>
              </a:xfrm>
              <a:prstGeom prst="line">
                <a:avLst/>
              </a:prstGeom>
              <a:ln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5907240" y="1991880"/>
                <a:ext cx="360" cy="395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662360" y="1980360"/>
              <a:ext cx="360" cy="3959280"/>
              <a:chOff x="4662360" y="1980360"/>
              <a:chExt cx="360" cy="3959280"/>
            </a:xfrm>
          </p:grpSpPr>
          <p:sp>
            <p:nvSpPr>
              <p:cNvPr id="281" name="直接连接符 9262"/>
              <p:cNvSpPr/>
              <p:nvPr/>
            </p:nvSpPr>
            <p:spPr>
              <a:xfrm>
                <a:off x="4662360" y="1980360"/>
                <a:ext cx="0" cy="3959280"/>
              </a:xfrm>
              <a:prstGeom prst="line">
                <a:avLst/>
              </a:prstGeom>
              <a:ln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4662360" y="1980360"/>
                <a:ext cx="360" cy="395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417840" y="1968480"/>
              <a:ext cx="360" cy="3959280"/>
              <a:chOff x="3417840" y="1968480"/>
              <a:chExt cx="360" cy="3959280"/>
            </a:xfrm>
          </p:grpSpPr>
          <p:sp>
            <p:nvSpPr>
              <p:cNvPr id="284" name="直接连接符 9263"/>
              <p:cNvSpPr/>
              <p:nvPr/>
            </p:nvSpPr>
            <p:spPr>
              <a:xfrm>
                <a:off x="3417840" y="1968480"/>
                <a:ext cx="0" cy="3959280"/>
              </a:xfrm>
              <a:prstGeom prst="line">
                <a:avLst/>
              </a:prstGeom>
              <a:ln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3417840" y="1968480"/>
                <a:ext cx="360" cy="395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173320" y="1957320"/>
              <a:ext cx="360" cy="3959280"/>
              <a:chOff x="2173320" y="1957320"/>
              <a:chExt cx="360" cy="3959280"/>
            </a:xfrm>
          </p:grpSpPr>
          <p:sp>
            <p:nvSpPr>
              <p:cNvPr id="287" name="直接连接符 9264"/>
              <p:cNvSpPr/>
              <p:nvPr/>
            </p:nvSpPr>
            <p:spPr>
              <a:xfrm>
                <a:off x="2173320" y="1957320"/>
                <a:ext cx="0" cy="3959280"/>
              </a:xfrm>
              <a:prstGeom prst="line">
                <a:avLst/>
              </a:prstGeom>
              <a:ln w="0">
                <a:solidFill>
                  <a:srgbClr val="3333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2173320" y="1957320"/>
                <a:ext cx="360" cy="395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680" y="139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Index on Projects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任意多边形 10241"/>
          <p:cNvSpPr/>
          <p:nvPr/>
        </p:nvSpPr>
        <p:spPr>
          <a:xfrm rot="19947600">
            <a:off x="4752720" y="1538280"/>
            <a:ext cx="311040" cy="31284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lnTo>
                  <a:pt x="408" y="411"/>
                </a:lnTo>
                <a:lnTo>
                  <a:pt x="408" y="0"/>
                </a:lnTo>
                <a:lnTo>
                  <a:pt x="0" y="411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c0c0c0"/>
              </a:gs>
            </a:gsLst>
            <a:lin ang="70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91" name="矩形 10242"/>
          <p:cNvSpPr/>
          <p:nvPr/>
        </p:nvSpPr>
        <p:spPr>
          <a:xfrm>
            <a:off x="684360" y="1779480"/>
            <a:ext cx="7877160" cy="41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92" name="矩形 10243"/>
          <p:cNvSpPr/>
          <p:nvPr/>
        </p:nvSpPr>
        <p:spPr>
          <a:xfrm>
            <a:off x="849240" y="2031840"/>
            <a:ext cx="36972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689a6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33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HY견고딕"/>
              </a:rPr>
              <a:t>Text 1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93" name="矩形 10244"/>
          <p:cNvSpPr/>
          <p:nvPr/>
        </p:nvSpPr>
        <p:spPr>
          <a:xfrm>
            <a:off x="836640" y="3057480"/>
            <a:ext cx="217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689a6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33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HY견고딕"/>
              </a:rPr>
              <a:t>Text 2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94" name="矩形 10245"/>
          <p:cNvSpPr/>
          <p:nvPr/>
        </p:nvSpPr>
        <p:spPr>
          <a:xfrm>
            <a:off x="826920" y="4110120"/>
            <a:ext cx="2451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689a6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33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HY견고딕"/>
              </a:rPr>
              <a:t>Text 3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95" name="文本框 10246"/>
          <p:cNvSpPr/>
          <p:nvPr/>
        </p:nvSpPr>
        <p:spPr>
          <a:xfrm>
            <a:off x="2700360" y="243828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9a69"/>
                </a:solidFill>
                <a:latin typeface="Verdana"/>
                <a:ea typeface="굴림"/>
              </a:rPr>
              <a:t>(Day, Month, Year)</a:t>
            </a:r>
            <a:endParaRPr b="0" lang="en-US" sz="1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96" name="矩形 10247"/>
          <p:cNvSpPr/>
          <p:nvPr/>
        </p:nvSpPr>
        <p:spPr>
          <a:xfrm>
            <a:off x="843120" y="5099040"/>
            <a:ext cx="2253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689a6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33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Verdana"/>
                <a:ea typeface="HY견고딕"/>
              </a:rPr>
              <a:t>Text 4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97" name="文本框 10248"/>
          <p:cNvSpPr/>
          <p:nvPr/>
        </p:nvSpPr>
        <p:spPr>
          <a:xfrm>
            <a:off x="2709720" y="346248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9a69"/>
                </a:solidFill>
                <a:latin typeface="Verdana"/>
                <a:ea typeface="굴림"/>
              </a:rPr>
              <a:t>(Day, Month, Year)</a:t>
            </a:r>
            <a:endParaRPr b="0" lang="en-US" sz="1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98" name="文本框 10249"/>
          <p:cNvSpPr/>
          <p:nvPr/>
        </p:nvSpPr>
        <p:spPr>
          <a:xfrm>
            <a:off x="2719440" y="454356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9a69"/>
                </a:solidFill>
                <a:latin typeface="Verdana"/>
                <a:ea typeface="굴림"/>
              </a:rPr>
              <a:t>(Day, Month, Year)</a:t>
            </a:r>
            <a:endParaRPr b="0" lang="en-US" sz="1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299" name="文本框 10250"/>
          <p:cNvSpPr/>
          <p:nvPr/>
        </p:nvSpPr>
        <p:spPr>
          <a:xfrm>
            <a:off x="2728800" y="549576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9a69"/>
                </a:solidFill>
                <a:latin typeface="Verdana"/>
                <a:ea typeface="굴림"/>
              </a:rPr>
              <a:t>(Day, Month, Year)</a:t>
            </a:r>
            <a:endParaRPr b="0" lang="en-US" sz="1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5680" y="139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Time Schedule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grpSp>
        <p:nvGrpSpPr>
          <p:cNvPr id="301" name="组合 10252"/>
          <p:cNvGrpSpPr/>
          <p:nvPr/>
        </p:nvGrpSpPr>
        <p:grpSpPr>
          <a:xfrm>
            <a:off x="4981680" y="1757520"/>
            <a:ext cx="3414600" cy="4139640"/>
            <a:chOff x="4981680" y="1757520"/>
            <a:chExt cx="3414600" cy="4139640"/>
          </a:xfrm>
        </p:grpSpPr>
        <p:grpSp>
          <p:nvGrpSpPr>
            <p:cNvPr id="302" name="组合 10253"/>
            <p:cNvGrpSpPr/>
            <p:nvPr/>
          </p:nvGrpSpPr>
          <p:grpSpPr>
            <a:xfrm>
              <a:off x="4981680" y="1774800"/>
              <a:ext cx="906480" cy="4111200"/>
              <a:chOff x="4981680" y="1774800"/>
              <a:chExt cx="906480" cy="4111200"/>
            </a:xfrm>
          </p:grpSpPr>
          <p:sp>
            <p:nvSpPr>
              <p:cNvPr id="303" name="矩形 10254"/>
              <p:cNvSpPr/>
              <p:nvPr/>
            </p:nvSpPr>
            <p:spPr>
              <a:xfrm>
                <a:off x="5705640" y="1774800"/>
                <a:ext cx="182520" cy="4109400"/>
              </a:xfrm>
              <a:prstGeom prst="rect">
                <a:avLst/>
              </a:prstGeom>
              <a:solidFill>
                <a:srgbClr val="689a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  <p:sp>
            <p:nvSpPr>
              <p:cNvPr id="304" name="矩形 10255"/>
              <p:cNvSpPr/>
              <p:nvPr/>
            </p:nvSpPr>
            <p:spPr>
              <a:xfrm>
                <a:off x="4981680" y="1777680"/>
                <a:ext cx="182520" cy="4108320"/>
              </a:xfrm>
              <a:prstGeom prst="rect">
                <a:avLst/>
              </a:prstGeom>
              <a:solidFill>
                <a:srgbClr val="689a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  <p:sp>
            <p:nvSpPr>
              <p:cNvPr id="305" name="矩形 10256"/>
              <p:cNvSpPr/>
              <p:nvPr/>
            </p:nvSpPr>
            <p:spPr>
              <a:xfrm>
                <a:off x="5349960" y="1774800"/>
                <a:ext cx="182520" cy="4109400"/>
              </a:xfrm>
              <a:prstGeom prst="rect">
                <a:avLst/>
              </a:prstGeom>
              <a:solidFill>
                <a:srgbClr val="689a6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ab2f"/>
                  </a:solidFill>
                  <a:latin typeface="Arial"/>
                </a:endParaRPr>
              </a:p>
            </p:txBody>
          </p:sp>
        </p:grpSp>
        <p:sp>
          <p:nvSpPr>
            <p:cNvPr id="306" name="矩形 10257"/>
            <p:cNvSpPr/>
            <p:nvPr/>
          </p:nvSpPr>
          <p:spPr>
            <a:xfrm>
              <a:off x="6784920" y="1760400"/>
              <a:ext cx="169920" cy="4122360"/>
            </a:xfrm>
            <a:prstGeom prst="rect">
              <a:avLst/>
            </a:prstGeom>
            <a:solidFill>
              <a:srgbClr val="689a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07" name="矩形 10258"/>
            <p:cNvSpPr/>
            <p:nvPr/>
          </p:nvSpPr>
          <p:spPr>
            <a:xfrm>
              <a:off x="6061320" y="1774800"/>
              <a:ext cx="182520" cy="4109400"/>
            </a:xfrm>
            <a:prstGeom prst="rect">
              <a:avLst/>
            </a:prstGeom>
            <a:solidFill>
              <a:srgbClr val="689a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08" name="矩形 10259"/>
            <p:cNvSpPr/>
            <p:nvPr/>
          </p:nvSpPr>
          <p:spPr>
            <a:xfrm>
              <a:off x="6429600" y="1757520"/>
              <a:ext cx="166680" cy="4125600"/>
            </a:xfrm>
            <a:prstGeom prst="rect">
              <a:avLst/>
            </a:prstGeom>
            <a:solidFill>
              <a:srgbClr val="689a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09" name="矩形 10260"/>
            <p:cNvSpPr/>
            <p:nvPr/>
          </p:nvSpPr>
          <p:spPr>
            <a:xfrm>
              <a:off x="7140600" y="1760400"/>
              <a:ext cx="182520" cy="4122360"/>
            </a:xfrm>
            <a:prstGeom prst="rect">
              <a:avLst/>
            </a:prstGeom>
            <a:solidFill>
              <a:srgbClr val="689a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10" name="矩形 10261"/>
            <p:cNvSpPr/>
            <p:nvPr/>
          </p:nvSpPr>
          <p:spPr>
            <a:xfrm>
              <a:off x="7494840" y="1757520"/>
              <a:ext cx="182520" cy="4136760"/>
            </a:xfrm>
            <a:prstGeom prst="rect">
              <a:avLst/>
            </a:prstGeom>
            <a:solidFill>
              <a:srgbClr val="689a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11" name="矩形 10262"/>
            <p:cNvSpPr/>
            <p:nvPr/>
          </p:nvSpPr>
          <p:spPr>
            <a:xfrm>
              <a:off x="7859880" y="1768320"/>
              <a:ext cx="182520" cy="4128840"/>
            </a:xfrm>
            <a:prstGeom prst="rect">
              <a:avLst/>
            </a:prstGeom>
            <a:solidFill>
              <a:srgbClr val="689a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12" name="矩形 10263"/>
            <p:cNvSpPr/>
            <p:nvPr/>
          </p:nvSpPr>
          <p:spPr>
            <a:xfrm>
              <a:off x="8228160" y="1763640"/>
              <a:ext cx="168120" cy="4128480"/>
            </a:xfrm>
            <a:prstGeom prst="rect">
              <a:avLst/>
            </a:prstGeom>
            <a:solidFill>
              <a:srgbClr val="689a6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06320" y="2749680"/>
            <a:ext cx="7866360" cy="360"/>
            <a:chOff x="706320" y="2749680"/>
            <a:chExt cx="7866360" cy="360"/>
          </a:xfrm>
        </p:grpSpPr>
        <p:sp>
          <p:nvSpPr>
            <p:cNvPr id="314" name="直接连接符 10264"/>
            <p:cNvSpPr/>
            <p:nvPr/>
          </p:nvSpPr>
          <p:spPr>
            <a:xfrm>
              <a:off x="706320" y="2749680"/>
              <a:ext cx="7866360" cy="0"/>
            </a:xfrm>
            <a:prstGeom prst="line">
              <a:avLst/>
            </a:prstGeom>
            <a:ln w="9360">
              <a:solidFill>
                <a:srgbClr val="0052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706320" y="2749680"/>
              <a:ext cx="786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19280" y="3808440"/>
            <a:ext cx="7866000" cy="360"/>
            <a:chOff x="719280" y="3808440"/>
            <a:chExt cx="7866000" cy="360"/>
          </a:xfrm>
        </p:grpSpPr>
        <p:sp>
          <p:nvSpPr>
            <p:cNvPr id="317" name="直接连接符 10265"/>
            <p:cNvSpPr/>
            <p:nvPr/>
          </p:nvSpPr>
          <p:spPr>
            <a:xfrm>
              <a:off x="719280" y="3808440"/>
              <a:ext cx="7866000" cy="0"/>
            </a:xfrm>
            <a:prstGeom prst="line">
              <a:avLst/>
            </a:prstGeom>
            <a:ln w="9360">
              <a:solidFill>
                <a:srgbClr val="0052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719280" y="3808440"/>
              <a:ext cx="786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08120" y="4881600"/>
            <a:ext cx="7866000" cy="360"/>
            <a:chOff x="708120" y="4881600"/>
            <a:chExt cx="7866000" cy="360"/>
          </a:xfrm>
        </p:grpSpPr>
        <p:sp>
          <p:nvSpPr>
            <p:cNvPr id="320" name="直接连接符 10266"/>
            <p:cNvSpPr/>
            <p:nvPr/>
          </p:nvSpPr>
          <p:spPr>
            <a:xfrm>
              <a:off x="708120" y="4881600"/>
              <a:ext cx="7866000" cy="0"/>
            </a:xfrm>
            <a:prstGeom prst="line">
              <a:avLst/>
            </a:prstGeom>
            <a:ln w="9360">
              <a:solidFill>
                <a:srgbClr val="0052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708120" y="4881600"/>
              <a:ext cx="786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sp>
        <p:nvSpPr>
          <p:cNvPr id="322" name="矩形 10267"/>
          <p:cNvSpPr/>
          <p:nvPr/>
        </p:nvSpPr>
        <p:spPr>
          <a:xfrm>
            <a:off x="4987800" y="2160720"/>
            <a:ext cx="900360" cy="195120"/>
          </a:xfrm>
          <a:prstGeom prst="rect">
            <a:avLst/>
          </a:prstGeom>
          <a:gradFill rotWithShape="0">
            <a:gsLst>
              <a:gs pos="0">
                <a:srgbClr val="764f16"/>
              </a:gs>
              <a:gs pos="50000">
                <a:srgbClr val="ffab2f"/>
              </a:gs>
              <a:gs pos="100000">
                <a:srgbClr val="764f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23" name="矩形 10268"/>
          <p:cNvSpPr/>
          <p:nvPr/>
        </p:nvSpPr>
        <p:spPr>
          <a:xfrm>
            <a:off x="5894280" y="3195720"/>
            <a:ext cx="900360" cy="195120"/>
          </a:xfrm>
          <a:prstGeom prst="rect">
            <a:avLst/>
          </a:prstGeom>
          <a:gradFill rotWithShape="0">
            <a:gsLst>
              <a:gs pos="0">
                <a:srgbClr val="764f16"/>
              </a:gs>
              <a:gs pos="50000">
                <a:srgbClr val="ffab2f"/>
              </a:gs>
              <a:gs pos="100000">
                <a:srgbClr val="764f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24" name="矩形 10269"/>
          <p:cNvSpPr/>
          <p:nvPr/>
        </p:nvSpPr>
        <p:spPr>
          <a:xfrm>
            <a:off x="6788160" y="4257720"/>
            <a:ext cx="900000" cy="195120"/>
          </a:xfrm>
          <a:prstGeom prst="rect">
            <a:avLst/>
          </a:prstGeom>
          <a:gradFill rotWithShape="0">
            <a:gsLst>
              <a:gs pos="0">
                <a:srgbClr val="764f16"/>
              </a:gs>
              <a:gs pos="50000">
                <a:srgbClr val="ffab2f"/>
              </a:gs>
              <a:gs pos="100000">
                <a:srgbClr val="764f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25" name="矩形 10270"/>
          <p:cNvSpPr/>
          <p:nvPr/>
        </p:nvSpPr>
        <p:spPr>
          <a:xfrm>
            <a:off x="7680240" y="5273640"/>
            <a:ext cx="900360" cy="195120"/>
          </a:xfrm>
          <a:prstGeom prst="rect">
            <a:avLst/>
          </a:prstGeom>
          <a:gradFill rotWithShape="0">
            <a:gsLst>
              <a:gs pos="0">
                <a:srgbClr val="764f16"/>
              </a:gs>
              <a:gs pos="50000">
                <a:srgbClr val="ffab2f"/>
              </a:gs>
              <a:gs pos="100000">
                <a:srgbClr val="764f1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76080" y="1765440"/>
            <a:ext cx="4307040" cy="360"/>
            <a:chOff x="676080" y="1765440"/>
            <a:chExt cx="4307040" cy="360"/>
          </a:xfrm>
        </p:grpSpPr>
        <p:sp>
          <p:nvSpPr>
            <p:cNvPr id="327" name="直接连接符 10271"/>
            <p:cNvSpPr/>
            <p:nvPr/>
          </p:nvSpPr>
          <p:spPr>
            <a:xfrm flipH="1">
              <a:off x="676080" y="1765440"/>
              <a:ext cx="43066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676440" y="1765440"/>
              <a:ext cx="430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17480" y="5891040"/>
            <a:ext cx="7866000" cy="360"/>
            <a:chOff x="717480" y="5891040"/>
            <a:chExt cx="7866000" cy="360"/>
          </a:xfrm>
        </p:grpSpPr>
        <p:sp>
          <p:nvSpPr>
            <p:cNvPr id="330" name="直接连接符 10272"/>
            <p:cNvSpPr/>
            <p:nvPr/>
          </p:nvSpPr>
          <p:spPr>
            <a:xfrm>
              <a:off x="717480" y="5891040"/>
              <a:ext cx="7866000" cy="0"/>
            </a:xfrm>
            <a:prstGeom prst="line">
              <a:avLst/>
            </a:prstGeom>
            <a:ln w="9360">
              <a:solidFill>
                <a:srgbClr val="0052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717480" y="5891040"/>
              <a:ext cx="786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sp>
        <p:nvSpPr>
          <p:cNvPr id="332" name="矩形 10273"/>
          <p:cNvSpPr/>
          <p:nvPr/>
        </p:nvSpPr>
        <p:spPr>
          <a:xfrm>
            <a:off x="7674120" y="1484280"/>
            <a:ext cx="88560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33" name="矩形 10274"/>
          <p:cNvSpPr/>
          <p:nvPr/>
        </p:nvSpPr>
        <p:spPr>
          <a:xfrm>
            <a:off x="6780240" y="1484280"/>
            <a:ext cx="898560" cy="297000"/>
          </a:xfrm>
          <a:prstGeom prst="rect">
            <a:avLst/>
          </a:prstGeom>
          <a:gradFill rotWithShape="0">
            <a:gsLst>
              <a:gs pos="0">
                <a:srgbClr val="689a69"/>
              </a:gs>
              <a:gs pos="100000">
                <a:srgbClr val="30473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34" name="矩形 10275"/>
          <p:cNvSpPr/>
          <p:nvPr/>
        </p:nvSpPr>
        <p:spPr>
          <a:xfrm>
            <a:off x="5892840" y="1484280"/>
            <a:ext cx="898560" cy="29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35" name="矩形 10276"/>
          <p:cNvSpPr/>
          <p:nvPr/>
        </p:nvSpPr>
        <p:spPr>
          <a:xfrm>
            <a:off x="4984920" y="1484280"/>
            <a:ext cx="907920" cy="297000"/>
          </a:xfrm>
          <a:prstGeom prst="rect">
            <a:avLst/>
          </a:prstGeom>
          <a:gradFill rotWithShape="0">
            <a:gsLst>
              <a:gs pos="0">
                <a:srgbClr val="689a69"/>
              </a:gs>
              <a:gs pos="100000">
                <a:srgbClr val="30473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36" name="矩形 10277"/>
          <p:cNvSpPr/>
          <p:nvPr/>
        </p:nvSpPr>
        <p:spPr>
          <a:xfrm>
            <a:off x="5210280" y="1492200"/>
            <a:ext cx="5094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0" lang="en-US" sz="1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37" name="矩形 10278"/>
          <p:cNvSpPr/>
          <p:nvPr/>
        </p:nvSpPr>
        <p:spPr>
          <a:xfrm>
            <a:off x="6119640" y="1506600"/>
            <a:ext cx="465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33"/>
                </a:solidFill>
                <a:latin typeface="Verdana"/>
                <a:ea typeface="굴림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굴림"/>
              </a:rPr>
              <a:t>2</a:t>
            </a:r>
            <a:endParaRPr b="0" lang="en-US" sz="1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38" name="矩形 10279"/>
          <p:cNvSpPr/>
          <p:nvPr/>
        </p:nvSpPr>
        <p:spPr>
          <a:xfrm>
            <a:off x="7015320" y="1494000"/>
            <a:ext cx="4665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0" lang="en-US" sz="1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39" name="矩形 10280"/>
          <p:cNvSpPr/>
          <p:nvPr/>
        </p:nvSpPr>
        <p:spPr>
          <a:xfrm>
            <a:off x="7920000" y="1486080"/>
            <a:ext cx="392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33"/>
                </a:solidFill>
                <a:latin typeface="Verdana"/>
                <a:ea typeface="굴림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Verdana"/>
                <a:ea typeface="굴림"/>
              </a:rPr>
              <a:t>4</a:t>
            </a:r>
            <a:endParaRPr b="0" lang="en-US" sz="1400" spc="-1" strike="noStrike">
              <a:solidFill>
                <a:srgbClr val="ffab2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圆角矩形 11265"/>
          <p:cNvSpPr/>
          <p:nvPr/>
        </p:nvSpPr>
        <p:spPr>
          <a:xfrm>
            <a:off x="550800" y="1849320"/>
            <a:ext cx="1703520" cy="3684600"/>
          </a:xfrm>
          <a:custGeom>
            <a:avLst/>
            <a:gdLst>
              <a:gd name="textAreaLeft" fmla="*/ 57960 w 1703520"/>
              <a:gd name="textAreaRight" fmla="*/ 1645560 w 1703520"/>
              <a:gd name="textAreaTop" fmla="*/ 57960 h 3684600"/>
              <a:gd name="textAreaBottom" fmla="*/ 3626640 h 3684600"/>
            </a:gdLst>
            <a:ahLst/>
            <a:rect l="textAreaLeft" t="textAreaTop" r="textAreaRight" b="textAreaBottom"/>
            <a:pathLst>
              <a:path w="21600" h="46714">
                <a:moveTo>
                  <a:pt x="2516" y="0"/>
                </a:moveTo>
                <a:arcTo wR="2516" hR="2516" stAng="16200000" swAng="-5400000"/>
                <a:lnTo>
                  <a:pt x="0" y="44198"/>
                </a:lnTo>
                <a:arcTo wR="2516" hR="2516" stAng="10800000" swAng="-5400000"/>
                <a:lnTo>
                  <a:pt x="19084" y="46714"/>
                </a:lnTo>
                <a:arcTo wR="2516" hR="2516" stAng="5400000" swAng="-5400000"/>
                <a:lnTo>
                  <a:pt x="21600" y="2516"/>
                </a:lnTo>
                <a:arcTo wR="2516" hR="2516" stAng="0" swAng="-5400000"/>
                <a:close/>
              </a:path>
            </a:pathLst>
          </a:custGeom>
          <a:gradFill rotWithShape="0">
            <a:gsLst>
              <a:gs pos="0">
                <a:srgbClr val="ffab2f"/>
              </a:gs>
              <a:gs pos="100000">
                <a:srgbClr val="764f1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41" name="矩形 11266"/>
          <p:cNvSpPr/>
          <p:nvPr/>
        </p:nvSpPr>
        <p:spPr>
          <a:xfrm>
            <a:off x="1101600" y="241632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42" name="圆角矩形 11267"/>
          <p:cNvSpPr/>
          <p:nvPr/>
        </p:nvSpPr>
        <p:spPr>
          <a:xfrm>
            <a:off x="2700360" y="1835280"/>
            <a:ext cx="1703520" cy="3684600"/>
          </a:xfrm>
          <a:custGeom>
            <a:avLst/>
            <a:gdLst>
              <a:gd name="textAreaLeft" fmla="*/ 46080 w 1703520"/>
              <a:gd name="textAreaRight" fmla="*/ 1657440 w 1703520"/>
              <a:gd name="textAreaTop" fmla="*/ 46080 h 3684600"/>
              <a:gd name="textAreaBottom" fmla="*/ 3638520 h 3684600"/>
            </a:gdLst>
            <a:ahLst/>
            <a:rect l="textAreaLeft" t="textAreaTop" r="textAreaRight" b="textAreaBottom"/>
            <a:pathLst>
              <a:path w="21600" h="46714">
                <a:moveTo>
                  <a:pt x="1998" y="0"/>
                </a:moveTo>
                <a:arcTo wR="1998" hR="1998" stAng="16200000" swAng="-5400000"/>
                <a:lnTo>
                  <a:pt x="0" y="44716"/>
                </a:lnTo>
                <a:arcTo wR="1998" hR="1998" stAng="10800000" swAng="-5400000"/>
                <a:lnTo>
                  <a:pt x="19602" y="4671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gradFill rotWithShape="0">
            <a:gsLst>
              <a:gs pos="0">
                <a:srgbClr val="98b88e"/>
              </a:gs>
              <a:gs pos="100000">
                <a:srgbClr val="46554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43" name="圆角矩形 11268"/>
          <p:cNvSpPr/>
          <p:nvPr/>
        </p:nvSpPr>
        <p:spPr>
          <a:xfrm>
            <a:off x="4849920" y="1835280"/>
            <a:ext cx="1703160" cy="368460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684600"/>
              <a:gd name="textAreaBottom" fmla="*/ 3638520 h 3684600"/>
            </a:gdLst>
            <a:ahLst/>
            <a:rect l="textAreaLeft" t="textAreaTop" r="textAreaRight" b="textAreaBottom"/>
            <a:pathLst>
              <a:path w="21600" h="46724">
                <a:moveTo>
                  <a:pt x="1998" y="0"/>
                </a:moveTo>
                <a:arcTo wR="1998" hR="1998" stAng="16200000" swAng="-5400000"/>
                <a:lnTo>
                  <a:pt x="0" y="44726"/>
                </a:lnTo>
                <a:arcTo wR="1998" hR="1998" stAng="10800000" swAng="-5400000"/>
                <a:lnTo>
                  <a:pt x="19602" y="4672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44" name="圆角矩形 11269"/>
          <p:cNvSpPr/>
          <p:nvPr/>
        </p:nvSpPr>
        <p:spPr>
          <a:xfrm>
            <a:off x="6978600" y="1835280"/>
            <a:ext cx="1703520" cy="3684600"/>
          </a:xfrm>
          <a:custGeom>
            <a:avLst/>
            <a:gdLst>
              <a:gd name="textAreaLeft" fmla="*/ 46080 w 1703520"/>
              <a:gd name="textAreaRight" fmla="*/ 1657440 w 1703520"/>
              <a:gd name="textAreaTop" fmla="*/ 46080 h 3684600"/>
              <a:gd name="textAreaBottom" fmla="*/ 3638520 h 3684600"/>
            </a:gdLst>
            <a:ahLst/>
            <a:rect l="textAreaLeft" t="textAreaTop" r="textAreaRight" b="textAreaBottom"/>
            <a:pathLst>
              <a:path w="21600" h="46714">
                <a:moveTo>
                  <a:pt x="1998" y="0"/>
                </a:moveTo>
                <a:arcTo wR="1998" hR="1998" stAng="16200000" swAng="-5400000"/>
                <a:lnTo>
                  <a:pt x="0" y="44716"/>
                </a:lnTo>
                <a:arcTo wR="1998" hR="1998" stAng="10800000" swAng="-5400000"/>
                <a:lnTo>
                  <a:pt x="19602" y="4671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gradFill rotWithShape="0">
            <a:gsLst>
              <a:gs pos="0">
                <a:srgbClr val="689a69"/>
              </a:gs>
              <a:gs pos="100000">
                <a:srgbClr val="30473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45" name="矩形 11270"/>
          <p:cNvSpPr/>
          <p:nvPr/>
        </p:nvSpPr>
        <p:spPr>
          <a:xfrm>
            <a:off x="3254400" y="241632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46" name="矩形 11271"/>
          <p:cNvSpPr/>
          <p:nvPr/>
        </p:nvSpPr>
        <p:spPr>
          <a:xfrm>
            <a:off x="5408640" y="242892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47" name="矩形 11272"/>
          <p:cNvSpPr/>
          <p:nvPr/>
        </p:nvSpPr>
        <p:spPr>
          <a:xfrm>
            <a:off x="7524720" y="242712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ecd2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ffab2f"/>
              </a:solidFill>
              <a:latin typeface="Arial"/>
            </a:endParaRPr>
          </a:p>
        </p:txBody>
      </p:sp>
      <p:grpSp>
        <p:nvGrpSpPr>
          <p:cNvPr id="348" name="组合 11273"/>
          <p:cNvGrpSpPr/>
          <p:nvPr/>
        </p:nvGrpSpPr>
        <p:grpSpPr>
          <a:xfrm>
            <a:off x="2343240" y="3643200"/>
            <a:ext cx="282240" cy="619200"/>
            <a:chOff x="2343240" y="3643200"/>
            <a:chExt cx="282240" cy="619200"/>
          </a:xfrm>
        </p:grpSpPr>
        <p:sp>
          <p:nvSpPr>
            <p:cNvPr id="349" name="等腰三角形 11274"/>
            <p:cNvSpPr/>
            <p:nvPr/>
          </p:nvSpPr>
          <p:spPr>
            <a:xfrm rot="5400000">
              <a:off x="2232360" y="3869280"/>
              <a:ext cx="619200" cy="166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64f16"/>
                </a:gs>
                <a:gs pos="100000">
                  <a:srgbClr val="ffab2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50" name="矩形 11275"/>
            <p:cNvSpPr/>
            <p:nvPr/>
          </p:nvSpPr>
          <p:spPr>
            <a:xfrm>
              <a:off x="2398680" y="3655800"/>
              <a:ext cx="42840" cy="600120"/>
            </a:xfrm>
            <a:prstGeom prst="rect">
              <a:avLst/>
            </a:prstGeom>
            <a:gradFill rotWithShape="0">
              <a:gsLst>
                <a:gs pos="0">
                  <a:srgbClr val="764f16"/>
                </a:gs>
                <a:gs pos="100000">
                  <a:srgbClr val="ffab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51" name="矩形 11276"/>
            <p:cNvSpPr/>
            <p:nvPr/>
          </p:nvSpPr>
          <p:spPr>
            <a:xfrm>
              <a:off x="2343240" y="3657600"/>
              <a:ext cx="42840" cy="600120"/>
            </a:xfrm>
            <a:prstGeom prst="rect">
              <a:avLst/>
            </a:prstGeom>
            <a:gradFill rotWithShape="0">
              <a:gsLst>
                <a:gs pos="0">
                  <a:srgbClr val="764f16"/>
                </a:gs>
                <a:gs pos="100000">
                  <a:srgbClr val="ffab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352" name="组合 11277"/>
          <p:cNvGrpSpPr/>
          <p:nvPr/>
        </p:nvGrpSpPr>
        <p:grpSpPr>
          <a:xfrm>
            <a:off x="4489560" y="3643200"/>
            <a:ext cx="282240" cy="619200"/>
            <a:chOff x="4489560" y="3643200"/>
            <a:chExt cx="282240" cy="619200"/>
          </a:xfrm>
        </p:grpSpPr>
        <p:sp>
          <p:nvSpPr>
            <p:cNvPr id="353" name="等腰三角形 11278"/>
            <p:cNvSpPr/>
            <p:nvPr/>
          </p:nvSpPr>
          <p:spPr>
            <a:xfrm rot="5400000">
              <a:off x="4378680" y="3869280"/>
              <a:ext cx="619200" cy="166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65542"/>
                </a:gs>
                <a:gs pos="100000">
                  <a:srgbClr val="98b88e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54" name="矩形 11279"/>
            <p:cNvSpPr/>
            <p:nvPr/>
          </p:nvSpPr>
          <p:spPr>
            <a:xfrm>
              <a:off x="4545000" y="3655800"/>
              <a:ext cx="42840" cy="600120"/>
            </a:xfrm>
            <a:prstGeom prst="rect">
              <a:avLst/>
            </a:prstGeom>
            <a:gradFill rotWithShape="0">
              <a:gsLst>
                <a:gs pos="0">
                  <a:srgbClr val="465542"/>
                </a:gs>
                <a:gs pos="100000">
                  <a:srgbClr val="98b8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55" name="矩形 11280"/>
            <p:cNvSpPr/>
            <p:nvPr/>
          </p:nvSpPr>
          <p:spPr>
            <a:xfrm>
              <a:off x="4489560" y="3657600"/>
              <a:ext cx="42840" cy="600120"/>
            </a:xfrm>
            <a:prstGeom prst="rect">
              <a:avLst/>
            </a:prstGeom>
            <a:gradFill rotWithShape="0">
              <a:gsLst>
                <a:gs pos="0">
                  <a:srgbClr val="465542"/>
                </a:gs>
                <a:gs pos="100000">
                  <a:srgbClr val="98b8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356" name="组合 11281"/>
          <p:cNvGrpSpPr/>
          <p:nvPr/>
        </p:nvGrpSpPr>
        <p:grpSpPr>
          <a:xfrm>
            <a:off x="6632640" y="3656160"/>
            <a:ext cx="282240" cy="618840"/>
            <a:chOff x="6632640" y="3656160"/>
            <a:chExt cx="282240" cy="618840"/>
          </a:xfrm>
        </p:grpSpPr>
        <p:sp>
          <p:nvSpPr>
            <p:cNvPr id="357" name="等腰三角形 11282"/>
            <p:cNvSpPr/>
            <p:nvPr/>
          </p:nvSpPr>
          <p:spPr>
            <a:xfrm rot="5400000">
              <a:off x="6522120" y="3882240"/>
              <a:ext cx="618840" cy="166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58" name="矩形 11283"/>
            <p:cNvSpPr/>
            <p:nvPr/>
          </p:nvSpPr>
          <p:spPr>
            <a:xfrm>
              <a:off x="6688080" y="3668400"/>
              <a:ext cx="42840" cy="5997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59" name="矩形 11284"/>
            <p:cNvSpPr/>
            <p:nvPr/>
          </p:nvSpPr>
          <p:spPr>
            <a:xfrm>
              <a:off x="6632640" y="3670200"/>
              <a:ext cx="42840" cy="5997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sp>
        <p:nvSpPr>
          <p:cNvPr id="360" name="椭圆 11285"/>
          <p:cNvSpPr/>
          <p:nvPr/>
        </p:nvSpPr>
        <p:spPr>
          <a:xfrm>
            <a:off x="992160" y="2343240"/>
            <a:ext cx="790560" cy="790560"/>
          </a:xfrm>
          <a:prstGeom prst="ellipse">
            <a:avLst/>
          </a:prstGeom>
          <a:noFill/>
          <a:ln w="12708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61" name="椭圆 11286"/>
          <p:cNvSpPr/>
          <p:nvPr/>
        </p:nvSpPr>
        <p:spPr>
          <a:xfrm>
            <a:off x="3154320" y="2338560"/>
            <a:ext cx="790560" cy="790560"/>
          </a:xfrm>
          <a:prstGeom prst="ellipse">
            <a:avLst/>
          </a:prstGeom>
          <a:noFill/>
          <a:ln w="12708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62" name="椭圆 11287"/>
          <p:cNvSpPr/>
          <p:nvPr/>
        </p:nvSpPr>
        <p:spPr>
          <a:xfrm>
            <a:off x="5302080" y="2333520"/>
            <a:ext cx="790920" cy="790560"/>
          </a:xfrm>
          <a:prstGeom prst="ellipse">
            <a:avLst/>
          </a:prstGeom>
          <a:noFill/>
          <a:ln w="127080">
            <a:solidFill>
              <a:srgbClr val="ffffff">
                <a:alpha val="6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63" name="椭圆 11288"/>
          <p:cNvSpPr/>
          <p:nvPr/>
        </p:nvSpPr>
        <p:spPr>
          <a:xfrm>
            <a:off x="7450200" y="2328840"/>
            <a:ext cx="790560" cy="790560"/>
          </a:xfrm>
          <a:prstGeom prst="ellipse">
            <a:avLst/>
          </a:prstGeom>
          <a:noFill/>
          <a:ln w="127080">
            <a:solidFill>
              <a:srgbClr val="ffffff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64" name="矩形 11289"/>
          <p:cNvSpPr/>
          <p:nvPr/>
        </p:nvSpPr>
        <p:spPr>
          <a:xfrm>
            <a:off x="452520" y="4286160"/>
            <a:ext cx="1828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ype A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65" name="矩形 11290"/>
          <p:cNvSpPr/>
          <p:nvPr/>
        </p:nvSpPr>
        <p:spPr>
          <a:xfrm>
            <a:off x="2595600" y="4286160"/>
            <a:ext cx="1828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ype B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66" name="矩形 11291"/>
          <p:cNvSpPr/>
          <p:nvPr/>
        </p:nvSpPr>
        <p:spPr>
          <a:xfrm>
            <a:off x="4759200" y="4299120"/>
            <a:ext cx="1828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ype C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67" name="矩形 11292"/>
          <p:cNvSpPr/>
          <p:nvPr/>
        </p:nvSpPr>
        <p:spPr>
          <a:xfrm>
            <a:off x="6953400" y="4286160"/>
            <a:ext cx="1828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ype D</a:t>
            </a:r>
            <a:endParaRPr b="0" lang="en-US" sz="2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5680" y="139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Click to edit Title style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  <p:sp>
        <p:nvSpPr>
          <p:cNvPr id="369" name="圆角矩形 11294"/>
          <p:cNvSpPr/>
          <p:nvPr/>
        </p:nvSpPr>
        <p:spPr>
          <a:xfrm>
            <a:off x="546120" y="5559480"/>
            <a:ext cx="1703520" cy="695160"/>
          </a:xfrm>
          <a:prstGeom prst="roundRect">
            <a:avLst>
              <a:gd name="adj" fmla="val 19407"/>
            </a:avLst>
          </a:prstGeom>
          <a:gradFill rotWithShape="0">
            <a:gsLst>
              <a:gs pos="0">
                <a:srgbClr val="ffab2f">
                  <a:alpha val="3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70" name="圆角矩形 11295"/>
          <p:cNvSpPr/>
          <p:nvPr/>
        </p:nvSpPr>
        <p:spPr>
          <a:xfrm>
            <a:off x="2692440" y="5540400"/>
            <a:ext cx="1703520" cy="695160"/>
          </a:xfrm>
          <a:prstGeom prst="roundRect">
            <a:avLst>
              <a:gd name="adj" fmla="val 19407"/>
            </a:avLst>
          </a:prstGeom>
          <a:gradFill rotWithShape="0">
            <a:gsLst>
              <a:gs pos="0">
                <a:srgbClr val="98b88e">
                  <a:alpha val="3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71" name="圆角矩形 11296"/>
          <p:cNvSpPr/>
          <p:nvPr/>
        </p:nvSpPr>
        <p:spPr>
          <a:xfrm>
            <a:off x="4853160" y="5535720"/>
            <a:ext cx="1703160" cy="695160"/>
          </a:xfrm>
          <a:prstGeom prst="roundRect">
            <a:avLst>
              <a:gd name="adj" fmla="val 19407"/>
            </a:avLst>
          </a:prstGeom>
          <a:gradFill rotWithShape="0">
            <a:gsLst>
              <a:gs pos="0">
                <a:srgbClr val="333333">
                  <a:alpha val="35294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72" name="圆角矩形 11297"/>
          <p:cNvSpPr/>
          <p:nvPr/>
        </p:nvSpPr>
        <p:spPr>
          <a:xfrm>
            <a:off x="6985080" y="5530680"/>
            <a:ext cx="1703160" cy="1009800"/>
          </a:xfrm>
          <a:prstGeom prst="roundRect">
            <a:avLst>
              <a:gd name="adj" fmla="val 19407"/>
            </a:avLst>
          </a:prstGeom>
          <a:gradFill rotWithShape="0">
            <a:gsLst>
              <a:gs pos="0">
                <a:srgbClr val="689a69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73" name="文本框 11298"/>
          <p:cNvSpPr/>
          <p:nvPr/>
        </p:nvSpPr>
        <p:spPr>
          <a:xfrm>
            <a:off x="755640" y="1341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5200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5200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ab2f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ffab2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任意多边形 12289"/>
          <p:cNvSpPr/>
          <p:nvPr/>
        </p:nvSpPr>
        <p:spPr>
          <a:xfrm>
            <a:off x="4510080" y="236052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689a69"/>
              </a:gs>
              <a:gs pos="100000">
                <a:srgbClr val="d2ecd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75" name="任意多边形 12290"/>
          <p:cNvSpPr/>
          <p:nvPr/>
        </p:nvSpPr>
        <p:spPr>
          <a:xfrm>
            <a:off x="3751200" y="3193920"/>
            <a:ext cx="2691000" cy="65592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005200"/>
              </a:gs>
              <a:gs pos="100000">
                <a:srgbClr val="d2ecd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76" name="任意多边形 12291"/>
          <p:cNvSpPr/>
          <p:nvPr/>
        </p:nvSpPr>
        <p:spPr>
          <a:xfrm>
            <a:off x="2968560" y="3954600"/>
            <a:ext cx="4049640" cy="105696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304731"/>
              </a:gs>
              <a:gs pos="100000">
                <a:srgbClr val="689a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77" name="任意多边形 12292"/>
          <p:cNvSpPr/>
          <p:nvPr/>
        </p:nvSpPr>
        <p:spPr>
          <a:xfrm>
            <a:off x="2327400" y="3967200"/>
            <a:ext cx="1358640" cy="205092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689a69"/>
              </a:gs>
              <a:gs pos="100000">
                <a:srgbClr val="30473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78" name="任意多边形 12293"/>
          <p:cNvSpPr/>
          <p:nvPr/>
        </p:nvSpPr>
        <p:spPr>
          <a:xfrm>
            <a:off x="3071880" y="318456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d2ecd2"/>
              </a:gs>
              <a:gs pos="100000">
                <a:srgbClr val="0052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79" name="任意多边形 12294"/>
          <p:cNvSpPr/>
          <p:nvPr/>
        </p:nvSpPr>
        <p:spPr>
          <a:xfrm>
            <a:off x="4653000" y="160344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ecd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80" name="任意多边形 12295"/>
          <p:cNvSpPr/>
          <p:nvPr/>
        </p:nvSpPr>
        <p:spPr>
          <a:xfrm>
            <a:off x="3843360" y="2362320"/>
            <a:ext cx="966600" cy="134280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d2ecd2"/>
              </a:gs>
              <a:gs pos="100000">
                <a:srgbClr val="689a6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grpSp>
        <p:nvGrpSpPr>
          <p:cNvPr id="381" name="组合 12296"/>
          <p:cNvGrpSpPr/>
          <p:nvPr/>
        </p:nvGrpSpPr>
        <p:grpSpPr>
          <a:xfrm>
            <a:off x="1642680" y="1616040"/>
            <a:ext cx="3667320" cy="539640"/>
            <a:chOff x="1642680" y="1616040"/>
            <a:chExt cx="3667320" cy="539640"/>
          </a:xfrm>
        </p:grpSpPr>
        <p:sp>
          <p:nvSpPr>
            <p:cNvPr id="382" name="矩形 12297"/>
            <p:cNvSpPr/>
            <p:nvPr/>
          </p:nvSpPr>
          <p:spPr>
            <a:xfrm flipH="1">
              <a:off x="1642320" y="1622520"/>
              <a:ext cx="90360" cy="533160"/>
            </a:xfrm>
            <a:prstGeom prst="rect">
              <a:avLst/>
            </a:prstGeom>
            <a:solidFill>
              <a:srgbClr val="ffa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83" name="矩形 12298"/>
            <p:cNvSpPr/>
            <p:nvPr/>
          </p:nvSpPr>
          <p:spPr>
            <a:xfrm flipH="1">
              <a:off x="1736640" y="1616040"/>
              <a:ext cx="3573360" cy="533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c0c0c0">
                    <a:alpha val="6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sp>
        <p:nvSpPr>
          <p:cNvPr id="384" name="矩形 12299"/>
          <p:cNvSpPr/>
          <p:nvPr/>
        </p:nvSpPr>
        <p:spPr>
          <a:xfrm>
            <a:off x="3048120" y="1658880"/>
            <a:ext cx="1841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Arial"/>
                <a:ea typeface="굴림"/>
              </a:rPr>
              <a:t>Text 4</a:t>
            </a:r>
            <a:endParaRPr b="0" lang="en-US" sz="2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85" name="任意多边形 12300"/>
          <p:cNvSpPr/>
          <p:nvPr/>
        </p:nvSpPr>
        <p:spPr>
          <a:xfrm>
            <a:off x="4862520" y="160344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ecd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grpSp>
        <p:nvGrpSpPr>
          <p:cNvPr id="386" name="组合 12301"/>
          <p:cNvGrpSpPr/>
          <p:nvPr/>
        </p:nvGrpSpPr>
        <p:grpSpPr>
          <a:xfrm>
            <a:off x="1636200" y="2695680"/>
            <a:ext cx="3673440" cy="533160"/>
            <a:chOff x="1636200" y="2695680"/>
            <a:chExt cx="3673440" cy="533160"/>
          </a:xfrm>
        </p:grpSpPr>
        <p:sp>
          <p:nvSpPr>
            <p:cNvPr id="387" name="矩形 12302"/>
            <p:cNvSpPr/>
            <p:nvPr/>
          </p:nvSpPr>
          <p:spPr>
            <a:xfrm flipH="1">
              <a:off x="1708920" y="2695680"/>
              <a:ext cx="3600360" cy="5331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c0c0c0">
                    <a:alpha val="6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88" name="矩形 12303"/>
            <p:cNvSpPr/>
            <p:nvPr/>
          </p:nvSpPr>
          <p:spPr>
            <a:xfrm flipH="1">
              <a:off x="1635840" y="2695680"/>
              <a:ext cx="90360" cy="533160"/>
            </a:xfrm>
            <a:prstGeom prst="rect">
              <a:avLst/>
            </a:prstGeom>
            <a:solidFill>
              <a:srgbClr val="ffa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389" name="组合 12304"/>
          <p:cNvGrpSpPr/>
          <p:nvPr/>
        </p:nvGrpSpPr>
        <p:grpSpPr>
          <a:xfrm>
            <a:off x="1626840" y="3838680"/>
            <a:ext cx="3683520" cy="533160"/>
            <a:chOff x="1626840" y="3838680"/>
            <a:chExt cx="3683520" cy="533160"/>
          </a:xfrm>
        </p:grpSpPr>
        <p:sp>
          <p:nvSpPr>
            <p:cNvPr id="390" name="矩形 12305"/>
            <p:cNvSpPr/>
            <p:nvPr/>
          </p:nvSpPr>
          <p:spPr>
            <a:xfrm flipH="1">
              <a:off x="1709640" y="3838680"/>
              <a:ext cx="3600720" cy="5331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c0c0c0">
                    <a:alpha val="6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91" name="矩形 12306"/>
            <p:cNvSpPr/>
            <p:nvPr/>
          </p:nvSpPr>
          <p:spPr>
            <a:xfrm flipH="1">
              <a:off x="1626480" y="3838680"/>
              <a:ext cx="90360" cy="533160"/>
            </a:xfrm>
            <a:prstGeom prst="rect">
              <a:avLst/>
            </a:prstGeom>
            <a:solidFill>
              <a:srgbClr val="ffa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grpSp>
        <p:nvGrpSpPr>
          <p:cNvPr id="392" name="组合 12307"/>
          <p:cNvGrpSpPr/>
          <p:nvPr/>
        </p:nvGrpSpPr>
        <p:grpSpPr>
          <a:xfrm>
            <a:off x="1617480" y="5022720"/>
            <a:ext cx="3692520" cy="539640"/>
            <a:chOff x="1617480" y="5022720"/>
            <a:chExt cx="3692520" cy="539640"/>
          </a:xfrm>
        </p:grpSpPr>
        <p:sp>
          <p:nvSpPr>
            <p:cNvPr id="393" name="矩形 12308"/>
            <p:cNvSpPr/>
            <p:nvPr/>
          </p:nvSpPr>
          <p:spPr>
            <a:xfrm flipH="1">
              <a:off x="1709280" y="5022720"/>
              <a:ext cx="3600360" cy="5335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c0c0c0">
                    <a:alpha val="6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  <p:sp>
          <p:nvSpPr>
            <p:cNvPr id="394" name="矩形 12309"/>
            <p:cNvSpPr/>
            <p:nvPr/>
          </p:nvSpPr>
          <p:spPr>
            <a:xfrm flipH="1">
              <a:off x="1617120" y="5029200"/>
              <a:ext cx="90360" cy="533160"/>
            </a:xfrm>
            <a:prstGeom prst="rect">
              <a:avLst/>
            </a:prstGeom>
            <a:solidFill>
              <a:srgbClr val="ffa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ab2f"/>
                </a:solidFill>
                <a:latin typeface="Arial"/>
              </a:endParaRPr>
            </a:p>
          </p:txBody>
        </p:sp>
      </p:grpSp>
      <p:sp>
        <p:nvSpPr>
          <p:cNvPr id="395" name="矩形 12310"/>
          <p:cNvSpPr/>
          <p:nvPr/>
        </p:nvSpPr>
        <p:spPr>
          <a:xfrm>
            <a:off x="1836720" y="5097600"/>
            <a:ext cx="15699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Arial"/>
                <a:ea typeface="굴림"/>
              </a:rPr>
              <a:t>Text 1</a:t>
            </a:r>
            <a:endParaRPr b="0" lang="en-US" sz="2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96" name="任意多边形 12311"/>
          <p:cNvSpPr/>
          <p:nvPr/>
        </p:nvSpPr>
        <p:spPr>
          <a:xfrm>
            <a:off x="3176640" y="478944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689a69"/>
              </a:gs>
              <a:gs pos="100000">
                <a:srgbClr val="3047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97" name="矩形 12312"/>
          <p:cNvSpPr/>
          <p:nvPr/>
        </p:nvSpPr>
        <p:spPr>
          <a:xfrm>
            <a:off x="2249640" y="3879720"/>
            <a:ext cx="1643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Arial"/>
                <a:ea typeface="굴림"/>
              </a:rPr>
              <a:t>Text 2</a:t>
            </a:r>
            <a:endParaRPr b="0" lang="en-US" sz="2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98" name="任意多边形 12313"/>
          <p:cNvSpPr/>
          <p:nvPr/>
        </p:nvSpPr>
        <p:spPr>
          <a:xfrm>
            <a:off x="3738600" y="3679920"/>
            <a:ext cx="3160800" cy="114912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005200"/>
              </a:gs>
              <a:gs pos="100000">
                <a:srgbClr val="d2ecd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399" name="矩形 12314"/>
          <p:cNvSpPr/>
          <p:nvPr/>
        </p:nvSpPr>
        <p:spPr>
          <a:xfrm>
            <a:off x="2562120" y="2759040"/>
            <a:ext cx="18781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Arial"/>
                <a:ea typeface="굴림"/>
              </a:rPr>
              <a:t>Text 3</a:t>
            </a:r>
            <a:endParaRPr b="0" lang="en-US" sz="22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00" name="任意多边形 12315"/>
          <p:cNvSpPr/>
          <p:nvPr/>
        </p:nvSpPr>
        <p:spPr>
          <a:xfrm>
            <a:off x="4273560" y="2610000"/>
            <a:ext cx="209088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d2ecd2"/>
              </a:gs>
              <a:gs pos="100000">
                <a:srgbClr val="689a6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01" name="矩形 12316"/>
          <p:cNvSpPr/>
          <p:nvPr/>
        </p:nvSpPr>
        <p:spPr>
          <a:xfrm>
            <a:off x="5037120" y="1928880"/>
            <a:ext cx="59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89a69"/>
                </a:solidFill>
                <a:latin typeface="Arial"/>
                <a:ea typeface="굴림"/>
              </a:rPr>
              <a:t>D</a:t>
            </a:r>
            <a:endParaRPr b="0" lang="en-US" sz="20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02" name="矩形 12317"/>
          <p:cNvSpPr/>
          <p:nvPr/>
        </p:nvSpPr>
        <p:spPr>
          <a:xfrm>
            <a:off x="5046840" y="2954160"/>
            <a:ext cx="5936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굴림"/>
              </a:rPr>
              <a:t>C</a:t>
            </a:r>
            <a:endParaRPr b="0" lang="en-US" sz="26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03" name="矩形 12318"/>
          <p:cNvSpPr/>
          <p:nvPr/>
        </p:nvSpPr>
        <p:spPr>
          <a:xfrm>
            <a:off x="4930920" y="3897360"/>
            <a:ext cx="842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굴림"/>
              </a:rPr>
              <a:t>B</a:t>
            </a:r>
            <a:endParaRPr b="0" lang="en-US" sz="34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04" name="矩形 12319"/>
          <p:cNvSpPr/>
          <p:nvPr/>
        </p:nvSpPr>
        <p:spPr>
          <a:xfrm>
            <a:off x="4689360" y="4986360"/>
            <a:ext cx="1314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Arial"/>
                <a:ea typeface="굴림"/>
              </a:rPr>
              <a:t>A</a:t>
            </a:r>
            <a:endParaRPr b="0" lang="en-US" sz="4600" spc="-1" strike="noStrike">
              <a:solidFill>
                <a:srgbClr val="ffab2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5680" y="139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005200"/>
                </a:solidFill>
                <a:latin typeface="Arial"/>
                <a:ea typeface="굴림"/>
              </a:rPr>
              <a:t>Click to edit Title style</a:t>
            </a:r>
            <a:endParaRPr b="1" lang="en-US" sz="3200" spc="-1" strike="noStrike">
              <a:solidFill>
                <a:srgbClr val="0052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9:00Z</dcterms:modified>
  <cp:revision>5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