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679A-BE4F-41DE-B33E-429BC3B9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ED74-D879-4274-A3E2-52161D7A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6609-6628-47EE-A6BF-A37879F76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55EC-C613-4359-A2C9-756983A2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06F0-3F0E-42A1-9248-F00FA1B6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743F-4CED-46A4-B390-BE386A57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0B9F-4639-40F6-B462-7E6B4F8D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FE54-B10F-4748-ABB0-3C4C11DA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B8E9-3CBB-4B8B-88FC-4D300A6D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C9C6-41DB-4E75-A4D7-C22AAE3A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0B39-BC2E-4442-8CD0-DD2D2F32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1C43-B150-4993-9006-2A57EC8F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2938-131A-421E-BD15-DD8C33B75C2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4724280" cy="116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baseline="12000">
                <a:solidFill>
                  <a:srgbClr val="ff0000"/>
                </a:solidFill>
                <a:latin typeface="华文新魏"/>
                <a:ea typeface="华文新魏"/>
              </a:rPr>
              <a:t>工作汇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nowdreams.mp3" descr=""/>
          <p:cNvPicPr/>
          <p:nvPr/>
        </p:nvPicPr>
        <p:blipFill>
          <a:blip r:embed="rId2"/>
          <a:stretch/>
        </p:blipFill>
        <p:spPr>
          <a:xfrm>
            <a:off x="86868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3075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076"/>
          <p:cNvSpPr/>
          <p:nvPr/>
        </p:nvSpPr>
        <p:spPr>
          <a:xfrm>
            <a:off x="2057040" y="141300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清爽商务工作计划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组合 4097"/>
          <p:cNvGrpSpPr/>
          <p:nvPr/>
        </p:nvGrpSpPr>
        <p:grpSpPr>
          <a:xfrm>
            <a:off x="0" y="0"/>
            <a:ext cx="3886200" cy="6751800"/>
            <a:chOff x="0" y="0"/>
            <a:chExt cx="3886200" cy="6751800"/>
          </a:xfrm>
        </p:grpSpPr>
        <p:pic>
          <p:nvPicPr>
            <p:cNvPr id="46" name="图片 4098" descr="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886200" cy="675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平行四边形 4099"/>
            <p:cNvSpPr/>
            <p:nvPr/>
          </p:nvSpPr>
          <p:spPr>
            <a:xfrm rot="1095000">
              <a:off x="839520" y="444600"/>
              <a:ext cx="2666880" cy="1143000"/>
            </a:xfrm>
            <a:prstGeom prst="parallelogram">
              <a:avLst>
                <a:gd name="adj" fmla="val 12822"/>
              </a:avLst>
            </a:prstGeom>
            <a:gradFill rotWithShape="0">
              <a:gsLst>
                <a:gs pos="0">
                  <a:srgbClr val="ff9900">
                    <a:alpha val="48235"/>
                  </a:srgbClr>
                </a:gs>
                <a:gs pos="100000">
                  <a:srgbClr val="ffdfa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总  结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Rectangle 3"/>
          <p:cNvSpPr/>
          <p:nvPr/>
        </p:nvSpPr>
        <p:spPr>
          <a:xfrm>
            <a:off x="2209680" y="2514600"/>
            <a:ext cx="6705720" cy="32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回顾过去一学期的工作，我系团总支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生会在校团委的正确领导下，以“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面提高青年学生综合素质”为宗旨，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服务育人为中心”的主导思想，努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高青年学生两种意识，即“服务意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“公德意识”；把深入细致的思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政治教育与严格的日常管理结合起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切实加强团总支学生会的自身组织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，努力提高团员的先锋模范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101"/>
          <p:cNvSpPr/>
          <p:nvPr/>
        </p:nvSpPr>
        <p:spPr>
          <a:xfrm>
            <a:off x="3852720" y="105264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9000"/>
                            </p:stCondLst>
                            <p:childTnLst>
                              <p:par>
                                <p:cTn id="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0"/>
                            </p:stCondLst>
                            <p:childTnLst>
                              <p:par>
                                <p:cTn id="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7000"/>
                            </p:stCondLst>
                            <p:childTnLst>
                              <p:par>
                                <p:cTn id="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35BD-1208-4781-B6C6-4626B8EE377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流程图: 可选过程 5121"/>
          <p:cNvSpPr/>
          <p:nvPr/>
        </p:nvSpPr>
        <p:spPr>
          <a:xfrm>
            <a:off x="1295280" y="1600200"/>
            <a:ext cx="2971800" cy="762120"/>
          </a:xfrm>
          <a:prstGeom prst="flowChartAlternateProcess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二、团的组织建设、制度建设工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流程图: 可选过程 5122"/>
          <p:cNvSpPr/>
          <p:nvPr/>
        </p:nvSpPr>
        <p:spPr>
          <a:xfrm>
            <a:off x="304920" y="380880"/>
            <a:ext cx="2971800" cy="762120"/>
          </a:xfrm>
          <a:prstGeom prst="flowChartAlternateProcess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一、思想政治教育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流程图: 可选过程 5123"/>
          <p:cNvSpPr/>
          <p:nvPr/>
        </p:nvSpPr>
        <p:spPr>
          <a:xfrm>
            <a:off x="5562720" y="5638680"/>
            <a:ext cx="2971800" cy="762120"/>
          </a:xfrm>
          <a:prstGeom prst="flowChartAlternateProcess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五、宣传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流程图: 可选过程 5124"/>
          <p:cNvSpPr/>
          <p:nvPr/>
        </p:nvSpPr>
        <p:spPr>
          <a:xfrm>
            <a:off x="2514600" y="2819520"/>
            <a:ext cx="2971800" cy="761760"/>
          </a:xfrm>
          <a:prstGeom prst="flowChartAlternateProcess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三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团的日常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流程图: 可选过程 5125"/>
          <p:cNvSpPr/>
          <p:nvPr/>
        </p:nvSpPr>
        <p:spPr>
          <a:xfrm>
            <a:off x="3886200" y="4267080"/>
            <a:ext cx="2971800" cy="762120"/>
          </a:xfrm>
          <a:prstGeom prst="flowChartAlternateProcess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四、校园文化活动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4T06:59:3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6:33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  <property fmtid="{D5CDD505-2E9C-101B-9397-08002B2CF9AE}" pid="3" name="Version">
    <vt:r8>1</vt:r8>
  </property>
</Properties>
</file>