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5C4-AA0A-4D28-90C5-1A33257C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024-5696-4A02-BB5E-871A120B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C94-1FE4-43F3-BF2E-BA1FD661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866-B21B-4AD8-9642-1175977E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A144-1D99-4E48-A4D8-1933B42F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A7A0-FD3E-4C18-AA9F-DE03067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E10E-BC80-4077-ACB0-5F7F945A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7EFE-8AAF-464D-9789-0068C81A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B902-6CDF-4B34-BECA-9BB28919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05EB-4BAC-4060-A0F8-20ABF105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9A9A-C361-4151-ABD8-285D160B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23A-923E-4B55-B1B5-37F3EA0C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5409-B8BB-41F1-B2EB-9640701D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C6E7-DBD4-4490-A26D-0BEB8E90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6682-1053-49F0-8A9F-06E41F00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10AD-4DCF-4050-ACBB-9921C23A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ADD6-2462-4491-AC8A-F2B027B1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1D0-501D-4B05-94DB-A1FC4638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064-5174-40FF-96C9-5226DF0E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BA0-CA13-44E3-ADA8-5A7FFE3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FFF-8994-4BD4-A169-3D6AD8C6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04B-1E5E-4FFE-96C1-9CF9DCD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BEC-A00D-4F1E-8A10-23D6051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B0C-EDED-4515-88D5-D7054CD5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A8E1-6A64-4439-BAFD-50450DA1F3D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F15A-E220-497D-AE3E-9144D6B5EF7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31DD-946E-4DE6-A86A-BF77AEBB49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rcRect l="0" t="27890" r="0" b="17072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6349680" y="5084640"/>
            <a:ext cx="19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时    间：</a:t>
            </a:r>
            <a:r>
              <a:rPr b="0" lang="zh-CN" sz="2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报告人：</a:t>
            </a:r>
            <a:r>
              <a:rPr b="0" lang="en-US" sz="2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351880" y="3573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雅个人工作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锦瑟无端五十弦，一弦一柱思华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2448000" y="2762280"/>
            <a:ext cx="75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-103320" y="836640"/>
            <a:ext cx="93553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773360"/>
          <a:ext cx="8496000" cy="3983040"/>
        </p:xfrm>
        <a:graphic>
          <a:graphicData uri="http://schemas.openxmlformats.org/drawingml/2006/table">
            <a:tbl>
              <a:tblPr/>
              <a:tblGrid>
                <a:gridCol w="1125000"/>
                <a:gridCol w="1067040"/>
                <a:gridCol w="1066680"/>
                <a:gridCol w="873360"/>
                <a:gridCol w="871200"/>
                <a:gridCol w="873360"/>
                <a:gridCol w="873000"/>
                <a:gridCol w="873000"/>
                <a:gridCol w="873360"/>
              </a:tblGrid>
              <a:tr h="32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一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33.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6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9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68.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87.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二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18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22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3.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2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8.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三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3.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2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86.2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3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3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6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5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5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0.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0.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.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.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7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8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.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.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9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.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.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0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87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3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.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.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0.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5.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5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5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4.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4.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四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5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43.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4.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15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</a:tr>
            </a:tbl>
          </a:graphicData>
        </a:graphic>
      </p:graphicFrame>
      <p:sp>
        <p:nvSpPr>
          <p:cNvPr id="92" name="文本框 4246"/>
          <p:cNvSpPr/>
          <p:nvPr/>
        </p:nvSpPr>
        <p:spPr>
          <a:xfrm>
            <a:off x="685800" y="328608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庄生晓梦迷蝴蝶，望帝春心托杜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2448000" y="2762280"/>
            <a:ext cx="75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-103320" y="836640"/>
            <a:ext cx="93553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2637000"/>
          <a:ext cx="8496000" cy="1685880"/>
        </p:xfrm>
        <a:graphic>
          <a:graphicData uri="http://schemas.openxmlformats.org/drawingml/2006/table">
            <a:tbl>
              <a:tblPr/>
              <a:tblGrid>
                <a:gridCol w="1125000"/>
                <a:gridCol w="1067040"/>
                <a:gridCol w="1066680"/>
                <a:gridCol w="873360"/>
                <a:gridCol w="871200"/>
                <a:gridCol w="873360"/>
                <a:gridCol w="873000"/>
                <a:gridCol w="873000"/>
                <a:gridCol w="873360"/>
              </a:tblGrid>
              <a:tr h="32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一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9.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6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9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8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08.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二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18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6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2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8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12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cdc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三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a0c7"/>
                    </a:solidFill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四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62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43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60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03.62</a:t>
                      </a: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593"/>
                    </a:solidFill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总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54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21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72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8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2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72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9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224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59b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2" descr=""/>
          <p:cNvPicPr/>
          <p:nvPr/>
        </p:nvPicPr>
        <p:blipFill>
          <a:blip r:embed="rId2"/>
          <a:srcRect l="35775" t="15505" r="35445" b="22514"/>
          <a:stretch/>
        </p:blipFill>
        <p:spPr>
          <a:xfrm>
            <a:off x="7667640" y="5300640"/>
            <a:ext cx="7524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沧海月明珠有泪，蓝田日暖玉生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2448000" y="2762280"/>
            <a:ext cx="75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-103320" y="836640"/>
            <a:ext cx="93553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2349360"/>
          <a:ext cx="8424720" cy="2320920"/>
        </p:xfrm>
        <a:graphic>
          <a:graphicData uri="http://schemas.openxmlformats.org/drawingml/2006/table">
            <a:tbl>
              <a:tblPr/>
              <a:tblGrid>
                <a:gridCol w="1368360"/>
                <a:gridCol w="2521080"/>
                <a:gridCol w="3311640"/>
                <a:gridCol w="1223640"/>
              </a:tblGrid>
              <a:tr h="32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使用方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添加位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4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月用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、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dobe 黑体 Std R"/>
                          <a:ea typeface="Adobe 黑体 Std R"/>
                        </a:rPr>
                        <a:t>***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总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此情可待成追忆，只是当时已惘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-103320" y="836640"/>
            <a:ext cx="93553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1280" y="1557360"/>
          <a:ext cx="8964720" cy="5141880"/>
        </p:xfrm>
        <a:graphic>
          <a:graphicData uri="http://schemas.openxmlformats.org/drawingml/2006/table">
            <a:tbl>
              <a:tblPr/>
              <a:tblGrid>
                <a:gridCol w="514440"/>
                <a:gridCol w="1249200"/>
                <a:gridCol w="881280"/>
                <a:gridCol w="734760"/>
                <a:gridCol w="1616040"/>
                <a:gridCol w="1054080"/>
                <a:gridCol w="1414800"/>
                <a:gridCol w="888840"/>
                <a:gridCol w="611280"/>
              </a:tblGrid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样品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送样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送样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产生工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物化性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主要成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处理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分析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9B18-C95E-448E-912E-8A78C6986E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113184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感谢给予宝贵时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5:29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6:38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