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1B1-53FD-431A-B9AD-9C3E0906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D6E-84B0-4A9F-B25A-C805BFD0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20A-F7F4-4036-86E7-F9743514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E6B-20B2-41CC-8045-F62C00AE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AAC-2415-41F6-A7F2-D062A1EF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F0B-D4F6-4B03-923F-6B2A3FB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141D-D429-464E-BE2A-757165F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056-8AE3-437E-8AF2-C8B81583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1434-090A-4FF5-8C83-B2C34803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BE8-28D6-4E23-9C31-9951BE0E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26B-F7C3-4AC5-8A3E-D50A0751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FF3-79E9-4E54-8965-096E8A9A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7688-7004-4FFD-82AB-097A5F93C05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0D8F-92B0-4004-B186-C7828B4B01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占位符 3"/>
          <p:cNvSpPr/>
          <p:nvPr/>
        </p:nvSpPr>
        <p:spPr>
          <a:xfrm>
            <a:off x="3500280" y="5357880"/>
            <a:ext cx="55008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4071960" y="5967360"/>
            <a:ext cx="47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076"/>
          <p:cNvSpPr/>
          <p:nvPr/>
        </p:nvSpPr>
        <p:spPr>
          <a:xfrm>
            <a:off x="1866600" y="115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企业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占位符 12" descr=""/>
          <p:cNvPicPr/>
          <p:nvPr/>
        </p:nvPicPr>
        <p:blipFill>
          <a:blip r:embed="rId1"/>
          <a:srcRect l="9638" t="0" r="9638" b="0"/>
          <a:stretch/>
        </p:blipFill>
        <p:spPr>
          <a:xfrm>
            <a:off x="642960" y="714240"/>
            <a:ext cx="4643280" cy="457200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5643360" y="713880"/>
            <a:ext cx="27860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Arial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has satisfied in the mater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situation, the people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ursue own individu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and the emo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gradually, the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have emphatically to car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the consideration to human'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otion dem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42960" y="642960"/>
            <a:ext cx="4071960" cy="47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占位符 6" descr=""/>
          <p:cNvPicPr/>
          <p:nvPr/>
        </p:nvPicPr>
        <p:blipFill>
          <a:blip r:embed="rId1"/>
          <a:srcRect l="1225" t="0" r="1225" b="0"/>
          <a:stretch/>
        </p:blipFill>
        <p:spPr>
          <a:xfrm>
            <a:off x="4929120" y="642960"/>
            <a:ext cx="3643560" cy="2428920"/>
          </a:xfrm>
          <a:prstGeom prst="rect">
            <a:avLst/>
          </a:prstGeom>
          <a:ln cap="sq" w="38160">
            <a:solidFill>
              <a:srgbClr val="17365d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4928760" y="3143160"/>
            <a:ext cx="37148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h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isfied in the material demand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6145"/>
          <p:cNvGrpSpPr/>
          <p:nvPr/>
        </p:nvGrpSpPr>
        <p:grpSpPr>
          <a:xfrm>
            <a:off x="714240" y="928800"/>
            <a:ext cx="3786480" cy="4286160"/>
            <a:chOff x="714240" y="928800"/>
            <a:chExt cx="3786480" cy="4286160"/>
          </a:xfrm>
        </p:grpSpPr>
        <p:sp>
          <p:nvSpPr>
            <p:cNvPr id="89" name="矩形 6146"/>
            <p:cNvSpPr/>
            <p:nvPr/>
          </p:nvSpPr>
          <p:spPr>
            <a:xfrm>
              <a:off x="714240" y="141264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c05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圆角矩形 6147"/>
            <p:cNvSpPr/>
            <p:nvPr/>
          </p:nvSpPr>
          <p:spPr>
            <a:xfrm>
              <a:off x="903240" y="92880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148"/>
            <p:cNvSpPr/>
            <p:nvPr/>
          </p:nvSpPr>
          <p:spPr>
            <a:xfrm>
              <a:off x="903240" y="92880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6149"/>
            <p:cNvSpPr/>
            <p:nvPr/>
          </p:nvSpPr>
          <p:spPr>
            <a:xfrm>
              <a:off x="714240" y="290052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bd9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圆角矩形 6150"/>
            <p:cNvSpPr/>
            <p:nvPr/>
          </p:nvSpPr>
          <p:spPr>
            <a:xfrm>
              <a:off x="903240" y="241668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bd994d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6151"/>
            <p:cNvSpPr/>
            <p:nvPr/>
          </p:nvSpPr>
          <p:spPr>
            <a:xfrm>
              <a:off x="903240" y="241668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6152"/>
            <p:cNvSpPr/>
            <p:nvPr/>
          </p:nvSpPr>
          <p:spPr>
            <a:xfrm>
              <a:off x="714240" y="4388400"/>
              <a:ext cx="3786480" cy="8265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25560">
              <a:solidFill>
                <a:srgbClr val="99ba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圆角矩形 6153"/>
            <p:cNvSpPr/>
            <p:nvPr/>
          </p:nvSpPr>
          <p:spPr>
            <a:xfrm>
              <a:off x="903240" y="3904560"/>
              <a:ext cx="2650680" cy="968040"/>
            </a:xfrm>
            <a:prstGeom prst="roundRect">
              <a:avLst>
                <a:gd name="adj" fmla="val 16667"/>
              </a:avLst>
            </a:prstGeom>
            <a:solidFill>
              <a:srgbClr val="99ba55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6154"/>
            <p:cNvSpPr/>
            <p:nvPr/>
          </p:nvSpPr>
          <p:spPr>
            <a:xfrm>
              <a:off x="903240" y="3904560"/>
              <a:ext cx="26506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4642920" y="928440"/>
            <a:ext cx="37148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0c"/>
                </a:solidFill>
                <a:latin typeface="Arial"/>
              </a:rPr>
              <a:t>Commercial af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is in the knowledge economy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,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satisfied in the material dem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uation, the people start to pursue 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ity development and the emo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 gradually, the design must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tically to carry on the conside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uman's emotion dem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42960" y="55717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243e"/>
                </a:solidFill>
                <a:latin typeface="Arial"/>
              </a:rPr>
              <a:t>Commercial af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6157"/>
          <p:cNvSpPr/>
          <p:nvPr/>
        </p:nvSpPr>
        <p:spPr>
          <a:xfrm>
            <a:off x="971640" y="4762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7CB2-385A-490B-B5B8-5A34B2D46B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占位符 1"/>
          <p:cNvSpPr/>
          <p:nvPr/>
        </p:nvSpPr>
        <p:spPr>
          <a:xfrm>
            <a:off x="5143680" y="5429160"/>
            <a:ext cx="37144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1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0:3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