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11D5-790D-4474-B20B-C41A4C57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F3F5-9549-421A-8FB7-79E499BD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2FA2-D589-44B8-8356-6703D2CC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4EBC-FCB7-469E-AA83-E334B6A5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057A-4E87-482D-9013-027F7004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C79B-DD85-4F19-BAD8-8250EEC0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544B-2B54-41FE-8415-C7EDF189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5EAF-6813-4539-A3B6-B85381D4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2FB3-F204-4981-9AE5-6F826505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D46E-9C2C-433E-A6EC-900BEB88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8263-4C7A-4B01-8C74-FD8C09B7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458D-9B8E-4FF8-9BA8-7F6111AA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CA20-8FE5-4B62-A0AE-BCB08876FC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2" name="文本框 3074"/>
          <p:cNvSpPr/>
          <p:nvPr/>
        </p:nvSpPr>
        <p:spPr>
          <a:xfrm>
            <a:off x="108000" y="6093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075"/>
          <p:cNvSpPr/>
          <p:nvPr/>
        </p:nvSpPr>
        <p:spPr>
          <a:xfrm>
            <a:off x="1523880" y="134136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日本卡通人物轻松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5363"/>
          <p:cNvSpPr/>
          <p:nvPr/>
        </p:nvSpPr>
        <p:spPr>
          <a:xfrm>
            <a:off x="1835280" y="2565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0483"/>
          <p:cNvSpPr/>
          <p:nvPr/>
        </p:nvSpPr>
        <p:spPr>
          <a:xfrm>
            <a:off x="1835280" y="6237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9224-7F6C-413A-A781-92327D4E22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5123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08:12:0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5:54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