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F01-4947-419E-8AB0-1D22F479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C59-A8EF-4C62-9411-118A921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8A4-E6FC-4D1B-9438-E93948CF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403-8858-41FF-84C3-AC54E46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669-0F41-4014-838B-1F687AAA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3969-DF49-4978-AB03-180D050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952-1865-4845-9537-01F336A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C7A3-19F4-4639-8309-6190B0FE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FF6-9FD6-40D2-876C-BBEA37A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A98E-078C-40E7-8D0E-2273CA4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C27-C752-435F-9AD9-57D85E2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F89-B88A-4CD9-BDA3-A0CD5D55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543-D67A-48EA-BC9D-77CC3FA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CB1F-2F78-47D6-A6F7-AA6EBA4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A61-0E17-430B-897E-2046068F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3007-7001-433E-8DE7-7239E177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2E3A-B3BB-4596-8A15-75CE7473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10A4-B986-4933-A3DA-7CD158F2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BC9A-ADD8-4567-9913-F9F3581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19D5-56DF-4A2E-BF35-EB6339B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0A68-0CE3-494B-BCA6-228B2DE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7F91-EDE7-4035-ACCB-78D2AF6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B77-C5FB-48B5-A991-F00F07C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5E1C-679A-4975-AF8C-C5A3BD1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343F-1DEE-418E-9240-C738305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46A4-EA74-41A1-A895-4D133E8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F7EE-65E6-4C06-B588-00E1494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3D96-AC5B-4728-AB36-65590A59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E446-0CCE-460E-A5BE-6B0C2690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33E8-5EB0-4009-9D8D-A56451A0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557-EDA7-4F3D-AE59-A3C6605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025-6D69-4105-9665-4EFC602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78E-6D7A-442F-86BF-BE354F47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3D2-5972-4F6B-8551-0643499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13D-8D79-42F7-A695-C359B6B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9B6-19D2-4728-B1E9-B6B2E2A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F45A-C2A2-4ADB-A40A-882CF44A1D24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171D-7AF3-478E-B818-AA62F450E30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584-4AD3-4887-8502-43DA00431F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F21-EB11-49A2-A165-58DF228B6AEF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Human X-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66720" y="26665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urostile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76320" y="61722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104920" y="304920"/>
            <a:ext cx="54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人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射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66720" y="2635920"/>
            <a:ext cx="4800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71"/>
          <p:cNvSpPr/>
          <p:nvPr/>
        </p:nvSpPr>
        <p:spPr>
          <a:xfrm>
            <a:off x="1295280" y="46483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7B8-2587-435A-BA81-8846DF6098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图片 8194" descr="skeleton_prt"/>
          <p:cNvPicPr/>
          <p:nvPr/>
        </p:nvPicPr>
        <p:blipFill>
          <a:blip r:embed="rId1"/>
          <a:stretch/>
        </p:blipFill>
        <p:spPr>
          <a:xfrm>
            <a:off x="152280" y="517212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8195" descr="skeleton_qx"/>
          <p:cNvPicPr/>
          <p:nvPr/>
        </p:nvPicPr>
        <p:blipFill>
          <a:blip r:embed="rId2"/>
          <a:stretch/>
        </p:blipFill>
        <p:spPr>
          <a:xfrm>
            <a:off x="152280" y="15228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196" descr="skeleton_sld"/>
          <p:cNvPicPr/>
          <p:nvPr/>
        </p:nvPicPr>
        <p:blipFill>
          <a:blip r:embed="rId3"/>
          <a:stretch/>
        </p:blipFill>
        <p:spPr>
          <a:xfrm>
            <a:off x="152280" y="182556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197" descr="skeleton_trs"/>
          <p:cNvPicPr/>
          <p:nvPr/>
        </p:nvPicPr>
        <p:blipFill>
          <a:blip r:embed="rId4"/>
          <a:stretch/>
        </p:blipFill>
        <p:spPr>
          <a:xfrm>
            <a:off x="152280" y="3498840"/>
            <a:ext cx="204480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266720" y="2635920"/>
            <a:ext cx="4800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25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