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91A-A87D-49AE-BBE8-6D600B70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BC4-91DB-4E3F-970A-FF2CC6CD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269-8A34-481F-B2E1-814422FA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E3C-0583-464F-8179-4DA0FD07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72E-F914-4D97-8065-EEF14F25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542-9705-41D8-A166-8566D4BD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370-5158-4E2F-915A-F3B4DE8F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85D-3F32-40E0-AD36-631DA60C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251-37C7-44BF-9922-5C87E7C6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E56-C4C1-4DD2-965E-517FCDA8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86F-9250-412B-A025-E81B7F7C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0FEC-05FC-4394-A3C8-997E172B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6FCD-1C13-4030-86B0-99CAD8944F7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0C2B-222A-441C-8FFB-B3641F6EBA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133360" y="68580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Univers"/>
              </a:rPr>
              <a:t>  </a:t>
            </a:r>
            <a:r>
              <a:rPr b="1" lang="en-US" sz="1600" spc="-1" strike="noStrike">
                <a:solidFill>
                  <a:srgbClr val="cc3300"/>
                </a:solidFill>
                <a:latin typeface="Univers"/>
              </a:rPr>
              <a:t>YOUR SUBTITLE</a:t>
            </a:r>
            <a:r>
              <a:rPr b="1" lang="en-US" sz="2000" spc="-1" strike="noStrike">
                <a:solidFill>
                  <a:srgbClr val="cc3300"/>
                </a:solidFill>
                <a:latin typeface="Univers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Univers"/>
              </a:rPr>
              <a:t>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098"/>
          <p:cNvSpPr/>
          <p:nvPr/>
        </p:nvSpPr>
        <p:spPr>
          <a:xfrm>
            <a:off x="1600200" y="152280"/>
            <a:ext cx="586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Univers"/>
              </a:rPr>
              <a:t>LAPTOP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100"/>
          <p:cNvSpPr/>
          <p:nvPr/>
        </p:nvSpPr>
        <p:spPr>
          <a:xfrm>
            <a:off x="1702800" y="99072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上班的女工作人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440" y="685800"/>
            <a:ext cx="6705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Univers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122"/>
          <p:cNvSpPr/>
          <p:nvPr/>
        </p:nvSpPr>
        <p:spPr>
          <a:xfrm>
            <a:off x="1828800" y="2286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YOUR 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92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TRANSI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D385-741F-45F1-8DEF-9A4170FF18C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YOUR TITLE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Univers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7171"/>
          <p:cNvSpPr/>
          <p:nvPr/>
        </p:nvSpPr>
        <p:spPr>
          <a:xfrm>
            <a:off x="762120" y="27432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5:03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11Z</dcterms:modified>
  <cp:revision>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