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0DF6-B8F8-4E8D-B56B-6211D2862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C470-0F5B-4708-A47C-F8CD008F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324B2-D516-4C78-982F-54D819B5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01A008-E62E-4AF6-902B-9511A4CC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EF219-BFBD-429C-B458-D077117F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15394-17A8-464C-BBDC-27F9C4B7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5945C-3C78-4B45-B0F4-844C8322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22991-493F-4BEF-A724-D18FE8D8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98018-985C-4FC7-96C8-AD8059C1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7EEED2-4456-4F4C-A4BC-04F284B2C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B845B9-1BA3-4083-B459-24BB33381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F392C0-3C23-4E93-8ABB-8EE0B4D8D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D2FB-D664-4254-9678-F2ECA945F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8F5700-EC46-4C3F-96A7-6983AA20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AE58C8-6303-49CC-9251-CFE21239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E158BC-3069-4E4D-A706-C8C49C0F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46007A-51F1-4F7E-9E51-8D25D80B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7E4420-CB22-43F2-851E-52F2FBF5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109BE2-F67C-4C14-B125-E287438C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E0E49C-FBB3-4CC8-A1A4-3A2027B0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9CFC7B-5646-4FF1-BEA7-2A8F1F44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E6A8CB-9CDA-4727-A1D6-70B03609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8370AB-7320-4709-AD25-0E948D9AE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238C-9C75-48F7-93F5-1C9F7D01A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F9EC14-DB17-47D2-A27C-E9EDB2450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BAAF43-5026-4943-8BE8-0AF6B5072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22565-CA15-441C-86F9-9886355E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DC522-FBEB-4514-866C-8DD33AA8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3BB2A-0030-4CBC-AD38-FDE08623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A58C7-7386-4A8D-9464-89436A40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09782-2F0B-4388-B55B-504ABCEA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ED253-B408-4405-819E-6662B081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3019C-6817-42F9-AE34-DA7BD6F3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37AA9-CAA1-4804-B1F6-25CDE8FD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805E-0ABD-4E5C-9527-FCC76B655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0C6C4-359A-4C2B-B4F6-184FC49D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2BF18-CEA8-462C-B292-B7E76AA6F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19C3ED-9BE0-4604-8844-7E6D62816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6E08E5-C2EE-4157-A409-FBBC58BF8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44CCA5-A01C-4CB1-A7F8-3635F55B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9FF51A-24BD-4081-B4F2-28EA8D56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3D2469-ADA5-4919-91A7-3B31991B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1750E4-2B46-48CF-AB75-F7539187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F6A961-1395-4145-AE5E-402F4237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51C4E6-6ABB-4D2E-9470-D6D64B29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D5AE-201B-4959-9800-573EDFFD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33C202-CB66-4226-B14A-3857DD07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27E7A7-2B0F-46A3-AF0A-F26DFEB2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7D2DAC-52C5-4229-A556-D59B1834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F6C552-8086-44CC-986A-56A89F6BE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DA8559-3B8D-462A-80D5-F793BAC86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4EC412-B72C-4931-BB6C-1AE848A69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DB44C2-BD89-4F7F-8703-81A80CAD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A6947D-35DC-4A66-9139-4DB41506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BA7820-D7DC-40DE-8596-ABD91A3A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E3C072-1B62-41EB-88FE-74679ED0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B509-52B6-4B6E-9779-44DD7755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8D50E0-ECAE-4810-8752-61A0AA4D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A4047B-48B8-452E-96A5-08199D46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7887AD-8109-4922-81EE-35CB99D4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FF0946-7BAF-4F8F-971F-C9997039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619AF2-03E3-4E10-8648-F5F6D775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DF66C2-2C87-499A-8A0A-472A7CD28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D15D52-900B-4D6D-AC80-4FC29969A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EEF69-BC8B-486B-B2FE-DC5A10BC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C81B-EF78-4622-9EDE-8BABDAC2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60E0-55FD-42A0-A612-4D7D8829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058D-F412-4DD4-A37A-917209E8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C106-9ABA-449C-9BC4-800863E0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FDAA-8C56-44FE-B02A-7EECEAC9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2EB4-7FEC-4ABF-B29B-1884784B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C110-BE4C-42A2-901A-E117CD5E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B690-7415-450B-9AB9-711B8DF74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0ED9-B7FC-42AD-AC9A-204C4DCC9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A840F-5A83-4885-AD94-E1078DCF6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63AA0-EF3A-42C4-8126-B8A20BB5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BAAC0-0C1E-4557-AB60-81538208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D407A-BE79-4E83-B6AB-7D21A3E8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1A957-816E-46BC-B73A-745617DA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2991-3ED7-4EE5-A2B9-AB1DB82A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2D6E6-441B-4476-A885-F98401AA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BB7B4-8842-4217-867C-E1B518F7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842A7-F9B4-434C-8FCF-8FB3068F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6215E-7263-46AB-8FB1-947B7FAE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7637C-3B2F-49CF-9976-8666B07C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EE10B-71F8-4E43-B433-B337A5704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E7BCC-1860-4A7D-B3B6-66D8DCF08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93705-6C68-482A-959A-17C30B1E2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A75C0-7050-430E-A36B-C10392CA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8665F-FF3D-4B42-AE3B-969812B1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4E52-3964-4DED-9B5F-3EE06853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4703C-812B-4991-9027-6BBD8209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F65BD-C2C4-4D61-B4F8-1D2D711E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9429F-5350-409E-B885-1708D097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8F094-5ACA-4644-89FF-084DFED5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71FBF-944E-4B49-9457-87609086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B1EC0-F29B-428F-91BF-C5DB169D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CF59B-6BF3-428B-B311-80405780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C6490-B003-4240-9B0D-503F49B76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0988C-A15D-47CD-AFD7-2EFFE20E2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519CD-EB33-485C-BB9E-CEE41E6C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B5D3-480C-48E6-898C-85B5CE4B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D2D42-5036-4162-BA04-42D6D052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A0605-C638-40A2-A29D-48469F6D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D8039-B954-4662-8F73-5B3DC295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6477F-2F95-405E-8737-1DADED73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25A5B-8D5F-46A1-917E-7A0FF16D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1A55A-3193-4847-9161-E1AAF405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CAA03-8AE6-40A8-AA63-5C20C387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A0325-5C44-4D72-B5FB-A3544276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3251B-665D-463A-BF74-EC15F83B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66237-40BB-4236-9529-CBAD03D85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AEB7-22B3-45F5-A754-7DF2629C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F6B9E-57F8-4D4F-8AA5-30C211395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D00DB-D2B4-4D86-9A1C-547039102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2D773-EF40-4CA0-958D-D3F3D0EE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19BCE-D709-42C3-8B6A-12311F87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E5631-959C-4356-8C85-1CB89ABC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463B1-2280-48A3-A8DE-1BBCFB7A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F486D-582B-479D-97AC-55BDABB3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17DFF-FED1-4DD3-BAD1-43A98584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E2E81-C37F-4E45-AA55-CEF62730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35042-3672-4010-AC28-36605FC9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F316-3658-4DE1-81D7-BBCEFC01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9ECA5-08E1-43AE-91D8-83C8B1B5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62934-F75B-404B-9A2C-0F2DFB1C3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6698C-21DA-45CC-93A5-73CE325DF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62F47-711C-4232-A153-073BF0105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92472-05FE-415B-BCC8-01CA9A4A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512C1-6C9B-43EF-8643-94A17870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1B13F-078E-46AD-8602-C206CFD8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019F2-B19C-4E9F-907A-4E6EBCD6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52821-F145-4ADF-AFD3-D68D4C78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40E0B-C764-4300-9274-86CF053D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3E80-92D4-4510-B505-0AFB9EA4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04698-C0B0-446B-8B96-2997595C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3682E-4C2F-474E-B24F-555F446C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72679-7AC5-4947-B681-2A53B4E5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A9EF7-B6E4-452C-8A1B-84FDCDB77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AD1D2-AF8F-4E9A-B05A-BBCC3B145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5E014-4966-4817-8676-EE9E837D1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ABA41-3146-45A2-BA00-9386D094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A38D8-58F4-4747-AB42-03C54787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B3142-B9CD-430B-AEB5-DCC92954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AC637-3272-44FB-8938-FBCB1E58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4D1C-1843-4E50-A850-B19C064F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478DA-E98B-49CF-B091-F4370DB4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6096D-4165-4B18-9E6B-C81EDFCA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F7951-16AD-4ED0-B635-D55D391F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369B3-B004-44B1-9C3F-0F116B66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A0138-938D-4FEB-9E81-E41EEF0A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3DD81-BE12-4FCE-9F92-9B474EB5C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7F872-34A3-49D0-81DB-647D54589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468757-900D-4483-9649-A018CECDF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B619C5-BDE1-4C5A-B226-FE2C9CF5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55F02-6EC8-4FE2-8562-5C68A480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EC89-79CE-4F75-A40B-2CB4BBFAFAB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AB98-96EA-48C7-916C-35BEB9DB003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2BB4-3921-4527-8CA1-F5725431209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6138-7DBE-428D-8179-503D7460662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9626-2E8B-43E3-B497-E3F6BD1B8BC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4327-D3A9-4F65-8D85-7F40EFBB4F1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510B-8EFB-4357-A19F-91B6A1642D5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75E7-0334-41C6-B1AE-E8918DBF693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A0AA-C112-4158-9975-23C5087E669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6597-CC71-4C00-BC75-CB807772316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153E-4341-4A6A-A3D8-0166755BEBC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9053-9E34-44CD-96F6-7B68A869861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A504-AA7D-4F80-A5F3-99B22D21D96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F5C3-5414-407C-BD3B-76D9677FE1D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BE44-58EB-4206-806A-6DEFBC1095B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11ED-CE11-47E9-80ED-9712E93543A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50E2-35AC-45E4-BEEC-A983ABFE915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B05D-C86E-4326-8A22-10692614CD3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CC70-77E6-403F-9857-F24B900C62F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04E3-5349-4A89-9A20-23DF4BB2FDC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F478-41D0-4E43-802C-9590E20A0B8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7E90-E14F-4FC7-9559-8D74E4E354E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75B8-B896-4981-994F-E09E6F0B0BB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3E6C-6614-41DD-A017-21F6A1C318F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CD8F-49EE-48E3-8D6F-AA9091317CB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C8BE-DBA1-4CD2-AF0C-9AC591BC3E5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文本框 14337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14338"/>
          <p:cNvSpPr/>
          <p:nvPr/>
        </p:nvSpPr>
        <p:spPr>
          <a:xfrm>
            <a:off x="1854360" y="189000"/>
            <a:ext cx="47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三八妇女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DBD6-31CA-4AE4-A8A5-D9E9D1D1613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矩形 4"/>
          <p:cNvSpPr/>
          <p:nvPr/>
        </p:nvSpPr>
        <p:spPr>
          <a:xfrm>
            <a:off x="5508720" y="662796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15362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4T09:49:1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0:05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