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3B153-8797-4E51-93F4-C5F8921B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42BDD-C227-4414-9B4A-BA9BB9AD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D2D40-6368-4875-B982-24A5F182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EB884-188A-45FF-91F4-867CCC9A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7EC04-4748-461A-B469-3FAF3F4E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3F51A-F908-4264-A163-656CF981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0D006-50BC-4975-8AFD-DE779978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A2D94-9207-4625-BD5D-67C9B065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F5BAF-90BD-461C-94CE-6350E42F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58AC2-A1F0-409C-B363-83A46958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B1749-5237-44E8-9B46-FEDC6E30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F98C0-F296-4377-9566-6070F1B9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28721-F6C3-4098-8D15-A13B6C76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218F7-3CEE-4366-95D7-2B10CC32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6E6D9-8211-4713-BE6C-23A097CD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39022-D745-41B2-B64B-29F8FB35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BC837-30E9-4A8C-BBD8-E7D9F93D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72C52-2078-47DA-8F45-2C2B41E6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F812A-ED1C-4320-9502-493D78B2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4B022-72A4-48B2-A249-81AC102F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49766-DED4-4EAB-A53C-57C32292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E63E3-9AA0-4763-B358-1F1B71CA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39A8D-E976-4184-8F96-33CD3CD6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A010C-CDCF-4CDC-B114-667BE1CB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89A38-5F7D-4914-A0E0-CF803BD8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5C0D8-02B3-4185-8BEE-9D48CC96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961C6-495F-40BD-B191-3C7E7BD9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677B1-F22A-4252-9E52-DE1612D9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4453A-4F29-47D3-907E-5DC8EA6E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39896-B12A-4C24-98E1-558B0404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D23B8-DFFA-499E-8797-AD66AF57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76FAD-8935-4434-9421-F2436F3F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A91B9-A349-467E-B2CD-18E09A38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9115C-A13D-4901-A384-1BAA5C4F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6F250-3E72-4DCA-8D77-9F77613B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84040-0121-4ADB-A3A8-65879477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D4F20-90CF-4504-9500-64C0A0F6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21452-9019-4F22-BB0B-7261BFD7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A7FAF-A47C-4C0E-BBA5-D6ED0627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006E2-7D8D-419B-9C2A-4A1E019A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0C78C-4363-4BF0-B77F-251A8C67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F090B-2285-4AB0-A137-40A9DDCA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437C7-11EF-4A74-9BE5-3CA740A1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7B746-ACD9-409B-8B6F-355C3225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2F5B2-C449-4FE5-A648-51B6EB90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008B-F2E4-47B1-8A93-C127F8DF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C1A-9EB9-4D14-AA46-7137D9B8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0DE-7AD5-4791-A803-E42BB243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20D-7EA2-45CF-9AB9-6E2C99FC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933B-2DC3-45C0-92B2-F442D8F2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AC6-83C3-4806-87F4-B555AAD2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98D-0EAD-494C-994F-190C7958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978-D8B6-4263-8EDA-4B5FF7B6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ECD2-ED15-4E6A-82C3-89DD0FF5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D85-7B27-439F-8AC7-E330A30C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39AA-1BF5-4380-9555-A7995567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03D-A9DA-4B55-A779-26DAC5FF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8142-DF25-4C0F-BDD9-7DB134E8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7258-E9AB-490F-B4D6-0110625E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56B2-4D7D-47B6-B53E-EFAE483C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1299-ABDE-4207-8DAC-2A7ADEF5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4927-C39A-48E6-BDAA-BE5DE3E4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2242-43B1-402F-BECC-7BD994D4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007E-A29B-42FA-A6EA-AC93C50C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821C-A391-44F3-A3FA-DD5DCE01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C265-B27F-444D-87B0-E0F54056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1B2E-EC8F-42D2-BB2D-1981F6D2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EFAD-DD45-402D-B31E-C236100C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9DEE-25D2-4147-979E-3F875842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29E91-5E48-4D00-8796-60568B83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968BB-A3AB-41EF-9700-946EA8F2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3CBBF-FBE2-4ECE-9977-F6396552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0A7DF-68D4-4FB7-814B-D33B8373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3A044-E9D4-4B93-8F0F-D523233F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887E9-23E7-4911-907A-3AF0D6DF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3E6D1-1D17-442D-B406-1D52D960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502B2-E812-41BA-AB5F-07609F00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E3F26-CF6E-4760-9E83-3FCF0BA6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39E2F-EFC0-4674-9BD1-17FF09E2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67BA4-7F75-4D3C-A329-F2284F12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8678E-8553-4826-925E-46608788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E641E-ECEA-47F5-9F7C-7DE7D76D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AF0BD-8615-4111-97E6-A43E89C1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31635-84AB-4434-A584-C5C74A77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EB7CD-C3D6-4E70-ACD8-8DACCD8A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E74A9-B5FC-4354-BDC3-F6A5A14A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57328-D2CE-4A6C-8784-10652CCD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CE16F-1683-49E7-87E2-047E61DF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5550E-1DEA-4768-9CAF-E88AB3E4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381CE-5C43-460F-B238-DF33D634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23C60-F9B5-46A3-8C2E-AC8C0806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7FBB1-A7A9-49FF-9732-2E17AEA8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3AACE-0215-4C83-8E7B-E7E43991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D5C33-2594-4033-BBAB-D5666B69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68BC7-BC0A-4FC8-9D26-5F8C5FC6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AAC85-7FF5-46E8-B5AE-5385880F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74004-7CB7-4ED1-946A-3A29FA76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8458C-F8D3-46B3-B91E-BFF230F2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665BB-A912-419A-A248-624113C9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AE4CD-ACDE-4D4A-933E-5554CC50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44485-0FB3-48AB-9635-F5B70037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D7642-062D-4DEF-B976-05ED683E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F8D77-C702-4459-828C-F501B48E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A11AA-95C2-4104-831B-AF6441C9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B22DA-6F66-43D0-9EB6-5CD67433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89AEE-86EB-40B0-A47B-8B4928FB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77C08-F0FA-471D-9FD0-3C403056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6E18C-4F7A-46D4-AC7D-079CC7A0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63CD-77A6-406B-BA5D-9EC9C1B271FC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1B0E-3134-4807-B5DC-6E6BFDE82F64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77A5-08C0-4AE2-BC51-A7BC5522E969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D122-946E-4300-89E9-CC67BF2078CB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BE00-E599-4187-841C-2076CBE667F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2CE5-6BC8-417F-B3C3-7285FB05F1B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8" name="矩形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B726-6C49-4340-91FC-F43CA82EF03B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B967-59C7-498C-9533-E22A5B5F8A4F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6673-972E-41CE-967D-482E40293845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9B15-DB21-419A-B34B-ECEF63AA46AC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25D8-48F7-4F9A-ADF0-6B5AE06511C2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982E-0C48-412B-B96D-1D6A43D7D727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B369-9C52-498F-8480-3BDE6054EA58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0504-569C-44D6-9966-92F51F7CB515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1AA6-C55E-4FDA-ACA1-A539CAC0883D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1CED-DA93-480D-8CC4-45BC3B5780B0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D5E2-DA28-466D-A666-07A5350E7290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7030-0871-4408-8E02-E1ACA72C01E0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16" descr=""/>
          <p:cNvPicPr/>
          <p:nvPr/>
        </p:nvPicPr>
        <p:blipFill>
          <a:blip r:embed="rId1"/>
          <a:stretch/>
        </p:blipFill>
        <p:spPr>
          <a:xfrm>
            <a:off x="2455920" y="449280"/>
            <a:ext cx="4230720" cy="4241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5" descr=""/>
          <p:cNvPicPr/>
          <p:nvPr/>
        </p:nvPicPr>
        <p:blipFill>
          <a:blip r:embed="rId2"/>
          <a:stretch/>
        </p:blipFill>
        <p:spPr>
          <a:xfrm>
            <a:off x="3354480" y="1353960"/>
            <a:ext cx="2433600" cy="24339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" descr=""/>
          <p:cNvPicPr/>
          <p:nvPr/>
        </p:nvPicPr>
        <p:blipFill>
          <a:blip r:embed="rId3"/>
          <a:stretch/>
        </p:blipFill>
        <p:spPr>
          <a:xfrm>
            <a:off x="4014720" y="2013120"/>
            <a:ext cx="1114560" cy="11142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80" name="矩形 8"/>
          <p:cNvSpPr/>
          <p:nvPr/>
        </p:nvSpPr>
        <p:spPr>
          <a:xfrm>
            <a:off x="-22879080" y="-12868200"/>
            <a:ext cx="54903600" cy="30881520"/>
          </a:xfrm>
          <a:custGeom>
            <a:avLst/>
            <a:gdLst/>
            <a:ahLst/>
            <a:rect l="l" t="t" r="r" b="b"/>
            <a:pathLst>
              <a:path w="54904640" h="30883860">
                <a:moveTo>
                  <a:pt x="25714960" y="14464665"/>
                </a:moveTo>
                <a:lnTo>
                  <a:pt x="25714960" y="16419195"/>
                </a:lnTo>
                <a:lnTo>
                  <a:pt x="29189680" y="16419195"/>
                </a:lnTo>
                <a:lnTo>
                  <a:pt x="29189680" y="14464665"/>
                </a:lnTo>
                <a:lnTo>
                  <a:pt x="25714960" y="14464665"/>
                </a:lnTo>
                <a:close/>
                <a:moveTo>
                  <a:pt x="0" y="0"/>
                </a:moveTo>
                <a:lnTo>
                  <a:pt x="54904640" y="0"/>
                </a:lnTo>
                <a:lnTo>
                  <a:pt x="54904640" y="30883860"/>
                </a:lnTo>
                <a:lnTo>
                  <a:pt x="0" y="308838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0200.wav" descr=""/>
          <p:cNvPicPr/>
          <p:nvPr/>
        </p:nvPicPr>
        <p:blipFill>
          <a:blip r:embed="rId5"/>
          <a:stretch/>
        </p:blipFill>
        <p:spPr>
          <a:xfrm>
            <a:off x="11018880" y="-11140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82" name="矩形 2"/>
          <p:cNvSpPr/>
          <p:nvPr/>
        </p:nvSpPr>
        <p:spPr>
          <a:xfrm>
            <a:off x="-3600" y="0"/>
            <a:ext cx="75816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300" spc="-1" strike="noStrike">
                <a:solidFill>
                  <a:srgbClr val="ffffff"/>
                </a:solidFill>
                <a:latin typeface="Calibri"/>
              </a:rPr>
              <a:t>www.1ppt.com/moban/ 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文本框 13320"/>
          <p:cNvSpPr/>
          <p:nvPr/>
        </p:nvSpPr>
        <p:spPr>
          <a:xfrm>
            <a:off x="108000" y="42292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文本框 13321"/>
          <p:cNvSpPr/>
          <p:nvPr/>
        </p:nvSpPr>
        <p:spPr>
          <a:xfrm>
            <a:off x="2401200" y="771480"/>
            <a:ext cx="45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三八妇女节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145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8" repeatCount="3000">
                                  <p:stCondLst>
                                    <p:cond delay="250"/>
                                  </p:stCondLst>
                                  <p:childTnLst>
                                    <p:animRot by="-21599879">
                                      <p:cBhvr>
                                        <p:cTn id="20" dur="185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mph" presetID="8" repeatCount="2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7" dur="265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3" presetSubtype="3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3" dur="2700" fill="hold"/>
                                        <p:tgtEl>
                                          <p:spTgt spid="480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40" dur="1000" fill="hold"/>
                                        <p:tgtEl>
                                          <p:spTgt spid="480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E:\工作夹\PPT模版\s1040妇女节\原图片\4.png"/>
          <p:cNvPicPr/>
          <p:nvPr/>
        </p:nvPicPr>
        <p:blipFill>
          <a:blip r:embed="rId1"/>
          <a:stretch/>
        </p:blipFill>
        <p:spPr>
          <a:xfrm>
            <a:off x="6032520" y="3247920"/>
            <a:ext cx="3114720" cy="18957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E:\工作夹\PPT模版\s1040妇女节\原图片\5.png"/>
          <p:cNvPicPr/>
          <p:nvPr/>
        </p:nvPicPr>
        <p:blipFill>
          <a:blip r:embed="rId2"/>
          <a:stretch/>
        </p:blipFill>
        <p:spPr>
          <a:xfrm>
            <a:off x="4062240" y="573120"/>
            <a:ext cx="4486320" cy="1895400"/>
          </a:xfrm>
          <a:prstGeom prst="rect">
            <a:avLst/>
          </a:prstGeom>
          <a:ln w="0">
            <a:noFill/>
          </a:ln>
        </p:spPr>
      </p:pic>
      <p:sp>
        <p:nvSpPr>
          <p:cNvPr id="487" name="直接连接符 11"/>
          <p:cNvSpPr/>
          <p:nvPr/>
        </p:nvSpPr>
        <p:spPr>
          <a:xfrm>
            <a:off x="4140360" y="2678040"/>
            <a:ext cx="4330440" cy="0"/>
          </a:xfrm>
          <a:prstGeom prst="line">
            <a:avLst/>
          </a:prstGeom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3" descr="E:\工作夹\PPT模版\s1040妇女节\原图片\5.png"/>
          <p:cNvPicPr/>
          <p:nvPr/>
        </p:nvPicPr>
        <p:blipFill>
          <a:blip r:embed="rId3"/>
          <a:stretch/>
        </p:blipFill>
        <p:spPr>
          <a:xfrm>
            <a:off x="4062240" y="573120"/>
            <a:ext cx="448632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55" dur="500" fill="hold"/>
                                        <p:tgtEl>
                                          <p:spTgt spid="4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6" presetSubtype="3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2189880" y="406440"/>
            <a:ext cx="6045120" cy="3763800"/>
            <a:chOff x="2189880" y="406440"/>
            <a:chExt cx="6045120" cy="3763800"/>
          </a:xfrm>
        </p:grpSpPr>
        <p:sp>
          <p:nvSpPr>
            <p:cNvPr id="490" name="任意多边形 16"/>
            <p:cNvSpPr/>
            <p:nvPr/>
          </p:nvSpPr>
          <p:spPr>
            <a:xfrm flipH="1" rot="214200">
              <a:off x="2526840" y="645480"/>
              <a:ext cx="5608800" cy="3353040"/>
            </a:xfrm>
            <a:custGeom>
              <a:avLst/>
              <a:gdLst/>
              <a:ahLst/>
              <a:rect l="l" t="t" r="r" b="b"/>
              <a:pathLst>
                <a:path w="5130112" h="3067205">
                  <a:moveTo>
                    <a:pt x="5130112" y="2190186"/>
                  </a:moveTo>
                  <a:lnTo>
                    <a:pt x="4572696" y="2312432"/>
                  </a:lnTo>
                  <a:cubicBezTo>
                    <a:pt x="4437230" y="2476120"/>
                    <a:pt x="3623949" y="2967880"/>
                    <a:pt x="2946816" y="3013338"/>
                  </a:cubicBezTo>
                  <a:cubicBezTo>
                    <a:pt x="2269683" y="3058796"/>
                    <a:pt x="1197654" y="3227008"/>
                    <a:pt x="509897" y="2585178"/>
                  </a:cubicBezTo>
                  <a:cubicBezTo>
                    <a:pt x="-177860" y="1943348"/>
                    <a:pt x="-112545" y="1167025"/>
                    <a:pt x="365365" y="564626"/>
                  </a:cubicBezTo>
                  <a:cubicBezTo>
                    <a:pt x="843275" y="-37773"/>
                    <a:pt x="1659280" y="-12377"/>
                    <a:pt x="2202650" y="7666"/>
                  </a:cubicBezTo>
                  <a:cubicBezTo>
                    <a:pt x="2746020" y="27709"/>
                    <a:pt x="3481079" y="237760"/>
                    <a:pt x="4015866" y="709211"/>
                  </a:cubicBezTo>
                  <a:cubicBezTo>
                    <a:pt x="4550653" y="1180662"/>
                    <a:pt x="4616102" y="1781114"/>
                    <a:pt x="4653732" y="2070862"/>
                  </a:cubicBezTo>
                  <a:lnTo>
                    <a:pt x="5130112" y="2190186"/>
                  </a:lnTo>
                  <a:close/>
                </a:path>
              </a:pathLst>
            </a:custGeom>
            <a:solidFill>
              <a:srgbClr val="d9d9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任意多边形 15"/>
            <p:cNvSpPr/>
            <p:nvPr/>
          </p:nvSpPr>
          <p:spPr>
            <a:xfrm flipH="1" rot="214200">
              <a:off x="2288160" y="582480"/>
              <a:ext cx="5764320" cy="3354480"/>
            </a:xfrm>
            <a:custGeom>
              <a:avLst/>
              <a:gdLst/>
              <a:ahLst/>
              <a:rect l="l" t="t" r="r" b="b"/>
              <a:pathLst>
                <a:path w="5272396" h="3069961">
                  <a:moveTo>
                    <a:pt x="5272396" y="2177286"/>
                  </a:moveTo>
                  <a:lnTo>
                    <a:pt x="4487995" y="2274503"/>
                  </a:lnTo>
                  <a:cubicBezTo>
                    <a:pt x="4352529" y="2438191"/>
                    <a:pt x="3609832" y="2961559"/>
                    <a:pt x="2946816" y="3013338"/>
                  </a:cubicBezTo>
                  <a:cubicBezTo>
                    <a:pt x="2283800" y="3065117"/>
                    <a:pt x="1197654" y="3227008"/>
                    <a:pt x="509897" y="2585178"/>
                  </a:cubicBezTo>
                  <a:cubicBezTo>
                    <a:pt x="-177860" y="1943348"/>
                    <a:pt x="-112545" y="1167025"/>
                    <a:pt x="365365" y="564626"/>
                  </a:cubicBezTo>
                  <a:cubicBezTo>
                    <a:pt x="843275" y="-37773"/>
                    <a:pt x="1659280" y="-12377"/>
                    <a:pt x="2202650" y="7666"/>
                  </a:cubicBezTo>
                  <a:cubicBezTo>
                    <a:pt x="2746020" y="27709"/>
                    <a:pt x="3481079" y="237760"/>
                    <a:pt x="4015866" y="709211"/>
                  </a:cubicBezTo>
                  <a:cubicBezTo>
                    <a:pt x="4550653" y="1180662"/>
                    <a:pt x="4616102" y="1781114"/>
                    <a:pt x="4653732" y="2070862"/>
                  </a:cubicBezTo>
                  <a:lnTo>
                    <a:pt x="5272396" y="217728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32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2" name="矩形 2"/>
          <p:cNvSpPr/>
          <p:nvPr/>
        </p:nvSpPr>
        <p:spPr>
          <a:xfrm>
            <a:off x="3276720" y="1563840"/>
            <a:ext cx="45748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因为有了女人，而显得分外美丽！问候只是短短的几行，却是一个浓浓的真意！祝三八节快乐，永远年轻漂亮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文本框 15365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Calibri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5f5f5f"/>
                </a:solidFill>
                <a:uFillTx/>
                <a:latin typeface="Calibri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E9EC-DE41-4D99-8CBC-DB05CFBEEF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E:\工作夹\PPT模版\s1040妇女节\原图片\3.png"/>
          <p:cNvPicPr/>
          <p:nvPr/>
        </p:nvPicPr>
        <p:blipFill>
          <a:blip r:embed="rId1"/>
          <a:stretch/>
        </p:blipFill>
        <p:spPr>
          <a:xfrm>
            <a:off x="4032360" y="1185840"/>
            <a:ext cx="4973400" cy="1468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E:\工作夹\PPT模版\s1040妇女节\原图片\2.png"/>
          <p:cNvPicPr/>
          <p:nvPr/>
        </p:nvPicPr>
        <p:blipFill>
          <a:blip r:embed="rId2"/>
          <a:stretch/>
        </p:blipFill>
        <p:spPr>
          <a:xfrm>
            <a:off x="5388120" y="2822400"/>
            <a:ext cx="2071440" cy="3715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E:\工作夹\PPT模版\s1040妇女节\原图片\4.png"/>
          <p:cNvPicPr/>
          <p:nvPr/>
        </p:nvPicPr>
        <p:blipFill>
          <a:blip r:embed="rId3"/>
          <a:stretch/>
        </p:blipFill>
        <p:spPr>
          <a:xfrm>
            <a:off x="6032520" y="3247920"/>
            <a:ext cx="3114720" cy="1895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" descr="E:\工作夹\PPT模版\s1040妇女节\原图片\3.png"/>
          <p:cNvPicPr/>
          <p:nvPr/>
        </p:nvPicPr>
        <p:blipFill>
          <a:blip r:embed="rId4"/>
          <a:stretch/>
        </p:blipFill>
        <p:spPr>
          <a:xfrm>
            <a:off x="4032360" y="1185840"/>
            <a:ext cx="4973400" cy="14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76" dur="500" fill="hold"/>
                                        <p:tgtEl>
                                          <p:spTgt spid="5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6" presetSubtype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4:18:3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01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