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961A-D222-48C9-BFD5-36F60DCE7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8603-0655-4792-8830-76581187A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AD04-ACE8-4F8B-B934-39ECDD511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8813-7B5B-406C-AA56-A05085E02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425680" y="479520"/>
            <a:ext cx="624528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537B3-4043-408C-B327-1CA2ACDD8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324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1812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836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324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1812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C651-7C4B-48C2-AB15-E475F7BEB2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425680" y="479520"/>
            <a:ext cx="624528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324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812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836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324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812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40DEE-62A6-4926-9A53-C3B4B7C7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CC7AE-34C7-44FA-9749-99DCF271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D35742-9AF9-46F3-9D4B-55527A09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7908-8849-4F25-A9E7-71C5382B26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4B427-942C-41BB-879F-006DD9BF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88559-F095-43E4-A4D0-2D4F4636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425680" y="479520"/>
            <a:ext cx="624528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6E0E9-477D-4972-993D-E181B81D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52A09-78C8-4FCD-B547-F1CF2B2D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F4552-71DF-465D-973B-9F8D7BD7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8F45E-011A-4A4C-B8ED-C3EE5F58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923F7-3DD6-4EE6-94CF-E6AB642C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BE4A3-B2F2-4220-AF72-BF6714E6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4324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18120" y="11840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836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4324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18120" y="3849840"/>
            <a:ext cx="26424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C3B3F-7BBC-45C6-A377-C71A2C2A1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0E0E-95F5-403B-A39B-3A107BF19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25680" y="479520"/>
            <a:ext cx="624528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40E0-E4F1-458A-8171-B03FC9D71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4022-7ACB-488C-8619-F2BBDB1A3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8498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4296-9A5A-4EAD-833D-8A08EC25A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84040"/>
            <a:ext cx="400500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49840"/>
            <a:ext cx="8207280" cy="24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4252-148E-4BC9-AC83-990E23C40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新年2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D9E71C7-FC58-4BF9-9EB4-519867D42FFD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484200" y="4874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63700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>
            <a:hlinkClick r:id="rId5"/>
          </p:cNvPr>
          <p:cNvSpPr/>
          <p:nvPr/>
        </p:nvSpPr>
        <p:spPr>
          <a:xfrm>
            <a:off x="2369160" y="422028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png-0056"/>
          <p:cNvPicPr/>
          <p:nvPr/>
        </p:nvPicPr>
        <p:blipFill>
          <a:blip r:embed="rId6"/>
          <a:stretch/>
        </p:blipFill>
        <p:spPr>
          <a:xfrm>
            <a:off x="637236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ng-0002"/>
          <p:cNvPicPr/>
          <p:nvPr/>
        </p:nvPicPr>
        <p:blipFill>
          <a:blip r:embed="rId7"/>
          <a:stretch/>
        </p:blipFill>
        <p:spPr>
          <a:xfrm>
            <a:off x="2052720" y="270828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8"/>
          <p:cNvGrpSpPr/>
          <p:nvPr/>
        </p:nvGrpSpPr>
        <p:grpSpPr>
          <a:xfrm>
            <a:off x="4211640" y="2708280"/>
            <a:ext cx="758880" cy="730080"/>
            <a:chOff x="4211640" y="2708280"/>
            <a:chExt cx="758880" cy="730080"/>
          </a:xfrm>
        </p:grpSpPr>
        <p:pic>
          <p:nvPicPr>
            <p:cNvPr id="48" name="Picture 9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70828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0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86740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11">
            <a:hlinkClick r:id="rId10"/>
          </p:cNvPr>
          <p:cNvSpPr/>
          <p:nvPr/>
        </p:nvSpPr>
        <p:spPr>
          <a:xfrm>
            <a:off x="133344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>
            <a:hlinkClick r:id="rId11"/>
          </p:cNvPr>
          <p:cNvSpPr/>
          <p:nvPr/>
        </p:nvSpPr>
        <p:spPr>
          <a:xfrm>
            <a:off x="3492360" y="342900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>
            <a:hlinkClick r:id="rId12"/>
          </p:cNvPr>
          <p:cNvSpPr/>
          <p:nvPr/>
        </p:nvSpPr>
        <p:spPr>
          <a:xfrm>
            <a:off x="5653080" y="342900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332000" y="242100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73436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3"/>
          </p:cNvPr>
          <p:cNvSpPr/>
          <p:nvPr/>
        </p:nvSpPr>
        <p:spPr>
          <a:xfrm>
            <a:off x="3492360" y="263700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>
            <a:hlinkClick r:id="rId14"/>
          </p:cNvPr>
          <p:cNvSpPr/>
          <p:nvPr/>
        </p:nvSpPr>
        <p:spPr>
          <a:xfrm>
            <a:off x="5653080" y="263700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>
            <a:hlinkClick r:id="rId15"/>
          </p:cNvPr>
          <p:cNvSpPr/>
          <p:nvPr/>
        </p:nvSpPr>
        <p:spPr>
          <a:xfrm>
            <a:off x="1332000" y="263700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>
            <a:hlinkClick r:id="rId16"/>
          </p:cNvPr>
          <p:cNvSpPr/>
          <p:nvPr/>
        </p:nvSpPr>
        <p:spPr>
          <a:xfrm>
            <a:off x="1332000" y="541656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1332000" y="1486080"/>
            <a:ext cx="4321080" cy="576000"/>
            <a:chOff x="1332000" y="1486080"/>
            <a:chExt cx="4321080" cy="576000"/>
          </a:xfrm>
        </p:grpSpPr>
        <p:pic>
          <p:nvPicPr>
            <p:cNvPr id="60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486080"/>
              <a:ext cx="20170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544400"/>
              <a:ext cx="1728720" cy="4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"/>
            <p:cNvGrpSpPr/>
            <p:nvPr/>
          </p:nvGrpSpPr>
          <p:grpSpPr>
            <a:xfrm>
              <a:off x="3349080" y="1486080"/>
              <a:ext cx="360" cy="576000"/>
              <a:chOff x="3349080" y="1486080"/>
              <a:chExt cx="360" cy="576000"/>
            </a:xfrm>
          </p:grpSpPr>
          <p:sp>
            <p:nvSpPr>
              <p:cNvPr id="63" name="Line 23"/>
              <p:cNvSpPr/>
              <p:nvPr/>
            </p:nvSpPr>
            <p:spPr>
              <a:xfrm>
                <a:off x="3349080" y="1486080"/>
                <a:ext cx="0" cy="57600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 txBox="1"/>
              <p:nvPr/>
            </p:nvSpPr>
            <p:spPr>
              <a:xfrm>
                <a:off x="3349080" y="1486080"/>
                <a:ext cx="360" cy="5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1" descr="新年1"/>
          <p:cNvPicPr/>
          <p:nvPr/>
        </p:nvPicPr>
        <p:blipFill>
          <a:blip r:embed="rId2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2" descr="bg"/>
          <p:cNvPicPr/>
          <p:nvPr/>
        </p:nvPicPr>
        <p:blipFill>
          <a:blip r:embed="rId3"/>
          <a:stretch/>
        </p:blipFill>
        <p:spPr>
          <a:xfrm>
            <a:off x="468360" y="465120"/>
            <a:ext cx="1528560" cy="795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468360" y="1184040"/>
            <a:ext cx="8207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2186-F870-4A27-8968-69CC9B182D9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0CF3-D250-4101-AB85-5CA1DC9524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69840" y="2090880"/>
            <a:ext cx="68072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圣诞幻灯片完整版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274920" y="316980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337440" y="6058080"/>
            <a:ext cx="23382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5124"/>
          <p:cNvSpPr/>
          <p:nvPr/>
        </p:nvSpPr>
        <p:spPr>
          <a:xfrm>
            <a:off x="92160" y="6072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A7224DE-1B01-4B5A-81EF-1D0CBC6A7AF0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25680" y="479520"/>
            <a:ext cx="6245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3040" y="1483920"/>
            <a:ext cx="79279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148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99cc"/>
                </a:solidFill>
                <a:uFillTx/>
                <a:latin typeface="Arial"/>
                <a:hlinkClick r:id="rId1"/>
              </a:rPr>
              <a:t>ppt</a:t>
            </a:r>
            <a:r>
              <a:rPr b="0" i="1" lang="zh-CN" sz="1600" spc="-1" strike="noStrike" u="sng">
                <a:solidFill>
                  <a:srgbClr val="0099cc"/>
                </a:solidFill>
                <a:uFillTx/>
                <a:latin typeface="Arial"/>
                <a:hlinkClick r:id="rId2"/>
              </a:rPr>
              <a:t>模板网站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5762-9544-4945-AD5A-AC1FBC65DA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CA2E5BE1-4D63-4D24-A048-A1688D205FC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9" descr="新年3"/>
          <p:cNvPicPr/>
          <p:nvPr/>
        </p:nvPicPr>
        <p:blipFill>
          <a:blip r:embed="rId1"/>
          <a:stretch/>
        </p:blipFill>
        <p:spPr>
          <a:xfrm>
            <a:off x="-17640" y="-12600"/>
            <a:ext cx="9180720" cy="6885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1239840" y="2090880"/>
            <a:ext cx="42102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单击添加您的公司信息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bg"/>
          <p:cNvPicPr/>
          <p:nvPr/>
        </p:nvPicPr>
        <p:blipFill>
          <a:blip r:embed="rId2"/>
          <a:stretch/>
        </p:blipFill>
        <p:spPr>
          <a:xfrm>
            <a:off x="7147080" y="465120"/>
            <a:ext cx="1528560" cy="79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46Z</dcterms:modified>
  <cp:revision>15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