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66440" y="6422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47600" y="2000160"/>
            <a:ext cx="7315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047600" y="4189680"/>
            <a:ext cx="7315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666440" y="6422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047600" y="200016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6280" y="200016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185DE6-F143-4534-BB40-04BA77121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666440" y="6422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FF7ABF-FCCE-4472-BADC-4D1CBD3A6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1666440" y="666360"/>
            <a:ext cx="716292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5863CF-5255-4225-B732-6C081D486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666440" y="6422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047600" y="200016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796280" y="200016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1047600" y="41896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94ACF3-8D55-40E0-924C-27FDD467C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666440" y="6422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047600" y="200016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796280" y="200016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796280" y="41896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82B43E-76FD-444B-8E08-6811211A6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666440" y="6422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047600" y="200016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796280" y="200016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1047600" y="4189680"/>
            <a:ext cx="7315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0D33D5-138A-4BA4-A354-9817B2802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666440" y="6422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047600" y="2000160"/>
            <a:ext cx="7315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1047600" y="4189680"/>
            <a:ext cx="7315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EE3E25-83B5-4184-BC3A-D2509E272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666440" y="6422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047600" y="200016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796280" y="200016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1047600" y="41896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796280" y="41896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185098-91E6-406D-80B6-6723E299E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666440" y="6422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047600" y="200016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520800" y="200016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5994000" y="200016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1047600" y="418968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520800" y="418968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5994000" y="418968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D8288A-F2E1-4607-BC39-6B69B4AEB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7C236C-C557-48E5-B8F3-06EA97D4C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66440" y="6422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47600" y="200016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6280" y="200016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47600" y="41896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6280" y="41896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666440" y="6422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subTitle"/>
          </p:nvPr>
        </p:nvSpPr>
        <p:spPr>
          <a:xfrm>
            <a:off x="1047600" y="200016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EC2409-D19C-4A70-952E-6A05EFA42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666440" y="6422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1047600" y="200016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008F2B-58B0-4ECF-87A2-9DB0D61A9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666440" y="6422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1047600" y="200016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96280" y="200016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973EFF-3745-477E-AD25-AA6075131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666440" y="6422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27CC21-F9EF-4A48-B4E2-38F4CD28B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ubTitle"/>
          </p:nvPr>
        </p:nvSpPr>
        <p:spPr>
          <a:xfrm>
            <a:off x="1666440" y="666360"/>
            <a:ext cx="716292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E37E88-FF0D-4A68-BC15-641C03EC6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666440" y="6422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047600" y="200016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796280" y="200016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1047600" y="41896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44D30C-0AAF-453A-9753-529CDA7F6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666440" y="6422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047600" y="200016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796280" y="200016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796280" y="41896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9D91FB-EE98-4EFB-A757-9D7E4025E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666440" y="6422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1047600" y="200016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796280" y="200016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1047600" y="4189680"/>
            <a:ext cx="7315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9418D6-94D6-409E-8947-03F611A1A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666440" y="6422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1047600" y="2000160"/>
            <a:ext cx="7315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1047600" y="4189680"/>
            <a:ext cx="7315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CE9975-90FC-447B-91C7-09E792772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666440" y="6422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047600" y="200016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796280" y="200016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1047600" y="41896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796280" y="41896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711703-2E63-4C72-ADFB-B1A346063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666440" y="6422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47600" y="200016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520800" y="200016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94000" y="200016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047600" y="418968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520800" y="418968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94000" y="418968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666440" y="6422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1047600" y="200016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3520800" y="200016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5994000" y="200016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1047600" y="418968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6"/>
          <p:cNvSpPr>
            <a:spLocks noGrp="1"/>
          </p:cNvSpPr>
          <p:nvPr>
            <p:ph/>
          </p:nvPr>
        </p:nvSpPr>
        <p:spPr>
          <a:xfrm>
            <a:off x="3520800" y="418968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7"/>
          <p:cNvSpPr>
            <a:spLocks noGrp="1"/>
          </p:cNvSpPr>
          <p:nvPr>
            <p:ph/>
          </p:nvPr>
        </p:nvSpPr>
        <p:spPr>
          <a:xfrm>
            <a:off x="5994000" y="418968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DAB286-D4A8-4E0D-95CB-6296FE559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52AA99-B3D2-400B-ACDB-0646B19B3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666440" y="6422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subTitle"/>
          </p:nvPr>
        </p:nvSpPr>
        <p:spPr>
          <a:xfrm>
            <a:off x="1047600" y="200016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0139A9-3C3E-4371-999E-ADBB36DFB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666440" y="6422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1047600" y="200016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D6F8BA-96EA-4C30-A264-C5AEA496F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666440" y="6422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047600" y="200016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796280" y="200016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981CF5-F158-4C37-857A-05788F7CB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666440" y="6422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FA648A-75DE-4880-B8B2-8444DB8C6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ubTitle"/>
          </p:nvPr>
        </p:nvSpPr>
        <p:spPr>
          <a:xfrm>
            <a:off x="1666440" y="666360"/>
            <a:ext cx="716292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16E14A-D057-4CC2-9D3A-687A92FB3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666440" y="6422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1047600" y="200016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796280" y="200016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1047600" y="41896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88D286-0F28-400E-9917-13236AAB4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666440" y="6422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1047600" y="200016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796280" y="200016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796280" y="41896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E09B24-2102-46F3-9C0F-9B233E309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66440" y="6422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1047600" y="200016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796280" y="200016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1047600" y="4189680"/>
            <a:ext cx="7315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2F5227-6C76-4B60-A396-A50ECD5F5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E11C0-0320-4260-B2D7-107DAD725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666440" y="6422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047600" y="2000160"/>
            <a:ext cx="7315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1047600" y="4189680"/>
            <a:ext cx="7315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571016-454D-44CA-860A-BFA7958A9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666440" y="6422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1047600" y="200016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796280" y="200016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1047600" y="41896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796280" y="41896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2F85E9-D974-4452-ABB9-2F0E6877A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666440" y="6422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1047600" y="200016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3520800" y="200016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5994000" y="200016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1047600" y="418968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6"/>
          <p:cNvSpPr>
            <a:spLocks noGrp="1"/>
          </p:cNvSpPr>
          <p:nvPr>
            <p:ph/>
          </p:nvPr>
        </p:nvSpPr>
        <p:spPr>
          <a:xfrm>
            <a:off x="3520800" y="418968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7"/>
          <p:cNvSpPr>
            <a:spLocks noGrp="1"/>
          </p:cNvSpPr>
          <p:nvPr>
            <p:ph/>
          </p:nvPr>
        </p:nvSpPr>
        <p:spPr>
          <a:xfrm>
            <a:off x="5994000" y="418968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628316-67C7-4D99-A08B-926324AE7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32D673-4BCD-4ADD-848D-4E2DE3242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666440" y="6422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subTitle"/>
          </p:nvPr>
        </p:nvSpPr>
        <p:spPr>
          <a:xfrm>
            <a:off x="1047600" y="200016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AB261A-BD19-41EF-AB70-B3A78E58C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666440" y="6422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1047600" y="200016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8BAFC5-5C86-4979-91D5-168C47E57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666440" y="6422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1047600" y="200016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796280" y="200016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AF48A9-3BFD-4EFF-AE04-AA4AD4FAD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666440" y="6422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BB439E-B161-4691-B4DF-43F6D1522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ubTitle"/>
          </p:nvPr>
        </p:nvSpPr>
        <p:spPr>
          <a:xfrm>
            <a:off x="1666440" y="666360"/>
            <a:ext cx="716292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266B53-9239-472B-8411-424BAFE18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666440" y="6422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1047600" y="200016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796280" y="200016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1047600" y="41896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6AAA48-0B2B-4FDB-9889-786B1ABEE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66440" y="6422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047600" y="200016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02DFE-7100-4C9C-899C-EDFB2A492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666440" y="6422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1047600" y="200016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796280" y="200016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796280" y="41896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48BD82-A63A-432F-AC94-60160EB88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666440" y="6422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047600" y="200016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796280" y="200016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1047600" y="4189680"/>
            <a:ext cx="7315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C31631-BE23-497A-A95E-02F6FAA90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1666440" y="6422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1047600" y="2000160"/>
            <a:ext cx="7315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1047600" y="4189680"/>
            <a:ext cx="7315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FDFC80-58BC-4263-A236-61403BEE7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666440" y="6422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1047600" y="200016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796280" y="200016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1047600" y="41896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4796280" y="41896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6EA68D-84EB-4056-9948-AA6427081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666440" y="6422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1047600" y="200016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3520800" y="200016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5994000" y="200016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1047600" y="418968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6"/>
          <p:cNvSpPr>
            <a:spLocks noGrp="1"/>
          </p:cNvSpPr>
          <p:nvPr>
            <p:ph/>
          </p:nvPr>
        </p:nvSpPr>
        <p:spPr>
          <a:xfrm>
            <a:off x="3520800" y="418968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PlaceHolder 7"/>
          <p:cNvSpPr>
            <a:spLocks noGrp="1"/>
          </p:cNvSpPr>
          <p:nvPr>
            <p:ph/>
          </p:nvPr>
        </p:nvSpPr>
        <p:spPr>
          <a:xfrm>
            <a:off x="5994000" y="418968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B5C5B4-8AD3-451F-B575-64BF374AD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FA17D0-351C-463A-85E4-2CF78C685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666440" y="6422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subTitle"/>
          </p:nvPr>
        </p:nvSpPr>
        <p:spPr>
          <a:xfrm>
            <a:off x="1047600" y="200016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33543B-D427-4D42-977E-144746037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666440" y="6422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047600" y="200016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702ED9-4249-418E-B786-1834852C5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666440" y="6422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1047600" y="200016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796280" y="200016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4360EE-CDAB-4A24-86B7-8B46C2009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666440" y="6422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0626BD-FE4D-42E9-801E-0FB53D524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66440" y="6422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47600" y="200016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F2929-CD5F-4FCE-B4A8-35604F02C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ubTitle"/>
          </p:nvPr>
        </p:nvSpPr>
        <p:spPr>
          <a:xfrm>
            <a:off x="1666440" y="666360"/>
            <a:ext cx="716292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A326ED-C660-449E-A081-87E96E41D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666440" y="6422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1047600" y="200016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796280" y="200016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1047600" y="41896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0AAAF9-A2AB-446D-BE5C-5195AC9C7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666440" y="6422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1047600" y="200016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796280" y="200016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796280" y="41896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A629A4-E479-4E40-A248-D5B596D71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666440" y="6422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1047600" y="200016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796280" y="200016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1047600" y="4189680"/>
            <a:ext cx="7315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4E84DA-660F-4132-A189-ED087D501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1666440" y="6422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1047600" y="2000160"/>
            <a:ext cx="7315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1047600" y="4189680"/>
            <a:ext cx="7315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A65DB9-40C1-4FE9-B025-4D02D5147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666440" y="6422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1047600" y="200016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796280" y="200016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1047600" y="41896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4796280" y="41896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702207-5569-4DEF-8829-CC761F186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1666440" y="6422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1047600" y="200016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3520800" y="200016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5994000" y="200016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1047600" y="418968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PlaceHolder 6"/>
          <p:cNvSpPr>
            <a:spLocks noGrp="1"/>
          </p:cNvSpPr>
          <p:nvPr>
            <p:ph/>
          </p:nvPr>
        </p:nvSpPr>
        <p:spPr>
          <a:xfrm>
            <a:off x="3520800" y="418968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PlaceHolder 7"/>
          <p:cNvSpPr>
            <a:spLocks noGrp="1"/>
          </p:cNvSpPr>
          <p:nvPr>
            <p:ph/>
          </p:nvPr>
        </p:nvSpPr>
        <p:spPr>
          <a:xfrm>
            <a:off x="5994000" y="418968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980EC1-C0B6-4C5E-A133-29B5B7267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99ADAD-819C-4F86-B77F-03A2AD8ED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666440" y="6422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 type="subTitle"/>
          </p:nvPr>
        </p:nvSpPr>
        <p:spPr>
          <a:xfrm>
            <a:off x="1047600" y="200016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AB5718-BD0D-4E55-8610-BBE86279C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1666440" y="6422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1047600" y="200016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C5A3DC-46BE-4142-B391-DF1FFDC4D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66440" y="6422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47600" y="200016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96280" y="200016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149B1-EA96-4962-BB55-826B6F3B1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666440" y="6422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1047600" y="200016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796280" y="200016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9952B3-5058-459B-AFE0-BE6D83B18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666440" y="6422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55F49B-A127-4E6B-8DC8-43794B3BC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ubTitle"/>
          </p:nvPr>
        </p:nvSpPr>
        <p:spPr>
          <a:xfrm>
            <a:off x="1666440" y="666360"/>
            <a:ext cx="716292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FA47D3-E6AB-4ACE-A8C0-C6B66D7DB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1666440" y="6422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1047600" y="200016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796280" y="200016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1047600" y="41896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E04CD9-9D78-4FBF-9705-F09CF3C80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666440" y="6422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1047600" y="200016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796280" y="200016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796280" y="41896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BF1B9B-9981-4693-BFDB-DB744C7CD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1666440" y="6422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1047600" y="200016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796280" y="200016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1047600" y="4189680"/>
            <a:ext cx="7315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473C34-FA9F-4518-8E83-5F21E01E4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1666440" y="6422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1047600" y="2000160"/>
            <a:ext cx="7315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1047600" y="4189680"/>
            <a:ext cx="7315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C9D627-99B7-4A2A-AA1A-50AF67E6C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1666440" y="6422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1047600" y="200016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796280" y="200016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1047600" y="41896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4796280" y="41896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1CCB29-273B-4ECC-AEDA-3271B90D6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1666440" y="6422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1047600" y="200016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3520800" y="200016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5994000" y="200016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1047600" y="418968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PlaceHolder 6"/>
          <p:cNvSpPr>
            <a:spLocks noGrp="1"/>
          </p:cNvSpPr>
          <p:nvPr>
            <p:ph/>
          </p:nvPr>
        </p:nvSpPr>
        <p:spPr>
          <a:xfrm>
            <a:off x="3520800" y="418968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PlaceHolder 7"/>
          <p:cNvSpPr>
            <a:spLocks noGrp="1"/>
          </p:cNvSpPr>
          <p:nvPr>
            <p:ph/>
          </p:nvPr>
        </p:nvSpPr>
        <p:spPr>
          <a:xfrm>
            <a:off x="5994000" y="418968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5E10E6-2DB1-4BB9-93AC-57E4DD562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66440" y="6422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D222F-3DF5-4E59-9017-5509BE20D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1666440" y="666360"/>
            <a:ext cx="716292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CD0A2-4E63-4595-9B4D-48FF56D6A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666440" y="6422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47600" y="200016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96280" y="200016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047600" y="41896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B5961-D250-4CED-8BD0-1BF65AA5E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666440" y="6422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047600" y="200016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666440" y="6422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47600" y="200016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6280" y="200016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796280" y="41896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DE519-4E5F-4F6A-8F2D-64976A2DC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6440" y="6422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47600" y="200016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96280" y="200016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047600" y="4189680"/>
            <a:ext cx="7315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7FD33-95F1-470C-A0BE-EB9300136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666440" y="6422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47600" y="2000160"/>
            <a:ext cx="7315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047600" y="4189680"/>
            <a:ext cx="7315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8C4E7-8971-44B3-B9FB-939167392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666440" y="6422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47600" y="200016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96280" y="200016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47600" y="41896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796280" y="41896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21F61-C99E-4C8B-9705-2DA075264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666440" y="6422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47600" y="200016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520800" y="200016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94000" y="200016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047600" y="418968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520800" y="418968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94000" y="418968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23FC7-213C-460E-AB7B-55D5A26E1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666440" y="6422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047600" y="200016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666440" y="6422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47600" y="200016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66440" y="6422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47600" y="200016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96280" y="200016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666440" y="6422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666440" y="6422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047600" y="200016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1666440" y="666360"/>
            <a:ext cx="716292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66440" y="6422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47600" y="200016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796280" y="200016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47600" y="41896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666440" y="6422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47600" y="200016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96280" y="200016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796280" y="41896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6440" y="6422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47600" y="200016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796280" y="200016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047600" y="4189680"/>
            <a:ext cx="7315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66440" y="6422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47600" y="2000160"/>
            <a:ext cx="7315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1047600" y="4189680"/>
            <a:ext cx="7315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666440" y="6422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47600" y="200016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6280" y="200016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047600" y="41896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796280" y="41896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666440" y="6422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47600" y="200016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520800" y="200016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5994000" y="200016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1047600" y="418968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520800" y="418968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5994000" y="418968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92084-7752-47D5-AB35-FE74BA5B0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666440" y="6422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047600" y="200016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102B8-2A40-4335-8649-1D6BBFE4D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666440" y="6422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47600" y="200016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D2C31-1C53-4284-97BE-041A5D671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666440" y="6422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047600" y="200016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6280" y="200016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666440" y="6422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47600" y="200016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796280" y="200016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97D3D-6AE0-4D4F-BF11-171B35829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666440" y="6422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3DE3D-0AB0-419D-98BE-FB078BEF1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1666440" y="666360"/>
            <a:ext cx="716292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2300F-7A23-4A2D-A364-B5B2F5885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666440" y="6422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47600" y="200016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796280" y="200016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1047600" y="41896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A5696-9957-4A95-A87E-AEE4FB19E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66440" y="6422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47600" y="200016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796280" y="200016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796280" y="41896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E9487-29AE-49AF-ADE6-3F13E29B1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666440" y="6422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47600" y="200016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796280" y="200016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1047600" y="4189680"/>
            <a:ext cx="7315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67468-E80A-4849-9CB3-440BD8EB7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666440" y="6422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047600" y="2000160"/>
            <a:ext cx="7315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1047600" y="4189680"/>
            <a:ext cx="7315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5C1B5-2E9C-4D70-9FF0-2B6E008D8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666440" y="6422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047600" y="200016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796280" y="200016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1047600" y="41896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796280" y="41896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1D7BF-F089-4F9E-B1EF-99AC7334C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666440" y="6422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047600" y="200016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520800" y="200016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994000" y="200016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1047600" y="418968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520800" y="418968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5994000" y="418968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D607F-5570-4BC6-801E-B846DFD93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953AD2-5E34-41D9-84D3-4E5195A5A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66440" y="6422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666440" y="6422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1047600" y="200016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F34C7D-A130-45CA-B78D-080D2C161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666440" y="6422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047600" y="200016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67D222-0A98-4A6D-9F52-1858AC7BC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666440" y="6422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047600" y="200016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796280" y="200016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151257-82CF-45FB-81DA-690C4E493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666440" y="6422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9FA2F2-62BE-4EFD-ADC1-B6B0F4289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1666440" y="666360"/>
            <a:ext cx="716292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5D3237-83A1-4B96-8F34-9ADFEDF25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666440" y="6422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47600" y="200016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796280" y="200016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1047600" y="41896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824CB5-6DDF-480C-8535-5191AB01B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666440" y="6422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047600" y="200016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96280" y="200016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796280" y="41896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6EB8BD-E34B-4894-ACBB-9B52C9FC7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66440" y="6422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047600" y="200016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796280" y="200016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1047600" y="4189680"/>
            <a:ext cx="7315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8B7914-CA4B-42AD-B523-F30110D0D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666440" y="6422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047600" y="2000160"/>
            <a:ext cx="7315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1047600" y="4189680"/>
            <a:ext cx="7315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3DF217-D878-475F-A870-E7ECDC123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666440" y="6422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47600" y="200016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796280" y="200016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047600" y="41896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796280" y="41896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12F2F2-EBFB-46EE-A0A0-72A2F2A86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666440" y="666360"/>
            <a:ext cx="716292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66440" y="6422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047600" y="200016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520800" y="200016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5994000" y="200016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1047600" y="418968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3520800" y="418968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5994000" y="418968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ED60F3-F45C-4297-9BEA-2B9D46079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BB97C5-EB78-4724-A860-D18C59A38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666440" y="6422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1047600" y="200016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8CBAAD-0B0D-44E6-B733-451EEA22D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666440" y="6422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047600" y="200016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DC4934-4EEE-40E4-AD5A-FFFDB3240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666440" y="6422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047600" y="200016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6280" y="200016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405F9D-2E17-4EFE-9F34-82543C062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666440" y="6422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8202B7-FFFD-42A9-9903-D581C325A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ubTitle"/>
          </p:nvPr>
        </p:nvSpPr>
        <p:spPr>
          <a:xfrm>
            <a:off x="1666440" y="666360"/>
            <a:ext cx="716292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315DA3-F7C6-4E06-8BE0-04B86C93A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666440" y="6422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047600" y="200016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96280" y="200016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1047600" y="41896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CCB50B-2BBB-43A6-BCAF-6CD5E33E2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666440" y="6422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047600" y="200016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796280" y="200016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796280" y="41896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647219-2A9D-49D4-A080-DF8E3151E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666440" y="6422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047600" y="200016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796280" y="200016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1047600" y="4189680"/>
            <a:ext cx="7315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A32EB5-4309-4867-A18F-3114E2106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666440" y="6422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47600" y="200016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6280" y="200016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047600" y="41896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666440" y="6422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047600" y="2000160"/>
            <a:ext cx="7315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1047600" y="4189680"/>
            <a:ext cx="7315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181159-E936-43AA-AA4E-71CE9BAC9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666440" y="6422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47600" y="200016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796280" y="200016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1047600" y="41896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796280" y="41896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4D59C4-D790-4FFC-88C7-F7E176183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666440" y="6422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047600" y="200016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3520800" y="200016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5994000" y="200016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1047600" y="418968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6"/>
          <p:cNvSpPr>
            <a:spLocks noGrp="1"/>
          </p:cNvSpPr>
          <p:nvPr>
            <p:ph/>
          </p:nvPr>
        </p:nvSpPr>
        <p:spPr>
          <a:xfrm>
            <a:off x="3520800" y="418968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7"/>
          <p:cNvSpPr>
            <a:spLocks noGrp="1"/>
          </p:cNvSpPr>
          <p:nvPr>
            <p:ph/>
          </p:nvPr>
        </p:nvSpPr>
        <p:spPr>
          <a:xfrm>
            <a:off x="5994000" y="418968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AC0E4B-A908-43E6-A92A-B7670FA32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08DD8B-225B-4738-9F30-5D42422E6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666440" y="6422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1047600" y="200016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272659-ED81-4049-AE06-0455053A7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666440" y="6422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047600" y="200016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EA6C94-F4BB-43EB-B7A7-85AD1E08D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666440" y="6422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047600" y="200016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6280" y="200016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7E90DD-2AB8-4CA0-B5FF-D76EF8177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666440" y="6422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95F63B-8BD0-4BA7-86F2-934F4FDD8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ubTitle"/>
          </p:nvPr>
        </p:nvSpPr>
        <p:spPr>
          <a:xfrm>
            <a:off x="1666440" y="666360"/>
            <a:ext cx="716292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CE6CDC-C4AB-4176-A58E-AE4864445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666440" y="6422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047600" y="200016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96280" y="200016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1047600" y="41896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6641FB-87D3-4706-89A2-15ABAD55C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6440" y="6422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47600" y="200016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6280" y="200016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6280" y="41896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666440" y="6422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047600" y="200016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796280" y="200016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796280" y="41896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88D32C-A946-41A5-A2E1-F6BCC4E51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666440" y="6422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047600" y="200016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796280" y="200016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1047600" y="4189680"/>
            <a:ext cx="7315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EBB8C4-8A4A-44FA-98E6-D8890126A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666440" y="6422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047600" y="2000160"/>
            <a:ext cx="7315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1047600" y="4189680"/>
            <a:ext cx="7315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97CB89-3E39-4DE7-9FB5-4FEBA4EDA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666440" y="6422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047600" y="200016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796280" y="200016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1047600" y="41896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796280" y="41896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8516E7-9329-44B5-A636-4658FA3D1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666440" y="6422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047600" y="200016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3520800" y="200016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5994000" y="200016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1047600" y="418968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6"/>
          <p:cNvSpPr>
            <a:spLocks noGrp="1"/>
          </p:cNvSpPr>
          <p:nvPr>
            <p:ph/>
          </p:nvPr>
        </p:nvSpPr>
        <p:spPr>
          <a:xfrm>
            <a:off x="3520800" y="418968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7"/>
          <p:cNvSpPr>
            <a:spLocks noGrp="1"/>
          </p:cNvSpPr>
          <p:nvPr>
            <p:ph/>
          </p:nvPr>
        </p:nvSpPr>
        <p:spPr>
          <a:xfrm>
            <a:off x="5994000" y="418968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CE39E3-B602-45FB-BC86-8430C516E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C7B3EB-83B9-4636-9890-E922C2744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666440" y="6422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1047600" y="200016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98C4FC-43DA-4DBD-A560-1455DD1CC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666440" y="6422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047600" y="200016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C6340E-BA25-4DCF-BDEC-D7CF57CD0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666440" y="6422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047600" y="200016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96280" y="200016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B463F1-6A78-4203-AC83-9CFF670C1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666440" y="6422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1FF18E-58C8-47B7-92B0-FD16C5B6F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666440" y="6422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47600" y="200016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6280" y="200016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047600" y="4189680"/>
            <a:ext cx="7315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1666440" y="666360"/>
            <a:ext cx="716292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C4663B-B192-4B74-A4AB-E47C7ECAB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666440" y="6422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047600" y="200016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796280" y="200016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1047600" y="41896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27F7D9-6CC5-4435-B1A5-775E07C84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666440" y="6422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047600" y="200016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796280" y="200016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796280" y="41896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C8ED0D-7613-43BE-AEE5-0AA7462D2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666440" y="6422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047600" y="200016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796280" y="200016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1047600" y="4189680"/>
            <a:ext cx="7315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26A9A4-DAD5-4569-A619-90B1A9705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666440" y="6422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047600" y="2000160"/>
            <a:ext cx="7315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1047600" y="4189680"/>
            <a:ext cx="7315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5C1D3D-FD09-4AEE-9457-4397391A2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666440" y="6422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047600" y="200016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796280" y="200016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1047600" y="41896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796280" y="41896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0940D8-424A-41D1-9953-3713EE0A7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666440" y="6422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047600" y="200016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520800" y="200016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5994000" y="200016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1047600" y="418968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520800" y="418968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5994000" y="418968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647DB0-18D3-4A72-9CE7-149DF4655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7637D6-9995-45A2-9949-A68068A7D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666440" y="6422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1047600" y="200016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48100A-E6CE-44B1-A7FE-F295D8E9A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666440" y="6422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047600" y="200016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6C1632-05A8-40DF-99D4-99FC78790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66440" y="666360"/>
            <a:ext cx="716292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47600" y="200016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1AC35-0779-45E1-A3A8-89C918E7ECA6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D77A8-69B9-407F-B284-0393F1265566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CAEEB-A210-4D5A-8BA1-D6DAE380FD6C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30856-EE6C-4443-A03E-CE9957ED8C89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C009D-45FA-495E-8908-49212FEB76DF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410F2-7C86-4716-9073-E278110426D7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4B18B-C5C2-4751-9407-F4FD1D1C7B58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0D571-9D8A-4CED-BEF1-945A501C20FC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660DB-9BD9-4D52-B7BF-D06E699D2609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A2F48-B384-466C-94D8-743E5FA3190A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1B24A-C5AE-4760-BC69-967DE32A3D81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3B0CC-5579-4ED2-B67A-8E3AAD4F290C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666440" y="666360"/>
            <a:ext cx="716292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1047600" y="200016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3018F-D043-4CC0-A4BE-04E65F4C2F3F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BA983-4648-4C4F-8F6B-73558F340D02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98FDA-CF5B-46B0-A2E0-FCCE67C8DF68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CB9C8-78A5-4DEB-88DF-72E5631DA3EB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0B260-8675-404C-B308-62EADC4E3EFE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FC20D-80D7-4161-AEC0-F1A2871F36BA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541C7-6645-4036-8C2C-DA30F3731ABE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0705C-72EA-4C40-95EA-E0D994768BFB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CE6AD-14AA-4464-ACC7-5ACCC0F7E464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8785B-00C3-4A35-B54E-5CBDA405C6EA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580F8-63D2-42FB-B08A-E0424D562C6B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78DBF-D4A3-4559-AD5A-535EC1D3249E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hyperlink" Target="http://www.eeppt.com/moban/jiaoyu/" TargetMode="External"/><Relationship Id="rId22" Type="http://schemas.openxmlformats.org/officeDocument/2006/relationships/hyperlink" Target="http://www.eeppt.com/moban/keji/" TargetMode="External"/><Relationship Id="rId23" Type="http://schemas.openxmlformats.org/officeDocument/2006/relationships/hyperlink" Target="http://www.eeppt.com/moban/lunwen/" TargetMode="External"/><Relationship Id="rId24" Type="http://schemas.openxmlformats.org/officeDocument/2006/relationships/hyperlink" Target="http://www.eeppt.com/moban/tongyong/" TargetMode="External"/><Relationship Id="rId25" Type="http://schemas.openxmlformats.org/officeDocument/2006/relationships/hyperlink" Target="http://www.eeppt.com/moban/yiliao/" TargetMode="External"/><Relationship Id="rId26" Type="http://schemas.openxmlformats.org/officeDocument/2006/relationships/slideLayout" Target="../slideLayouts/slideLayout15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文本框 15361"/>
          <p:cNvSpPr/>
          <p:nvPr/>
        </p:nvSpPr>
        <p:spPr>
          <a:xfrm>
            <a:off x="3636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69" name="文本框 15362"/>
          <p:cNvSpPr/>
          <p:nvPr/>
        </p:nvSpPr>
        <p:spPr>
          <a:xfrm>
            <a:off x="2342880" y="3200400"/>
            <a:ext cx="4458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圣诞红球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模板免费下载</a:t>
            </a:r>
            <a:endParaRPr b="0" lang="en-US" sz="4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1666440" y="6422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1047600" y="200016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单击此处添加内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4d4d4d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75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AEA6D-8319-4347-9BE6-79CE69C33AB1}" type="slidenum">
              <a:rPr b="0" lang="zh-CN" sz="1400" spc="-1" strike="noStrike">
                <a:solidFill>
                  <a:srgbClr val="4d4d4d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1981080" y="432720"/>
            <a:ext cx="6934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1981080" y="1752480"/>
            <a:ext cx="69343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d4d4d"/>
                </a:solidFill>
                <a:latin typeface="Arial"/>
                <a:ea typeface="宋体"/>
              </a:rPr>
              <a:t>单击此处添加内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文本框 17411"/>
          <p:cNvSpPr/>
          <p:nvPr/>
        </p:nvSpPr>
        <p:spPr>
          <a:xfrm>
            <a:off x="1905120" y="1447920"/>
            <a:ext cx="503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a401"/>
                </a:solidFill>
                <a:uFillTx/>
                <a:latin typeface="Arial"/>
                <a:ea typeface="Arial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ffa401"/>
                </a:solidFill>
                <a:uFillTx/>
                <a:latin typeface="Arial"/>
                <a:ea typeface="Arial"/>
                <a:hlinkClick r:id="rId3"/>
              </a:rPr>
              <a:t>模板网站</a:t>
            </a:r>
            <a:r>
              <a:rPr b="0" lang="en-US" sz="1600" spc="-1" strike="noStrike">
                <a:solidFill>
                  <a:srgbClr val="4d4d4d"/>
                </a:solidFill>
                <a:latin typeface="Arial"/>
                <a:ea typeface="Arial"/>
              </a:rPr>
              <a:t>http://www.eeppt.com/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8T20:13:27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1-13T04:33:58Z</dcterms:modified>
  <cp:revision>65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46</vt:lpwstr>
  </property>
</Properties>
</file>