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4D1-5C4E-4E0E-AA34-66BC8B10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85E-E9A5-4972-AD39-84374578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766F8-8994-45D8-8F09-F809748C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DEAA7-0BF6-48FC-BE73-D18AF53E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9EA5E-2FA8-4CC7-A107-7DBAC811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45633-1D7D-47DF-BC78-4814FD78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C0CC1-BB9A-4BEA-B40F-F3FA920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03E64-675C-473A-BB84-B3D9010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D61DD-E132-4B44-8CF4-595A3C69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4D087-25E1-4181-B945-09C22F4F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5B270-1289-4A1F-8643-AA0B9685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C6AE5-1EE5-45A2-8900-AFBCF5DD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78E-7B74-480C-AB31-1E659782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8D0CF-2E45-43B2-95E1-843C8912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7E996-455D-49CB-AAE4-45D8B415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D5ED3-04A1-4265-887C-6AF1E911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F6C2F-D6A1-4D80-AC5F-90F5AA0E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CACCB-62C7-43E0-96E8-2BC52579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4A5CD-9636-461C-8D61-853BFE3C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B4523-21D3-42DE-BCEE-7501E3A8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08BB6-4444-48E4-A74C-3D4A2B1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24F57-0A60-4654-B1AB-A6E9A49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B146F-650D-455A-BA7E-8D5E5038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E07-6F22-4FC0-8C48-6B421010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01A5C-5437-402E-87E0-2B70958F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43030-6FD4-4423-B4C8-61816FFE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1391B-FECA-45A9-864C-3169B071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D8697-7810-41A2-A91B-00618ADF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D3492-2AD8-431A-8EC3-DC0B176A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7D010-7A5F-4CB4-B5CA-20F4797D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0CFC2-4717-4763-B6CA-8A454559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5FAAB-A50A-42DF-AE68-4A469819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4EAB5-2401-4663-941E-46A49448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09E2D-5A18-4B5F-88EE-F323AA0A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8E8B-FEC2-40EF-AEAA-563C125E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D863B-C830-4D81-81DA-465CA550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62907-EE72-47EA-94AD-C8DAEF4B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55C92-DAD7-424F-98D2-E76C0314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152EB-F448-447E-93B8-FA397766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98C15-8E13-4ABC-8DE8-5BC49ECF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3E029-AFB0-4E41-977B-A07560EC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20C5F-205C-4943-AFF1-C4F9A33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6D016-09D8-47E4-9DE9-03BE454D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FCB08-C406-4F86-8946-00314F08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6F4B9-D871-4329-A1FE-06E493A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085F-0922-45C1-BA98-E2597CD3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751FC-8773-41CD-BB11-0D47915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0C538-71E1-4C26-BA6E-E7BE4665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B6699-F54C-4DF0-ABA2-548AEBFB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F76DD-19B4-4F27-883E-8EC9E64A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C6422-A3AD-4C56-BC0D-215D6A5A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E1278-63A1-40E2-89BE-E597C45C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9A9AC-A26D-48AD-81CB-8A1FC1DE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BD88F-E765-4D72-B532-AD2E2B8C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D5DBA-63E3-48F0-AA4C-875EB76C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83970-E3CD-4D23-9AA8-9540292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BFC7-0FAD-4F47-A18A-134F77A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7FC22-2D14-495C-A4B7-B974FF2D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067B2-4B17-4887-989B-9112CA8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72D99-05E5-40B4-A50E-5604296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0C183-C283-4296-B717-BB82705A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141B7-A6B1-4184-8E1A-87551B2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EBDCE-1330-447D-BB1D-10AF86DE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BD409-9396-495C-AFD2-AA87C555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93F7-B922-4D46-BA08-ED478FA5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4FF-B256-4567-BE9C-AF033C15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1DF9-5228-47AA-988C-778A47BC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28B8-A9A0-4426-98C9-8CD91AE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54F-0AE2-4A2D-A36E-2BEA07D6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0293-8B87-4FF0-A2A4-5B964724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AA98-F7C1-4498-BF16-D7C84F58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CE33-BDE1-4520-AB4A-D83847AA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8F0B-06E8-46C1-86FA-4C112C20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6C5B-7BD6-4B31-B855-CA96B273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6E16-7DD7-4CF6-A258-6AE9F37D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16CB9-C2F8-45C9-9BEE-A26D029F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3C46-E3E7-4615-AF4F-B877C10F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7848-BC02-4BBF-8DF9-7BA69E6E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A090-EFBF-4DE1-AFD5-0FB589BA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BC9-681E-4C8B-8F03-E5AC64C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1E39-82F8-48C8-9BA8-A19EDF8C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9EFE-1130-4928-BA4F-DF360EB9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35E6-5ABD-4A6A-9D96-8ACAAFF1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C47B-521C-4A51-923C-89220C9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DA25-CAA6-42E0-A651-C5AF7315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2227-A1E3-4F75-A816-C91830C8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0D11-0F6E-4C85-A71D-5EDFC8D6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5AB6-D4EC-46F2-9D89-74FDF33D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E288-1579-48E3-8536-6BC2EF1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437A-E387-479A-8A9B-02BC15F4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C15-DE5C-4402-B53B-D56C6AFC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2911-025F-4069-ADA4-5CA94EDB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A613-3AF0-41D8-8BCC-20F398C0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DB14B-C713-4532-910B-90C55731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68D59-EB40-489F-9DC3-518581D3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C3D34-6A8D-46A2-A4F0-7E68B26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7496-FEF8-475D-94B0-336A3394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7B0FA-3021-4F86-8A2D-0149D4A1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82351-1879-4590-B897-4F8CF602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C017-7F6B-4FC1-A433-92994D7A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A1991-B991-4E5E-B135-1E282038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DB1-DA36-4C59-9CD7-40E0DFC2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F41C-F370-4FF1-8AAB-E6250F62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BC7A0-115B-4FDE-B9BD-161B5511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09C5-1852-40E8-9867-1973EBCE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04BF-2AF9-43BF-8984-8D540CE7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40960-7E48-49E4-8EB9-756C117E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74C6-382B-4087-AE8C-76F80F3A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F9FA4-2051-4E93-BB7B-E6DC5FBC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5B68B-8A83-4C80-A7C1-449D850B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65C4-36F5-4D07-95D4-89A52A4C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57F2-A8B0-4334-A590-012204A5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EBD-F8D3-4939-A13F-CF0219B0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7DD8-B56D-49D4-B671-6FCCDDBD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D90B-6559-4D84-9487-548261A3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C18C-3B2E-4A90-9C74-817CDA81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E54DB-C464-4AC7-A23A-D0E8258F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87B6-0A4B-4C39-B5E3-9F1BCE99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3FB22-A2E9-4978-9478-725027B5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E68C6-AE4F-4D35-8509-29EB7253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D43AF-B1D4-46FF-9885-4991290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5559C-61CE-46CB-8A5A-B68C8830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528F-8AE8-481C-A8A1-CC7F63DF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067-8E9F-49E4-A7F8-86B640EC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C3254-4FD3-4FC0-94FA-5E8B2DC5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E4150-3528-4B93-B3B1-B19DEE51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8C152-276C-4AC4-96EC-A32DD2C9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E2DB7-D181-4D0A-ADE4-4D7C3FBD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77341-4AC4-4C65-AAFA-847797ED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BB7C3-6402-4403-B570-D6C4D12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1F5C1-562C-4654-954C-147A5837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37FE6-5DD2-4987-98C8-CCCA2059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B7068-8A93-4746-9A79-D94CB3A5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7380B-42C1-4AD9-B050-F656E5C0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A1E-5735-492E-A229-CE6B4A4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993CB-CA07-44F4-8760-8401A4C9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C1805-76EA-44A8-B87E-6EE28BB0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BC01E-1F0B-43C7-BE67-1F59E8DE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A83AA-88E0-41BC-89B4-D05AED30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85FA5-74BF-43FC-A6EC-D3867AA4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1B777-BBFF-4186-A497-5F6D1251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A9F6A-CC1C-4186-953A-378A471E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8548-E0DC-4B74-BDAC-1A821E51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C7F3D-F0ED-4BAE-9806-03D0FDA5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B61F-00A3-46F6-B80E-0388208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13A-1712-4B51-83FE-0E163F9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2797-DF02-4428-92C5-12E04643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58703-AF23-4ED3-AE75-3D98FA1A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25A8-DC55-4FB6-9432-D6EE0A58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774C7-04EB-4DD7-98DC-3654264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D2554-13F7-409A-B327-9B7E9EED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833C3-2595-4EE9-9F87-040C969C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66F50-1CF3-42C3-BE72-9A10A3EC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4858C-5AE3-4B39-86E3-8FDDE780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8477D-E955-480C-B60E-44470266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8B71A-1F40-420E-8E07-91C8CF3F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0E26-649E-42FE-BC0A-B1026F211AAE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10C7-C7CB-4526-AD24-3BD0CE57B5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84A1-C6E7-4E2E-9778-ABBFCEAFC4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D2D2-2FF8-4818-8886-4AC9F28B4F0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54CD-22F2-4B90-BCED-89B3E7CD84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3D66-76CB-472E-A4EF-0195D6690F3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D38A-2C93-40EC-8EA5-A2D82171E1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7C4C-A066-4C4F-B6D6-275C997D4A1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16BC-60F0-4862-A4CB-86D622488E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5F7F-D09A-465C-96C1-A4A497AB7F2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0934-88FC-417B-BDC7-9E16F35300B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CE78-B874-453F-82DC-6F87586B3E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BD8E-07A3-4723-BDC8-D06578A77F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30BA-8170-4925-A239-DA04BF6C0B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D78B-7A8F-4B8E-856A-5F7FFF9C964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62A0-38AA-45D3-88B3-E4DD61697B9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1E6-ADE3-4F3E-8E0E-3D00517E78B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A6A6-0D8C-4BFC-AA0B-D4BC855B57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7C48-635E-4D2D-999A-DB38C7CFC32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E211-78D2-4BF1-8333-DE828D0BC7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5510-77A3-48E8-92EC-D0FCAEEEB6C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3773-C096-4E5B-9E73-E89A1D3189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5FD3-894D-46A2-B98E-29FEBC3E3D2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4D1-6608-4FC2-82BA-F1402582AB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534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  <p:sp>
        <p:nvSpPr>
          <p:cNvPr id="535" name="矩形 6"/>
          <p:cNvSpPr/>
          <p:nvPr/>
        </p:nvSpPr>
        <p:spPr>
          <a:xfrm>
            <a:off x="971640" y="595008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5364"/>
          <p:cNvSpPr/>
          <p:nvPr/>
        </p:nvSpPr>
        <p:spPr>
          <a:xfrm>
            <a:off x="108000" y="515772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5365"/>
          <p:cNvSpPr/>
          <p:nvPr/>
        </p:nvSpPr>
        <p:spPr>
          <a:xfrm>
            <a:off x="3277800" y="12700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圣诞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未命名_副本    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未命名_副本a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未命名_副本  j"/>
          <p:cNvPicPr/>
          <p:nvPr/>
        </p:nvPicPr>
        <p:blipFill>
          <a:blip r:embed="rId5"/>
          <a:stretch/>
        </p:blipFill>
        <p:spPr>
          <a:xfrm>
            <a:off x="-3913200" y="262080"/>
            <a:ext cx="5451480" cy="3635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未命名_副本q"/>
          <p:cNvPicPr/>
          <p:nvPr/>
        </p:nvPicPr>
        <p:blipFill>
          <a:blip r:embed="rId6"/>
          <a:stretch/>
        </p:blipFill>
        <p:spPr>
          <a:xfrm>
            <a:off x="-4354560" y="2292480"/>
            <a:ext cx="5892840" cy="3930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未命名_副本s"/>
          <p:cNvPicPr/>
          <p:nvPr/>
        </p:nvPicPr>
        <p:blipFill>
          <a:blip r:embed="rId7"/>
          <a:stretch/>
        </p:blipFill>
        <p:spPr>
          <a:xfrm>
            <a:off x="7885080" y="-384120"/>
            <a:ext cx="5921280" cy="3946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未命名_副本b"/>
          <p:cNvPicPr/>
          <p:nvPr/>
        </p:nvPicPr>
        <p:blipFill>
          <a:blip r:embed="rId8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未命名_副本  "/>
          <p:cNvPicPr/>
          <p:nvPr/>
        </p:nvPicPr>
        <p:blipFill>
          <a:blip r:embed="rId3"/>
          <a:stretch/>
        </p:blipFill>
        <p:spPr>
          <a:xfrm>
            <a:off x="-1185840" y="3141720"/>
            <a:ext cx="5898960" cy="3933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未命名_副本o"/>
          <p:cNvPicPr/>
          <p:nvPr/>
        </p:nvPicPr>
        <p:blipFill>
          <a:blip r:embed="rId4"/>
          <a:stretch/>
        </p:blipFill>
        <p:spPr>
          <a:xfrm>
            <a:off x="2052720" y="-96840"/>
            <a:ext cx="485928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未命名_副本l"/>
          <p:cNvPicPr/>
          <p:nvPr/>
        </p:nvPicPr>
        <p:blipFill>
          <a:blip r:embed="rId3"/>
          <a:stretch/>
        </p:blipFill>
        <p:spPr>
          <a:xfrm>
            <a:off x="254160" y="-16992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未命名_副本qo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  <p:sp>
        <p:nvSpPr>
          <p:cNvPr id="551" name="文本框 18436"/>
          <p:cNvSpPr/>
          <p:nvPr/>
        </p:nvSpPr>
        <p:spPr>
          <a:xfrm>
            <a:off x="755640" y="1628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未命名_副本f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未命名_副本oi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未命名_副本人、"/>
          <p:cNvPicPr/>
          <p:nvPr/>
        </p:nvPicPr>
        <p:blipFill>
          <a:blip r:embed="rId5"/>
          <a:stretch/>
        </p:blipFill>
        <p:spPr>
          <a:xfrm>
            <a:off x="4826160" y="-2833560"/>
            <a:ext cx="410508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未命名_副本d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未命名_副本b"/>
          <p:cNvPicPr/>
          <p:nvPr/>
        </p:nvPicPr>
        <p:blipFill>
          <a:blip r:embed="rId4"/>
          <a:stretch/>
        </p:blipFill>
        <p:spPr>
          <a:xfrm>
            <a:off x="4178160" y="-25560"/>
            <a:ext cx="4572000" cy="3046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57C8-DC5D-4087-819B-D894F6733CA7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564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4" dur="5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6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0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